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D7C-3342-448F-8021-4ECEFAB6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D23-C9C7-4004-93AF-8CE74678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E83-3131-4621-8547-A2C59E4B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E04-F4A1-4145-8C64-F0AF45B2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47F37-4719-473F-9D0E-4A73AA62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032C-8BBF-4960-8AFE-3F77714B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A171E-5B2A-4DB3-ABF6-20B8C719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32102-3E75-4CAE-8CFB-A9E0C25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DFCD4-B6F8-4FFD-AEEF-FEDD67DF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7ACD-817C-4D04-B4CD-4E432047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AEC13-2CAA-4F69-A70D-24D0915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AA5-962B-4D10-907B-D993C883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76F7-9C08-411F-942E-0595F0B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DCC5F-613B-478A-8FED-D63A9A73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5BA47-D8CD-4862-962B-FE93999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8E883-2CF9-4995-9FC5-46432178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B504E-86A0-466F-81C8-8A5B8C98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BDD-DDD0-4FCE-ABEC-3A4EFBDA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8E2-ED11-49A0-9728-A7488412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D72-7493-4AF1-8117-6761005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C4E-D448-4C02-AE39-67B5D30F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EE1-1FB1-44C6-99FF-12EA02E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C93-8B61-40D7-A721-CF81587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E8B-92EB-49A6-94E6-47E66A18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1028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任意多边形 1029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D4B4-7441-4369-984A-3371EE45DCF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任意多边形 1033"/>
          <p:cNvSpPr/>
          <p:nvPr/>
        </p:nvSpPr>
        <p:spPr>
          <a:xfrm>
            <a:off x="0" y="-14400"/>
            <a:ext cx="1522440" cy="687240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 3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95000"/>
              <a:buFont typeface="Wingdings 3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330099"/>
              </a:buClr>
              <a:buSzPct val="95000"/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D09-3144-436F-8529-A4B365E071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049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2050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任意多边形 2051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任意多边形 2052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2053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任意多边形 2054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任意多边形 2056"/>
          <p:cNvSpPr/>
          <p:nvPr/>
        </p:nvSpPr>
        <p:spPr>
          <a:xfrm>
            <a:off x="3240" y="-14400"/>
            <a:ext cx="1522440" cy="687240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 3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95000"/>
              <a:buFont typeface="Wingdings 3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330099"/>
              </a:buClr>
              <a:buSzPct val="95000"/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95000"/>
              <a:buFont typeface="Wingdings 3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7278-815C-499A-B9DB-B479C95F85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BF7A-BC06-4BF5-B460-836BECAC3D4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对象 4097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2616120" cy="2374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7880" y="76320"/>
            <a:ext cx="6867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欢迎光临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17880" y="1302840"/>
            <a:ext cx="6867360" cy="4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[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插入年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]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100"/>
          <p:cNvSpPr/>
          <p:nvPr/>
        </p:nvSpPr>
        <p:spPr>
          <a:xfrm>
            <a:off x="2117880" y="4638600"/>
            <a:ext cx="6867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学校名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4101"/>
          <p:cNvSpPr/>
          <p:nvPr/>
        </p:nvSpPr>
        <p:spPr>
          <a:xfrm>
            <a:off x="2117880" y="5425920"/>
            <a:ext cx="6867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教师姓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年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4102"/>
          <p:cNvSpPr/>
          <p:nvPr/>
        </p:nvSpPr>
        <p:spPr>
          <a:xfrm>
            <a:off x="6075720" y="63817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cr173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B456-1920-4ECC-8113-5B4E476858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总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8515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讨论所包含的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申欢迎光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对象 13315" descr=""/>
          <p:cNvPicPr/>
          <p:nvPr/>
        </p:nvPicPr>
        <p:blipFill>
          <a:blip r:embed="rId1"/>
          <a:stretch/>
        </p:blipFill>
        <p:spPr>
          <a:xfrm>
            <a:off x="0" y="53352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E131-45B4-4D0A-861F-DE4E82AB1FA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4337" descr="QQ截图20140828110230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C29-352B-4BBB-BFF4-D46DC2CA676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议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所包含的主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务陈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要人物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教学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别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长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对象 5123" descr=""/>
          <p:cNvPicPr/>
          <p:nvPr/>
        </p:nvPicPr>
        <p:blipFill>
          <a:blip r:embed="rId1"/>
          <a:stretch/>
        </p:blipFill>
        <p:spPr>
          <a:xfrm>
            <a:off x="0" y="4572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6583-248E-4F0E-9985-13291847B68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任务陈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目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523880"/>
            <a:ext cx="6775560" cy="455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陈述学校的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概述各个学科的具体学术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释：该主题可能需要多张幻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对象 6147" descr=""/>
          <p:cNvPicPr/>
          <p:nvPr/>
        </p:nvPicPr>
        <p:blipFill>
          <a:blip r:embed="rId1"/>
          <a:stretch/>
        </p:blipFill>
        <p:spPr>
          <a:xfrm>
            <a:off x="0" y="30492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09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AAB-82D9-4589-B5A2-9EF9D782B9B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重要人物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523880"/>
            <a:ext cx="6775560" cy="455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出主要的教职工（校长、图书管理员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包含组织结构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对象 7171" descr=""/>
          <p:cNvPicPr/>
          <p:nvPr/>
        </p:nvPicPr>
        <p:blipFill>
          <a:blip r:embed="rId1"/>
          <a:stretch/>
        </p:blipFill>
        <p:spPr>
          <a:xfrm>
            <a:off x="0" y="30492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F7AC-CBE8-4D2D-8791-E98EE973D18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教学方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320" y="1523880"/>
            <a:ext cx="6775560" cy="455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出说明最重要的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览学校的课时和每日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讨论对课外作业的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明教学管理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释：这可能需要多张幻灯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对象 8195" descr=""/>
          <p:cNvPicPr/>
          <p:nvPr/>
        </p:nvPicPr>
        <p:blipFill>
          <a:blip r:embed="rId1"/>
          <a:stretch/>
        </p:blipFill>
        <p:spPr>
          <a:xfrm>
            <a:off x="0" y="457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6EF-7DA6-4EE0-A8D3-B61D4836CE4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特别计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出特别计划，包括学校年度日历上安排的实地考察旅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对象 9219" descr=""/>
          <p:cNvPicPr/>
          <p:nvPr/>
        </p:nvPicPr>
        <p:blipFill>
          <a:blip r:embed="rId1"/>
          <a:stretch/>
        </p:blipFill>
        <p:spPr>
          <a:xfrm>
            <a:off x="0" y="457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21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E20-0CEE-4FA9-8CE3-7FE4A8036E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年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讨论各个年级的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览成绩单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概述分级过程和时间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讨论其他的评估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对象 10243" descr=""/>
          <p:cNvPicPr/>
          <p:nvPr/>
        </p:nvPicPr>
        <p:blipFill>
          <a:blip r:embed="rId1"/>
          <a:stretch/>
        </p:blipFill>
        <p:spPr>
          <a:xfrm>
            <a:off x="0" y="457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F21F-8DD0-4024-BDA9-FDF2E1F339B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家长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览会议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散发报名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论对家长会的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明联系方式以通知您参加会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对象 11267" descr=""/>
          <p:cNvPicPr/>
          <p:nvPr/>
        </p:nvPicPr>
        <p:blipFill>
          <a:blip r:embed="rId1"/>
          <a:stretch/>
        </p:blipFill>
        <p:spPr>
          <a:xfrm>
            <a:off x="0" y="457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F95-53AF-4213-BF6B-536DDEBD52B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问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92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鼓励家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生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对象 12291" descr=""/>
          <p:cNvPicPr/>
          <p:nvPr/>
        </p:nvPicPr>
        <p:blipFill>
          <a:blip r:embed="rId1"/>
          <a:stretch/>
        </p:blipFill>
        <p:spPr>
          <a:xfrm>
            <a:off x="0" y="4572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日期占位符 1"/>
          <p:cNvSpPr/>
          <p:nvPr/>
        </p:nvSpPr>
        <p:spPr>
          <a:xfrm>
            <a:off x="57960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8A5-0633-469D-A6A1-F2E60B5B6AC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5:26:41Z</dcterms:created>
  <dc:creator>echo</dc:creator>
  <dc:description/>
  <dc:language>en-US</dc:language>
  <cp:lastModifiedBy>Administrator</cp:lastModifiedBy>
  <cp:lastPrinted>1996-03-19T21:02:48Z</cp:lastPrinted>
  <dcterms:modified xsi:type="dcterms:W3CDTF">2016-02-25T00:56:03Z</dcterms:modified>
  <cp:revision>2</cp:revision>
  <dc:subject/>
  <dc:title>欢迎光临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_TemplateID">
    <vt:lpwstr>TC010599082052</vt:lpwstr>
  </property>
</Properties>
</file>