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FFB-5A18-4204-B0A7-40179EEA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0CF-345C-4637-AFA7-D7EA257F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790-33EE-4645-A6E4-444809FD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C30-5BA2-4B7C-A099-C4B6B7E2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78F6-1791-4CF4-BE58-227223A0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2D1B-5648-4626-9CF0-22D82432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A413-0690-4A4A-8C55-A5BF1695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3BC-2799-4828-B6D6-650D6DF8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40C7-D90A-413C-9026-2704CB20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D20A-ACF6-47FF-B841-D202EB4F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9ABA-B5BC-405B-AC01-9FC3B08F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CB4-6D0E-4E8A-B823-DE3DED33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5C46-48A5-42C2-8EB7-477FBFC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243C-AC5E-421E-8965-0BFD915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A14A-B71C-463F-8D94-4A5CC7A6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C252-6C05-491C-99AF-900B6880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FDE4-2F6D-45B1-9427-B2DF4CA2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731-39C4-488C-BCC8-D0107A67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870-1174-4F88-9BF9-9C08EBBE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963-CDD8-4E81-B34A-CE69C7DA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440-ED7F-41E6-AB5D-464C596E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8AF-8A22-4001-B0D3-E574EC3B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0E2-A4B5-4C80-A3C3-C19BA655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E7C-5278-43AD-B19C-FDCF8B53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D222-DC29-4FBC-902F-7FCE146066D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775F-CB83-4132-B749-E0636F63F24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508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开学第一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2276280"/>
            <a:ext cx="5183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数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4941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M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作业要求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堂作业：及时，独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后作业：独立，质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自我介绍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6520" y="3933720"/>
            <a:ext cx="753912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很高兴认识大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很荣幸能担任五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班数学老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773360"/>
            <a:ext cx="482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姓名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电话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班级的简单情况：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人数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男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女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就是一门学科，一个需要我们去认识，去了解、掌握并加以应用的一个工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另一个角度来看，就像一扇门，看谁先进入它的世界，有人先进去了，有人刚踏进一只脚，还有人还徘徊在数学大门之外，想要学好数学就看谁先走到门口并找对工具，打开开这扇小门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549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对数学的看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学生如何学好数学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2880" y="18302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方法很重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练习是保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思考是关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业是检测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怎样对待数学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谓众说纷纭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之观：数学是一门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规律性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学科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优秀生</a:t>
            </a: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VS</a:t>
            </a: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后进生，</a:t>
            </a:r>
            <a:br>
              <a:rPr sz="4000"/>
            </a:b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            谁决定谁的前途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天生我材必有用”，“闻到有先后，术业有专攻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同样一道题目，只是你比我先知道而已，问问同学或者老师，我也就知道了，你只是比我早知道一天而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你昨天会了，我今天也会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学生常见心理问题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自大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自卑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畏惧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课堂要求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注意听讲    不做小动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做好笔记    不浪费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积极思考    不随意走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动发言    发言请举手    声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坐姿端正    不东张西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0:10:50Z</dcterms:created>
  <dc:creator>Tclsevers</dc:creator>
  <dc:description/>
  <dc:language>en-US</dc:language>
  <cp:lastModifiedBy>Tclsevers</cp:lastModifiedBy>
  <dcterms:modified xsi:type="dcterms:W3CDTF">2012-08-31T01:27:08Z</dcterms:modified>
  <cp:revision>5</cp:revision>
  <dc:subject/>
  <dc:title>开学第一课</dc:title>
</cp:coreProperties>
</file>