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A0D-1D60-4D0E-94FA-08F0EB4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FD3-348F-497C-A39A-41904C4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D60-1A6C-440D-B8CE-5AF7A8B5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51C-1D8B-4D26-B3B7-0997221E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3FB-688C-45CE-8C8F-E3ED2DC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279-0461-4D65-9017-0B73DF52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CCD-F697-45A4-9DF4-0B43D14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73D-A1CD-4C34-B533-71466CD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55B-4DC9-4E0D-B36E-3B1063D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1BF-E005-4892-8AF6-5D50A30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13E-B6C7-41DA-A7A2-7CCB5DB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35B-BB65-4B53-94B4-50ACA4F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8B1E-B922-4D9E-9608-805FC8E03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" Target="slide21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61600" y="5699160"/>
            <a:ext cx="1826640" cy="825480"/>
          </a:xfrm>
          <a:prstGeom prst="rect">
            <a:avLst/>
          </a:prstGeom>
          <a:solidFill>
            <a:srgbClr val="fef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莲藕斗得劲头儿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胡萝卜急得搬救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60280" y="52567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歪嘴葫芦放大炮，轰隆轰隆炮三声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44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17680" y="5561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大蒜裂了瓣，打得黄瓜上下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45120" y="533412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辣椒满身红，打得茄子一身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豆腐尿黄水，打得凉粉战兢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18400" y="53330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藕王一看抵不过，一头钻进烂泥坑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5360" y="53330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550800"/>
            <a:ext cx="5167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园青菜成了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近几天没人问，他们个个成了精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头萝卜称大王，红头萝卜当娘娘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隔壁莲藕急了眼，一封战书打进园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豆芽儿跪倒来报信，胡萝卜挂帅去出征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边兄弟来叫阵，大呼小叫争输赢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葱端起银杆枪，一个劲儿向前冲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茄子一挺大肚皮，小葱撞了个倒栽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韭菜使出两刃锋，呼啦呼拉上了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瓜甩起扫堂腿，踢得韭菜往回奔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莲藕斗得劲头儿足，胡萝卜急得搬救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歪嘴葫芦放大炮，轰隆轰隆炮三声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大蒜裂了瓣，打得黄瓜上下青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辣椒满身红，打得茄子一身紫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豆腐尿黄水，打得凉粉战兢兢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藕王一看抵不过，一头钻进烂泥坑！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51804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11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610480" y="19051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96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51044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近几天没人问，他们个个成了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5432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5028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头萝卜称大王 红头萝卜当娘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4572000" cy="395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609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46040" y="495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壁莲藕急了眼，一封战书打进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383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9840" y="5485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芽儿跪倒来报信，胡萝卜挂帅去出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05360" cy="418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72120" y="5333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边兄弟来叫阵，大呼小叫争输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403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40118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4114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22360" y="571356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葱端起银杆枪，一个劲儿向前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茄子一挺大肚皮，小葱撞了个倒栽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24760" y="5637240"/>
            <a:ext cx="3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韭菜使出两刃锋，呼啦呼啦上了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瓜甩起扫堂腿，踢得韭菜往回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09T02:47:0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