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614-DB5C-4DE2-80D2-0E1E4F57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A4D-693A-4DBD-BA8D-8243E8F7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8BE-63E1-4512-9484-FCEB0393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1E0-3E34-4563-BBBC-BF813AA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AF1-887A-4239-BA1C-DBE7455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A33-4D22-439E-92C5-43241A71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977-E28A-49A6-A66B-02B910A2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723-2841-4121-B692-38B0912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ABC-6245-44B2-9DCF-9BBB0BC4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2C9-124F-4B88-B964-6272B54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8C5-BBDA-4B11-92AD-E33205A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1E4-00B5-4B68-8730-AB1FE571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9298-689A-4E98-A4B6-FA0DDBADE4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dd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3:52:35Z</dcterms:created>
  <dc:creator>mourad</dc:creator>
  <dc:description/>
  <dc:language>en-US</dc:language>
  <cp:lastModifiedBy>mourad</cp:lastModifiedBy>
  <dcterms:modified xsi:type="dcterms:W3CDTF">2008-07-15T09:25:02Z</dcterms:modified>
  <cp:revision>7</cp:revision>
  <dc:subject/>
  <dc:title>Wedding Plans</dc:title>
</cp:coreProperties>
</file>