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BA29-5556-4052-AA29-F875E0E12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CF66-3707-4478-AB41-B4E42712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7F41-8598-4340-A101-368FD64A0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7AFC-D357-46BD-B4A7-8879B0024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A96E-793A-420D-BC04-61F6EBEE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1823-1193-46B8-BDEA-2E4896B9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B5F8-8407-41D8-8D9B-20E4F019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C01C-0F65-4A9D-A70B-45BAEE13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2460-5081-451D-B698-1D7CA9B9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DAFD-7576-4CD5-AFAC-9D2AF088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02DC-22B5-42E3-9224-55D68A00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45DC-C5B5-4B8A-A1DB-08EB20AF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03C0-3ABA-4A88-8A5A-0595E4596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6192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66"/>
                </a:solidFill>
                <a:latin typeface="Arial"/>
              </a:rPr>
              <a:t>Wedding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3366"/>
                </a:solidFill>
                <a:latin typeface="Arial"/>
              </a:rPr>
              <a:t>H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37544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95d93"/>
                </a:solidFill>
                <a:latin typeface="Arial"/>
              </a:rPr>
              <a:t>Venue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95d93"/>
                </a:solidFill>
                <a:latin typeface="Arial"/>
              </a:rPr>
              <a:t>Schedule of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95d93"/>
                </a:solidFill>
                <a:latin typeface="Arial"/>
              </a:rPr>
              <a:t>Seating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95d93"/>
                </a:solidFill>
                <a:latin typeface="Arial"/>
              </a:rPr>
              <a:t>Conta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95d93"/>
                </a:solidFill>
                <a:latin typeface="Arial"/>
              </a:rPr>
              <a:t>Ca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95d93"/>
                </a:solidFill>
                <a:latin typeface="Arial"/>
              </a:rPr>
              <a:t>Dress fi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44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66"/>
                </a:solidFill>
                <a:latin typeface="Arial"/>
              </a:rPr>
              <a:t>Inv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95d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95d93"/>
                </a:solidFill>
                <a:latin typeface="Arial"/>
              </a:rPr>
              <a:t>Content of invite, include names of families, date, time and venue, and wedding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2T08:10:08Z</dcterms:created>
  <dc:creator>mourad</dc:creator>
  <dc:description/>
  <dc:language>en-US</dc:language>
  <cp:lastModifiedBy>mourad</cp:lastModifiedBy>
  <dcterms:modified xsi:type="dcterms:W3CDTF">2008-07-15T09:27:11Z</dcterms:modified>
  <cp:revision>5</cp:revision>
  <dc:subject/>
  <dc:title>Title </dc:title>
</cp:coreProperties>
</file>