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2EFA-A427-4FA6-A2BF-901184611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D76E-1FC6-453A-AC75-D9EE974A8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93A9-FA45-4D6D-9C61-52E2EEB88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F296-9B39-44EA-9DD9-4F4E4468F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4B15-7B7F-4423-A0DB-089F06200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1A06-CD8D-44EC-B97E-E05D49456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3DB3-7D63-43FF-89C8-D6A175670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DD0B-390C-4DE5-B163-A80144B65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19DE-A216-44BE-A0E8-DA7918C57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3961-9210-48F2-8812-A9F8FE191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9BAE-86A0-48E2-8F91-91ADAB52B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4165-7324-4ACD-9EC5-26D3A3F22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5EDE3-D284-4702-B1E4-F069A8498C85}" type="slidenum">
              <a:rPr b="0" lang="fr-FR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95280" y="4508640"/>
            <a:ext cx="4608360" cy="190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Arial"/>
                <a:ea typeface="宋体"/>
              </a:rPr>
              <a:t>WEDDING</a:t>
            </a:r>
            <a:br>
              <a:rPr sz="6600"/>
            </a:br>
            <a:r>
              <a:rPr b="1" lang="fr-FR" sz="4400" spc="-1" strike="noStrike">
                <a:solidFill>
                  <a:srgbClr val="000000"/>
                </a:solidFill>
                <a:latin typeface="Arial"/>
                <a:ea typeface="宋体"/>
              </a:rPr>
              <a:t>templ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492000" y="907560"/>
            <a:ext cx="547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  <a:ea typeface="宋体"/>
              </a:rPr>
              <a:t>Example of a bullet point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14040" y="2636640"/>
            <a:ext cx="7473960" cy="31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宋体"/>
              </a:rPr>
              <a:t>Bullet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宋体"/>
              </a:rPr>
              <a:t>Bullet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宋体"/>
              </a:rPr>
              <a:t>Sub bull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2T14:06:24Z</dcterms:created>
  <dc:creator>mourad</dc:creator>
  <dc:description/>
  <dc:language>en-US</dc:language>
  <cp:lastModifiedBy>姚军</cp:lastModifiedBy>
  <dcterms:modified xsi:type="dcterms:W3CDTF">2011-09-10T00:41:39Z</dcterms:modified>
  <cp:revision>39</cp:revision>
  <dc:subject/>
  <dc:title>Diapositive 1</dc:title>
</cp:coreProperties>
</file>