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ED9-61D8-4748-B21D-9B6B2055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D8B-8C9D-4D8E-861F-3A6BE7FB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EF7-EFDF-4222-A581-8EFAB771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F223-6472-47FD-824E-268D487A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10A-0B09-45B3-9391-997609CA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64D-A8E1-4BF4-A5A0-F8E7F573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D2B-3CFB-4267-B1E7-BD88B2F2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6A6-D2B7-4CF6-B7E6-455DF545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60F-5829-48B5-94D7-808C4F65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F15-B232-4F1C-B08F-37818DCE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635-0358-45A6-8E38-7D195C27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943-A949-4E8D-BF3E-2B3382B6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62A0-9786-4355-8B6E-DC6FC56CA036}" type="slidenum">
              <a:rPr b="0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4286160"/>
            <a:ext cx="4500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宋体"/>
              </a:rPr>
              <a:t>WEDDING 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  <a:ea typeface="宋体"/>
              </a:rPr>
              <a:t>Example of a bullet poin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56800" y="2428560"/>
            <a:ext cx="645156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1:47:34Z</dcterms:created>
  <dc:creator>ounough</dc:creator>
  <dc:description/>
  <dc:language>en-US</dc:language>
  <cp:lastModifiedBy>姚军</cp:lastModifiedBy>
  <dcterms:modified xsi:type="dcterms:W3CDTF">2011-09-10T00:42:43Z</dcterms:modified>
  <cp:revision>8</cp:revision>
  <dc:subject/>
  <dc:title>BACTERIA Template</dc:title>
</cp:coreProperties>
</file>