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AF4-820D-4F7A-9EBC-9E656303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FA7-DF69-4B9E-89B2-6C2A820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23A-6E5E-4702-97CD-9AE9CA08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79F-ACD8-464C-9FB5-32631F1D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1F8-C8CB-4EE9-B4F5-078D0B5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CDE-EF5A-4FCF-9DE8-69138D4A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85D-3581-4FA8-9E1A-72F15654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283-3E47-45F5-9095-C8965C7D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22F-80A5-403F-AC71-D44F1B03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8CB-7B61-4B29-97CE-55432360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0B5-8154-4B78-9CF5-2DFC096D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B48-096E-40BF-9A2A-3D0AE9B0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E8EC-8DB7-410E-8FF6-D491FE21D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5329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edding </a:t>
            </a:r>
            <a:br>
              <a:rPr sz="60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1773360"/>
            <a:ext cx="6264360" cy="4321080"/>
          </a:xfrm>
          <a:prstGeom prst="foldedCorner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enue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hedule of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ating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ress fit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413000"/>
            <a:ext cx="6264360" cy="4321080"/>
          </a:xfrm>
          <a:prstGeom prst="foldedCorner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 of invite, include names of families, date, time and venue, and wedding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3:57:43Z</dcterms:created>
  <dc:creator>mourad</dc:creator>
  <dc:description/>
  <dc:language>en-US</dc:language>
  <cp:lastModifiedBy>mourad</cp:lastModifiedBy>
  <dcterms:modified xsi:type="dcterms:W3CDTF">2008-07-09T08:14:00Z</dcterms:modified>
  <cp:revision>4</cp:revision>
  <dc:subject/>
  <dc:title>Diapositive 1</dc:title>
</cp:coreProperties>
</file>