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00E-89EE-4D55-8A07-C2D0D4AE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A70-162F-409F-B9DF-31FC400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621-79BB-4736-924D-1FA381A1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9BF-0095-4956-8648-8401E081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F46-0665-437D-8F94-ECC0AA09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A40-9E6F-427F-A94E-6DB8D93A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9EF-CE12-4CC4-8694-60753E3F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0FC-D858-4536-A3E6-5A91BE6F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EA1-1823-4887-8276-20DA38D1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514-9DDB-4984-8529-810B041D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EDD-7AC8-4E0D-AC99-6AA3C41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FCF-634E-4B59-9EFE-11F5CDB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7A74-3D05-4EB6-81F5-F6896EADF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468144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dding 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u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dule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ss fi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8:53:19Z</dcterms:created>
  <dc:creator>mourad</dc:creator>
  <dc:description/>
  <dc:language>en-US</dc:language>
  <cp:lastModifiedBy>mourad</cp:lastModifiedBy>
  <dcterms:modified xsi:type="dcterms:W3CDTF">2008-07-15T09:26:10Z</dcterms:modified>
  <cp:revision>5</cp:revision>
  <dc:subject/>
  <dc:title>Diapositive 1</dc:title>
</cp:coreProperties>
</file>