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363-819F-4FE2-8620-FAAF749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584-E154-40CF-B30F-2F1D9FB6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F16-AA26-495D-94FB-5B66850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D72-E454-403A-80B5-86B91406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71A-33DB-4292-B436-66DF3481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C55-5C43-4B17-BEC4-A75FE7C1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007-B389-4293-B0D9-D1FDB7C9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458-A6AE-4652-AB00-52B47A6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328-3816-4E20-A21F-4A68B4C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29C-D94A-416C-AEFF-5C7A0E8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C6C-D555-4843-B9D9-06EF1E8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5B3-F629-4D0F-93B5-E5CFE28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4B1-FD35-4A9B-9082-3696A561C09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7280" y="1197000"/>
            <a:ext cx="4392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宋体"/>
              </a:rPr>
              <a:t>Wedding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宋体"/>
              </a:rPr>
              <a:t> temp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6200" y="475920"/>
            <a:ext cx="6913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of a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69560" y="2204640"/>
            <a:ext cx="6131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06:24Z</dcterms:created>
  <dc:creator>mourad</dc:creator>
  <dc:description/>
  <dc:language>en-US</dc:language>
  <cp:lastModifiedBy>姚军</cp:lastModifiedBy>
  <dcterms:modified xsi:type="dcterms:W3CDTF">2011-09-10T00:41:55Z</dcterms:modified>
  <cp:revision>42</cp:revision>
  <dc:subject/>
  <dc:title>Diapositive 1</dc:title>
</cp:coreProperties>
</file>