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9F8-4DB6-4BEE-80CD-94FFF988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04E-6B20-4500-8A28-88038952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8E8-CF39-4F44-95D0-0CED3F78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E6A-3421-44E5-84CC-52B81E0A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337-DC2E-4AD4-B6CF-FBB129AC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B48-AE85-470C-B8B7-86BC7BBF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D5F-360E-476C-AC86-59FF8F79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3A1-FDB7-4EAA-A3AA-13AF76E4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2B5-2662-420F-98EF-A2A2E834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65D-CA1D-4311-A9ED-1A82B25F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EFA-9880-42ED-B78E-203F727A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804-7F4C-43DD-8AA7-B90F219F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61C7-1031-4316-9F18-C0D2DDA6BE00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446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  <a:ea typeface="宋体"/>
              </a:rPr>
              <a:t>WEDDING</a:t>
            </a:r>
            <a:br>
              <a:rPr sz="6000"/>
            </a:br>
            <a:r>
              <a:rPr b="0" lang="fr-FR" sz="4000" spc="-1" strike="noStrike">
                <a:solidFill>
                  <a:srgbClr val="ffffff"/>
                </a:solidFill>
                <a:latin typeface="Arial"/>
                <a:ea typeface="宋体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  <a:ea typeface="宋体"/>
              </a:rPr>
              <a:t>Example of a bullet point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272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4:06:24Z</dcterms:created>
  <dc:creator>mourad</dc:creator>
  <dc:description/>
  <dc:language>en-US</dc:language>
  <cp:lastModifiedBy>姚军</cp:lastModifiedBy>
  <dcterms:modified xsi:type="dcterms:W3CDTF">2011-09-10T00:40:58Z</dcterms:modified>
  <cp:revision>31</cp:revision>
  <dc:subject/>
  <dc:title>Diapositive 1</dc:title>
</cp:coreProperties>
</file>