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837-88E4-4CB1-9F67-20A6EA85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8002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8800"/>
            <a:ext cx="8002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BBE-869D-4E17-A58F-1BBF01F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240" y="217332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880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7240" y="425880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AD6-F051-4F19-A6AF-9625E8E5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2576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600" y="2173320"/>
            <a:ext cx="2576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8360" y="2173320"/>
            <a:ext cx="2576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8800"/>
            <a:ext cx="2576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600" y="4258800"/>
            <a:ext cx="2576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8360" y="4258800"/>
            <a:ext cx="2576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904-7F67-47F7-AB8A-F07AEF6B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21733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689-27E1-427F-BCA8-7E5A7AED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5F4-FD5B-49EC-A13F-F3D07482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39049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7240" y="2173320"/>
            <a:ext cx="39049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DA2-5F97-4618-886B-0A9AB04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98A-91C7-469B-9EA1-567F06C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339560"/>
            <a:ext cx="79898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4FE-88B2-4AE2-8960-839269BC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7240" y="2173320"/>
            <a:ext cx="39049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880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E55-A907-41C6-B5D5-53B40866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39049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7240" y="217332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7240" y="425880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64C-9B31-4DCC-B705-F145145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17332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2173320"/>
            <a:ext cx="39049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8800"/>
            <a:ext cx="8002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B80-0EAD-4092-B730-D794974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C135-4BA1-4D80-8CF6-4886CBE8A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6840" y="21733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房地产企业网站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论文撰写者：叶淑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352520"/>
            <a:ext cx="7989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论文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51040" y="2566800"/>
            <a:ext cx="797688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一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论文引入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目的、意义、内容、方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二章：理论叙述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房地产企业网站、网站评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三章：确定评价体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评价指标、规则、标准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四章：数据分析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采集数据、分析数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第五章：论文总结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结论、建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03280"/>
            <a:ext cx="7989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82400" y="2636640"/>
            <a:ext cx="6985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各企业纷纷建立自己的网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企业网站评价，开始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指标评价体系方法，已渐成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房地产企业，开始建立自己的网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对房地产企业网站的评价，刚刚起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41440"/>
            <a:ext cx="7989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创作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1920" y="2617560"/>
            <a:ext cx="835164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ep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查找、阅读有关房地产行业方面的信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ep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借鉴前人成果，确定房地产网站评价体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ep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选择并确定评价对象（重庆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房地产企业网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ep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目标网站进行数据采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ep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结合相关因素对数据采集结果进行分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ep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得出结论，提出相关建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3269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评价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64800" y="2465280"/>
            <a:ext cx="748188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序号                 企业名称                                           企业网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龙湖企业拓展有限公司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longfo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2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华宇物业（集团）有限公司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cqhyrc.com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3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市金科实业（集团）有限公司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jink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4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隆鑫地产（集团）有限公司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loncinhous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5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鲁能开发（集团）有限公司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cql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6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同创置业（集团）有限公司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tcp.com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7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东和实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集团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有限公司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dohe.com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8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光华房地产开发有限公司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cqguanghu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9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协信控股（集团）有限公司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sinceregroup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0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庆兴茂产业发展集团有限公司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222.180.58.28:800/xinm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84240" y="2349360"/>
            <a:ext cx="72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6840" y="2781360"/>
            <a:ext cx="72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5541840"/>
            <a:ext cx="72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339560"/>
            <a:ext cx="79898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数据采集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316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25440"/>
            <a:ext cx="79898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评价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0560" y="2204640"/>
            <a:ext cx="5761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网站                     网站最终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龙湖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8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华宇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44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金科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64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隆鑫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49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鲁能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5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创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3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和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63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光华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5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信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45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兴茂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5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网站平均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.5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5240" y="2179800"/>
            <a:ext cx="626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47840" y="2577960"/>
            <a:ext cx="626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5899320"/>
            <a:ext cx="626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3141720"/>
            <a:ext cx="70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33"/>
                </a:solidFill>
                <a:latin typeface="Arial"/>
                <a:ea typeface="华文行楷"/>
              </a:rPr>
              <a:t>谢谢各位老师的评阅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2:15:17Z</dcterms:created>
  <dc:creator>MC SYSTEM</dc:creator>
  <dc:description/>
  <dc:language>en-US</dc:language>
  <cp:lastModifiedBy>微软用户</cp:lastModifiedBy>
  <dcterms:modified xsi:type="dcterms:W3CDTF">2010-05-31T14:20:23Z</dcterms:modified>
  <cp:revision>56</cp:revision>
  <dc:subject/>
  <dc:title>幻灯片 1</dc:title>
</cp:coreProperties>
</file>