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2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AB8C-E4DC-4453-89DA-DA10AB08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52D-41E0-4842-80DD-E67BF22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D53-087E-40B8-ACF6-A8F28824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6C6-1240-4AC6-9657-D18A99BD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EF80-F0E1-44C8-B110-66834BCD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2F8C-7C56-4F05-8DE4-E40006B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BDE-07E2-44D8-8653-5692BFB4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CC63-03E6-47DD-88C4-8161209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630F-C36D-48F8-AF1F-22EDC165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43C8-2C60-4D72-A252-343D49A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80E-D924-4F6C-B52F-2E2B97B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88F-1C9F-4D8D-BA5F-3CAD9D4A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3A8-F671-45A3-B902-508B308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2319-15CA-45F7-B4A2-E764146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8FB-F07C-4858-8B5C-CCEE2038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114-AC3F-4DAB-A0FA-07AEF5E2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B806-3BE2-4A5A-9757-76E510D1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76A-F0CE-41C9-BA8C-8663D3A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C34-3FDE-4365-BFC0-D78D072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882-22A1-4037-96D2-FE8859DF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E28-7B76-4843-8688-2993004E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A9B-979D-4B81-80B6-450D0AB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BC5-D641-4263-B935-7F80147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E38-4817-4B34-AB16-E3D439E9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61E-F573-48FC-94A0-5CD624F17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2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1B0-19A5-4ECD-88A9-67CA89415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5040" y="2697120"/>
            <a:ext cx="4225680" cy="123660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"/>
          <p:cNvGrpSpPr/>
          <p:nvPr/>
        </p:nvGrpSpPr>
        <p:grpSpPr>
          <a:xfrm>
            <a:off x="1998720" y="2590920"/>
            <a:ext cx="4030560" cy="1023840"/>
            <a:chOff x="1998720" y="2590920"/>
            <a:chExt cx="4030560" cy="1023840"/>
          </a:xfrm>
        </p:grpSpPr>
        <p:sp>
          <p:nvSpPr>
            <p:cNvPr id="86" name="矩形 1"/>
            <p:cNvSpPr/>
            <p:nvPr/>
          </p:nvSpPr>
          <p:spPr>
            <a:xfrm>
              <a:off x="2117520" y="2590920"/>
              <a:ext cx="3911760" cy="87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 flipH="1">
              <a:off x="1998720" y="2760480"/>
              <a:ext cx="893520" cy="8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Rectangle 6"/>
          <p:cNvSpPr/>
          <p:nvPr/>
        </p:nvSpPr>
        <p:spPr>
          <a:xfrm>
            <a:off x="2252520" y="3608280"/>
            <a:ext cx="468000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252520" y="3608280"/>
            <a:ext cx="5221440" cy="54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:\2011新年素材\2011新年素材\2354.png"/>
          <p:cNvPicPr/>
          <p:nvPr/>
        </p:nvPicPr>
        <p:blipFill>
          <a:blip r:embed="rId3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425 -4.81481E-006 E">
                                      <p:cBhvr>
                                        <p:cTn id="6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50867E-006 L 0.50209 4.50867E-006 E">
                                      <p:cBhvr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H:\2011新年素材\2011新年素材\素材中国 sccnn.png"/>
          <p:cNvPicPr/>
          <p:nvPr/>
        </p:nvPicPr>
        <p:blipFill>
          <a:blip r:embed="rId1"/>
          <a:stretch/>
        </p:blipFill>
        <p:spPr>
          <a:xfrm>
            <a:off x="1143000" y="1336680"/>
            <a:ext cx="6515280" cy="362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H:\2011新年素材\2011新年素材\2354.png"/>
          <p:cNvPicPr/>
          <p:nvPr/>
        </p:nvPicPr>
        <p:blipFill>
          <a:blip r:embed="rId1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2011新年素材\2011新年素材\OOOPIC_zhengluan_200912296b734228252d22c7.png"/>
          <p:cNvPicPr/>
          <p:nvPr/>
        </p:nvPicPr>
        <p:blipFill>
          <a:blip r:embed="rId2"/>
          <a:stretch/>
        </p:blipFill>
        <p:spPr>
          <a:xfrm>
            <a:off x="1600200" y="647640"/>
            <a:ext cx="2971800" cy="475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2011新年素材\2011新年素材\为二位.png"/>
          <p:cNvPicPr/>
          <p:nvPr/>
        </p:nvPicPr>
        <p:blipFill>
          <a:blip r:embed="rId3"/>
          <a:stretch/>
        </p:blipFill>
        <p:spPr>
          <a:xfrm>
            <a:off x="5200560" y="819000"/>
            <a:ext cx="262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:\2011新年素材\2011新年素材\214123.png"/>
          <p:cNvPicPr/>
          <p:nvPr/>
        </p:nvPicPr>
        <p:blipFill>
          <a:blip r:embed="rId1"/>
          <a:stretch/>
        </p:blipFill>
        <p:spPr>
          <a:xfrm>
            <a:off x="4344840" y="2909880"/>
            <a:ext cx="5105520" cy="2629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:\2011新年素材\2011新年素材\214123.png"/>
          <p:cNvPicPr/>
          <p:nvPr/>
        </p:nvPicPr>
        <p:blipFill>
          <a:blip r:embed="rId2"/>
          <a:stretch/>
        </p:blipFill>
        <p:spPr>
          <a:xfrm>
            <a:off x="0" y="3413160"/>
            <a:ext cx="5105520" cy="243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:\2011新年素材\2011新年素材\214123.png"/>
          <p:cNvPicPr/>
          <p:nvPr/>
        </p:nvPicPr>
        <p:blipFill>
          <a:blip r:embed="rId3"/>
          <a:stretch/>
        </p:blipFill>
        <p:spPr>
          <a:xfrm>
            <a:off x="-331920" y="399960"/>
            <a:ext cx="5105520" cy="239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:\2011新年素材\2011新年素材\214123.png"/>
          <p:cNvPicPr/>
          <p:nvPr/>
        </p:nvPicPr>
        <p:blipFill>
          <a:blip r:embed="rId4"/>
          <a:stretch/>
        </p:blipFill>
        <p:spPr>
          <a:xfrm>
            <a:off x="4062240" y="1136520"/>
            <a:ext cx="5726160" cy="162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:\2011新年素材\2011新年素材\2354.png"/>
          <p:cNvPicPr/>
          <p:nvPr/>
        </p:nvPicPr>
        <p:blipFill>
          <a:blip r:embed="rId5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432480" y="0"/>
            <a:ext cx="2868840" cy="355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064200" y="2965320"/>
            <a:ext cx="3451320" cy="312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:\2011新年素材\2011新年素材\2354.png"/>
          <p:cNvPicPr/>
          <p:nvPr/>
        </p:nvPicPr>
        <p:blipFill>
          <a:blip r:embed="rId3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:\2011新年素材\2011新年素材\23524.png"/>
          <p:cNvPicPr/>
          <p:nvPr/>
        </p:nvPicPr>
        <p:blipFill>
          <a:blip r:embed="rId4"/>
          <a:stretch/>
        </p:blipFill>
        <p:spPr>
          <a:xfrm>
            <a:off x="714240" y="388800"/>
            <a:ext cx="54579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2"/>
          <p:cNvPicPr/>
          <p:nvPr/>
        </p:nvPicPr>
        <p:blipFill>
          <a:blip r:embed="rId1"/>
          <a:stretch/>
        </p:blipFill>
        <p:spPr>
          <a:xfrm>
            <a:off x="-820800" y="3618000"/>
            <a:ext cx="5595840" cy="2550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:\2011新年素材\2011新年素材\22文物.png"/>
          <p:cNvPicPr/>
          <p:nvPr/>
        </p:nvPicPr>
        <p:blipFill>
          <a:blip r:embed="rId2"/>
          <a:stretch/>
        </p:blipFill>
        <p:spPr>
          <a:xfrm>
            <a:off x="1528920" y="957240"/>
            <a:ext cx="4636800" cy="3333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:\2011新年素材\2011新年素材\324.png"/>
          <p:cNvPicPr/>
          <p:nvPr/>
        </p:nvPicPr>
        <p:blipFill>
          <a:blip r:embed="rId3"/>
          <a:stretch/>
        </p:blipFill>
        <p:spPr>
          <a:xfrm>
            <a:off x="1565280" y="1947960"/>
            <a:ext cx="6068880" cy="280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:\2011新年素材\2011新年素材\2354.png"/>
          <p:cNvPicPr/>
          <p:nvPr/>
        </p:nvPicPr>
        <p:blipFill>
          <a:blip r:embed="rId4"/>
          <a:stretch/>
        </p:blipFill>
        <p:spPr>
          <a:xfrm>
            <a:off x="0" y="4654440"/>
            <a:ext cx="91440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2"/>
          <p:cNvGrpSpPr/>
          <p:nvPr/>
        </p:nvGrpSpPr>
        <p:grpSpPr>
          <a:xfrm>
            <a:off x="2282760" y="2976480"/>
            <a:ext cx="4530960" cy="879480"/>
            <a:chOff x="2282760" y="2976480"/>
            <a:chExt cx="4530960" cy="879480"/>
          </a:xfrm>
        </p:grpSpPr>
        <p:pic>
          <p:nvPicPr>
            <p:cNvPr id="145" name="Picture 2" descr="C:\Documents and Settings\Administrator\桌面\图片2.png"/>
            <p:cNvPicPr/>
            <p:nvPr/>
          </p:nvPicPr>
          <p:blipFill>
            <a:blip r:embed="rId1"/>
            <a:stretch/>
          </p:blipFill>
          <p:spPr>
            <a:xfrm>
              <a:off x="2282760" y="2976480"/>
              <a:ext cx="204156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11"/>
            <p:cNvSpPr/>
            <p:nvPr/>
          </p:nvSpPr>
          <p:spPr>
            <a:xfrm>
              <a:off x="4362480" y="3171600"/>
              <a:ext cx="24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乌夜啼倾情出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325600" y="-85680"/>
            <a:ext cx="4881600" cy="616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ictur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:\2011新年素材\2011新年素材\未标题-1.png"/>
          <p:cNvPicPr/>
          <p:nvPr/>
        </p:nvPicPr>
        <p:blipFill>
          <a:blip r:embed="rId2"/>
          <a:stretch/>
        </p:blipFill>
        <p:spPr>
          <a:xfrm>
            <a:off x="0" y="3919680"/>
            <a:ext cx="7429680" cy="306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28440" y="112680"/>
            <a:ext cx="3316320" cy="443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:\2011新年素材\2011新年素材\未w题-1.png"/>
          <p:cNvPicPr/>
          <p:nvPr/>
        </p:nvPicPr>
        <p:blipFill>
          <a:blip r:embed="rId4"/>
          <a:stretch/>
        </p:blipFill>
        <p:spPr>
          <a:xfrm>
            <a:off x="5248440" y="2819520"/>
            <a:ext cx="3794040" cy="392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98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:\2011新年素材\2011新年素材\未w题-1.png"/>
          <p:cNvPicPr/>
          <p:nvPr/>
        </p:nvPicPr>
        <p:blipFill>
          <a:blip r:embed="rId6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:\2011新年素材\2011新年素材\2341.png"/>
          <p:cNvPicPr/>
          <p:nvPr/>
        </p:nvPicPr>
        <p:blipFill>
          <a:blip r:embed="rId2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:\2011新年素材\未标题-1.png"/>
          <p:cNvPicPr/>
          <p:nvPr/>
        </p:nvPicPr>
        <p:blipFill>
          <a:blip r:embed="rId3"/>
          <a:stretch/>
        </p:blipFill>
        <p:spPr>
          <a:xfrm>
            <a:off x="203040" y="0"/>
            <a:ext cx="2975040" cy="194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:\2011新年素材\222.png"/>
          <p:cNvPicPr/>
          <p:nvPr/>
        </p:nvPicPr>
        <p:blipFill>
          <a:blip r:embed="rId4"/>
          <a:stretch/>
        </p:blipFill>
        <p:spPr>
          <a:xfrm>
            <a:off x="603360" y="1262160"/>
            <a:ext cx="2073240" cy="174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2424240" y="2239920"/>
            <a:ext cx="64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金虎辞旧岁，祥兔报春来。新春将至，真诚的感谢您一直以来对锐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关心与支持。在新的一年里，希望大家一如既往的关注和支持锐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值此辞旧迎新之际，衷心的祝愿您和您的家人；新春愉快，身体健康，工作顺利，阖家欢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2011新年素材\2011新年素材\未w题-1.png"/>
          <p:cNvPicPr/>
          <p:nvPr/>
        </p:nvPicPr>
        <p:blipFill>
          <a:blip r:embed="rId6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7"/>
          <a:stretch/>
        </p:blipFill>
        <p:spPr>
          <a:xfrm>
            <a:off x="4470480" y="1033560"/>
            <a:ext cx="248904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:\2011新年素材\2011新年素材\未w题-1.png"/>
          <p:cNvPicPr/>
          <p:nvPr/>
        </p:nvPicPr>
        <p:blipFill>
          <a:blip r:embed="rId2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:\2011新年素材\2011新年素材\2341.png"/>
          <p:cNvPicPr/>
          <p:nvPr/>
        </p:nvPicPr>
        <p:blipFill>
          <a:blip r:embed="rId4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:\2011新年素材\2011新年素材\素材中国 23sccnn.jpg"/>
          <p:cNvPicPr/>
          <p:nvPr/>
        </p:nvPicPr>
        <p:blipFill>
          <a:blip r:embed="rId1"/>
          <a:srcRect l="0" t="16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:\2011新年素材\2011新年素材\未w题-1.png"/>
          <p:cNvPicPr/>
          <p:nvPr/>
        </p:nvPicPr>
        <p:blipFill>
          <a:blip r:embed="rId2"/>
          <a:stretch/>
        </p:blipFill>
        <p:spPr>
          <a:xfrm>
            <a:off x="6302520" y="12600"/>
            <a:ext cx="29048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2011新年素材\2011新年素材\未w题-1.png"/>
          <p:cNvPicPr/>
          <p:nvPr/>
        </p:nvPicPr>
        <p:blipFill>
          <a:blip r:embed="rId3"/>
          <a:stretch/>
        </p:blipFill>
        <p:spPr>
          <a:xfrm>
            <a:off x="6772320" y="63360"/>
            <a:ext cx="186696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:\2011新年素材\2011新年素材\未标题-1.png"/>
          <p:cNvPicPr/>
          <p:nvPr/>
        </p:nvPicPr>
        <p:blipFill>
          <a:blip r:embed="rId4"/>
          <a:stretch/>
        </p:blipFill>
        <p:spPr>
          <a:xfrm>
            <a:off x="0" y="3919680"/>
            <a:ext cx="7429680" cy="3063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:\2011新年素材\2011新年素材\未w题-1.png"/>
          <p:cNvPicPr/>
          <p:nvPr/>
        </p:nvPicPr>
        <p:blipFill>
          <a:blip r:embed="rId5"/>
          <a:stretch/>
        </p:blipFill>
        <p:spPr>
          <a:xfrm>
            <a:off x="5248440" y="2819520"/>
            <a:ext cx="3794040" cy="392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7" name="Picture 2" descr="C:\Documents and Settings\Administrator\桌面\图片1.png"/>
          <p:cNvPicPr/>
          <p:nvPr/>
        </p:nvPicPr>
        <p:blipFill>
          <a:blip r:embed="rId6"/>
          <a:stretch/>
        </p:blipFill>
        <p:spPr>
          <a:xfrm>
            <a:off x="1852560" y="2006640"/>
            <a:ext cx="613908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:\2011新年素材\JR-0441 [转换].png"/>
          <p:cNvPicPr/>
          <p:nvPr/>
        </p:nvPicPr>
        <p:blipFill>
          <a:blip r:embed="rId1"/>
          <a:stretch/>
        </p:blipFill>
        <p:spPr>
          <a:xfrm>
            <a:off x="1192320" y="1176480"/>
            <a:ext cx="7532640" cy="425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H:\2011新年素材\2011新年素材\2354.png"/>
          <p:cNvPicPr/>
          <p:nvPr/>
        </p:nvPicPr>
        <p:blipFill>
          <a:blip r:embed="rId1"/>
          <a:stretch/>
        </p:blipFill>
        <p:spPr>
          <a:xfrm>
            <a:off x="0" y="4654440"/>
            <a:ext cx="9144000" cy="2203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:\2011新年素材\2011新年素材\3.png"/>
          <p:cNvPicPr/>
          <p:nvPr/>
        </p:nvPicPr>
        <p:blipFill>
          <a:blip r:embed="rId2"/>
          <a:stretch/>
        </p:blipFill>
        <p:spPr>
          <a:xfrm>
            <a:off x="0" y="2139840"/>
            <a:ext cx="9144000" cy="2330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H:\2011新年素材\2011新年素材\23.png"/>
          <p:cNvPicPr/>
          <p:nvPr/>
        </p:nvPicPr>
        <p:blipFill>
          <a:blip r:embed="rId3"/>
          <a:stretch/>
        </p:blipFill>
        <p:spPr>
          <a:xfrm>
            <a:off x="3086280" y="4680"/>
            <a:ext cx="3828960" cy="1909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:\2011新年素材\2011新年素材\32.png"/>
          <p:cNvPicPr/>
          <p:nvPr/>
        </p:nvPicPr>
        <p:blipFill>
          <a:blip r:embed="rId4"/>
          <a:stretch/>
        </p:blipFill>
        <p:spPr>
          <a:xfrm>
            <a:off x="3035160" y="4695840"/>
            <a:ext cx="3772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68480" y="1924200"/>
            <a:ext cx="670716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:\2011新年素材\2011新年素材\2354.png"/>
          <p:cNvPicPr/>
          <p:nvPr/>
        </p:nvPicPr>
        <p:blipFill>
          <a:blip r:embed="rId2"/>
          <a:stretch/>
        </p:blipFill>
        <p:spPr>
          <a:xfrm>
            <a:off x="0" y="5740560"/>
            <a:ext cx="91440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15T08:48:0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