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322-2B4E-4208-AA14-9E9CC1B4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890-E6FE-4332-A893-1F11964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117-0FED-40F7-8037-C9F4BA8C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731-626B-4112-8ADB-27F2203F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CBEE-CED3-4ED6-BACF-7A9AF2BE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31BD-0E6F-4CCD-A519-E90A7C5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29B7-5E32-4669-9C6C-790AB0C5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74D-3DC5-4B26-93F7-AA81527A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96AE-2C3E-4189-9021-F1F1EE80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8136-2051-4D2B-8B1B-7504F3A0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54A-4174-41F9-BBF1-16A405D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969-3F33-4FA5-AAC6-F5E1469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DDB9-81D3-4F21-8F61-B30AA0C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7045-E816-4926-BDE1-262C687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810-58F0-49A7-BE78-582579A5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49B-AEFA-4D4F-93D5-34EA18F2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DF83-C1C9-420C-B0A0-59AF7AD1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B01F-7B28-45F9-A7AC-2E3045E4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8666-DECF-4B93-8423-E9A6CE5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08EC-6E18-4E9B-948B-4D7A832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B3F9-9591-4C53-9FA1-863FB0E3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8F30-69FF-4128-AB32-3C55ADB7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F7B-0996-4957-80A9-5B1FAF7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8451-748C-4FA9-AA37-2F6CE8A1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6252-5931-4F19-B4C3-7104823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2D39-A8E5-465A-9974-DBB87FB7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D1B7-0B75-4CFB-B5E4-034A3A42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2D33-D458-40A3-AB48-2AF32F7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68EA-A1AC-499A-9D24-8C1B4A42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4DBE-E339-42E5-B860-1A07D14D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BE0-DE9D-4F69-9791-699CFB9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F15-FBBE-4936-BE74-E78BE22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64B-E88B-423E-AE80-6639F891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1FA-9B28-40B9-8D6A-D081A9DE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41A-3348-4FBD-87AD-351AB0C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A11-CC38-40A7-9B3E-0321D107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239-7C5A-4FA7-B7BC-116A7AE88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6" descr=""/>
          <p:cNvPicPr/>
          <p:nvPr/>
        </p:nvPicPr>
        <p:blipFill>
          <a:blip r:embed="rId2"/>
          <a:stretch/>
        </p:blipFill>
        <p:spPr>
          <a:xfrm>
            <a:off x="5370480" y="5730840"/>
            <a:ext cx="2706840" cy="517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0C3F-6A99-4E3F-86A8-0BB063991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6" descr=""/>
          <p:cNvPicPr/>
          <p:nvPr/>
        </p:nvPicPr>
        <p:blipFill>
          <a:blip r:embed="rId2"/>
          <a:stretch/>
        </p:blipFill>
        <p:spPr>
          <a:xfrm>
            <a:off x="5370480" y="5730840"/>
            <a:ext cx="2706840" cy="517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DAA-5C20-4CA2-8364-60CB7B5E9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2"/>
          <p:cNvSpPr/>
          <p:nvPr/>
        </p:nvSpPr>
        <p:spPr>
          <a:xfrm flipH="1" flipV="1">
            <a:off x="3886200" y="1352520"/>
            <a:ext cx="129528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4" descr="山寺背景"/>
          <p:cNvPicPr/>
          <p:nvPr/>
        </p:nvPicPr>
        <p:blipFill>
          <a:blip r:embed="rId1"/>
          <a:srcRect l="39638" t="-1938" r="40677" b="0"/>
          <a:stretch/>
        </p:blipFill>
        <p:spPr>
          <a:xfrm>
            <a:off x="3824280" y="1390680"/>
            <a:ext cx="1447920" cy="399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3" descr="山寺背景"/>
          <p:cNvPicPr/>
          <p:nvPr/>
        </p:nvPicPr>
        <p:blipFill>
          <a:blip r:embed="rId2"/>
          <a:stretch/>
        </p:blipFill>
        <p:spPr>
          <a:xfrm>
            <a:off x="900000" y="1461960"/>
            <a:ext cx="7353360" cy="391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9"/>
          <p:cNvPicPr/>
          <p:nvPr/>
        </p:nvPicPr>
        <p:blipFill>
          <a:blip r:embed="rId3"/>
          <a:stretch/>
        </p:blipFill>
        <p:spPr>
          <a:xfrm>
            <a:off x="371520" y="1447920"/>
            <a:ext cx="1152360" cy="93636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34"/>
          <p:cNvGrpSpPr/>
          <p:nvPr/>
        </p:nvGrpSpPr>
        <p:grpSpPr>
          <a:xfrm>
            <a:off x="3666960" y="1343160"/>
            <a:ext cx="914400" cy="4137840"/>
            <a:chOff x="3666960" y="1343160"/>
            <a:chExt cx="914400" cy="4137840"/>
          </a:xfrm>
        </p:grpSpPr>
        <p:grpSp>
          <p:nvGrpSpPr>
            <p:cNvPr id="130" name="Group 10"/>
            <p:cNvGrpSpPr/>
            <p:nvPr/>
          </p:nvGrpSpPr>
          <p:grpSpPr>
            <a:xfrm>
              <a:off x="3666960" y="1347120"/>
              <a:ext cx="533520" cy="4133880"/>
              <a:chOff x="3666960" y="1347120"/>
              <a:chExt cx="533520" cy="4133880"/>
            </a:xfrm>
          </p:grpSpPr>
          <p:sp>
            <p:nvSpPr>
              <p:cNvPr id="131" name="Rectangle 5"/>
              <p:cNvSpPr/>
              <p:nvPr/>
            </p:nvSpPr>
            <p:spPr>
              <a:xfrm flipV="1">
                <a:off x="3666960" y="1347120"/>
                <a:ext cx="533520" cy="4129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4"/>
              <p:cNvSpPr/>
              <p:nvPr/>
            </p:nvSpPr>
            <p:spPr>
              <a:xfrm flipH="1" flipV="1">
                <a:off x="3894840" y="1351080"/>
                <a:ext cx="304920" cy="4129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Rectangle 25"/>
            <p:cNvSpPr/>
            <p:nvPr/>
          </p:nvSpPr>
          <p:spPr>
            <a:xfrm flipH="1" flipV="1">
              <a:off x="4200480" y="1343160"/>
              <a:ext cx="380880" cy="412992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4581360" y="1337760"/>
            <a:ext cx="890640" cy="4138560"/>
            <a:chOff x="4581360" y="1337760"/>
            <a:chExt cx="890640" cy="4138560"/>
          </a:xfrm>
        </p:grpSpPr>
        <p:sp>
          <p:nvSpPr>
            <p:cNvPr id="135" name="Rectangle 18"/>
            <p:cNvSpPr/>
            <p:nvPr/>
          </p:nvSpPr>
          <p:spPr>
            <a:xfrm flipH="1" flipV="1">
              <a:off x="4938480" y="1337400"/>
              <a:ext cx="5335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 flipV="1">
              <a:off x="4938480" y="1341360"/>
              <a:ext cx="304920" cy="413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 flipV="1">
              <a:off x="4581360" y="1339560"/>
              <a:ext cx="380880" cy="413460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45" descr="山寺树梢顶"/>
          <p:cNvPicPr/>
          <p:nvPr/>
        </p:nvPicPr>
        <p:blipFill>
          <a:blip r:embed="rId4"/>
          <a:stretch/>
        </p:blipFill>
        <p:spPr>
          <a:xfrm>
            <a:off x="900000" y="1461960"/>
            <a:ext cx="7351920" cy="3915000"/>
          </a:xfrm>
          <a:prstGeom prst="rect">
            <a:avLst/>
          </a:prstGeom>
          <a:ln w="0">
            <a:noFill/>
          </a:ln>
        </p:spPr>
      </p:pic>
      <p:sp>
        <p:nvSpPr>
          <p:cNvPr id="139" name="Oval 47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8"/>
          <p:cNvSpPr/>
          <p:nvPr/>
        </p:nvSpPr>
        <p:spPr>
          <a:xfrm>
            <a:off x="6075360" y="20368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9"/>
          <p:cNvSpPr/>
          <p:nvPr/>
        </p:nvSpPr>
        <p:spPr>
          <a:xfrm>
            <a:off x="5562720" y="16225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0"/>
          <p:cNvSpPr/>
          <p:nvPr/>
        </p:nvSpPr>
        <p:spPr>
          <a:xfrm>
            <a:off x="1752480" y="17524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1"/>
          <p:cNvSpPr/>
          <p:nvPr/>
        </p:nvSpPr>
        <p:spPr>
          <a:xfrm>
            <a:off x="7337520" y="2232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2"/>
          <p:cNvSpPr/>
          <p:nvPr/>
        </p:nvSpPr>
        <p:spPr>
          <a:xfrm>
            <a:off x="7794720" y="19270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685800" y="48006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5943600" y="1752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724280" y="152388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7551720" y="1676520"/>
            <a:ext cx="57240" cy="5688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7"/>
          <p:cNvSpPr/>
          <p:nvPr/>
        </p:nvSpPr>
        <p:spPr>
          <a:xfrm>
            <a:off x="8381880" y="5181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8"/>
          <p:cNvSpPr/>
          <p:nvPr/>
        </p:nvSpPr>
        <p:spPr>
          <a:xfrm>
            <a:off x="8305920" y="483696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0.00208 L 0.375 0.00208 E">
                                      <p:cBhvr>
                                        <p:cTn id="1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2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100" fill="hold"/>
                                        <p:tgtEl>
                                          <p:spTgt spid="125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9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4.16667E-006 -8.49711E-006 L 0.69167 -8.49711E-006 E">
                                      <p:cBhvr>
                                        <p:cTn id="25" dur="150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1.94444E-006 -6.7052E-006 C 0.04843 0.00577 0.09687 0.01155 0.14531 0.00231 C 0.19375 -0.00694 0.24566 -0.0474 0.29062 -0.05527 C 0.33559 -0.06313 0.37291 -0.0407 0.4151 -0.04532 C 0.45729 -0.04995 0.50191 -0.08347 0.5434 -0.08301 C 0.58489 -0.08255 0.64982 -0.05943 0.66423 -0.04278 C 0.67864 -0.02613 0.69652 0.01248 0.6302 0.01757 C 0.56389 0.02265 0.33159 0.00277 0.26614 -0.01272 C 0.20069 -0.02821 0.26718 -0.07122 0.23784 -0.07538 C 0.2085 -0.07954 0.09444 -0.05642 0.09062 -0.03769 C 0.0868 -0.01897 0.15885 0.04231 0.2151 0.03768 C 0.27135 0.03306 0.37135 -0.06706 0.4283 -0.06544 C 0.48524 -0.06382 0.51857 0.04138 0.55659 0.04762 C 0.59461 0.05387 0.61632 -0.01596 0.65659 -0.02775 C 0.69687 -0.03954 0.74739 -0.03122 0.79809 -0.02267 E">
                                      <p:cBhvr>
                                        <p:cTn id="80" dur="2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2.5E-006 -1.56069E-006 C -0.07274 -0.02659 -0.14531 -0.05318 -0.21129 -0.06289 C -0.27743 -0.0726 -0.33889 -0.06312 -0.39618 -0.05781 C -0.45347 -0.05249 -0.49809 -0.02035 -0.55469 -0.03029 C -0.61146 -0.04023 -0.68889 -0.10058 -0.73576 -0.11815 C -0.78264 -0.13573 -0.8092 -0.13573 -0.83576 -0.13573 E">
                                      <p:cBhvr>
                                        <p:cTn id="84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.00052 0.0007 C -0.046 0.01249 -0.09236 0.02428 -0.15798 0.03099 C -0.22361 0.03769 -0.34375 0.04347 -0.39375 0.04093 C -0.44375 0.03838 -0.43784 0.03607 -0.45798 0.01596 C -0.47812 -0.00416 -0.47968 -0.07838 -0.51458 -0.07954 C -0.54948 -0.08069 -0.62361 0.01087 -0.66736 0.00833 C -0.71111 0.00578 -0.75017 -0.07098 -0.77691 -0.09456 C -0.80364 -0.11815 -0.8158 -0.12532 -0.82777 -0.13248 E">
                                      <p:cBhvr>
                                        <p:cTn id="88" dur="14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山寺背景"/>
          <p:cNvPicPr/>
          <p:nvPr/>
        </p:nvPicPr>
        <p:blipFill>
          <a:blip r:embed="rId1"/>
          <a:stretch/>
        </p:blipFill>
        <p:spPr>
          <a:xfrm>
            <a:off x="-338040" y="795240"/>
            <a:ext cx="9799560" cy="5218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9"/>
          <p:cNvPicPr/>
          <p:nvPr/>
        </p:nvPicPr>
        <p:blipFill>
          <a:blip r:embed="rId2"/>
          <a:stretch/>
        </p:blipFill>
        <p:spPr>
          <a:xfrm>
            <a:off x="-1295280" y="914400"/>
            <a:ext cx="1609560" cy="13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山寺树梢顶"/>
          <p:cNvPicPr/>
          <p:nvPr/>
        </p:nvPicPr>
        <p:blipFill>
          <a:blip r:embed="rId3"/>
          <a:stretch/>
        </p:blipFill>
        <p:spPr>
          <a:xfrm>
            <a:off x="-351000" y="792000"/>
            <a:ext cx="9799920" cy="5218200"/>
          </a:xfrm>
          <a:prstGeom prst="rect">
            <a:avLst/>
          </a:prstGeom>
          <a:ln w="0">
            <a:noFill/>
          </a:ln>
        </p:spPr>
      </p:pic>
      <p:sp>
        <p:nvSpPr>
          <p:cNvPr id="154" name="Oval 5"/>
          <p:cNvSpPr/>
          <p:nvPr/>
        </p:nvSpPr>
        <p:spPr>
          <a:xfrm>
            <a:off x="3583080" y="9288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7066080" y="53895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-457200" y="53341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6075360" y="9907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1752480" y="990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4653000" y="1604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5127480" y="14479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8099280" y="15238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863280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6858000" y="9144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55627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5889600" y="1241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4648320" y="1295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39625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184880" y="12193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1"/>
          <p:cNvSpPr/>
          <p:nvPr/>
        </p:nvSpPr>
        <p:spPr>
          <a:xfrm>
            <a:off x="779472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9013680" y="13176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9166320" y="9907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-304920" y="58467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4633920" y="2368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月夜深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群星-禅院钟声.wma" descr=""/>
          <p:cNvPicPr/>
          <p:nvPr/>
        </p:nvPicPr>
        <p:blipFill>
          <a:blip r:embed="rId4"/>
          <a:stretch/>
        </p:blipFill>
        <p:spPr>
          <a:xfrm>
            <a:off x="-360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28207E-006 L 1.21268 -0.01249 E">
                                      <p:cBhvr>
                                        <p:cTn id="94" dur="250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50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10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0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1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0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10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141" dur="20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94444E-006 -4.56647E-006 C -0.02777 0.00578 -0.08455 0.01503 -0.11823 0.00879 C -0.15173 0.00255 -0.16041 -0.03006 -0.20191 -0.03699 C -0.24323 -0.04393 -0.31059 -0.04046 -0.36718 -0.03283 C -0.42378 -0.0252 -0.56284 -0.000229999999999999 -0.54097 0.00879 C -0.51909 0.01781 -0.27222 0.02567 -0.23628 0.02197 C -0.2 0.01827 -0.26927 -0.00347 -0.32465 -0.01318 C -0.38003 -0.02289 -0.50364 -0.03584 -0.56892 -0.03699 C -0.6342 -0.03815 -0.71163 -0.02589 -0.71649 -0.01965 C -0.72135 -0.01341 -0.62986 0.00578 -0.59843 -4.56647E-006 C -0.56701 -0.00578 -0.55972 -0.03306 -0.52795 -0.05456 C -0.49618 -0.07607 -0.44566 -0.12046 -0.40816 -0.12878 C -0.37066 -0.13711 -0.33906 -0.1237 -0.3033 -0.10474 C -0.2677 -0.08578 -0.25642 -0.0393 -0.1934 -0.01526 C -0.13073 0.00879 0.02466 0.03931 0.07361 0.03931 C 0.12275 0.03931 0.10573 -0.00439 0.10157 -0.01526 C 0.0974 -0.02613 0.0658 -0.02797 0.04914 -0.02613 C 0.0323 -0.02428 0.02778 -0.00578 -1.94444E-006 -4.56647E-006 Z">
                                      <p:cBhvr>
                                        <p:cTn id="143" dur="2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1.50289E-006 C 0.07361 -0.00347 0.14739 -0.00694 0.16406 -0.01966 C 0.18073 -0.03237 0.07864 -0.06058 0.1 -0.0763 C 0.12135 -0.09203 0.24114 -0.11862 0.29184 -0.11353 C 0.34236 -0.10844 0.41284 -0.05665 0.4033 -0.04578 C 0.39375 -0.03492 0.25052 -0.04139 0.23437 -0.04787 C 0.2184 -0.05434 0.25885 -0.07862 0.30659 -0.08509 C 0.35434 -0.09157 0.45903 -0.08717 0.52135 -0.08717 C 0.58368 -0.08717 0.6217 -0.09781 0.68038 -0.08509 C 0.73889 -0.07237 0.83368 -0.00948 0.87222 -0.01087 C 0.91076 -0.01226 0.95816 -0.0881 0.91146 -0.09388 C 0.86475 -0.09966 0.67812 -0.06035 0.59184 -0.04578 C 0.50555 -0.03122 0.46163 -0.00278 0.39357 -0.00648 C 0.32552 -0.01018 0.25555 -0.04856 0.18368 -0.06752 C 0.11163 -0.08648 0.03611 -0.10336 -0.03924 -0.12 E">
                                      <p:cBhvr>
                                        <p:cTn id="145" dur="18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0232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cho</cp:lastModifiedBy>
  <dcterms:modified xsi:type="dcterms:W3CDTF">2009-10-19T15:18:3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