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9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15.gif" ContentType="image/gif"/>
  <Override PartName="/ppt/media/image7.jpeg" ContentType="image/jpeg"/>
  <Override PartName="/ppt/media/image30.jpeg" ContentType="image/jpeg"/>
  <Override PartName="/ppt/media/image32.gif" ContentType="image/gif"/>
  <Override PartName="/ppt/media/image8.png" ContentType="image/png"/>
  <Override PartName="/ppt/media/image31.gif" ContentType="image/gif"/>
  <Override PartName="/ppt/media/image11.jpeg" ContentType="image/jpeg"/>
  <Override PartName="/ppt/media/image13.png" ContentType="image/png"/>
  <Override PartName="/ppt/media/image33.gif" ContentType="image/gif"/>
  <Override PartName="/ppt/media/image34.gif" ContentType="image/gif"/>
  <Override PartName="/ppt/media/image6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jpeg" ContentType="image/jpeg"/>
  <Override PartName="/ppt/media/image27.jpeg" ContentType="image/jpeg"/>
  <Override PartName="/ppt/media/image17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B45A-520D-4455-9655-4576EB60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8960" y="3821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3F71-C1DD-4606-AAD4-031D5488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18960" y="382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36000" y="382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51B4-0471-4656-87D4-6230E73D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01400" y="1457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83840" y="1457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18960" y="382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01400" y="382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83840" y="382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5A58-AF14-4E9A-BF9D-97DE115A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C6B7-9201-4BD6-B860-BC9AD62D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18960" y="1457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EB57-564C-484A-873E-253A5306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F0AA-BCA8-42FA-8AC8-D7FEC12B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0B64-E139-48D0-BBF3-A61B7391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114D-815A-4A2D-B6A1-F56EDE4D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716256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DA05-83E2-48CA-AD7C-500A896A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18960" y="382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6EDA-6F36-4465-8A7E-516C3BC0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18960" y="1457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5C48-E00C-4A37-B9B6-69401786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36000" y="382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BC89-0D3C-40E6-BA6F-771D5422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18960" y="3821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B113-42F8-48DC-B186-CF01E9A1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60" y="3821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C0CB-89CB-4659-A779-11A86351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18960" y="382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36000" y="382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B36D-9627-4131-AFF6-36AE145E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01400" y="1457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83840" y="1457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18960" y="382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01400" y="382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83840" y="382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F98B-8470-443B-92F5-A9C36192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E8603-24FD-4596-88B9-2AFC1A41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18960" y="1457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4E4A6-3983-446C-B064-7362932F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C6364-481B-4D08-82ED-87F3F835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0DF3F-4D99-4CFD-B942-764033D6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A6AA7-0E4F-4218-AC98-7BD4FAB6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D8C-AFAF-496B-AE4A-13AB10C0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716256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A9570-3775-403F-B7B9-EADC5A63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18960" y="382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7F589-BAA6-4362-9BDE-FBB9AE67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36000" y="382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86733-A4FF-4F9A-9241-64F03546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18960" y="3821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0EF3B-D157-44B5-8851-5A2AEA96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8960" y="3821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6FCCF-C203-4146-A3F4-1695CD44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18960" y="382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36000" y="382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68FE4-85EC-45FD-92FE-4DCD1DCD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01400" y="1457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83840" y="1457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18960" y="382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01400" y="382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83840" y="382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34627-97D1-42E9-9A44-8284B491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BBBC1-66C2-4C0A-B955-68155FEA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18960" y="1457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B0A03-6B79-4758-BA7D-A3F90B09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AA50F-4D65-4CC7-8D83-2027C1DB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D7B-E3FD-432E-A021-C26BA514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F4EA2-86FD-4D12-B639-7AF3380D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93453-D374-4FDB-A76B-CEF65FB9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716256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F32E1-A910-4DC5-8E71-1FFB6B6C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18960" y="382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1166E-E2F1-4699-A755-DABF7A18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36000" y="382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D390B-D37C-4B26-B9D5-E12E81B1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18960" y="3821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35E56-D9AC-4946-B90D-B8DB2379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8960" y="3821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6BEAB-8714-45A6-A9FE-1A51166F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18960" y="382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36000" y="382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5A58D-DE79-4CD4-A75F-4C5D9856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01400" y="1457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883840" y="1457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18960" y="382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01400" y="382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883840" y="382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5250D-DAEF-43C5-9CBE-38BAE65B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D1D2A-5284-4E77-9160-5AD3CA49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B1CF-31C6-4F4D-A22D-FD7D2F9D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18960" y="1457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ADEC7-56B3-4B7C-8D29-12C65723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52251-280F-4802-A49E-BE863C5B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2400F-1BBA-46DB-921F-88505702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4F837-FE8E-49CB-8971-484955B8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716256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32FEF-241A-475E-A255-19AA2AA8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18960" y="382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E92DF-039C-475E-BCFC-84849094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36000" y="382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3B7B4-4507-4E4A-B298-184C11C8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18960" y="3821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2A808-7578-41C0-B77C-0D55BBAE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960" y="3821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27744-F445-41F0-B2B5-51FF0F87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18960" y="382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36000" y="382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62158-1A75-43DD-B98B-E98CDBD5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716256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C4F3-D295-423D-AD78-6B16FF63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01400" y="1457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883840" y="1457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18960" y="382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01400" y="382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883840" y="382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C809F-E029-45BF-A208-F7680B51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7785E-ECCD-4F00-A185-C4D06C9B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18960" y="1457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AA796-F30B-4A56-9A63-79549D2F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94DC7-06E5-487E-8C6F-E472DA5A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93BF1-802D-42A6-8169-03332300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408D0-996F-496E-AEEF-DCA51946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716256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11FC5-4BA7-4EA5-A64B-E5B1395A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18960" y="382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8A1A2-022C-4F72-AC18-2A4934FD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36000" y="382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023CA-B7D4-4A2C-AF54-47BFF918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18960" y="3821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84C42-F2E4-4B05-9627-15F7560A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8960" y="382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1DF4-AB5F-4580-9B55-1A97AC76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18960" y="3821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23520-B305-42FD-A585-18F65250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18960" y="382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36000" y="382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84B99-8624-4BCF-A364-A87B7DDB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01400" y="1457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883840" y="1457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318960" y="382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01400" y="382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883840" y="382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E822B-5DE4-4DCC-98FA-40044705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36000" y="382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163D-2A3B-4F3F-8D8B-AA1B78E7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36000" y="1457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18960" y="3821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9C0F-81CD-49E4-B233-D9A0EEEF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18960" y="1457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14920"/>
            <a:ext cx="213372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14920"/>
            <a:ext cx="289584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514920"/>
            <a:ext cx="213372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A39E-6146-4434-85F4-60F9A37BFDD5}" type="slidenum">
              <a:rPr b="0" lang="zh-TW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png-1835"/>
          <p:cNvPicPr/>
          <p:nvPr/>
        </p:nvPicPr>
        <p:blipFill>
          <a:blip r:embed="rId3"/>
          <a:stretch/>
        </p:blipFill>
        <p:spPr>
          <a:xfrm>
            <a:off x="7797960" y="85680"/>
            <a:ext cx="1218960" cy="13716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92"/>
          <p:cNvPicPr/>
          <p:nvPr/>
        </p:nvPicPr>
        <p:blipFill>
          <a:blip r:embed="rId4"/>
          <a:srcRect l="26151" t="28126" r="42945" b="55469"/>
          <a:stretch/>
        </p:blipFill>
        <p:spPr>
          <a:xfrm>
            <a:off x="-76320" y="-42840"/>
            <a:ext cx="1981440" cy="18003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8"/>
          <p:cNvPicPr/>
          <p:nvPr/>
        </p:nvPicPr>
        <p:blipFill>
          <a:blip r:embed="rId5"/>
          <a:stretch/>
        </p:blipFill>
        <p:spPr>
          <a:xfrm>
            <a:off x="7115040" y="3772080"/>
            <a:ext cx="2028960" cy="308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18960" y="1457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514920"/>
            <a:ext cx="213372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514920"/>
            <a:ext cx="289584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514920"/>
            <a:ext cx="213372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E183-CC0D-4D71-9546-88BDB35A4784}" type="slidenum">
              <a:rPr b="0" lang="zh-TW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8" descr="png-1823"/>
          <p:cNvPicPr/>
          <p:nvPr/>
        </p:nvPicPr>
        <p:blipFill>
          <a:blip r:embed="rId3"/>
          <a:stretch/>
        </p:blipFill>
        <p:spPr>
          <a:xfrm>
            <a:off x="7899480" y="243000"/>
            <a:ext cx="1079280" cy="1214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92"/>
          <p:cNvPicPr/>
          <p:nvPr/>
        </p:nvPicPr>
        <p:blipFill>
          <a:blip r:embed="rId4"/>
          <a:srcRect l="26151" t="28126" r="42945" b="55469"/>
          <a:stretch/>
        </p:blipFill>
        <p:spPr>
          <a:xfrm>
            <a:off x="-76320" y="-85680"/>
            <a:ext cx="198144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8"/>
          <p:cNvPicPr/>
          <p:nvPr/>
        </p:nvPicPr>
        <p:blipFill>
          <a:blip r:embed="rId5"/>
          <a:stretch/>
        </p:blipFill>
        <p:spPr>
          <a:xfrm>
            <a:off x="7115040" y="3772080"/>
            <a:ext cx="2028960" cy="308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318960" y="1457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514920"/>
            <a:ext cx="213372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514920"/>
            <a:ext cx="289584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514920"/>
            <a:ext cx="213372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AF5D-CDB2-4B15-9D64-A2D4908DDF1A}" type="slidenum">
              <a:rPr b="0" lang="zh-TW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8" descr="92"/>
          <p:cNvPicPr/>
          <p:nvPr/>
        </p:nvPicPr>
        <p:blipFill>
          <a:blip r:embed="rId3"/>
          <a:srcRect l="26151" t="28126" r="42945" b="55469"/>
          <a:stretch/>
        </p:blipFill>
        <p:spPr>
          <a:xfrm>
            <a:off x="-76320" y="-85680"/>
            <a:ext cx="1981440" cy="180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中国风图标下载50"/>
          <p:cNvPicPr/>
          <p:nvPr/>
        </p:nvPicPr>
        <p:blipFill>
          <a:blip r:embed="rId4"/>
          <a:stretch/>
        </p:blipFill>
        <p:spPr>
          <a:xfrm rot="850200">
            <a:off x="7608600" y="325080"/>
            <a:ext cx="1305000" cy="1468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8"/>
          <p:cNvPicPr/>
          <p:nvPr/>
        </p:nvPicPr>
        <p:blipFill>
          <a:blip r:embed="rId5"/>
          <a:stretch/>
        </p:blipFill>
        <p:spPr>
          <a:xfrm>
            <a:off x="7115040" y="3772080"/>
            <a:ext cx="2028960" cy="308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5C2C-63BA-44DD-9DD6-A0BBAAC3B40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2143080"/>
            <a:ext cx="6934320" cy="3085920"/>
            <a:chOff x="0" y="2143080"/>
            <a:chExt cx="6934320" cy="3085920"/>
          </a:xfrm>
        </p:grpSpPr>
        <p:sp>
          <p:nvSpPr>
            <p:cNvPr id="177" name="Rectangle 3"/>
            <p:cNvSpPr/>
            <p:nvPr/>
          </p:nvSpPr>
          <p:spPr>
            <a:xfrm>
              <a:off x="0" y="2143080"/>
              <a:ext cx="4191120" cy="30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4"/>
            <p:cNvSpPr/>
            <p:nvPr/>
          </p:nvSpPr>
          <p:spPr>
            <a:xfrm>
              <a:off x="152280" y="2143080"/>
              <a:ext cx="6782040" cy="3085920"/>
            </a:xfrm>
            <a:prstGeom prst="flowChartAlternateProcess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Picture 10" descr="92"/>
          <p:cNvPicPr/>
          <p:nvPr/>
        </p:nvPicPr>
        <p:blipFill>
          <a:blip r:embed="rId3"/>
          <a:srcRect l="28255" t="39380" r="47658" b="23779"/>
          <a:stretch/>
        </p:blipFill>
        <p:spPr>
          <a:xfrm rot="2737200">
            <a:off x="2526120" y="997200"/>
            <a:ext cx="2643120" cy="2362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92"/>
          <p:cNvPicPr/>
          <p:nvPr/>
        </p:nvPicPr>
        <p:blipFill>
          <a:blip r:embed="rId4"/>
          <a:srcRect l="28255" t="39380" r="60809" b="30911"/>
          <a:stretch/>
        </p:blipFill>
        <p:spPr>
          <a:xfrm rot="2395200">
            <a:off x="926640" y="4543560"/>
            <a:ext cx="1067040" cy="2143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92"/>
          <p:cNvPicPr/>
          <p:nvPr/>
        </p:nvPicPr>
        <p:blipFill>
          <a:blip r:embed="rId5"/>
          <a:srcRect l="28255" t="59587" r="47658" b="23779"/>
          <a:stretch/>
        </p:blipFill>
        <p:spPr>
          <a:xfrm rot="10489800">
            <a:off x="3505320" y="171000"/>
            <a:ext cx="2349360" cy="1200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中国风图标下载50"/>
          <p:cNvPicPr/>
          <p:nvPr/>
        </p:nvPicPr>
        <p:blipFill>
          <a:blip r:embed="rId6"/>
          <a:stretch/>
        </p:blipFill>
        <p:spPr>
          <a:xfrm rot="1034400">
            <a:off x="5522760" y="3203280"/>
            <a:ext cx="3048120" cy="3429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8"/>
          <p:cNvPicPr/>
          <p:nvPr/>
        </p:nvPicPr>
        <p:blipFill>
          <a:blip r:embed="rId7"/>
          <a:stretch/>
        </p:blipFill>
        <p:spPr>
          <a:xfrm>
            <a:off x="3505320" y="2143080"/>
            <a:ext cx="2028600" cy="30862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15"/>
          <p:cNvSpPr/>
          <p:nvPr/>
        </p:nvSpPr>
        <p:spPr>
          <a:xfrm>
            <a:off x="7543800" y="257040"/>
            <a:ext cx="533520" cy="600120"/>
          </a:xfrm>
          <a:custGeom>
            <a:avLst/>
            <a:gdLst>
              <a:gd name="textAreaLeft" fmla="*/ 219960 w 533520"/>
              <a:gd name="textAreaRight" fmla="*/ 313560 w 533520"/>
              <a:gd name="textAreaTop" fmla="*/ 247320 h 600120"/>
              <a:gd name="textAreaBottom" fmla="*/ 352800 h 600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6769080" y="757080"/>
            <a:ext cx="380880" cy="428760"/>
          </a:xfrm>
          <a:custGeom>
            <a:avLst/>
            <a:gdLst>
              <a:gd name="textAreaLeft" fmla="*/ 156960 w 380880"/>
              <a:gd name="textAreaRight" fmla="*/ 223920 w 380880"/>
              <a:gd name="textAreaTop" fmla="*/ 176760 h 428760"/>
              <a:gd name="textAreaBottom" fmla="*/ 252000 h 42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7"/>
          <p:cNvSpPr/>
          <p:nvPr/>
        </p:nvSpPr>
        <p:spPr>
          <a:xfrm>
            <a:off x="6705720" y="857160"/>
            <a:ext cx="380880" cy="428760"/>
          </a:xfrm>
          <a:custGeom>
            <a:avLst/>
            <a:gdLst>
              <a:gd name="textAreaLeft" fmla="*/ 156960 w 380880"/>
              <a:gd name="textAreaRight" fmla="*/ 223920 w 380880"/>
              <a:gd name="textAreaTop" fmla="*/ 176760 h 428760"/>
              <a:gd name="textAreaBottom" fmla="*/ 252000 h 42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18960" y="1457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428880"/>
            <a:ext cx="21337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imes New Roman"/>
                <a:ea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Times New Roman"/>
                <a:ea typeface="Gulim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428880"/>
            <a:ext cx="289584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428880"/>
            <a:ext cx="21337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ffffff"/>
                </a:solidFill>
                <a:latin typeface="Times New Roman"/>
                <a:ea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BE7E-9EDF-45F1-B378-5D5DD8C88D2F}" type="slidenum">
              <a:rPr b="0" lang="zh-TW" sz="11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png-1823"/>
          <p:cNvPicPr/>
          <p:nvPr/>
        </p:nvPicPr>
        <p:blipFill>
          <a:blip r:embed="rId3"/>
          <a:stretch/>
        </p:blipFill>
        <p:spPr>
          <a:xfrm>
            <a:off x="7899480" y="243000"/>
            <a:ext cx="1079280" cy="1214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92"/>
          <p:cNvPicPr/>
          <p:nvPr/>
        </p:nvPicPr>
        <p:blipFill>
          <a:blip r:embed="rId4"/>
          <a:srcRect l="26151" t="28126" r="42945" b="55469"/>
          <a:stretch/>
        </p:blipFill>
        <p:spPr>
          <a:xfrm>
            <a:off x="-76320" y="-85680"/>
            <a:ext cx="1981440" cy="1800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8"/>
          <p:cNvPicPr/>
          <p:nvPr/>
        </p:nvPicPr>
        <p:blipFill>
          <a:blip r:embed="rId5"/>
          <a:stretch/>
        </p:blipFill>
        <p:spPr>
          <a:xfrm>
            <a:off x="7115040" y="3772080"/>
            <a:ext cx="2028960" cy="3085920"/>
          </a:xfrm>
          <a:prstGeom prst="rect">
            <a:avLst/>
          </a:prstGeom>
          <a:ln w="0">
            <a:noFill/>
          </a:ln>
        </p:spPr>
      </p:pic>
      <p:pic>
        <p:nvPicPr>
          <p:cNvPr id="232" name="矩形 10" descr=""/>
          <p:cNvPicPr/>
          <p:nvPr/>
        </p:nvPicPr>
        <p:blipFill>
          <a:blip r:embed="rId6"/>
          <a:stretch/>
        </p:blipFill>
        <p:spPr>
          <a:xfrm>
            <a:off x="5291280" y="5694480"/>
            <a:ext cx="3346200" cy="6271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318960" y="1457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456840" y="6514920"/>
            <a:ext cx="213372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3124080" y="6514920"/>
            <a:ext cx="289584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6552720" y="6514920"/>
            <a:ext cx="213372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0ECC-67B0-4EF6-A71F-A4BB2FDCC31D}" type="slidenum">
              <a:rPr b="0" lang="zh-TW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image" Target="../media/image31.gif"/><Relationship Id="rId14" Type="http://schemas.openxmlformats.org/officeDocument/2006/relationships/image" Target="../media/image32.gif"/><Relationship Id="rId15" Type="http://schemas.openxmlformats.org/officeDocument/2006/relationships/image" Target="../media/image33.gif"/><Relationship Id="rId16" Type="http://schemas.openxmlformats.org/officeDocument/2006/relationships/image" Target="../media/image34.gif"/><Relationship Id="rId1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6" descr="背景3"/>
          <p:cNvPicPr/>
          <p:nvPr/>
        </p:nvPicPr>
        <p:blipFill>
          <a:blip r:embed="rId2"/>
          <a:stretch/>
        </p:blipFill>
        <p:spPr>
          <a:xfrm>
            <a:off x="1476360" y="1341360"/>
            <a:ext cx="6191280" cy="417528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34"/>
          <p:cNvGrpSpPr/>
          <p:nvPr/>
        </p:nvGrpSpPr>
        <p:grpSpPr>
          <a:xfrm>
            <a:off x="3429000" y="1357200"/>
            <a:ext cx="914400" cy="4137480"/>
            <a:chOff x="3429000" y="1357200"/>
            <a:chExt cx="914400" cy="4137480"/>
          </a:xfrm>
        </p:grpSpPr>
        <p:grpSp>
          <p:nvGrpSpPr>
            <p:cNvPr id="276" name="Group 10"/>
            <p:cNvGrpSpPr/>
            <p:nvPr/>
          </p:nvGrpSpPr>
          <p:grpSpPr>
            <a:xfrm>
              <a:off x="3429000" y="1360800"/>
              <a:ext cx="533520" cy="4133880"/>
              <a:chOff x="3429000" y="1360800"/>
              <a:chExt cx="533520" cy="4133880"/>
            </a:xfrm>
          </p:grpSpPr>
          <p:sp>
            <p:nvSpPr>
              <p:cNvPr id="277" name="Rectangle 5"/>
              <p:cNvSpPr/>
              <p:nvPr/>
            </p:nvSpPr>
            <p:spPr>
              <a:xfrm flipV="1">
                <a:off x="3429000" y="1360440"/>
                <a:ext cx="533520" cy="4128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4"/>
              <p:cNvSpPr/>
              <p:nvPr/>
            </p:nvSpPr>
            <p:spPr>
              <a:xfrm flipH="1" flipV="1">
                <a:off x="3656880" y="1366200"/>
                <a:ext cx="304920" cy="4128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Rectangle 25"/>
            <p:cNvSpPr/>
            <p:nvPr/>
          </p:nvSpPr>
          <p:spPr>
            <a:xfrm flipH="1" flipV="1">
              <a:off x="3962520" y="1357200"/>
              <a:ext cx="380880" cy="4129920"/>
            </a:xfrm>
            <a:prstGeom prst="rect">
              <a:avLst/>
            </a:prstGeom>
            <a:gradFill rotWithShape="0">
              <a:gsLst>
                <a:gs pos="0">
                  <a:srgbClr val="3b3b3b">
                    <a:alpha val="0"/>
                  </a:srgbClr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3"/>
          <p:cNvGrpSpPr/>
          <p:nvPr/>
        </p:nvGrpSpPr>
        <p:grpSpPr>
          <a:xfrm>
            <a:off x="4581360" y="1337760"/>
            <a:ext cx="890640" cy="4138560"/>
            <a:chOff x="4581360" y="1337760"/>
            <a:chExt cx="890640" cy="4138560"/>
          </a:xfrm>
        </p:grpSpPr>
        <p:sp>
          <p:nvSpPr>
            <p:cNvPr id="281" name="Rectangle 18"/>
            <p:cNvSpPr/>
            <p:nvPr/>
          </p:nvSpPr>
          <p:spPr>
            <a:xfrm flipH="1" flipV="1">
              <a:off x="4938480" y="1337400"/>
              <a:ext cx="533520" cy="413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9"/>
            <p:cNvSpPr/>
            <p:nvPr/>
          </p:nvSpPr>
          <p:spPr>
            <a:xfrm flipV="1">
              <a:off x="4938480" y="1341360"/>
              <a:ext cx="304920" cy="413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6"/>
            <p:cNvSpPr/>
            <p:nvPr/>
          </p:nvSpPr>
          <p:spPr>
            <a:xfrm flipV="1">
              <a:off x="4581360" y="1339560"/>
              <a:ext cx="380880" cy="4134600"/>
            </a:xfrm>
            <a:prstGeom prst="rect">
              <a:avLst/>
            </a:prstGeom>
            <a:gradFill rotWithShape="0">
              <a:gsLst>
                <a:gs pos="0">
                  <a:srgbClr val="3b3b3b">
                    <a:alpha val="0"/>
                  </a:srgbClr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图片 11" descr="图片1.png"/>
          <p:cNvPicPr/>
          <p:nvPr/>
        </p:nvPicPr>
        <p:blipFill>
          <a:blip r:embed="rId3"/>
          <a:stretch/>
        </p:blipFill>
        <p:spPr>
          <a:xfrm>
            <a:off x="1285920" y="1214280"/>
            <a:ext cx="6413400" cy="4286520"/>
          </a:xfrm>
          <a:prstGeom prst="rect">
            <a:avLst/>
          </a:prstGeom>
          <a:ln w="0">
            <a:noFill/>
          </a:ln>
        </p:spPr>
      </p:pic>
      <p:sp>
        <p:nvSpPr>
          <p:cNvPr id="285" name="矩形 10"/>
          <p:cNvSpPr/>
          <p:nvPr/>
        </p:nvSpPr>
        <p:spPr>
          <a:xfrm>
            <a:off x="900000" y="1341360"/>
            <a:ext cx="7272360" cy="4143600"/>
          </a:xfrm>
          <a:prstGeom prst="rect">
            <a:avLst/>
          </a:prstGeom>
          <a:solidFill>
            <a:srgbClr val="ffc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民族音乐-古筝曲完美 出塞背景.wma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3000" fill="hold"/>
                                        <p:tgtEl>
                                          <p:spTgt spid="275"/>
                                        </p:tgtEl>
                                      </p:cBhvr>
                                      <p:to x="3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2483 0.00046 L -0.35816 0.00046 E">
                                      <p:cBhvr>
                                        <p:cTn id="12" dur="3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3000" fill="hold"/>
                                        <p:tgtEl>
                                          <p:spTgt spid="280"/>
                                        </p:tgtEl>
                                      </p:cBhvr>
                                      <p:to x="3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22222E-006 -1.96532E-006 L 0.375 -1.96532E-006 E">
                                      <p:cBhvr>
                                        <p:cTn id="16" dur="3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6" presetSubtype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29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6" presetSubtype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29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611280" y="154260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华文彩云"/>
                <a:ea typeface="华文彩云"/>
              </a:rPr>
              <a:t>第四节 毫 针 基 本 操 作 技 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2881800" y="2924280"/>
            <a:ext cx="21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彩云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彩云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彩云"/>
              </a:rPr>
              <a:t>持  针  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2865960" y="3645000"/>
            <a:ext cx="21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彩云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彩云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彩云"/>
              </a:rPr>
              <a:t>押  手  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2865960" y="4363920"/>
            <a:ext cx="21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彩云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彩云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彩云"/>
              </a:rPr>
              <a:t>进  针  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3" descr="华佗"/>
          <p:cNvPicPr/>
          <p:nvPr/>
        </p:nvPicPr>
        <p:blipFill>
          <a:blip r:embed="rId4"/>
          <a:stretch/>
        </p:blipFill>
        <p:spPr>
          <a:xfrm>
            <a:off x="9144000" y="2205000"/>
            <a:ext cx="392436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84360" y="0"/>
            <a:ext cx="498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、 进 针 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1280" y="1457280"/>
            <a:ext cx="793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将毫针刺入腧穴皮下的技术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常用的进针法有双手、单手、管针三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或以速度言分快速进针、缓慢进针两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498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一） 操 作 方 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06040" y="2420640"/>
            <a:ext cx="5975640" cy="2087640"/>
          </a:xfrm>
          <a:prstGeom prst="rect">
            <a:avLst/>
          </a:prstGeom>
          <a:noFill/>
          <a:ln w="1270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双手进针法     </a:t>
            </a: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快速进针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单手进针法     </a:t>
            </a: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缓慢进针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管针进针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05"/>
          <p:cNvSpPr/>
          <p:nvPr/>
        </p:nvSpPr>
        <p:spPr>
          <a:xfrm>
            <a:off x="950760" y="2349360"/>
            <a:ext cx="611280" cy="22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6"/>
          <p:cNvSpPr/>
          <p:nvPr/>
        </p:nvSpPr>
        <p:spPr>
          <a:xfrm>
            <a:off x="7996320" y="2335320"/>
            <a:ext cx="611280" cy="223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76"/>
          <p:cNvSpPr/>
          <p:nvPr/>
        </p:nvSpPr>
        <p:spPr>
          <a:xfrm>
            <a:off x="7726320" y="2336760"/>
            <a:ext cx="611280" cy="2232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77"/>
          <p:cNvSpPr/>
          <p:nvPr/>
        </p:nvSpPr>
        <p:spPr>
          <a:xfrm>
            <a:off x="1258920" y="2349360"/>
            <a:ext cx="611280" cy="22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47"/>
          <p:cNvSpPr/>
          <p:nvPr/>
        </p:nvSpPr>
        <p:spPr>
          <a:xfrm>
            <a:off x="1692360" y="4941720"/>
            <a:ext cx="7451640" cy="191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48"/>
          <p:cNvGrpSpPr/>
          <p:nvPr/>
        </p:nvGrpSpPr>
        <p:grpSpPr>
          <a:xfrm>
            <a:off x="4759920" y="-1671480"/>
            <a:ext cx="216720" cy="6395040"/>
            <a:chOff x="4759920" y="-1671480"/>
            <a:chExt cx="216720" cy="6395040"/>
          </a:xfrm>
        </p:grpSpPr>
        <p:grpSp>
          <p:nvGrpSpPr>
            <p:cNvPr id="302" name="Group 349"/>
            <p:cNvGrpSpPr/>
            <p:nvPr/>
          </p:nvGrpSpPr>
          <p:grpSpPr>
            <a:xfrm>
              <a:off x="4766040" y="2563920"/>
              <a:ext cx="210600" cy="2159640"/>
              <a:chOff x="4766040" y="2563920"/>
              <a:chExt cx="210600" cy="2159640"/>
            </a:xfrm>
          </p:grpSpPr>
          <p:sp>
            <p:nvSpPr>
              <p:cNvPr id="303" name="Rectangle 350"/>
              <p:cNvSpPr/>
              <p:nvPr/>
            </p:nvSpPr>
            <p:spPr>
              <a:xfrm flipH="1">
                <a:off x="4767120" y="2563920"/>
                <a:ext cx="207720" cy="21330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351"/>
              <p:cNvSpPr/>
              <p:nvPr/>
            </p:nvSpPr>
            <p:spPr>
              <a:xfrm flipH="1">
                <a:off x="4766040" y="2563920"/>
                <a:ext cx="209160" cy="431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352"/>
              <p:cNvSpPr/>
              <p:nvPr/>
            </p:nvSpPr>
            <p:spPr>
              <a:xfrm flipH="1">
                <a:off x="4766040" y="2995200"/>
                <a:ext cx="209160" cy="43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353"/>
              <p:cNvSpPr/>
              <p:nvPr/>
            </p:nvSpPr>
            <p:spPr>
              <a:xfrm flipH="1">
                <a:off x="4766040" y="3860280"/>
                <a:ext cx="209160" cy="431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354"/>
              <p:cNvSpPr/>
              <p:nvPr/>
            </p:nvSpPr>
            <p:spPr>
              <a:xfrm flipH="1">
                <a:off x="4767120" y="4291920"/>
                <a:ext cx="209520" cy="43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355"/>
              <p:cNvSpPr/>
              <p:nvPr/>
            </p:nvSpPr>
            <p:spPr>
              <a:xfrm flipH="1">
                <a:off x="4767120" y="3428640"/>
                <a:ext cx="209520" cy="43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356"/>
            <p:cNvGrpSpPr/>
            <p:nvPr/>
          </p:nvGrpSpPr>
          <p:grpSpPr>
            <a:xfrm>
              <a:off x="4761720" y="430200"/>
              <a:ext cx="210600" cy="2160360"/>
              <a:chOff x="4761720" y="430200"/>
              <a:chExt cx="210600" cy="2160360"/>
            </a:xfrm>
          </p:grpSpPr>
          <p:sp>
            <p:nvSpPr>
              <p:cNvPr id="310" name="Rectangle 357"/>
              <p:cNvSpPr/>
              <p:nvPr/>
            </p:nvSpPr>
            <p:spPr>
              <a:xfrm flipH="1">
                <a:off x="4763520" y="430200"/>
                <a:ext cx="207360" cy="2133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358"/>
              <p:cNvSpPr/>
              <p:nvPr/>
            </p:nvSpPr>
            <p:spPr>
              <a:xfrm flipH="1">
                <a:off x="4761720" y="430200"/>
                <a:ext cx="209160" cy="43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359"/>
              <p:cNvSpPr/>
              <p:nvPr/>
            </p:nvSpPr>
            <p:spPr>
              <a:xfrm flipH="1">
                <a:off x="4761720" y="861840"/>
                <a:ext cx="209160" cy="43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360"/>
              <p:cNvSpPr/>
              <p:nvPr/>
            </p:nvSpPr>
            <p:spPr>
              <a:xfrm flipH="1">
                <a:off x="4761720" y="1726920"/>
                <a:ext cx="209160" cy="43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361"/>
              <p:cNvSpPr/>
              <p:nvPr/>
            </p:nvSpPr>
            <p:spPr>
              <a:xfrm flipH="1">
                <a:off x="4763160" y="2158920"/>
                <a:ext cx="209160" cy="43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362"/>
              <p:cNvSpPr/>
              <p:nvPr/>
            </p:nvSpPr>
            <p:spPr>
              <a:xfrm flipH="1">
                <a:off x="4763160" y="1295280"/>
                <a:ext cx="209160" cy="43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 363"/>
            <p:cNvGrpSpPr/>
            <p:nvPr/>
          </p:nvGrpSpPr>
          <p:grpSpPr>
            <a:xfrm>
              <a:off x="4759920" y="-1671480"/>
              <a:ext cx="210960" cy="2160000"/>
              <a:chOff x="4759920" y="-1671480"/>
              <a:chExt cx="210960" cy="2160000"/>
            </a:xfrm>
          </p:grpSpPr>
          <p:sp>
            <p:nvSpPr>
              <p:cNvPr id="317" name="Rectangle 364"/>
              <p:cNvSpPr/>
              <p:nvPr/>
            </p:nvSpPr>
            <p:spPr>
              <a:xfrm flipH="1">
                <a:off x="4761000" y="-1671480"/>
                <a:ext cx="208440" cy="2133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365"/>
              <p:cNvSpPr/>
              <p:nvPr/>
            </p:nvSpPr>
            <p:spPr>
              <a:xfrm flipH="1">
                <a:off x="4759920" y="-1671480"/>
                <a:ext cx="209880" cy="43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366"/>
              <p:cNvSpPr/>
              <p:nvPr/>
            </p:nvSpPr>
            <p:spPr>
              <a:xfrm flipH="1">
                <a:off x="4759920" y="-1239480"/>
                <a:ext cx="209880" cy="431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367"/>
              <p:cNvSpPr/>
              <p:nvPr/>
            </p:nvSpPr>
            <p:spPr>
              <a:xfrm flipH="1">
                <a:off x="4759920" y="-374400"/>
                <a:ext cx="209880" cy="43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368"/>
              <p:cNvSpPr/>
              <p:nvPr/>
            </p:nvSpPr>
            <p:spPr>
              <a:xfrm flipH="1">
                <a:off x="4761000" y="57240"/>
                <a:ext cx="209880" cy="431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369"/>
              <p:cNvSpPr/>
              <p:nvPr/>
            </p:nvSpPr>
            <p:spPr>
              <a:xfrm flipH="1">
                <a:off x="4761000" y="-806040"/>
                <a:ext cx="209880" cy="431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3" name="Group 370"/>
          <p:cNvGrpSpPr/>
          <p:nvPr/>
        </p:nvGrpSpPr>
        <p:grpSpPr>
          <a:xfrm>
            <a:off x="4676760" y="2057400"/>
            <a:ext cx="4338720" cy="2809440"/>
            <a:chOff x="4676760" y="2057400"/>
            <a:chExt cx="4338720" cy="2809440"/>
          </a:xfrm>
        </p:grpSpPr>
        <p:grpSp>
          <p:nvGrpSpPr>
            <p:cNvPr id="324" name="Group 371"/>
            <p:cNvGrpSpPr/>
            <p:nvPr/>
          </p:nvGrpSpPr>
          <p:grpSpPr>
            <a:xfrm>
              <a:off x="4676760" y="2057400"/>
              <a:ext cx="360360" cy="2809440"/>
              <a:chOff x="4676760" y="2057400"/>
              <a:chExt cx="360360" cy="2809440"/>
            </a:xfrm>
          </p:grpSpPr>
          <p:grpSp>
            <p:nvGrpSpPr>
              <p:cNvPr id="325" name="Group 372"/>
              <p:cNvGrpSpPr/>
              <p:nvPr/>
            </p:nvGrpSpPr>
            <p:grpSpPr>
              <a:xfrm>
                <a:off x="4676760" y="2057400"/>
                <a:ext cx="360360" cy="2809440"/>
                <a:chOff x="4676760" y="2057400"/>
                <a:chExt cx="360360" cy="2809440"/>
              </a:xfrm>
            </p:grpSpPr>
            <p:sp>
              <p:nvSpPr>
                <p:cNvPr id="326" name="Rectangle 373"/>
                <p:cNvSpPr/>
                <p:nvPr/>
              </p:nvSpPr>
              <p:spPr>
                <a:xfrm>
                  <a:off x="4748400" y="2201760"/>
                  <a:ext cx="215640" cy="2520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>
                        <a:alpha val="30196"/>
                      </a:srgbClr>
                    </a:gs>
                    <a:gs pos="50000">
                      <a:srgbClr val="000000">
                        <a:alpha val="0"/>
                      </a:srgbClr>
                    </a:gs>
                    <a:gs pos="100000">
                      <a:srgbClr val="000000">
                        <a:alpha val="30196"/>
                      </a:srgbClr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AutoShape 374"/>
                <p:cNvSpPr/>
                <p:nvPr/>
              </p:nvSpPr>
              <p:spPr>
                <a:xfrm>
                  <a:off x="4676760" y="2057400"/>
                  <a:ext cx="360360" cy="144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996633"/>
                </a:solidFill>
                <a:ln w="936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AutoShape 375"/>
                <p:cNvSpPr/>
                <p:nvPr/>
              </p:nvSpPr>
              <p:spPr>
                <a:xfrm>
                  <a:off x="4676760" y="4722480"/>
                  <a:ext cx="360360" cy="144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996633"/>
                </a:solidFill>
                <a:ln w="936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Rectangle 376"/>
                <p:cNvSpPr/>
                <p:nvPr/>
              </p:nvSpPr>
              <p:spPr>
                <a:xfrm>
                  <a:off x="4740480" y="2205000"/>
                  <a:ext cx="215640" cy="70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0c0c0"/>
                    </a:gs>
                    <a:gs pos="50000">
                      <a:srgbClr val="ffffff"/>
                    </a:gs>
                    <a:gs pos="100000">
                      <a:srgbClr val="c0c0c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" name="Rectangle 377"/>
              <p:cNvSpPr/>
              <p:nvPr/>
            </p:nvSpPr>
            <p:spPr>
              <a:xfrm>
                <a:off x="4749480" y="4651200"/>
                <a:ext cx="216000" cy="7092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Rectangle 378"/>
            <p:cNvSpPr/>
            <p:nvPr/>
          </p:nvSpPr>
          <p:spPr>
            <a:xfrm>
              <a:off x="4956120" y="2220840"/>
              <a:ext cx="4059360" cy="250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379"/>
          <p:cNvGrpSpPr/>
          <p:nvPr/>
        </p:nvGrpSpPr>
        <p:grpSpPr>
          <a:xfrm>
            <a:off x="4371840" y="-1690560"/>
            <a:ext cx="227880" cy="6395040"/>
            <a:chOff x="4371840" y="-1690560"/>
            <a:chExt cx="227880" cy="6395040"/>
          </a:xfrm>
        </p:grpSpPr>
        <p:grpSp>
          <p:nvGrpSpPr>
            <p:cNvPr id="333" name="Group 380"/>
            <p:cNvGrpSpPr/>
            <p:nvPr/>
          </p:nvGrpSpPr>
          <p:grpSpPr>
            <a:xfrm>
              <a:off x="4371840" y="2544840"/>
              <a:ext cx="221400" cy="2159640"/>
              <a:chOff x="4371840" y="2544840"/>
              <a:chExt cx="221400" cy="2159640"/>
            </a:xfrm>
          </p:grpSpPr>
          <p:sp>
            <p:nvSpPr>
              <p:cNvPr id="334" name="Rectangle 381"/>
              <p:cNvSpPr/>
              <p:nvPr/>
            </p:nvSpPr>
            <p:spPr>
              <a:xfrm>
                <a:off x="4373640" y="2544840"/>
                <a:ext cx="218160" cy="21330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382"/>
              <p:cNvSpPr/>
              <p:nvPr/>
            </p:nvSpPr>
            <p:spPr>
              <a:xfrm>
                <a:off x="4373640" y="2544840"/>
                <a:ext cx="219600" cy="431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383"/>
              <p:cNvSpPr/>
              <p:nvPr/>
            </p:nvSpPr>
            <p:spPr>
              <a:xfrm>
                <a:off x="4373640" y="2976120"/>
                <a:ext cx="219600" cy="43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384"/>
              <p:cNvSpPr/>
              <p:nvPr/>
            </p:nvSpPr>
            <p:spPr>
              <a:xfrm>
                <a:off x="4373640" y="3841200"/>
                <a:ext cx="219600" cy="431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385"/>
              <p:cNvSpPr/>
              <p:nvPr/>
            </p:nvSpPr>
            <p:spPr>
              <a:xfrm>
                <a:off x="4371840" y="4272840"/>
                <a:ext cx="219960" cy="43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386"/>
              <p:cNvSpPr/>
              <p:nvPr/>
            </p:nvSpPr>
            <p:spPr>
              <a:xfrm>
                <a:off x="4371840" y="3409560"/>
                <a:ext cx="219960" cy="43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387"/>
            <p:cNvGrpSpPr/>
            <p:nvPr/>
          </p:nvGrpSpPr>
          <p:grpSpPr>
            <a:xfrm>
              <a:off x="4376520" y="411120"/>
              <a:ext cx="221400" cy="2160360"/>
              <a:chOff x="4376520" y="411120"/>
              <a:chExt cx="221400" cy="2160360"/>
            </a:xfrm>
          </p:grpSpPr>
          <p:sp>
            <p:nvSpPr>
              <p:cNvPr id="341" name="Rectangle 388"/>
              <p:cNvSpPr/>
              <p:nvPr/>
            </p:nvSpPr>
            <p:spPr>
              <a:xfrm>
                <a:off x="4378320" y="411120"/>
                <a:ext cx="217800" cy="2133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389"/>
              <p:cNvSpPr/>
              <p:nvPr/>
            </p:nvSpPr>
            <p:spPr>
              <a:xfrm>
                <a:off x="4378320" y="411120"/>
                <a:ext cx="219600" cy="43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390"/>
              <p:cNvSpPr/>
              <p:nvPr/>
            </p:nvSpPr>
            <p:spPr>
              <a:xfrm>
                <a:off x="4378320" y="842760"/>
                <a:ext cx="219600" cy="43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391"/>
              <p:cNvSpPr/>
              <p:nvPr/>
            </p:nvSpPr>
            <p:spPr>
              <a:xfrm>
                <a:off x="4378320" y="1707840"/>
                <a:ext cx="219600" cy="43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392"/>
              <p:cNvSpPr/>
              <p:nvPr/>
            </p:nvSpPr>
            <p:spPr>
              <a:xfrm>
                <a:off x="4376520" y="2139840"/>
                <a:ext cx="219600" cy="43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393"/>
              <p:cNvSpPr/>
              <p:nvPr/>
            </p:nvSpPr>
            <p:spPr>
              <a:xfrm>
                <a:off x="4376520" y="1276200"/>
                <a:ext cx="219600" cy="43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394"/>
            <p:cNvGrpSpPr/>
            <p:nvPr/>
          </p:nvGrpSpPr>
          <p:grpSpPr>
            <a:xfrm>
              <a:off x="4377960" y="-1690560"/>
              <a:ext cx="221760" cy="2160000"/>
              <a:chOff x="4377960" y="-1690560"/>
              <a:chExt cx="221760" cy="2160000"/>
            </a:xfrm>
          </p:grpSpPr>
          <p:sp>
            <p:nvSpPr>
              <p:cNvPr id="348" name="Rectangle 395"/>
              <p:cNvSpPr/>
              <p:nvPr/>
            </p:nvSpPr>
            <p:spPr>
              <a:xfrm>
                <a:off x="4379400" y="-1690560"/>
                <a:ext cx="218880" cy="2133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396"/>
              <p:cNvSpPr/>
              <p:nvPr/>
            </p:nvSpPr>
            <p:spPr>
              <a:xfrm>
                <a:off x="4379400" y="-1690560"/>
                <a:ext cx="220320" cy="43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397"/>
              <p:cNvSpPr/>
              <p:nvPr/>
            </p:nvSpPr>
            <p:spPr>
              <a:xfrm>
                <a:off x="4379400" y="-1258560"/>
                <a:ext cx="220320" cy="431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398"/>
              <p:cNvSpPr/>
              <p:nvPr/>
            </p:nvSpPr>
            <p:spPr>
              <a:xfrm>
                <a:off x="4379400" y="-393480"/>
                <a:ext cx="220320" cy="43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399"/>
              <p:cNvSpPr/>
              <p:nvPr/>
            </p:nvSpPr>
            <p:spPr>
              <a:xfrm>
                <a:off x="4377960" y="38160"/>
                <a:ext cx="220320" cy="431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400"/>
              <p:cNvSpPr/>
              <p:nvPr/>
            </p:nvSpPr>
            <p:spPr>
              <a:xfrm>
                <a:off x="4377960" y="-825120"/>
                <a:ext cx="220320" cy="431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" name="Group 401"/>
          <p:cNvGrpSpPr/>
          <p:nvPr/>
        </p:nvGrpSpPr>
        <p:grpSpPr>
          <a:xfrm>
            <a:off x="-138240" y="2060640"/>
            <a:ext cx="4800600" cy="2809440"/>
            <a:chOff x="-138240" y="2060640"/>
            <a:chExt cx="4800600" cy="2809440"/>
          </a:xfrm>
        </p:grpSpPr>
        <p:grpSp>
          <p:nvGrpSpPr>
            <p:cNvPr id="355" name="Group 402"/>
            <p:cNvGrpSpPr/>
            <p:nvPr/>
          </p:nvGrpSpPr>
          <p:grpSpPr>
            <a:xfrm>
              <a:off x="4302000" y="2060640"/>
              <a:ext cx="360360" cy="2809440"/>
              <a:chOff x="4302000" y="2060640"/>
              <a:chExt cx="360360" cy="2809440"/>
            </a:xfrm>
          </p:grpSpPr>
          <p:grpSp>
            <p:nvGrpSpPr>
              <p:cNvPr id="356" name="Group 403"/>
              <p:cNvGrpSpPr/>
              <p:nvPr/>
            </p:nvGrpSpPr>
            <p:grpSpPr>
              <a:xfrm>
                <a:off x="4302000" y="2060640"/>
                <a:ext cx="360360" cy="2809440"/>
                <a:chOff x="4302000" y="2060640"/>
                <a:chExt cx="360360" cy="2809440"/>
              </a:xfrm>
            </p:grpSpPr>
            <p:sp>
              <p:nvSpPr>
                <p:cNvPr id="357" name="Rectangle 404"/>
                <p:cNvSpPr/>
                <p:nvPr/>
              </p:nvSpPr>
              <p:spPr>
                <a:xfrm>
                  <a:off x="4373640" y="2205000"/>
                  <a:ext cx="215640" cy="2520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>
                        <a:alpha val="30196"/>
                      </a:srgbClr>
                    </a:gs>
                    <a:gs pos="50000">
                      <a:srgbClr val="000000">
                        <a:alpha val="0"/>
                      </a:srgbClr>
                    </a:gs>
                    <a:gs pos="100000">
                      <a:srgbClr val="000000">
                        <a:alpha val="30196"/>
                      </a:srgbClr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AutoShape 405"/>
                <p:cNvSpPr/>
                <p:nvPr/>
              </p:nvSpPr>
              <p:spPr>
                <a:xfrm>
                  <a:off x="4302000" y="2060640"/>
                  <a:ext cx="360360" cy="144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996633"/>
                </a:solidFill>
                <a:ln w="936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AutoShape 406"/>
                <p:cNvSpPr/>
                <p:nvPr/>
              </p:nvSpPr>
              <p:spPr>
                <a:xfrm>
                  <a:off x="4302000" y="4725720"/>
                  <a:ext cx="360360" cy="144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996633"/>
                </a:solidFill>
                <a:ln w="936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Rectangle 407"/>
                <p:cNvSpPr/>
                <p:nvPr/>
              </p:nvSpPr>
              <p:spPr>
                <a:xfrm>
                  <a:off x="4365720" y="2208240"/>
                  <a:ext cx="215640" cy="70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0c0c0"/>
                    </a:gs>
                    <a:gs pos="50000">
                      <a:srgbClr val="ffffff"/>
                    </a:gs>
                    <a:gs pos="100000">
                      <a:srgbClr val="c0c0c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Rectangle 408"/>
              <p:cNvSpPr/>
              <p:nvPr/>
            </p:nvSpPr>
            <p:spPr>
              <a:xfrm>
                <a:off x="4374720" y="4654440"/>
                <a:ext cx="216000" cy="7092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Rectangle 409"/>
            <p:cNvSpPr/>
            <p:nvPr/>
          </p:nvSpPr>
          <p:spPr>
            <a:xfrm>
              <a:off x="-138240" y="2212920"/>
              <a:ext cx="4529160" cy="250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410"/>
          <p:cNvSpPr/>
          <p:nvPr/>
        </p:nvSpPr>
        <p:spPr>
          <a:xfrm>
            <a:off x="0" y="11160"/>
            <a:ext cx="9144000" cy="20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411"/>
          <p:cNvGrpSpPr/>
          <p:nvPr/>
        </p:nvGrpSpPr>
        <p:grpSpPr>
          <a:xfrm>
            <a:off x="0" y="0"/>
            <a:ext cx="5364000" cy="1989000"/>
            <a:chOff x="0" y="0"/>
            <a:chExt cx="5364000" cy="1989000"/>
          </a:xfrm>
        </p:grpSpPr>
        <p:pic>
          <p:nvPicPr>
            <p:cNvPr id="365" name="Picture 412" descr="书法"/>
            <p:cNvPicPr/>
            <p:nvPr/>
          </p:nvPicPr>
          <p:blipFill>
            <a:blip r:embed="rId5"/>
            <a:srcRect l="0" t="52222" r="0" b="4709"/>
            <a:stretch/>
          </p:blipFill>
          <p:spPr>
            <a:xfrm>
              <a:off x="0" y="0"/>
              <a:ext cx="4548240" cy="19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Rectangle 413"/>
            <p:cNvSpPr/>
            <p:nvPr/>
          </p:nvSpPr>
          <p:spPr>
            <a:xfrm>
              <a:off x="0" y="0"/>
              <a:ext cx="5364000" cy="1989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90196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Rectangle 414"/>
          <p:cNvSpPr/>
          <p:nvPr/>
        </p:nvSpPr>
        <p:spPr>
          <a:xfrm>
            <a:off x="0" y="4876920"/>
            <a:ext cx="9144000" cy="19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15" descr="13-15-523612"/>
          <p:cNvPicPr/>
          <p:nvPr/>
        </p:nvPicPr>
        <p:blipFill>
          <a:blip r:embed="rId6"/>
          <a:srcRect l="0" t="63496" r="0" b="16646"/>
          <a:stretch/>
        </p:blipFill>
        <p:spPr>
          <a:xfrm>
            <a:off x="1692360" y="4884840"/>
            <a:ext cx="7451640" cy="197316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2"/>
          <p:cNvSpPr/>
          <p:nvPr/>
        </p:nvSpPr>
        <p:spPr>
          <a:xfrm>
            <a:off x="2556000" y="260280"/>
            <a:ext cx="498312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） 操 作 方 法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矩形 77" descr=""/>
          <p:cNvPicPr/>
          <p:nvPr/>
        </p:nvPicPr>
        <p:blipFill>
          <a:blip r:embed="rId7"/>
          <a:stretch/>
        </p:blipFill>
        <p:spPr>
          <a:xfrm>
            <a:off x="5291280" y="5694480"/>
            <a:ext cx="3346200" cy="6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4335E-006 L -0.39844 2.54335E-006 E">
                                      <p:cBhvr>
                                        <p:cTn id="79" dur="5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89017E-006 L -0.39982 0.53249 E">
                                      <p:cBhvr>
                                        <p:cTn id="81" dur="5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4335E-006 L 0.40139 2.54335E-006 E">
                                      <p:cBhvr>
                                        <p:cTn id="83" dur="5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46821E-006 L 0.40104 0.5341 E">
                                      <p:cBhvr>
                                        <p:cTn id="85" dur="5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16" descr="背景3"/>
          <p:cNvPicPr/>
          <p:nvPr/>
        </p:nvPicPr>
        <p:blipFill>
          <a:blip r:embed="rId1"/>
          <a:stretch/>
        </p:blipFill>
        <p:spPr>
          <a:xfrm>
            <a:off x="4500720" y="2205000"/>
            <a:ext cx="4284360" cy="2889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6" descr="背景3"/>
          <p:cNvPicPr/>
          <p:nvPr/>
        </p:nvPicPr>
        <p:blipFill>
          <a:blip r:embed="rId2"/>
          <a:stretch/>
        </p:blipFill>
        <p:spPr>
          <a:xfrm>
            <a:off x="0" y="2060640"/>
            <a:ext cx="4284720" cy="28893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162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18960" y="1457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图片01"/>
          <p:cNvPicPr/>
          <p:nvPr/>
        </p:nvPicPr>
        <p:blipFill>
          <a:blip r:embed="rId3"/>
          <a:stretch/>
        </p:blipFill>
        <p:spPr>
          <a:xfrm>
            <a:off x="468360" y="1484280"/>
            <a:ext cx="4054320" cy="43228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图片03"/>
          <p:cNvPicPr/>
          <p:nvPr/>
        </p:nvPicPr>
        <p:blipFill>
          <a:blip r:embed="rId4"/>
          <a:stretch/>
        </p:blipFill>
        <p:spPr>
          <a:xfrm>
            <a:off x="468360" y="1477800"/>
            <a:ext cx="4054320" cy="4322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9" descr="图片05"/>
          <p:cNvPicPr/>
          <p:nvPr/>
        </p:nvPicPr>
        <p:blipFill>
          <a:blip r:embed="rId5"/>
          <a:stretch/>
        </p:blipFill>
        <p:spPr>
          <a:xfrm>
            <a:off x="468360" y="1459080"/>
            <a:ext cx="4054320" cy="43225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0" descr="图片07"/>
          <p:cNvPicPr/>
          <p:nvPr/>
        </p:nvPicPr>
        <p:blipFill>
          <a:blip r:embed="rId6"/>
          <a:stretch/>
        </p:blipFill>
        <p:spPr>
          <a:xfrm>
            <a:off x="468360" y="1455840"/>
            <a:ext cx="4054320" cy="43225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图片09"/>
          <p:cNvPicPr/>
          <p:nvPr/>
        </p:nvPicPr>
        <p:blipFill>
          <a:blip r:embed="rId7"/>
          <a:stretch/>
        </p:blipFill>
        <p:spPr>
          <a:xfrm>
            <a:off x="468360" y="1461960"/>
            <a:ext cx="4054320" cy="4322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2" descr="图片08"/>
          <p:cNvPicPr/>
          <p:nvPr/>
        </p:nvPicPr>
        <p:blipFill>
          <a:blip r:embed="rId8"/>
          <a:stretch/>
        </p:blipFill>
        <p:spPr>
          <a:xfrm>
            <a:off x="4356000" y="1484280"/>
            <a:ext cx="4054680" cy="43228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3" descr="图片06"/>
          <p:cNvPicPr/>
          <p:nvPr/>
        </p:nvPicPr>
        <p:blipFill>
          <a:blip r:embed="rId9"/>
          <a:stretch/>
        </p:blipFill>
        <p:spPr>
          <a:xfrm>
            <a:off x="4356000" y="1463760"/>
            <a:ext cx="4054680" cy="4322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4" descr="图片04"/>
          <p:cNvPicPr/>
          <p:nvPr/>
        </p:nvPicPr>
        <p:blipFill>
          <a:blip r:embed="rId10"/>
          <a:stretch/>
        </p:blipFill>
        <p:spPr>
          <a:xfrm>
            <a:off x="4356000" y="1469880"/>
            <a:ext cx="4054680" cy="43228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5" descr="图片02"/>
          <p:cNvPicPr/>
          <p:nvPr/>
        </p:nvPicPr>
        <p:blipFill>
          <a:blip r:embed="rId11"/>
          <a:stretch/>
        </p:blipFill>
        <p:spPr>
          <a:xfrm>
            <a:off x="4356000" y="1461960"/>
            <a:ext cx="4054680" cy="43228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6" descr="图片00"/>
          <p:cNvPicPr/>
          <p:nvPr/>
        </p:nvPicPr>
        <p:blipFill>
          <a:blip r:embed="rId12"/>
          <a:stretch/>
        </p:blipFill>
        <p:spPr>
          <a:xfrm>
            <a:off x="4356000" y="1484280"/>
            <a:ext cx="4054680" cy="43228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7" descr="1"/>
          <p:cNvPicPr/>
          <p:nvPr/>
        </p:nvPicPr>
        <p:blipFill>
          <a:blip r:embed="rId13"/>
          <a:stretch/>
        </p:blipFill>
        <p:spPr>
          <a:xfrm>
            <a:off x="5103720" y="5992920"/>
            <a:ext cx="142920" cy="190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8" descr="2"/>
          <p:cNvPicPr/>
          <p:nvPr/>
        </p:nvPicPr>
        <p:blipFill>
          <a:blip r:embed="rId14"/>
          <a:stretch/>
        </p:blipFill>
        <p:spPr>
          <a:xfrm>
            <a:off x="5594400" y="6008760"/>
            <a:ext cx="142920" cy="1904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9" descr="3"/>
          <p:cNvPicPr/>
          <p:nvPr/>
        </p:nvPicPr>
        <p:blipFill>
          <a:blip r:embed="rId15"/>
          <a:stretch/>
        </p:blipFill>
        <p:spPr>
          <a:xfrm>
            <a:off x="6084720" y="6006960"/>
            <a:ext cx="142920" cy="1908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0" descr="4"/>
          <p:cNvPicPr/>
          <p:nvPr/>
        </p:nvPicPr>
        <p:blipFill>
          <a:blip r:embed="rId16"/>
          <a:stretch/>
        </p:blipFill>
        <p:spPr>
          <a:xfrm>
            <a:off x="6588000" y="6006960"/>
            <a:ext cx="142920" cy="1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14:57:13Z</dcterms:created>
  <dc:creator>微软用户</dc:creator>
  <dc:description/>
  <dc:language>en-US</dc:language>
  <cp:lastModifiedBy>echo</cp:lastModifiedBy>
  <dcterms:modified xsi:type="dcterms:W3CDTF">2009-10-19T15:29:44Z</dcterms:modified>
  <cp:revision>94</cp:revision>
  <dc:subject/>
  <dc:title>幻灯片 1</dc:title>
</cp:coreProperties>
</file>