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B63-E1BB-4A79-8271-05FF2D4B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888-3FD4-49D5-9B0C-8411542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463-85B7-4F29-A4C0-28E14AAD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069-B587-4F36-9639-55A57883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1DB9-1EE7-46E6-B6C3-230E5D96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B53C-6A90-4669-92BF-F22D2DC8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2FF-C00C-4216-BD7B-83537E0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6A32-C626-44D0-8D34-0FFB905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A974-8C85-4680-B766-27D71D2B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B29-31F6-41C8-9479-52BE85F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755-8AF0-4575-8AFE-28EE8C5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E9F-4255-4FE3-8828-338B757D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AC75-05ED-4F5D-9CDE-3CD78E1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56A-D8D4-4A09-B674-1DF3E0F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1735-373B-444B-9769-CC5C3A5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B020-260D-4B09-ADD6-8808A580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D8CE-72A4-4896-9B82-420A3A2B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347-0DC2-4232-B59D-363A634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A3E-2BC5-4000-97B9-617363D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CC5-CAAE-477E-BFFE-261C085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6CD-0176-4862-AF63-D1CD1E5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330-AC88-4E9F-B2FD-3FD99A24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3F0-857E-44F5-B040-6E07F1A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5E7-CE7C-46B5-B566-75747D9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094-C0C0-407C-8F48-6C7FD14BE3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且行背景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8"/>
          <p:cNvSpPr/>
          <p:nvPr/>
        </p:nvSpPr>
        <p:spPr>
          <a:xfrm>
            <a:off x="3400920" y="6572160"/>
            <a:ext cx="24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且行资源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qiexing.com  QQ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510280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852480" y="119160"/>
            <a:ext cx="45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且行资源教程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SHOP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抠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C025-12BA-412D-B37C-3919C858E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且行内容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3528360" y="6500880"/>
            <a:ext cx="23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且行资源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qiexing.com  QQ:510280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820440" y="425520"/>
            <a:ext cx="47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SHOP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用技巧：抠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826920" y="1052640"/>
            <a:ext cx="7777440" cy="46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435840" y="6215040"/>
            <a:ext cx="23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教程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Photoshop</a:t>
            </a: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扣图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698120" y="1197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更多资源推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304720" y="174132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qiex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405160" y="2101680"/>
            <a:ext cx="41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下载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down.qiexing.com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368800" y="2462040"/>
            <a:ext cx="31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教育技术论坛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etthin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2309040" y="2801880"/>
            <a:ext cx="30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电子学档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eportfolio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309760" y="3736800"/>
            <a:ext cx="29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t.sina.com/qie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1774080" y="3213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联系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331360" y="4076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腾讯微博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t.qq.com/qiexing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387520" y="43657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电子邮箱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SunFang@qiexing.com  13955453231@QQ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021480" y="501336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欢迎宣传与传播    期待您参与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657080" y="5497560"/>
            <a:ext cx="18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V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粘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1447920" y="2290680"/>
            <a:ext cx="4132080" cy="2651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5724360" y="2308320"/>
            <a:ext cx="2880000" cy="263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5692680" y="2349360"/>
            <a:ext cx="30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切换到通道面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新建一个通道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ph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" descr=""/>
          <p:cNvPicPr/>
          <p:nvPr/>
        </p:nvPicPr>
        <p:blipFill>
          <a:blip r:embed="rId1"/>
          <a:stretch/>
        </p:blipFill>
        <p:spPr>
          <a:xfrm>
            <a:off x="1492200" y="2362320"/>
            <a:ext cx="4060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317040" y="564192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放大缩小工具可以使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键切换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切换黑白背景前景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左右中括号控制画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5692680" y="234936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利用画笔工具，对图形的黑白选区进行修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记住：白色是选中，黑色是不需要选中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为了更精确修正选择区域，可以将图形放大若干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1496880" y="2344680"/>
            <a:ext cx="40118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317040" y="564192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放大缩小工具可以使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键切换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切换黑白背景前景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左右中括号控制画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最后的修正效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2" descr=""/>
          <p:cNvPicPr/>
          <p:nvPr/>
        </p:nvPicPr>
        <p:blipFill>
          <a:blip r:embed="rId1"/>
          <a:stretch/>
        </p:blipFill>
        <p:spPr>
          <a:xfrm>
            <a:off x="1530360" y="2376360"/>
            <a:ext cx="39844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31960" y="5641920"/>
            <a:ext cx="25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SHIFT+I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反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692680" y="2349360"/>
            <a:ext cx="302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通道面板中，单击下方的将通道做为选区载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或 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TRL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键，在通道上单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操作是为了实现将通道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转换为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有时根据需要可以还可以进行反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4" descr=""/>
          <p:cNvPicPr/>
          <p:nvPr/>
        </p:nvPicPr>
        <p:blipFill>
          <a:blip r:embed="rId1"/>
          <a:stretch/>
        </p:blipFill>
        <p:spPr>
          <a:xfrm>
            <a:off x="1533600" y="2368440"/>
            <a:ext cx="3902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553400" y="1582560"/>
            <a:ext cx="1247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删除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731960" y="5641920"/>
            <a:ext cx="25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SHIFT+I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反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5692680" y="234936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回到图层面板，将以前添加的图层删除（只保留选区即可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反向选择，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ET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39452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136600" y="1582560"/>
            <a:ext cx="29545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存成支持透明的文件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490840" y="5641920"/>
            <a:ext cx="28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在常见的图形格式里，只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NG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F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支持背景透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5692680" y="234936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保存文件：选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NG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格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样图像就可以应用在任何背景的课件中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" descr=""/>
          <p:cNvPicPr/>
          <p:nvPr/>
        </p:nvPicPr>
        <p:blipFill>
          <a:blip r:embed="rId1"/>
          <a:stretch/>
        </p:blipFill>
        <p:spPr>
          <a:xfrm>
            <a:off x="1633680" y="2390760"/>
            <a:ext cx="377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791440" y="314172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资源见下载 请见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ow.qiex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39452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698120" y="1844640"/>
            <a:ext cx="1247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021840" y="2492280"/>
            <a:ext cx="41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课件制作中，经常需要改变图片的背景色彩，或仅需要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某一部分主体，这就需要进行扣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190188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1976400" y="3281400"/>
            <a:ext cx="2032200" cy="28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4140360" y="3645000"/>
            <a:ext cx="4171680" cy="144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38560" y="38926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里我们要把女孩的背景换成别的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色，但衣服后面的颜色怎么办呢，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有孩子的头发怎么选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969160" y="5356080"/>
            <a:ext cx="24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以下操作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SHOP CS4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为示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129720" y="566244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此种抠图方法适合于半透明对象，其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抠图，请使用抽出或智能边缘等工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626840" y="1582560"/>
            <a:ext cx="14608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透明图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991960" y="5497560"/>
            <a:ext cx="31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如里你找不到图层面板，请在窗口菜单中找到“图层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确保它被选中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1"/>
          <a:stretch/>
        </p:blipFill>
        <p:spPr>
          <a:xfrm>
            <a:off x="1547640" y="2379600"/>
            <a:ext cx="4824720" cy="2803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9"/>
          <p:cNvSpPr/>
          <p:nvPr/>
        </p:nvSpPr>
        <p:spPr>
          <a:xfrm>
            <a:off x="1447920" y="2290680"/>
            <a:ext cx="504180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6588000" y="2308320"/>
            <a:ext cx="201636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588000" y="234936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背景图层上双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弹出的窗口中点击确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2" descr=""/>
          <p:cNvPicPr/>
          <p:nvPr/>
        </p:nvPicPr>
        <p:blipFill>
          <a:blip r:embed="rId2"/>
          <a:stretch/>
        </p:blipFill>
        <p:spPr>
          <a:xfrm>
            <a:off x="7020000" y="3811680"/>
            <a:ext cx="799920" cy="390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3"/>
          <p:cNvSpPr/>
          <p:nvPr/>
        </p:nvSpPr>
        <p:spPr>
          <a:xfrm>
            <a:off x="6561000" y="31734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图层面板下方点击创建新图层按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588000" y="42372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将新建的图层拉到女孩的图层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626840" y="1582560"/>
            <a:ext cx="14608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透明图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862360" y="5497560"/>
            <a:ext cx="44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每一个图层前方，有一个眼睛的图标，你可以将其打开或关闭，以控制其是否显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447920" y="2290680"/>
            <a:ext cx="504180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6588000" y="2308320"/>
            <a:ext cx="201636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588000" y="234936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样做的目的是让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了解什么是透明，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能让你直接观察到背景被删除后图像是什么效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1503360" y="2344680"/>
            <a:ext cx="49230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480680" y="1582560"/>
            <a:ext cx="10342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984040" y="5497560"/>
            <a:ext cx="43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通道虽然听起来很难懂，但你可以把它理解为“存储选区”或“存储颜色值”的东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5692680" y="234936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TOSHO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有一种特别的选择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色代表没有选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白色代表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灰色 代表半透明选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种选择方法也称“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通道选择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1503360" y="2376360"/>
            <a:ext cx="3978360" cy="2863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2"/>
          <p:cNvSpPr/>
          <p:nvPr/>
        </p:nvSpPr>
        <p:spPr>
          <a:xfrm>
            <a:off x="6561000" y="41911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关键点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：如何建立黑白灰选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6451920" y="4572000"/>
            <a:ext cx="16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关键点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：如何将通道转成选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063880" y="1582560"/>
            <a:ext cx="274104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准备：复制图层并去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534400" y="549756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复制图层的方法可以直接将要复制的图层拉到新建图层按钮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5692680" y="2349360"/>
            <a:ext cx="30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复制图层是为了保护原图不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被编辑和破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去色，将彩色转成黑白灰，是为了建立黑白灰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1503360" y="2421000"/>
            <a:ext cx="39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09320" y="1582560"/>
            <a:ext cx="316764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准备：调整图像黑白灰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2200680" y="5497560"/>
            <a:ext cx="42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L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打开色阶工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M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打开曲线工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5692680" y="2349360"/>
            <a:ext cx="30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使用图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中的色阶或曲线工具将浅灰的地方设置成白场，深色的设置成黑场，保留适度的灰色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设置的方法是：用适当的吸管工具吸取图像中的黑白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之所以这样做是为了增加图像的对比，并适当调整黑白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1506600" y="2370240"/>
            <a:ext cx="4032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800720" y="5497560"/>
            <a:ext cx="31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全选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复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完毕后，将图像全选，并复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" descr=""/>
          <p:cNvPicPr/>
          <p:nvPr/>
        </p:nvPicPr>
        <p:blipFill>
          <a:blip r:embed="rId1"/>
          <a:stretch/>
        </p:blipFill>
        <p:spPr>
          <a:xfrm>
            <a:off x="1541520" y="2376360"/>
            <a:ext cx="39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1800720" y="5497560"/>
            <a:ext cx="31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全选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复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完毕后，将图像全选，并复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1541520" y="2376360"/>
            <a:ext cx="39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0:30:19Z</dcterms:created>
  <dc:creator>qiexing</dc:creator>
  <dc:description/>
  <dc:language>en-US</dc:language>
  <cp:lastModifiedBy>qiexing</cp:lastModifiedBy>
  <dcterms:modified xsi:type="dcterms:W3CDTF">2010-10-05T14:52:46Z</dcterms:modified>
  <cp:revision>43</cp:revision>
  <dc:subject/>
  <dc:title>幻灯片 1</dc:title>
</cp:coreProperties>
</file>