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6.png" ContentType="image/png"/>
  <Override PartName="/ppt/media/image15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</p:sldMasterIdLst>
  <p:sldIdLst>
    <p:sldId id="256" r:id="rId31"/>
    <p:sldId id="257" r:id="rId32"/>
    <p:sldId id="258" r:id="rId33"/>
    <p:sldId id="259" r:id="rId34"/>
    <p:sldId id="260" r:id="rId35"/>
    <p:sldId id="261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A1DD-2EDE-490A-8277-8F66A78CC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4EC9-5670-4E38-AC43-E62E9A6B7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8DEFCD-F42A-418C-8270-9C9C8DF448E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8BECFC-36F3-446A-A8D1-D5667B511F0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B04B7-8888-44BB-827A-E54C50F0CE6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E3647-D6E4-4F19-92B0-85753E13E64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E3470-4514-427D-840B-D04CC806896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04719-3E68-4AB5-A2C8-7ED3BD7CAA6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4B4B0A-677B-4AE7-9C30-020FA3794C7F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BEE03E-F7D0-48E9-AD26-78115E32947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18D6D-BAB0-4B31-9A1E-85E8C3754099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356CF9-06D6-4ED9-A532-4125AEFDA1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ADC8-77C3-425D-B4E0-0C941E3D6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0DCCAA-8093-426E-98E8-4ADDA69B71F0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728FB4-7BF3-45EE-A9E9-922EE51F483D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AA2637-AF9F-4287-A0FC-BF269388E80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51E121-43DB-48BF-A1DB-10A5D7F05CD2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742FB1-51B3-4033-BA32-D0F663543E83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F5CE2F-5E80-4782-B644-95B796FD61E0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CCBE05-F5FD-4CA5-AF25-0DFC731BFF8D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78E79F-825F-4A52-8134-9802C5D24BAC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B2D761-A67B-4316-9DDF-6C6EBFA7082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182150-F416-43AC-8258-C8A4991604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66F1-EDB6-4435-9B4E-AA388503D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5CD054-385F-48BD-89F9-F8630C6D9A5F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9732A86-1B22-4547-B207-84C73F36DC81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A9E0788-A839-4F2F-8A96-C0EBE9977BC2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7DBFB08-D653-4125-B6B9-9E0052267659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C2B984B-6DFA-4782-A89B-1B4D4865286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6F595C4-BBB2-46B6-BFEB-44D0C7A52506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02F7EA6-42A1-40B5-BB14-56FEB5BA1F2A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C67DEBC-B177-4F59-8378-6C7B914B9156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A68BFD6-DC95-4D02-A031-D08961B819F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61B5E0D-958C-41BA-BEAC-2AFB92292A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8CBF3A-5CB9-4385-BD9D-9E481F8B3391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7B8CE11-FF37-4844-867E-9D87DCFF1024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547C209-1ECF-4442-B92A-6BA1F3F6361F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10A69C2-DBEE-439C-AA72-8FD1FD3D70AC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58D811-1798-45D4-B63C-AE5D38901229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4762C6-93E0-4C1C-9FCC-1104BD5FECF6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63981B-266D-485C-A0D7-C4E759970FDF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D41070-ABCE-4681-B690-7CDD368ABC8D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45E21E-CE73-4E05-87D3-47DF7D7F5ED3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C3532B-F058-43CA-BC71-CDA089057DEB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4878D1-E5F7-48AF-8655-EBDE49F50CF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06994B-7CFD-4531-B3E0-445CB94150DF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513810-A379-4394-8C97-7073C660BA88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46E4A6-3FA4-4CDA-B6A0-E5CC0FEC7CFD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ABE9DF-63F7-4C2E-96B5-D09F516DE39C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2737E0-6160-4610-9A20-091925C94A56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ECB8A8-2611-437E-90AA-7C6009C50D72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81F023-E10C-4C7F-80A8-905244522DD7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027DDD-DA8E-41E7-8408-B0648BC58FB1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7FDE07-28AA-4ABC-9EC2-E48307688471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325996-1F54-4D53-9EDB-6F29D850690B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29C32B-530D-46DB-98B8-60A697856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849666-1CC2-4A85-BD62-1A78D5175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2B79A5-A2C8-47FB-85E8-DB87F9801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C6F2ED-B2EB-44F0-BFF0-DF8352A3F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10B1CA-7D95-483D-98FB-4E6995AA2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28156A-30A3-4F06-B12B-9211EA4BE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35D8DE-4F78-4941-AA32-E7610CF1D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5506E0-D007-4719-A63A-074DB8679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94478F-9240-441E-9DC1-CA2E6B52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FD6555-FCC0-4D6F-AAD9-A504BF96BCF2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42BCA5-46E2-4D38-84EE-47FBAF982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57FF13-D2B6-4A43-88AF-39BE6E862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CE0E69-F9BF-4D42-ADAA-C5C4F89D0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1722-D5C2-4011-8CE1-C4D785717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8DDFE5-5CE8-4806-8172-A53F4F408134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F49A8CA-5980-4E80-B5FE-ED2278624576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FF187C3-8F7B-4F14-A062-79DE50195ACE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B81D8B4-49DC-4DAF-B6ED-D7CEDFBE4D94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235C0AF-8D83-4C1E-8E10-25DD77A7A7E3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B35E2DF-9FE7-492C-92C4-8F458C322BF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985606-F314-4509-B116-F63B2D7DF51A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8120878-1840-4388-8A31-3C82A164143B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4C36D77-340E-4A26-AFC9-AB73A522CCFF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8C008F7-7DA0-4C22-A6D0-E8F74839B691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33F63D6-EDE5-4674-986F-BB2EDDC82ABC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AD21583-6F11-4E9B-9A7D-B1224F5ACAA6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411F1DF-C858-42B5-A379-F719A3815EAC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2161650-87ED-4623-BFEA-E90C4B41196A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A3CD28-964F-4925-A430-2B8BAE139F50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8670E2-5DA2-40A4-8CC0-79DCE9AE287E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FCAF3F-20A8-4616-8CD6-09252C03A44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440262-4C30-4690-BCAF-EDD8605D6B7F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AD9581-1B2C-4EE4-ACA8-A520D51516D3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36E169-FB5E-4CBF-8D55-09F67D4E3AB4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89C772-52DC-47C8-B80F-2333262F13BD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08EE45-563E-4C0D-90D5-D7F5FA64F012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32E218-5D85-4F7D-93CC-DF4123986348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626AAF-4D39-4FEB-AE6A-6A01AD6E4FBC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814855-70F1-4EE2-9D56-599FFDFC886E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7C0326-C307-48EA-A08D-70BE803A275F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D39889-EFC7-4106-BA12-F1516C3C9DD9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065F7E-D56E-4ED4-AF25-5C825ABE148F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7CA4E0-C860-4DA3-9CA6-A0242B1BB109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C11412-65A3-45C3-852E-CB9C1B0C7EB5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FABE22-E524-4685-9827-AAF1AB273E48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8AF10B-09A1-4B71-B42D-263419DF1AE0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AB0CEB-781D-422A-8A0E-3F1D1480EA6B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29832B-4FD5-4618-91E0-AA3D55715AF0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9A8293-ED20-4E95-A39C-25979A5C274D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393414-582F-43FC-A87F-3D451D010907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4431CA-ADCA-4C04-A1F1-092393D2A818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B607F7-3D10-4400-8E47-5F09B730563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CE825E-2E7F-4C94-97E8-68792FF3B9AA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F3186C-7702-4F09-8E3B-F5AE99DC156F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2FCC2B-9D03-4E91-815B-CD0BEEB5723A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AC6BB1-B194-4D5B-B736-9CC09E24ED62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BD9DF39-3802-4B49-A4FD-620844C19890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8F23947-F0D9-4CC5-ADA5-779B30E19400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0D8AF8F-1B9F-4DC3-99FC-A8D26D69C603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6971511-B8DE-49D4-94E9-3E1058AF53EA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767222C-FB51-4D9A-9A63-A00F96F93DC8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65ED15E-F14E-440E-A0CE-4657F44C560C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5080B8B-9404-48D9-A483-CACE8ED02CB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A19647-BC96-4ADD-9E0E-8699FC201372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E0D6C25-F568-474D-8272-968487797810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57E1833-3E43-46AE-9C3F-4E9EA957753A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0F64509-481A-4A84-949B-6FD9A01E134D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45B8827-D935-4455-8639-45D3EAE90B6B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2B5FC7D-CAF5-47A2-8A79-6B2CC1547E99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CB8618-37DA-426D-9DB6-685C7F83EECD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CC7F00-9ECC-4F48-97F6-B33143422172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DCD9A9-FB91-4443-A937-48369AE08E83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9B3CDA-54F9-4266-9E62-6FD9A0943227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7D5D27-6A4E-4895-A22E-8A216C34C4E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B843F5-9F7C-4285-95B6-0F39B5728055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B3C28E-D1BD-47D5-860C-34AEED37AE17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670E6A-13DE-4113-9D0C-AA01A6190E77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70A544-354F-49EA-BE71-09665E771EA6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AD2D3C-C2EF-4891-ACEF-BB573C145EEA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D67E3E-030A-4615-8976-2D3EEA6D3E40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4F40F0-96EB-4AFA-9DC9-F435B369D396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98EE27-C781-4A1F-83AE-6A8131D706B9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6BCA36-4C9D-426D-8968-E8D93943F643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F19BF7-D9EF-4767-85CD-EBB5D2226529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ED9BF4-CF49-4D24-8BD3-1FEDEA21C17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36B0F5-C638-46FC-965D-1F9D2B668212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2A3ED4-7316-4C09-AE95-F9E4A3BFEB06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2922DA-384E-4CF5-9A41-74E01E65727A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30D1ED-3CF2-422D-BBC3-B7B0C19D06EB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9B27B5-7C03-4BC9-AF15-5698E5390941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EB5F09-6A9C-4166-952E-DDB616B97DCF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9785F6-8E9B-4C7C-9553-170ADC051BE0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C23481-0F25-4501-B54B-0ECE329FD4CA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A08F38-E036-4432-B788-0992134F2A6E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1A2DD8-DB72-4C66-BEF6-7E5B12A2E146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8FE85E1-3E0A-47C2-B948-109B4F3FA69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7E3C9A-B13C-4A71-A07D-591F070A0686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542D9E0-2CA3-4BC0-B521-A106B946E524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C1F2F42-DC9A-40AF-A559-DE91E4956D2F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A22C742-C293-49AD-81E3-C27262F17B86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E2F1DE1-C30D-4BE8-B4B2-A32581CD21C9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7310E71-9757-48D3-ADE9-A9D72B31874C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A5E93B7-4057-49B3-A326-574310CC1515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11502F7-E24C-4E1C-B495-3ED8DA6AE2DD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D97BE0F-B0E2-44CD-8A82-899C09C41259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224C523-DF7D-40B3-A774-A9CF9B646121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D71E203-344D-4AA4-816F-4F5C4C27FB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B2D7-4F3A-4636-8AA9-4AB5702D5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85ABFA-7606-43B0-B956-A5631CEB302F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59D3C09-F9BF-47A0-80A8-E01768BEEC0D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EC6FA3-9089-461F-9E1B-93F3B8F0EC9F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DAC0E6-7CA0-49BA-88E3-1AEDA5F21C2C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34690A-474B-45B4-8418-FEB3B9095CC6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9644458-61FB-4F40-A3C1-D5DE63011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02B8359-AD03-4737-A1C7-3735E2FFB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49C58D0-C2A7-4A9E-8D0D-5845E1AF7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9C8A5C-6B5B-4E5B-B1F2-3D5DD6B0306F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A382B92-F33B-4EB6-9E1C-1CA17BEC1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DCC225A-4C57-49DF-8166-B49D8F05C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D52027F-CDB1-4A5E-BD9F-882EEB242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E2AA873-3949-4132-9B1C-0DFA4E781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601B912-6FFA-4630-9F91-EC201C48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2F35FD5-D54D-4E64-8C2A-D86810945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2384CDD-A143-46E1-99DF-7B458E56B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6421B37-EB26-4539-9D7D-03457D207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0B46C00-8BBC-4015-9F73-EE68B2BB9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8DB5E5-3E79-4CC9-B12F-F790D2C209D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50C5FB-2E18-4022-B694-5881E739E83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B662-3867-4EA9-A286-D351A04D2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0D453-6B81-4041-B2AA-964DE216DF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2831-80C1-4C31-A815-5291D09A8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1A8FA-34E5-4A8D-8208-F333F1B7AD4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4F0A8-42B8-4DF4-BA40-55B14499F93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DEED1-9C63-4DFC-A34E-536A63C71F3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92A35-EE06-440A-987A-B14EAA145ED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FCF2A-F024-4A22-9D57-5EFDB214E37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B1A6A-67C8-4B08-84B3-BDCCDCA8FF3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3065B-0E8D-4BFB-90ED-EA9DDD28A25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4F33C-4E45-4CBD-BEAB-AB86CE953A6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2F365-79CD-4E1F-A46A-F9088140A75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F50EC-28B3-4469-BE01-71F21A826A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8A13-539F-4A5A-A02A-3891C9541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0E7F7-34B6-4E28-995D-534A2D82301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B20779-9C0E-45D9-A466-C8907209EBF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DE0FAD-FAED-4BC6-8D3C-3054E2E4B22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6F8E14-9DBF-4248-BEEA-06EE98EA32D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0BEB78-B329-4C30-9117-11D6F7D0BE9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4A00E9-7022-4D3A-8D45-E7CFC0D36AD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6C3E69-125E-414C-8F7A-4A8AC548E69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FBC979-61F9-46B9-828D-10B4BADC95A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60EBD0-1125-4374-BED7-C88F6DA1975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6D97FE-8C99-408B-BA8A-99AFEC5736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C19B-31CC-4685-92C6-32E02A53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A40039-D67C-404F-AC6B-9B7EB1B151E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298C6B-38D9-4628-8059-D7263E3C053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5B76FF-CFCE-4B5A-A399-7A20D68E568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DA2B-6B69-4AAB-A5CD-C15681041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77AAA87-6620-4AB3-B818-28B656F6426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F1ABCC9-A0AA-4AC2-BE62-719CA19F40F3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F8D9C63-7949-4049-B5C6-24A91E03B563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310A7AC-8F3A-44BF-90F9-BA958DEA608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F9761E7-557A-4E35-BA1A-EE0CA2C032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03CE-A981-4BDC-BB05-D9FB3BDB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60D479F-A5C3-4FBB-BE3C-05E4CC3FDA0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82CD150-EBE4-4E18-B879-9735C55B706A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A679062-63AD-492F-9A4C-027479AF672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7B00A20-DC54-4B3B-97C9-D16CB5B30640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1C505BE-8DD4-47CD-897F-D9B6BF6B13F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1ED83E-AEB8-4670-B2FC-A5FCCB35B0C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5735930-7CD2-4AEB-A38D-3A3F078B260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B1AF3-1116-4FF8-B9FE-5FCFE4C2F43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99005D-4016-4899-AF1F-A2FCDF8C32EA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C5DB6-F902-45F6-9AA2-91BA3BB5F4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93.xml"/><Relationship Id="rId8" Type="http://schemas.openxmlformats.org/officeDocument/2006/relationships/slideLayout" Target="../slideLayouts/slideLayout194.xml"/><Relationship Id="rId9" Type="http://schemas.openxmlformats.org/officeDocument/2006/relationships/slideLayout" Target="../slideLayouts/slideLayout195.xml"/><Relationship Id="rId10" Type="http://schemas.openxmlformats.org/officeDocument/2006/relationships/slideLayout" Target="../slideLayouts/slideLayout196.xml"/><Relationship Id="rId11" Type="http://schemas.openxmlformats.org/officeDocument/2006/relationships/slideLayout" Target="../slideLayouts/slideLayout197.xml"/><Relationship Id="rId12" Type="http://schemas.openxmlformats.org/officeDocument/2006/relationships/slideLayout" Target="../slideLayouts/slideLayout198.xml"/><Relationship Id="rId13" Type="http://schemas.openxmlformats.org/officeDocument/2006/relationships/slideLayout" Target="../slideLayouts/slideLayout199.xml"/><Relationship Id="rId14" Type="http://schemas.openxmlformats.org/officeDocument/2006/relationships/slideLayout" Target="../slideLayouts/slideLayout200.xml"/><Relationship Id="rId15" Type="http://schemas.openxmlformats.org/officeDocument/2006/relationships/slideLayout" Target="../slideLayouts/slideLayout201.xml"/><Relationship Id="rId16" Type="http://schemas.openxmlformats.org/officeDocument/2006/relationships/slideLayout" Target="../slideLayouts/slideLayout202.xml"/><Relationship Id="rId17" Type="http://schemas.openxmlformats.org/officeDocument/2006/relationships/slideLayout" Target="../slideLayouts/slideLayout203.xml"/><Relationship Id="rId18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EBD01-0B8A-44B6-B63A-79A18A81D14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sldNum" idx="17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D161C-F465-4053-8D0D-F16526B66E31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5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sldNum" idx="19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16587-F96A-4CFB-8AD0-3084E52FCE94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sldNum" idx="21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4C1DC-7E79-43D9-B3FA-5A4CCB6C6CC6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5" descr="Orange outline.jpg"/>
          <p:cNvPicPr/>
          <p:nvPr/>
        </p:nvPicPr>
        <p:blipFill>
          <a:blip r:embed="rId3"/>
          <a:stretch/>
        </p:blipFill>
        <p:spPr>
          <a:xfrm>
            <a:off x="7439040" y="6043680"/>
            <a:ext cx="1425600" cy="58572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292929"/>
                </a:solidFill>
                <a:latin typeface="Segoe U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92929"/>
                </a:solidFill>
                <a:latin typeface="Segoe UI"/>
                <a:ea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sldNum" idx="24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7CDC7-5D64-45E9-9AFB-66E2D9C1A0E7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5"/>
          <p:cNvSpPr/>
          <p:nvPr/>
        </p:nvSpPr>
        <p:spPr>
          <a:xfrm>
            <a:off x="1606680" y="0"/>
            <a:ext cx="29196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Rectangle 6"/>
          <p:cNvSpPr/>
          <p:nvPr/>
        </p:nvSpPr>
        <p:spPr>
          <a:xfrm>
            <a:off x="0" y="1347840"/>
            <a:ext cx="206280" cy="85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U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Rectangle 7"/>
          <p:cNvSpPr/>
          <p:nvPr/>
        </p:nvSpPr>
        <p:spPr>
          <a:xfrm>
            <a:off x="8953560" y="5303880"/>
            <a:ext cx="190440" cy="47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8"/>
          <p:cNvSpPr/>
          <p:nvPr/>
        </p:nvSpPr>
        <p:spPr>
          <a:xfrm>
            <a:off x="1606680" y="6273720"/>
            <a:ext cx="1269720" cy="58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3" name="Picture 3" descr="C:\Documents and Settings\rob.morrison\Desktop\PiL_PPT\Picture 20.png"/>
          <p:cNvPicPr/>
          <p:nvPr/>
        </p:nvPicPr>
        <p:blipFill>
          <a:blip r:embed="rId3"/>
          <a:stretch/>
        </p:blipFill>
        <p:spPr>
          <a:xfrm>
            <a:off x="4054320" y="573120"/>
            <a:ext cx="4557960" cy="392904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10" descr="Blue_Background.png"/>
          <p:cNvPicPr/>
          <p:nvPr/>
        </p:nvPicPr>
        <p:blipFill>
          <a:blip r:embed="rId4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11" descr="yellow-square.png"/>
          <p:cNvPicPr/>
          <p:nvPr/>
        </p:nvPicPr>
        <p:blipFill>
          <a:blip r:embed="rId5">
            <a:lum bright="-6000"/>
          </a:blip>
          <a:stretch/>
        </p:blipFill>
        <p:spPr>
          <a:xfrm>
            <a:off x="2876400" y="368280"/>
            <a:ext cx="1722600" cy="183348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2" descr="M:\Public Sector\FY10 Active Jobs\SLX00019_PiL_More Templates\STUDIO\Print\PiL_PPT\Partners-in-Learning_2_bL_r.png"/>
          <p:cNvPicPr/>
          <p:nvPr/>
        </p:nvPicPr>
        <p:blipFill>
          <a:blip r:embed="rId6"/>
          <a:stretch/>
        </p:blipFill>
        <p:spPr>
          <a:xfrm>
            <a:off x="339840" y="6146640"/>
            <a:ext cx="1766880" cy="408240"/>
          </a:xfrm>
          <a:prstGeom prst="rect">
            <a:avLst/>
          </a:prstGeom>
          <a:ln w="0">
            <a:noFill/>
          </a:ln>
        </p:spPr>
      </p:pic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7"/>
    <p:sldLayoutId id="2147483858" r:id="rId8"/>
    <p:sldLayoutId id="2147483859" r:id="rId9"/>
    <p:sldLayoutId id="2147483860" r:id="rId10"/>
    <p:sldLayoutId id="2147483861" r:id="rId11"/>
    <p:sldLayoutId id="2147483862" r:id="rId12"/>
    <p:sldLayoutId id="2147483863" r:id="rId13"/>
    <p:sldLayoutId id="2147483864" r:id="rId14"/>
    <p:sldLayoutId id="2147483865" r:id="rId15"/>
    <p:sldLayoutId id="2147483866" r:id="rId16"/>
    <p:sldLayoutId id="2147483867" r:id="rId17"/>
    <p:sldLayoutId id="2147483868" r:id="rId18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 type="sldNum" idx="26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FF95A-1996-4466-9491-7FE2C1C87AAC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6" name="Picture 5" descr="circles-yellow.png"/>
          <p:cNvPicPr/>
          <p:nvPr/>
        </p:nvPicPr>
        <p:blipFill>
          <a:blip r:embed="rId3"/>
          <a:stretch/>
        </p:blipFill>
        <p:spPr>
          <a:xfrm>
            <a:off x="7831080" y="3637080"/>
            <a:ext cx="1135080" cy="2262240"/>
          </a:xfrm>
          <a:prstGeom prst="rect">
            <a:avLst/>
          </a:prstGeom>
          <a:ln w="0">
            <a:noFill/>
          </a:ln>
        </p:spPr>
      </p:pic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 type="sldNum" idx="28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41DF0-6063-4BFF-91FA-6E23303FBBDF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A9FA6-092F-4C6F-8965-C98101CF5D86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7" name="Picture 5" descr="yellow-square.png"/>
          <p:cNvPicPr/>
          <p:nvPr/>
        </p:nvPicPr>
        <p:blipFill>
          <a:blip r:embed="rId3"/>
          <a:stretch/>
        </p:blipFill>
        <p:spPr>
          <a:xfrm>
            <a:off x="6622920" y="3687840"/>
            <a:ext cx="1987560" cy="2117520"/>
          </a:xfrm>
          <a:prstGeom prst="rect">
            <a:avLst/>
          </a:prstGeom>
          <a:ln w="0">
            <a:noFill/>
          </a:ln>
        </p:spPr>
      </p:pic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6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 type="sldNum" idx="30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7A6A1-D6B4-4E09-9073-C993D7A89A63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7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 type="sldNum" idx="32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D7971-D265-4D31-A4AD-D26DC9171136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8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ftr" idx="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 type="sldNum" idx="34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1F68A-D08B-4BAA-9EC1-F0A745D32E8B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Picture 5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 type="sldNum" idx="36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6F587-2002-45B6-9DE5-47D95C9C37D2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0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ftr" idx="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sldNum" idx="38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3B250-5F88-4F55-AA85-409C77E5F299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5" descr="Orange outline.jpg"/>
          <p:cNvPicPr/>
          <p:nvPr/>
        </p:nvPicPr>
        <p:blipFill>
          <a:blip r:embed="rId3"/>
          <a:stretch/>
        </p:blipFill>
        <p:spPr>
          <a:xfrm>
            <a:off x="7439040" y="6043680"/>
            <a:ext cx="1425600" cy="585720"/>
          </a:xfrm>
          <a:prstGeom prst="rect">
            <a:avLst/>
          </a:prstGeom>
          <a:ln w="0">
            <a:noFill/>
          </a:ln>
        </p:spPr>
      </p:pic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 type="dt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292929"/>
                </a:solidFill>
                <a:latin typeface="Segoe U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92929"/>
                </a:solidFill>
                <a:latin typeface="Segoe UI"/>
                <a:ea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 type="ftr" idx="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 type="sldNum" idx="41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6B528-FD98-42F6-B8B9-ACDB0F078897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7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8446D-ADF5-493F-A2B4-AFAD868FC872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5"/>
          <p:cNvSpPr/>
          <p:nvPr/>
        </p:nvSpPr>
        <p:spPr>
          <a:xfrm>
            <a:off x="1606680" y="0"/>
            <a:ext cx="29196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0" y="1347840"/>
            <a:ext cx="206280" cy="85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U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8953560" y="5303880"/>
            <a:ext cx="190440" cy="47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1606680" y="6273720"/>
            <a:ext cx="1269720" cy="58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3" descr="C:\Documents and Settings\rob.morrison\Desktop\PiL_PPT\Picture 20.png"/>
          <p:cNvPicPr/>
          <p:nvPr/>
        </p:nvPicPr>
        <p:blipFill>
          <a:blip r:embed="rId3"/>
          <a:stretch/>
        </p:blipFill>
        <p:spPr>
          <a:xfrm>
            <a:off x="4054320" y="573120"/>
            <a:ext cx="4557960" cy="3929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Blue_Background.png"/>
          <p:cNvPicPr/>
          <p:nvPr/>
        </p:nvPicPr>
        <p:blipFill>
          <a:blip r:embed="rId4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yellow-square.png"/>
          <p:cNvPicPr/>
          <p:nvPr/>
        </p:nvPicPr>
        <p:blipFill>
          <a:blip r:embed="rId5">
            <a:lum bright="-6000"/>
          </a:blip>
          <a:stretch/>
        </p:blipFill>
        <p:spPr>
          <a:xfrm>
            <a:off x="2876400" y="368280"/>
            <a:ext cx="1722600" cy="18334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M:\Public Sector\FY10 Active Jobs\SLX00019_PiL_More Templates\STUDIO\Print\PiL_PPT\Partners-in-Learning_2_bL_r.png"/>
          <p:cNvPicPr/>
          <p:nvPr/>
        </p:nvPicPr>
        <p:blipFill>
          <a:blip r:embed="rId6"/>
          <a:stretch/>
        </p:blipFill>
        <p:spPr>
          <a:xfrm>
            <a:off x="339840" y="6146640"/>
            <a:ext cx="1766880" cy="4082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9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02E9F-DE89-46FD-8C90-A028E2D73239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5" descr="circles-yellow.png"/>
          <p:cNvPicPr/>
          <p:nvPr/>
        </p:nvPicPr>
        <p:blipFill>
          <a:blip r:embed="rId3"/>
          <a:stretch/>
        </p:blipFill>
        <p:spPr>
          <a:xfrm>
            <a:off x="7831080" y="3637080"/>
            <a:ext cx="1135080" cy="226224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sldNum" idx="11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D982B-222B-4940-B37A-07170A0D97C8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5" descr="yellow-square.png"/>
          <p:cNvPicPr/>
          <p:nvPr/>
        </p:nvPicPr>
        <p:blipFill>
          <a:blip r:embed="rId3"/>
          <a:stretch/>
        </p:blipFill>
        <p:spPr>
          <a:xfrm>
            <a:off x="6622920" y="3687840"/>
            <a:ext cx="1987560" cy="211752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13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B99CF-6009-42BF-BEFA-2815BD3A7FCA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sldNum" idx="15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D0EE1-2E99-44A0-B9C4-9D12034E3B92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5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TextBox 1"/>
          <p:cNvSpPr/>
          <p:nvPr/>
        </p:nvSpPr>
        <p:spPr>
          <a:xfrm>
            <a:off x="642960" y="465120"/>
            <a:ext cx="49291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bacc6"/>
                </a:solidFill>
                <a:latin typeface="微软雅黑"/>
                <a:ea typeface="微软雅黑"/>
              </a:rPr>
              <a:t>交通安全不是问题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   </a:t>
            </a:r>
            <a:r>
              <a:rPr b="1" lang="zh-CN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问题是解决的方案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圆角矩形标注 7"/>
          <p:cNvSpPr/>
          <p:nvPr/>
        </p:nvSpPr>
        <p:spPr>
          <a:xfrm>
            <a:off x="1714680" y="3429000"/>
            <a:ext cx="1285560" cy="285840"/>
          </a:xfrm>
          <a:prstGeom prst="wedgeRoundRectCallout">
            <a:avLst>
              <a:gd name="adj1" fmla="val -33319"/>
              <a:gd name="adj2" fmla="val 92958"/>
              <a:gd name="adj3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TextBox 3"/>
          <p:cNvSpPr/>
          <p:nvPr/>
        </p:nvSpPr>
        <p:spPr>
          <a:xfrm>
            <a:off x="1724040" y="3438360"/>
            <a:ext cx="13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f6228"/>
                </a:solidFill>
                <a:latin typeface="微软雅黑"/>
                <a:ea typeface="微软雅黑"/>
              </a:rPr>
              <a:t>南宁市卫国小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TextBox 12"/>
          <p:cNvSpPr/>
          <p:nvPr/>
        </p:nvSpPr>
        <p:spPr>
          <a:xfrm>
            <a:off x="4143240" y="1785960"/>
            <a:ext cx="15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我们有解决的方案啦！！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TextBox 17"/>
          <p:cNvSpPr/>
          <p:nvPr/>
        </p:nvSpPr>
        <p:spPr>
          <a:xfrm>
            <a:off x="142920" y="285840"/>
            <a:ext cx="642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93cddd"/>
                </a:solidFill>
                <a:latin typeface="微软雅黑"/>
                <a:ea typeface="微软雅黑"/>
              </a:rPr>
              <a:t>{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TextBox 3"/>
          <p:cNvSpPr/>
          <p:nvPr/>
        </p:nvSpPr>
        <p:spPr>
          <a:xfrm>
            <a:off x="1771560" y="857160"/>
            <a:ext cx="30610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区交通安全问题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的解决方案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TextBox 4"/>
          <p:cNvSpPr/>
          <p:nvPr/>
        </p:nvSpPr>
        <p:spPr>
          <a:xfrm>
            <a:off x="1515960" y="224316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广西自治区南宁市卫国小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圆角矩形标注 5"/>
          <p:cNvSpPr/>
          <p:nvPr/>
        </p:nvSpPr>
        <p:spPr>
          <a:xfrm>
            <a:off x="1714680" y="3429000"/>
            <a:ext cx="1285560" cy="285840"/>
          </a:xfrm>
          <a:prstGeom prst="wedgeRoundRectCallout">
            <a:avLst>
              <a:gd name="adj1" fmla="val -33319"/>
              <a:gd name="adj2" fmla="val 92958"/>
              <a:gd name="adj3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TextBox 6"/>
          <p:cNvSpPr/>
          <p:nvPr/>
        </p:nvSpPr>
        <p:spPr>
          <a:xfrm>
            <a:off x="1724040" y="3438360"/>
            <a:ext cx="13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f6228"/>
                </a:solidFill>
                <a:latin typeface="微软雅黑"/>
                <a:ea typeface="微软雅黑"/>
              </a:rPr>
              <a:t>南宁市卫国小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TextBox 1"/>
          <p:cNvSpPr/>
          <p:nvPr/>
        </p:nvSpPr>
        <p:spPr>
          <a:xfrm>
            <a:off x="1187280" y="801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卷首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TextBox 3"/>
          <p:cNvSpPr/>
          <p:nvPr/>
        </p:nvSpPr>
        <p:spPr>
          <a:xfrm>
            <a:off x="1886040" y="244620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矩形​​ 4"/>
          <p:cNvSpPr/>
          <p:nvPr/>
        </p:nvSpPr>
        <p:spPr>
          <a:xfrm>
            <a:off x="969840" y="1515960"/>
            <a:ext cx="417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区交通安全问题：我们的解决方案”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一学习项目主要是通过学生在观察学校放学时段人流量的基础上，搜集数据，并进行整理、分析，找出校门口人车混行的原因，提出了学生的校区交通安全问题解决方案。通过项目的学习，期望学生在亲身实践中，体验运用已学知识解决设计问题的过程，培养整理、分析信息的能力、问题解决的能力与协作意识、态度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TextBox 9"/>
          <p:cNvSpPr/>
          <p:nvPr/>
        </p:nvSpPr>
        <p:spPr>
          <a:xfrm>
            <a:off x="398520" y="587520"/>
            <a:ext cx="642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93cddd"/>
                </a:solidFill>
                <a:latin typeface="微软雅黑"/>
                <a:ea typeface="微软雅黑"/>
              </a:rPr>
              <a:t>{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TextBox 2"/>
          <p:cNvSpPr/>
          <p:nvPr/>
        </p:nvSpPr>
        <p:spPr>
          <a:xfrm>
            <a:off x="1510200" y="1609560"/>
            <a:ext cx="1460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 action="ppaction://hlinksldjump"/>
              </a:rPr>
              <a:t>一、问题的背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TextBox 3"/>
          <p:cNvSpPr/>
          <p:nvPr/>
        </p:nvSpPr>
        <p:spPr>
          <a:xfrm>
            <a:off x="3311640" y="2395440"/>
            <a:ext cx="32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 action="ppaction://hlinksldjump"/>
              </a:rPr>
              <a:t>二、学区交通安全问题原因的调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TextBox 4"/>
          <p:cNvSpPr/>
          <p:nvPr/>
        </p:nvSpPr>
        <p:spPr>
          <a:xfrm>
            <a:off x="1071720" y="3214800"/>
            <a:ext cx="428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 action="ppaction://hlinksldjump"/>
              </a:rPr>
              <a:t>三、我们的解决方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TextBox 5"/>
          <p:cNvSpPr/>
          <p:nvPr/>
        </p:nvSpPr>
        <p:spPr>
          <a:xfrm>
            <a:off x="1114920" y="801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TextBox 6"/>
          <p:cNvSpPr/>
          <p:nvPr/>
        </p:nvSpPr>
        <p:spPr>
          <a:xfrm>
            <a:off x="398520" y="587520"/>
            <a:ext cx="642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93cddd"/>
                </a:solidFill>
                <a:latin typeface="微软雅黑"/>
                <a:ea typeface="微软雅黑"/>
              </a:rPr>
              <a:t>{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TextBox 7"/>
          <p:cNvSpPr/>
          <p:nvPr/>
        </p:nvSpPr>
        <p:spPr>
          <a:xfrm>
            <a:off x="1073160" y="4029120"/>
            <a:ext cx="321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5" action="ppaction://hlinksldjump"/>
              </a:rPr>
              <a:t>四、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的奇思妙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6" name="Picture 1" descr="D:\卫国小学\map01.jpg"/>
          <p:cNvPicPr/>
          <p:nvPr/>
        </p:nvPicPr>
        <p:blipFill>
          <a:blip r:embed="rId2"/>
          <a:srcRect l="2122" t="1870" r="907" b="-399"/>
          <a:stretch/>
        </p:blipFill>
        <p:spPr>
          <a:xfrm>
            <a:off x="428760" y="1428840"/>
            <a:ext cx="5286240" cy="4000320"/>
          </a:xfrm>
          <a:prstGeom prst="rect">
            <a:avLst/>
          </a:prstGeom>
          <a:ln w="0">
            <a:noFill/>
          </a:ln>
        </p:spPr>
      </p:pic>
      <p:sp>
        <p:nvSpPr>
          <p:cNvPr id="1197" name="矩形​​ 7"/>
          <p:cNvSpPr/>
          <p:nvPr/>
        </p:nvSpPr>
        <p:spPr>
          <a:xfrm>
            <a:off x="5857920" y="1359000"/>
            <a:ext cx="25002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92929"/>
                </a:solidFill>
                <a:latin typeface="微软雅黑"/>
                <a:ea typeface="微软雅黑"/>
              </a:rPr>
              <a:t>中国广西南宁市卫国小学位于旧城商业区内，是服务于华强社区的一所学校。学校共有</a:t>
            </a:r>
            <a:r>
              <a:rPr b="0" lang="en-US" sz="1800" spc="-1" strike="noStrike">
                <a:solidFill>
                  <a:srgbClr val="292929"/>
                </a:solidFill>
                <a:latin typeface="微软雅黑"/>
                <a:ea typeface="微软雅黑"/>
              </a:rPr>
              <a:t>802</a:t>
            </a:r>
            <a:r>
              <a:rPr b="0" lang="zh-CN" sz="1800" spc="-1" strike="noStrike">
                <a:solidFill>
                  <a:srgbClr val="292929"/>
                </a:solidFill>
                <a:latin typeface="微软雅黑"/>
                <a:ea typeface="微软雅黑"/>
              </a:rPr>
              <a:t>名师生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92929"/>
                </a:solidFill>
                <a:latin typeface="微软雅黑"/>
                <a:ea typeface="微软雅黑"/>
              </a:rPr>
              <a:t>学区占地面积</a:t>
            </a:r>
            <a:r>
              <a:rPr b="0" lang="en-US" sz="1800" spc="-1" strike="noStrike">
                <a:solidFill>
                  <a:srgbClr val="292929"/>
                </a:solidFill>
                <a:latin typeface="微软雅黑"/>
                <a:ea typeface="微软雅黑"/>
              </a:rPr>
              <a:t>2.1</a:t>
            </a:r>
            <a:r>
              <a:rPr b="0" lang="zh-CN" sz="1800" spc="-1" strike="noStrike">
                <a:solidFill>
                  <a:srgbClr val="292929"/>
                </a:solidFill>
                <a:latin typeface="微软雅黑"/>
                <a:ea typeface="微软雅黑"/>
              </a:rPr>
              <a:t>平方公里，学区内人口约</a:t>
            </a:r>
            <a:r>
              <a:rPr b="0" lang="en-US" sz="1800" spc="-1" strike="noStrike">
                <a:solidFill>
                  <a:srgbClr val="292929"/>
                </a:solidFill>
                <a:latin typeface="微软雅黑"/>
                <a:ea typeface="微软雅黑"/>
              </a:rPr>
              <a:t>3.7</a:t>
            </a:r>
            <a:r>
              <a:rPr b="0" lang="zh-CN" sz="1800" spc="-1" strike="noStrike">
                <a:solidFill>
                  <a:srgbClr val="292929"/>
                </a:solidFill>
                <a:latin typeface="微软雅黑"/>
                <a:ea typeface="微软雅黑"/>
              </a:rPr>
              <a:t>万人，人口密度为</a:t>
            </a:r>
            <a:r>
              <a:rPr b="1" lang="en-US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1.84</a:t>
            </a: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万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人</a:t>
            </a: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/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平方千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TextBox 8"/>
          <p:cNvSpPr/>
          <p:nvPr/>
        </p:nvSpPr>
        <p:spPr>
          <a:xfrm>
            <a:off x="1672560" y="6192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我们的学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TextBox 9"/>
          <p:cNvSpPr/>
          <p:nvPr/>
        </p:nvSpPr>
        <p:spPr>
          <a:xfrm>
            <a:off x="1157040" y="1904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bacc6"/>
                </a:solidFill>
                <a:latin typeface="微软雅黑"/>
                <a:ea typeface="微软雅黑"/>
              </a:rPr>
              <a:t>一、问题的背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TextBox 10"/>
          <p:cNvSpPr/>
          <p:nvPr/>
        </p:nvSpPr>
        <p:spPr>
          <a:xfrm>
            <a:off x="285840" y="-68400"/>
            <a:ext cx="642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3cddd"/>
                </a:solidFill>
                <a:latin typeface="微软雅黑"/>
                <a:ea typeface="微软雅黑"/>
              </a:rPr>
              <a:t>{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直接连接符 14"/>
          <p:cNvSpPr/>
          <p:nvPr/>
        </p:nvSpPr>
        <p:spPr>
          <a:xfrm>
            <a:off x="785880" y="4071960"/>
            <a:ext cx="914400" cy="9144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任意多边形 22"/>
          <p:cNvSpPr/>
          <p:nvPr/>
        </p:nvSpPr>
        <p:spPr>
          <a:xfrm>
            <a:off x="857160" y="2590920"/>
            <a:ext cx="4591080" cy="2554200"/>
          </a:xfrm>
          <a:custGeom>
            <a:avLst/>
            <a:gdLst/>
            <a:ahLst/>
            <a:rect l="l" t="t" r="r" b="b"/>
            <a:pathLst>
              <a:path w="4690534" h="2626370">
                <a:moveTo>
                  <a:pt x="0" y="1473200"/>
                </a:moveTo>
                <a:cubicBezTo>
                  <a:pt x="38021" y="1435179"/>
                  <a:pt x="14042" y="1451585"/>
                  <a:pt x="76200" y="1430866"/>
                </a:cubicBezTo>
                <a:lnTo>
                  <a:pt x="101600" y="1422400"/>
                </a:lnTo>
                <a:cubicBezTo>
                  <a:pt x="141852" y="1395564"/>
                  <a:pt x="117345" y="1408685"/>
                  <a:pt x="177800" y="1388533"/>
                </a:cubicBezTo>
                <a:lnTo>
                  <a:pt x="203200" y="1380066"/>
                </a:lnTo>
                <a:cubicBezTo>
                  <a:pt x="341075" y="1334109"/>
                  <a:pt x="219794" y="1371810"/>
                  <a:pt x="584200" y="1363133"/>
                </a:cubicBezTo>
                <a:cubicBezTo>
                  <a:pt x="611028" y="1354190"/>
                  <a:pt x="611553" y="1356490"/>
                  <a:pt x="635000" y="1337733"/>
                </a:cubicBezTo>
                <a:cubicBezTo>
                  <a:pt x="641233" y="1332746"/>
                  <a:pt x="645089" y="1324907"/>
                  <a:pt x="651934" y="1320800"/>
                </a:cubicBezTo>
                <a:cubicBezTo>
                  <a:pt x="659587" y="1316208"/>
                  <a:pt x="669352" y="1316324"/>
                  <a:pt x="677334" y="1312333"/>
                </a:cubicBezTo>
                <a:cubicBezTo>
                  <a:pt x="686435" y="1307782"/>
                  <a:pt x="693435" y="1299533"/>
                  <a:pt x="702734" y="1295400"/>
                </a:cubicBezTo>
                <a:cubicBezTo>
                  <a:pt x="719045" y="1288151"/>
                  <a:pt x="736601" y="1284111"/>
                  <a:pt x="753534" y="1278466"/>
                </a:cubicBezTo>
                <a:cubicBezTo>
                  <a:pt x="772841" y="1272030"/>
                  <a:pt x="787401" y="1255889"/>
                  <a:pt x="804334" y="1244600"/>
                </a:cubicBezTo>
                <a:cubicBezTo>
                  <a:pt x="824138" y="1231398"/>
                  <a:pt x="822351" y="1220379"/>
                  <a:pt x="838200" y="1202266"/>
                </a:cubicBezTo>
                <a:cubicBezTo>
                  <a:pt x="899134" y="1132628"/>
                  <a:pt x="858114" y="1181257"/>
                  <a:pt x="905934" y="1143000"/>
                </a:cubicBezTo>
                <a:cubicBezTo>
                  <a:pt x="947825" y="1109487"/>
                  <a:pt x="895796" y="1144670"/>
                  <a:pt x="939800" y="1100666"/>
                </a:cubicBezTo>
                <a:cubicBezTo>
                  <a:pt x="946995" y="1093471"/>
                  <a:pt x="956733" y="1089377"/>
                  <a:pt x="965200" y="1083733"/>
                </a:cubicBezTo>
                <a:cubicBezTo>
                  <a:pt x="980103" y="1039026"/>
                  <a:pt x="968716" y="1065760"/>
                  <a:pt x="1007534" y="1007533"/>
                </a:cubicBezTo>
                <a:cubicBezTo>
                  <a:pt x="1013178" y="999066"/>
                  <a:pt x="1016000" y="987777"/>
                  <a:pt x="1024467" y="982133"/>
                </a:cubicBezTo>
                <a:cubicBezTo>
                  <a:pt x="1032934" y="976489"/>
                  <a:pt x="1041921" y="971557"/>
                  <a:pt x="1049867" y="965200"/>
                </a:cubicBezTo>
                <a:cubicBezTo>
                  <a:pt x="1091756" y="931688"/>
                  <a:pt x="1039731" y="966868"/>
                  <a:pt x="1083734" y="922866"/>
                </a:cubicBezTo>
                <a:cubicBezTo>
                  <a:pt x="1090929" y="915671"/>
                  <a:pt x="1100667" y="911577"/>
                  <a:pt x="1109134" y="905933"/>
                </a:cubicBezTo>
                <a:lnTo>
                  <a:pt x="1143000" y="855133"/>
                </a:lnTo>
                <a:cubicBezTo>
                  <a:pt x="1152901" y="840281"/>
                  <a:pt x="1154290" y="821266"/>
                  <a:pt x="1159934" y="804333"/>
                </a:cubicBezTo>
                <a:cubicBezTo>
                  <a:pt x="1162756" y="795866"/>
                  <a:pt x="1162089" y="785244"/>
                  <a:pt x="1168400" y="778933"/>
                </a:cubicBezTo>
                <a:cubicBezTo>
                  <a:pt x="1209462" y="737871"/>
                  <a:pt x="1188983" y="753922"/>
                  <a:pt x="1227667" y="728133"/>
                </a:cubicBezTo>
                <a:cubicBezTo>
                  <a:pt x="1279785" y="649955"/>
                  <a:pt x="1213277" y="746121"/>
                  <a:pt x="1261534" y="685800"/>
                </a:cubicBezTo>
                <a:cubicBezTo>
                  <a:pt x="1267891" y="677854"/>
                  <a:pt x="1272110" y="668346"/>
                  <a:pt x="1278467" y="660400"/>
                </a:cubicBezTo>
                <a:cubicBezTo>
                  <a:pt x="1283454" y="654167"/>
                  <a:pt x="1290413" y="649699"/>
                  <a:pt x="1295400" y="643466"/>
                </a:cubicBezTo>
                <a:cubicBezTo>
                  <a:pt x="1301757" y="635520"/>
                  <a:pt x="1304388" y="624423"/>
                  <a:pt x="1312334" y="618066"/>
                </a:cubicBezTo>
                <a:cubicBezTo>
                  <a:pt x="1319303" y="612491"/>
                  <a:pt x="1329267" y="612422"/>
                  <a:pt x="1337734" y="609600"/>
                </a:cubicBezTo>
                <a:cubicBezTo>
                  <a:pt x="1343378" y="601133"/>
                  <a:pt x="1350116" y="593301"/>
                  <a:pt x="1354667" y="584200"/>
                </a:cubicBezTo>
                <a:cubicBezTo>
                  <a:pt x="1358658" y="576218"/>
                  <a:pt x="1358183" y="566226"/>
                  <a:pt x="1363134" y="558800"/>
                </a:cubicBezTo>
                <a:cubicBezTo>
                  <a:pt x="1369776" y="548837"/>
                  <a:pt x="1380869" y="542598"/>
                  <a:pt x="1388534" y="533400"/>
                </a:cubicBezTo>
                <a:cubicBezTo>
                  <a:pt x="1395048" y="525583"/>
                  <a:pt x="1399110" y="515946"/>
                  <a:pt x="1405467" y="508000"/>
                </a:cubicBezTo>
                <a:cubicBezTo>
                  <a:pt x="1410454" y="501767"/>
                  <a:pt x="1417290" y="497198"/>
                  <a:pt x="1422400" y="491066"/>
                </a:cubicBezTo>
                <a:cubicBezTo>
                  <a:pt x="1438864" y="471309"/>
                  <a:pt x="1445587" y="455584"/>
                  <a:pt x="1464734" y="440266"/>
                </a:cubicBezTo>
                <a:cubicBezTo>
                  <a:pt x="1472680" y="433909"/>
                  <a:pt x="1481667" y="428977"/>
                  <a:pt x="1490134" y="423333"/>
                </a:cubicBezTo>
                <a:lnTo>
                  <a:pt x="1524000" y="372533"/>
                </a:lnTo>
                <a:lnTo>
                  <a:pt x="1540934" y="347133"/>
                </a:lnTo>
                <a:cubicBezTo>
                  <a:pt x="1564917" y="275180"/>
                  <a:pt x="1531468" y="362909"/>
                  <a:pt x="1566334" y="304800"/>
                </a:cubicBezTo>
                <a:cubicBezTo>
                  <a:pt x="1593599" y="259358"/>
                  <a:pt x="1549608" y="296195"/>
                  <a:pt x="1600200" y="262466"/>
                </a:cubicBezTo>
                <a:cubicBezTo>
                  <a:pt x="1616684" y="213017"/>
                  <a:pt x="1595770" y="258430"/>
                  <a:pt x="1634067" y="220133"/>
                </a:cubicBezTo>
                <a:cubicBezTo>
                  <a:pt x="1680199" y="174001"/>
                  <a:pt x="1636354" y="193970"/>
                  <a:pt x="1684867" y="177800"/>
                </a:cubicBezTo>
                <a:cubicBezTo>
                  <a:pt x="1690511" y="172155"/>
                  <a:pt x="1695158" y="165294"/>
                  <a:pt x="1701800" y="160866"/>
                </a:cubicBezTo>
                <a:cubicBezTo>
                  <a:pt x="1717488" y="150407"/>
                  <a:pt x="1762207" y="132640"/>
                  <a:pt x="1778000" y="127000"/>
                </a:cubicBezTo>
                <a:cubicBezTo>
                  <a:pt x="1803214" y="117995"/>
                  <a:pt x="1827946" y="106851"/>
                  <a:pt x="1854200" y="101600"/>
                </a:cubicBezTo>
                <a:cubicBezTo>
                  <a:pt x="1883308" y="95778"/>
                  <a:pt x="1902493" y="92639"/>
                  <a:pt x="1930400" y="84666"/>
                </a:cubicBezTo>
                <a:cubicBezTo>
                  <a:pt x="1938981" y="82214"/>
                  <a:pt x="1947333" y="79022"/>
                  <a:pt x="1955800" y="76200"/>
                </a:cubicBezTo>
                <a:cubicBezTo>
                  <a:pt x="1964267" y="70555"/>
                  <a:pt x="1971847" y="63274"/>
                  <a:pt x="1981200" y="59266"/>
                </a:cubicBezTo>
                <a:cubicBezTo>
                  <a:pt x="1993361" y="54054"/>
                  <a:pt x="2047766" y="44742"/>
                  <a:pt x="2057400" y="42333"/>
                </a:cubicBezTo>
                <a:cubicBezTo>
                  <a:pt x="2089167" y="34391"/>
                  <a:pt x="2082747" y="31470"/>
                  <a:pt x="2116667" y="16933"/>
                </a:cubicBezTo>
                <a:cubicBezTo>
                  <a:pt x="2133677" y="9643"/>
                  <a:pt x="2158741" y="4298"/>
                  <a:pt x="2175934" y="0"/>
                </a:cubicBezTo>
                <a:cubicBezTo>
                  <a:pt x="2294467" y="2822"/>
                  <a:pt x="2413084" y="3202"/>
                  <a:pt x="2531534" y="8466"/>
                </a:cubicBezTo>
                <a:cubicBezTo>
                  <a:pt x="2540450" y="8862"/>
                  <a:pt x="2548952" y="12942"/>
                  <a:pt x="2556934" y="16933"/>
                </a:cubicBezTo>
                <a:cubicBezTo>
                  <a:pt x="2566035" y="21484"/>
                  <a:pt x="2573867" y="28222"/>
                  <a:pt x="2582334" y="33866"/>
                </a:cubicBezTo>
                <a:cubicBezTo>
                  <a:pt x="2608123" y="72550"/>
                  <a:pt x="2592072" y="52071"/>
                  <a:pt x="2633134" y="93133"/>
                </a:cubicBezTo>
                <a:cubicBezTo>
                  <a:pt x="2640329" y="100328"/>
                  <a:pt x="2650588" y="103709"/>
                  <a:pt x="2658534" y="110066"/>
                </a:cubicBezTo>
                <a:cubicBezTo>
                  <a:pt x="2684787" y="131069"/>
                  <a:pt x="2666116" y="126557"/>
                  <a:pt x="2700867" y="143933"/>
                </a:cubicBezTo>
                <a:cubicBezTo>
                  <a:pt x="2708849" y="147924"/>
                  <a:pt x="2718465" y="148066"/>
                  <a:pt x="2726267" y="152400"/>
                </a:cubicBezTo>
                <a:cubicBezTo>
                  <a:pt x="2744057" y="162283"/>
                  <a:pt x="2760134" y="174977"/>
                  <a:pt x="2777067" y="186266"/>
                </a:cubicBezTo>
                <a:lnTo>
                  <a:pt x="2802467" y="203200"/>
                </a:lnTo>
                <a:cubicBezTo>
                  <a:pt x="2810160" y="214739"/>
                  <a:pt x="2822927" y="237489"/>
                  <a:pt x="2836334" y="245533"/>
                </a:cubicBezTo>
                <a:cubicBezTo>
                  <a:pt x="2843987" y="250125"/>
                  <a:pt x="2853752" y="250009"/>
                  <a:pt x="2861734" y="254000"/>
                </a:cubicBezTo>
                <a:cubicBezTo>
                  <a:pt x="2870835" y="258551"/>
                  <a:pt x="2877835" y="266800"/>
                  <a:pt x="2887134" y="270933"/>
                </a:cubicBezTo>
                <a:cubicBezTo>
                  <a:pt x="2903445" y="278182"/>
                  <a:pt x="2921001" y="282222"/>
                  <a:pt x="2937934" y="287866"/>
                </a:cubicBezTo>
                <a:lnTo>
                  <a:pt x="2963334" y="296333"/>
                </a:lnTo>
                <a:cubicBezTo>
                  <a:pt x="2971801" y="299155"/>
                  <a:pt x="2981308" y="299850"/>
                  <a:pt x="2988734" y="304800"/>
                </a:cubicBezTo>
                <a:cubicBezTo>
                  <a:pt x="2997201" y="310444"/>
                  <a:pt x="3005033" y="317182"/>
                  <a:pt x="3014134" y="321733"/>
                </a:cubicBezTo>
                <a:cubicBezTo>
                  <a:pt x="3027672" y="328502"/>
                  <a:pt x="3060734" y="335047"/>
                  <a:pt x="3073400" y="338666"/>
                </a:cubicBezTo>
                <a:cubicBezTo>
                  <a:pt x="3081981" y="341118"/>
                  <a:pt x="3090333" y="344311"/>
                  <a:pt x="3098800" y="347133"/>
                </a:cubicBezTo>
                <a:cubicBezTo>
                  <a:pt x="3104445" y="352777"/>
                  <a:pt x="3108889" y="359959"/>
                  <a:pt x="3115734" y="364066"/>
                </a:cubicBezTo>
                <a:cubicBezTo>
                  <a:pt x="3123387" y="368658"/>
                  <a:pt x="3134165" y="366958"/>
                  <a:pt x="3141134" y="372533"/>
                </a:cubicBezTo>
                <a:cubicBezTo>
                  <a:pt x="3149080" y="378890"/>
                  <a:pt x="3150872" y="390738"/>
                  <a:pt x="3158067" y="397933"/>
                </a:cubicBezTo>
                <a:cubicBezTo>
                  <a:pt x="3165262" y="405128"/>
                  <a:pt x="3175741" y="408244"/>
                  <a:pt x="3183467" y="414866"/>
                </a:cubicBezTo>
                <a:cubicBezTo>
                  <a:pt x="3195589" y="425256"/>
                  <a:pt x="3206045" y="437444"/>
                  <a:pt x="3217334" y="448733"/>
                </a:cubicBezTo>
                <a:lnTo>
                  <a:pt x="3242734" y="474133"/>
                </a:lnTo>
                <a:cubicBezTo>
                  <a:pt x="3252712" y="484111"/>
                  <a:pt x="3265760" y="490499"/>
                  <a:pt x="3276600" y="499533"/>
                </a:cubicBezTo>
                <a:cubicBezTo>
                  <a:pt x="3324856" y="539746"/>
                  <a:pt x="3256136" y="491533"/>
                  <a:pt x="3318934" y="533400"/>
                </a:cubicBezTo>
                <a:cubicBezTo>
                  <a:pt x="3330223" y="550333"/>
                  <a:pt x="3335867" y="572911"/>
                  <a:pt x="3352800" y="584200"/>
                </a:cubicBezTo>
                <a:cubicBezTo>
                  <a:pt x="3391484" y="609989"/>
                  <a:pt x="3371005" y="593938"/>
                  <a:pt x="3412067" y="635000"/>
                </a:cubicBezTo>
                <a:cubicBezTo>
                  <a:pt x="3486274" y="709207"/>
                  <a:pt x="3395463" y="615074"/>
                  <a:pt x="3454400" y="685800"/>
                </a:cubicBezTo>
                <a:cubicBezTo>
                  <a:pt x="3491099" y="729839"/>
                  <a:pt x="3466350" y="694833"/>
                  <a:pt x="3505200" y="728133"/>
                </a:cubicBezTo>
                <a:cubicBezTo>
                  <a:pt x="3517322" y="738523"/>
                  <a:pt x="3527778" y="750711"/>
                  <a:pt x="3539067" y="762000"/>
                </a:cubicBezTo>
                <a:cubicBezTo>
                  <a:pt x="3546262" y="769195"/>
                  <a:pt x="3549299" y="779742"/>
                  <a:pt x="3556000" y="787400"/>
                </a:cubicBezTo>
                <a:cubicBezTo>
                  <a:pt x="3616934" y="857038"/>
                  <a:pt x="3575914" y="808409"/>
                  <a:pt x="3623734" y="846666"/>
                </a:cubicBezTo>
                <a:cubicBezTo>
                  <a:pt x="3629967" y="851653"/>
                  <a:pt x="3633527" y="860030"/>
                  <a:pt x="3640667" y="863600"/>
                </a:cubicBezTo>
                <a:cubicBezTo>
                  <a:pt x="3651075" y="868804"/>
                  <a:pt x="3663245" y="869244"/>
                  <a:pt x="3674534" y="872066"/>
                </a:cubicBezTo>
                <a:cubicBezTo>
                  <a:pt x="3737093" y="934629"/>
                  <a:pt x="3639939" y="842518"/>
                  <a:pt x="3716867" y="897466"/>
                </a:cubicBezTo>
                <a:cubicBezTo>
                  <a:pt x="3729858" y="906745"/>
                  <a:pt x="3739445" y="920044"/>
                  <a:pt x="3750734" y="931333"/>
                </a:cubicBezTo>
                <a:cubicBezTo>
                  <a:pt x="3757929" y="938528"/>
                  <a:pt x="3768188" y="941909"/>
                  <a:pt x="3776134" y="948266"/>
                </a:cubicBezTo>
                <a:cubicBezTo>
                  <a:pt x="3782367" y="953253"/>
                  <a:pt x="3786681" y="960410"/>
                  <a:pt x="3793067" y="965200"/>
                </a:cubicBezTo>
                <a:cubicBezTo>
                  <a:pt x="3812755" y="979966"/>
                  <a:pt x="3851473" y="1006152"/>
                  <a:pt x="3877734" y="1016000"/>
                </a:cubicBezTo>
                <a:cubicBezTo>
                  <a:pt x="3888629" y="1020086"/>
                  <a:pt x="3900311" y="1021644"/>
                  <a:pt x="3911600" y="1024466"/>
                </a:cubicBezTo>
                <a:cubicBezTo>
                  <a:pt x="3984394" y="1072997"/>
                  <a:pt x="3892293" y="1014812"/>
                  <a:pt x="3962400" y="1049866"/>
                </a:cubicBezTo>
                <a:cubicBezTo>
                  <a:pt x="4020871" y="1079102"/>
                  <a:pt x="3951181" y="1057646"/>
                  <a:pt x="4021667" y="1075266"/>
                </a:cubicBezTo>
                <a:cubicBezTo>
                  <a:pt x="4027311" y="1080911"/>
                  <a:pt x="4031755" y="1088093"/>
                  <a:pt x="4038600" y="1092200"/>
                </a:cubicBezTo>
                <a:cubicBezTo>
                  <a:pt x="4048080" y="1097888"/>
                  <a:pt x="4090493" y="1106921"/>
                  <a:pt x="4097867" y="1109133"/>
                </a:cubicBezTo>
                <a:cubicBezTo>
                  <a:pt x="4097902" y="1109143"/>
                  <a:pt x="4161350" y="1130294"/>
                  <a:pt x="4174067" y="1134533"/>
                </a:cubicBezTo>
                <a:cubicBezTo>
                  <a:pt x="4186041" y="1138524"/>
                  <a:pt x="4196215" y="1146779"/>
                  <a:pt x="4207934" y="1151466"/>
                </a:cubicBezTo>
                <a:cubicBezTo>
                  <a:pt x="4224507" y="1158095"/>
                  <a:pt x="4243882" y="1158499"/>
                  <a:pt x="4258734" y="1168400"/>
                </a:cubicBezTo>
                <a:lnTo>
                  <a:pt x="4334934" y="1219200"/>
                </a:lnTo>
                <a:cubicBezTo>
                  <a:pt x="4342360" y="1224151"/>
                  <a:pt x="4351867" y="1224844"/>
                  <a:pt x="4360334" y="1227666"/>
                </a:cubicBezTo>
                <a:cubicBezTo>
                  <a:pt x="4398323" y="1265657"/>
                  <a:pt x="4353208" y="1225589"/>
                  <a:pt x="4402667" y="1253066"/>
                </a:cubicBezTo>
                <a:cubicBezTo>
                  <a:pt x="4420457" y="1262949"/>
                  <a:pt x="4453467" y="1286933"/>
                  <a:pt x="4453467" y="1286933"/>
                </a:cubicBezTo>
                <a:cubicBezTo>
                  <a:pt x="4456289" y="1295400"/>
                  <a:pt x="4456359" y="1305364"/>
                  <a:pt x="4461934" y="1312333"/>
                </a:cubicBezTo>
                <a:cubicBezTo>
                  <a:pt x="4468291" y="1320279"/>
                  <a:pt x="4479388" y="1322909"/>
                  <a:pt x="4487334" y="1329266"/>
                </a:cubicBezTo>
                <a:cubicBezTo>
                  <a:pt x="4547655" y="1377523"/>
                  <a:pt x="4451489" y="1311015"/>
                  <a:pt x="4529667" y="1363133"/>
                </a:cubicBezTo>
                <a:cubicBezTo>
                  <a:pt x="4540501" y="1379384"/>
                  <a:pt x="4562869" y="1416534"/>
                  <a:pt x="4580467" y="1422400"/>
                </a:cubicBezTo>
                <a:lnTo>
                  <a:pt x="4605867" y="1430866"/>
                </a:lnTo>
                <a:cubicBezTo>
                  <a:pt x="4614334" y="1436511"/>
                  <a:pt x="4624072" y="1440605"/>
                  <a:pt x="4631267" y="1447800"/>
                </a:cubicBezTo>
                <a:cubicBezTo>
                  <a:pt x="4651392" y="1467925"/>
                  <a:pt x="4656751" y="1498851"/>
                  <a:pt x="4665134" y="1524000"/>
                </a:cubicBezTo>
                <a:lnTo>
                  <a:pt x="4673600" y="1549400"/>
                </a:lnTo>
                <a:lnTo>
                  <a:pt x="4682067" y="1574800"/>
                </a:lnTo>
                <a:lnTo>
                  <a:pt x="4690534" y="1600200"/>
                </a:lnTo>
                <a:cubicBezTo>
                  <a:pt x="4687712" y="1634067"/>
                  <a:pt x="4688732" y="1668476"/>
                  <a:pt x="4682067" y="1701800"/>
                </a:cubicBezTo>
                <a:cubicBezTo>
                  <a:pt x="4680071" y="1711778"/>
                  <a:pt x="4671835" y="1719542"/>
                  <a:pt x="4665134" y="1727200"/>
                </a:cubicBezTo>
                <a:cubicBezTo>
                  <a:pt x="4619198" y="1779698"/>
                  <a:pt x="4639463" y="1763563"/>
                  <a:pt x="4588934" y="1778000"/>
                </a:cubicBezTo>
                <a:cubicBezTo>
                  <a:pt x="4580353" y="1780452"/>
                  <a:pt x="4572337" y="1784999"/>
                  <a:pt x="4563534" y="1786466"/>
                </a:cubicBezTo>
                <a:cubicBezTo>
                  <a:pt x="4430394" y="1808656"/>
                  <a:pt x="4536403" y="1783089"/>
                  <a:pt x="4445000" y="1803400"/>
                </a:cubicBezTo>
                <a:cubicBezTo>
                  <a:pt x="4433641" y="1805924"/>
                  <a:pt x="4422279" y="1808522"/>
                  <a:pt x="4411134" y="1811866"/>
                </a:cubicBezTo>
                <a:cubicBezTo>
                  <a:pt x="4394037" y="1816995"/>
                  <a:pt x="4360334" y="1828800"/>
                  <a:pt x="4360334" y="1828800"/>
                </a:cubicBezTo>
                <a:cubicBezTo>
                  <a:pt x="4354689" y="1834444"/>
                  <a:pt x="4348387" y="1839500"/>
                  <a:pt x="4343400" y="1845733"/>
                </a:cubicBezTo>
                <a:cubicBezTo>
                  <a:pt x="4337043" y="1853679"/>
                  <a:pt x="4334413" y="1864776"/>
                  <a:pt x="4326467" y="1871133"/>
                </a:cubicBezTo>
                <a:cubicBezTo>
                  <a:pt x="4319498" y="1876708"/>
                  <a:pt x="4309534" y="1876778"/>
                  <a:pt x="4301067" y="1879600"/>
                </a:cubicBezTo>
                <a:cubicBezTo>
                  <a:pt x="4294181" y="1900257"/>
                  <a:pt x="4292079" y="1913988"/>
                  <a:pt x="4275667" y="1930400"/>
                </a:cubicBezTo>
                <a:cubicBezTo>
                  <a:pt x="4268472" y="1937595"/>
                  <a:pt x="4258734" y="1941689"/>
                  <a:pt x="4250267" y="1947333"/>
                </a:cubicBezTo>
                <a:cubicBezTo>
                  <a:pt x="4164665" y="2075735"/>
                  <a:pt x="4257321" y="1943947"/>
                  <a:pt x="4191000" y="2023533"/>
                </a:cubicBezTo>
                <a:cubicBezTo>
                  <a:pt x="4155723" y="2065866"/>
                  <a:pt x="4195234" y="2034822"/>
                  <a:pt x="4148667" y="2065866"/>
                </a:cubicBezTo>
                <a:cubicBezTo>
                  <a:pt x="4128516" y="2126320"/>
                  <a:pt x="4141635" y="2101815"/>
                  <a:pt x="4114800" y="2142066"/>
                </a:cubicBezTo>
                <a:lnTo>
                  <a:pt x="4097867" y="2192866"/>
                </a:lnTo>
                <a:cubicBezTo>
                  <a:pt x="4088898" y="2219774"/>
                  <a:pt x="4094627" y="2249656"/>
                  <a:pt x="4089400" y="2277533"/>
                </a:cubicBezTo>
                <a:cubicBezTo>
                  <a:pt x="4086111" y="2295077"/>
                  <a:pt x="4078111" y="2311400"/>
                  <a:pt x="4072467" y="2328333"/>
                </a:cubicBezTo>
                <a:cubicBezTo>
                  <a:pt x="4065020" y="2350673"/>
                  <a:pt x="4051814" y="2354149"/>
                  <a:pt x="4038600" y="2370666"/>
                </a:cubicBezTo>
                <a:cubicBezTo>
                  <a:pt x="4032243" y="2378612"/>
                  <a:pt x="4028024" y="2388120"/>
                  <a:pt x="4021667" y="2396066"/>
                </a:cubicBezTo>
                <a:cubicBezTo>
                  <a:pt x="4000704" y="2422271"/>
                  <a:pt x="4007341" y="2405927"/>
                  <a:pt x="3979334" y="2429933"/>
                </a:cubicBezTo>
                <a:cubicBezTo>
                  <a:pt x="3967212" y="2440323"/>
                  <a:pt x="3956756" y="2452511"/>
                  <a:pt x="3945467" y="2463800"/>
                </a:cubicBezTo>
                <a:cubicBezTo>
                  <a:pt x="3935291" y="2473976"/>
                  <a:pt x="3917182" y="2469144"/>
                  <a:pt x="3903134" y="2472266"/>
                </a:cubicBezTo>
                <a:cubicBezTo>
                  <a:pt x="3891775" y="2474790"/>
                  <a:pt x="3880456" y="2477536"/>
                  <a:pt x="3869267" y="2480733"/>
                </a:cubicBezTo>
                <a:cubicBezTo>
                  <a:pt x="3860686" y="2483185"/>
                  <a:pt x="3852791" y="2489110"/>
                  <a:pt x="3843867" y="2489200"/>
                </a:cubicBezTo>
                <a:lnTo>
                  <a:pt x="2184400" y="2497666"/>
                </a:lnTo>
                <a:cubicBezTo>
                  <a:pt x="2170289" y="2500488"/>
                  <a:pt x="2155950" y="2502347"/>
                  <a:pt x="2142067" y="2506133"/>
                </a:cubicBezTo>
                <a:cubicBezTo>
                  <a:pt x="2124847" y="2510829"/>
                  <a:pt x="2108978" y="2520852"/>
                  <a:pt x="2091267" y="2523066"/>
                </a:cubicBezTo>
                <a:lnTo>
                  <a:pt x="2023534" y="2531533"/>
                </a:lnTo>
                <a:cubicBezTo>
                  <a:pt x="1739034" y="2626370"/>
                  <a:pt x="1410422" y="2617855"/>
                  <a:pt x="1126067" y="2523066"/>
                </a:cubicBezTo>
                <a:cubicBezTo>
                  <a:pt x="1117600" y="2514599"/>
                  <a:pt x="1109865" y="2505331"/>
                  <a:pt x="1100667" y="2497666"/>
                </a:cubicBezTo>
                <a:cubicBezTo>
                  <a:pt x="1092850" y="2491152"/>
                  <a:pt x="1082796" y="2487578"/>
                  <a:pt x="1075267" y="2480733"/>
                </a:cubicBezTo>
                <a:cubicBezTo>
                  <a:pt x="1051641" y="2459255"/>
                  <a:pt x="1030112" y="2435578"/>
                  <a:pt x="1007534" y="2413000"/>
                </a:cubicBezTo>
                <a:lnTo>
                  <a:pt x="965200" y="2370666"/>
                </a:lnTo>
                <a:cubicBezTo>
                  <a:pt x="958005" y="2363471"/>
                  <a:pt x="955462" y="2352461"/>
                  <a:pt x="948267" y="2345266"/>
                </a:cubicBezTo>
                <a:cubicBezTo>
                  <a:pt x="941072" y="2338071"/>
                  <a:pt x="930684" y="2334847"/>
                  <a:pt x="922867" y="2328333"/>
                </a:cubicBezTo>
                <a:cubicBezTo>
                  <a:pt x="913669" y="2320668"/>
                  <a:pt x="906918" y="2310284"/>
                  <a:pt x="897467" y="2302933"/>
                </a:cubicBezTo>
                <a:cubicBezTo>
                  <a:pt x="881403" y="2290438"/>
                  <a:pt x="861058" y="2283457"/>
                  <a:pt x="846667" y="2269066"/>
                </a:cubicBezTo>
                <a:cubicBezTo>
                  <a:pt x="794790" y="2217189"/>
                  <a:pt x="851291" y="2271820"/>
                  <a:pt x="778934" y="2209800"/>
                </a:cubicBezTo>
                <a:cubicBezTo>
                  <a:pt x="772873" y="2204605"/>
                  <a:pt x="768132" y="2197976"/>
                  <a:pt x="762000" y="2192866"/>
                </a:cubicBezTo>
                <a:cubicBezTo>
                  <a:pt x="751160" y="2183832"/>
                  <a:pt x="738112" y="2177444"/>
                  <a:pt x="728134" y="2167466"/>
                </a:cubicBezTo>
                <a:cubicBezTo>
                  <a:pt x="718156" y="2157488"/>
                  <a:pt x="711768" y="2144440"/>
                  <a:pt x="702734" y="2133600"/>
                </a:cubicBezTo>
                <a:cubicBezTo>
                  <a:pt x="687652" y="2115502"/>
                  <a:pt x="680909" y="2113405"/>
                  <a:pt x="660400" y="2099733"/>
                </a:cubicBezTo>
                <a:cubicBezTo>
                  <a:pt x="657578" y="2091266"/>
                  <a:pt x="657121" y="2081595"/>
                  <a:pt x="651934" y="2074333"/>
                </a:cubicBezTo>
                <a:cubicBezTo>
                  <a:pt x="642655" y="2061342"/>
                  <a:pt x="629356" y="2051755"/>
                  <a:pt x="618067" y="2040466"/>
                </a:cubicBezTo>
                <a:cubicBezTo>
                  <a:pt x="609600" y="2031999"/>
                  <a:pt x="599309" y="2025029"/>
                  <a:pt x="592667" y="2015066"/>
                </a:cubicBezTo>
                <a:cubicBezTo>
                  <a:pt x="580092" y="1996204"/>
                  <a:pt x="576037" y="1986522"/>
                  <a:pt x="558800" y="1972733"/>
                </a:cubicBezTo>
                <a:cubicBezTo>
                  <a:pt x="550854" y="1966376"/>
                  <a:pt x="541346" y="1962157"/>
                  <a:pt x="533400" y="1955800"/>
                </a:cubicBezTo>
                <a:cubicBezTo>
                  <a:pt x="473079" y="1907543"/>
                  <a:pt x="569245" y="1974051"/>
                  <a:pt x="491067" y="1921933"/>
                </a:cubicBezTo>
                <a:cubicBezTo>
                  <a:pt x="485423" y="1913466"/>
                  <a:pt x="480491" y="1904479"/>
                  <a:pt x="474134" y="1896533"/>
                </a:cubicBezTo>
                <a:cubicBezTo>
                  <a:pt x="460348" y="1879301"/>
                  <a:pt x="450656" y="1875237"/>
                  <a:pt x="431800" y="1862666"/>
                </a:cubicBezTo>
                <a:cubicBezTo>
                  <a:pt x="393506" y="1805224"/>
                  <a:pt x="412325" y="1826256"/>
                  <a:pt x="381000" y="1794933"/>
                </a:cubicBezTo>
                <a:lnTo>
                  <a:pt x="347134" y="1693333"/>
                </a:lnTo>
                <a:cubicBezTo>
                  <a:pt x="341268" y="1675735"/>
                  <a:pt x="304118" y="1653367"/>
                  <a:pt x="287867" y="1642533"/>
                </a:cubicBezTo>
                <a:cubicBezTo>
                  <a:pt x="282223" y="1634066"/>
                  <a:pt x="277556" y="1624859"/>
                  <a:pt x="270934" y="1617133"/>
                </a:cubicBezTo>
                <a:cubicBezTo>
                  <a:pt x="260544" y="1605011"/>
                  <a:pt x="248356" y="1594555"/>
                  <a:pt x="237067" y="1583266"/>
                </a:cubicBezTo>
                <a:lnTo>
                  <a:pt x="211667" y="1557866"/>
                </a:lnTo>
                <a:cubicBezTo>
                  <a:pt x="197277" y="1543476"/>
                  <a:pt x="177800" y="1535289"/>
                  <a:pt x="160867" y="1524000"/>
                </a:cubicBezTo>
                <a:lnTo>
                  <a:pt x="135467" y="1507066"/>
                </a:lnTo>
                <a:cubicBezTo>
                  <a:pt x="127774" y="1495527"/>
                  <a:pt x="115007" y="1472777"/>
                  <a:pt x="101600" y="1464733"/>
                </a:cubicBezTo>
                <a:cubicBezTo>
                  <a:pt x="93947" y="1460141"/>
                  <a:pt x="80792" y="1463919"/>
                  <a:pt x="76200" y="1456266"/>
                </a:cubicBezTo>
                <a:cubicBezTo>
                  <a:pt x="70392" y="1446586"/>
                  <a:pt x="76200" y="1433689"/>
                  <a:pt x="76200" y="1422400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圆角矩形标注 23"/>
          <p:cNvSpPr/>
          <p:nvPr/>
        </p:nvSpPr>
        <p:spPr>
          <a:xfrm>
            <a:off x="3000240" y="2357280"/>
            <a:ext cx="1714680" cy="428760"/>
          </a:xfrm>
          <a:prstGeom prst="wedgeRoundRectCallout">
            <a:avLst>
              <a:gd name="adj1" fmla="val -49319"/>
              <a:gd name="adj2" fmla="val 227050"/>
              <a:gd name="adj3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Text Box 6"/>
          <p:cNvSpPr/>
          <p:nvPr/>
        </p:nvSpPr>
        <p:spPr>
          <a:xfrm>
            <a:off x="3325680" y="24084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f6228"/>
                </a:solidFill>
                <a:latin typeface="微软雅黑"/>
                <a:ea typeface="微软雅黑"/>
              </a:rPr>
              <a:t>华强社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5" name="TextBox 7" descr=""/>
          <p:cNvPicPr/>
          <p:nvPr/>
        </p:nvPicPr>
        <p:blipFill>
          <a:blip r:embed="rId2"/>
          <a:stretch/>
        </p:blipFill>
        <p:spPr>
          <a:xfrm>
            <a:off x="2554200" y="1920960"/>
            <a:ext cx="47116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8:16:02Z</dcterms:created>
  <dc:creator>SUSAN</dc:creator>
  <dc:description/>
  <cp:keywords/>
  <dc:language>en-US</dc:language>
  <cp:lastModifiedBy>微软用户</cp:lastModifiedBy>
  <dcterms:modified xsi:type="dcterms:W3CDTF">2013-02-17T06:24:27Z</dcterms:modified>
  <cp:revision>23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