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5DAC-E7EC-4E62-9890-A9AB7DBD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F624-BF57-4D02-8FEE-505F5B87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1D930-4FBF-4E22-A050-A747EA80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57D14-7FB6-47EB-B5BC-BFDBD82B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E46EE-BC9F-4F5E-8755-A607CC53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68EB5-BA99-416C-AAAF-87A47991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42C41-8218-4F76-888D-5BF52665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31CC3-EF08-4273-9039-80662C69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DF631-A01A-4E55-BAC2-4AA512E2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27990-3AAB-4A1E-82BA-419DE10B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C5532-D4D4-4B0A-9B3B-E46DB534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ACC2E-01A6-4538-B75B-2341F105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EE72-EB18-48D8-B6D3-54E68B34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C6056-2A3D-4603-9CA9-502D9716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3C304-E9A2-4BF9-AF0C-164B5C5C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6CC31-140A-4AD4-9314-A69E823C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5217E-9B1B-4280-8E17-AABA25C9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91F9F-3DA7-4316-992D-7E920578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7460C-205D-44B8-897E-2D2A0474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30400-6701-4519-9C48-D30C07D7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C153B-39A6-4F5C-883F-9911EAC3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07446-E82D-4D34-98BA-61953AC1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21BDB-CCA7-4891-AC0F-B78ACDC2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AEFA-CBEC-42A8-830F-146CF6B9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A877F-7253-4ADA-A50C-A388D274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D3CEF-0B02-4985-BA24-7803EF73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F44EE-FA13-4483-9B93-E5B72CF9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0D9D8-18F5-4E08-9F06-D7FDABBE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12766-B59B-4C1F-9156-4C2EE8A5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1D891-DCBD-4A38-A3A7-8250C520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44846-1A3A-42B7-8310-97843390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BE219-F581-4E0A-BD64-F40CB9B1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5EB8A-B32C-4D32-BC94-19488EE8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5A2EE-918C-40B3-86F2-C8D4765C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1451-2744-4C80-928A-C0C1AA09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2CB3F-129D-4D22-BA92-318C5646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36C7F-7A59-412D-98BF-83FFB53D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A05B8-D252-43E0-996F-F96A128D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BD60-4BA1-4F54-A27B-209BCD4F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8734-A6B5-41F6-B057-839AF1E2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D352-7D0B-4748-8453-30B44F01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D750-EEEE-4990-BDE0-17BDCB85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BA81-F41F-4E6E-ACE8-96B54AEA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C4D0-AA5B-472D-8EC7-1D88E363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42F-3CAA-4FDE-9175-6B39DF7E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85EE-D21F-4EF4-ADAD-E0FDACB7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D99B-1ADA-488D-85A3-BA27E4DA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227F-77DD-4925-A3B3-41F8EDAC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1022-684A-49A9-A8EF-FA6CD4F4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0B70-C69B-4677-B49C-B43C4200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01B4A-BA38-4E78-AA15-45022515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96FAB-0F20-4670-ADA0-98167EBB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3054-E01F-4160-8786-7E778594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D9ADD-33CB-44BB-B100-F6672C4C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D11F7-D332-4446-A380-69DF7C42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9F1-9267-4249-90C7-6AD308B3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429A2-3731-4F5D-85E0-E2A9852F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FC96C-BE3C-45FC-B093-3B7CD2D8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FA5B7-DD1E-41BB-89D7-FB9E9EF1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098EB-99C0-4241-89E1-453F5244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24566-626A-407A-99F5-67721B21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DB0EC-2F01-42F1-841B-B694E2FC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F96ED-9710-433F-87CE-FB9A24BF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03F79-80C0-41A9-A972-95A4BDB1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E0262-5F99-4178-9C73-1A8D83BB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5F6C4-63AF-4C72-8EAD-DCF24142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CF0-4C3A-4EB4-A6D6-636487E4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21495-FF96-4A7E-9AE2-2AC798E1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CAC1F-5567-4CFF-951A-EC6B8CEA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CD10D-A31F-44BF-A7C8-774DD9FB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6C759-9A99-4933-8C2A-FFE80916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9B043-7AEF-425B-B17E-B47745D0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51067-6927-417A-951D-8D344A0F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08377-ABEF-49C5-A8C3-D0D70644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A3A8C-439D-41ED-A19D-8C777E0B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C7D2B-AE82-45D0-BE0A-845C16CA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AA60D-08F0-48DF-9AAB-560EB70E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90B-B3D1-48DA-AEFD-8E7E2494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5F208-3562-4CC5-8C2E-078E7B53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1F7B8-C58B-4E4D-92E2-D5C9EA76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30B6C-551F-4B04-ADAC-FF0932F6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3BCF3-61FA-48E3-ABCE-9AB3F6C8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21A97-70FD-4EE6-A6A1-72C34F0C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89A0A-A4DD-45C1-B0BE-0708C304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0B240-F8BE-46C7-979F-F65914B1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C4534-CD21-4BED-A35C-01359681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A4C91-ADCE-45EC-BD63-378E4B7D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ABBA2-50AE-4C6A-B846-814C7500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1068-3FA1-4E9B-924E-3C3BA07B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4A379-E97C-46F1-91EA-DA1A7888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F1AA5-48DF-4320-AFA9-6D1440BE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C49DA-6032-4737-98FB-D604A76A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9D4B4-F89A-40B1-84FF-3943B12A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E07C3-836E-4451-A3D5-CEFA407F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27190-6AE5-4148-AD6B-F3C79EE0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E14A8-942A-4CA4-9622-8844B924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0B5DF-359C-4354-BFA3-598251DD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9F857-8144-44E0-83AA-86845FB3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4BF52-DEFE-434F-BB0C-ADDE196E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C8A9-90BE-48E1-9EEC-61BF1745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C4E03-AC3F-4D9C-8371-4A07DCAA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43A09-B29E-4BEF-9A37-EA7ECD75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1CECD-A758-4F17-8124-81F01A66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B2025-B2FB-4C12-B9C1-FC1709CA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F6C78-EAFD-4D6D-A69F-B8B656CD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A4D39-C6F6-4FAF-B648-43952F54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B1196-2349-428E-A9F6-16B86333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BAB98-DE90-4662-98F1-61B92D97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0617F-55E2-4120-87E8-0B04B9F7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3FEAF-413F-4368-A386-EE6ACFD9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6988-E271-4494-9F94-3382C202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F51CB-D1A3-4F36-9053-07FA52DE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5F39A-707C-499A-B7AC-EA437B4C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FB091-A496-4CDB-93E2-CFDFEBE0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1C46A-F7B0-400A-BC90-221CC31E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C0736-6727-44A9-885F-13A12CC4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B46FE-03F7-4DF4-9E8C-229C6F72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68BFC-70A9-42C5-9EE1-87AB764E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71F13-19C1-4FE7-B205-1503C224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67521-DAF7-4BCE-87B2-FF3F11E1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191A6-2704-41FE-94B3-79F3881A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2D75-450C-456C-BB14-D0C9EB02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14015-D39C-4CE9-AAD7-54C56884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41F08-9071-477E-9B9E-9EBC09C5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2CB5D-1107-48C3-8645-72007AE8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3F9D0-091F-4F2F-B9E5-3DC06E0B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68111-3C27-4FF4-9D53-32727A9A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3194C-2E8E-4850-BAB7-47769277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E0F07-26DD-40F4-93D2-D8FCD02A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8B13B-55C5-4011-9DE4-D8CD1D3A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35381-44F2-4A97-9B82-FC5F8D06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83642-5036-49F5-8F1D-D8E0A662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7332-923E-4B94-BD43-A46E87A67CD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5BF9-2751-4E95-B451-AB0B3CCD20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2898-B911-4D68-AE62-6096D7CA23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68AE-50E8-402E-9D17-D50DD80F57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4B1C-8EA1-410E-BEDD-59855C3591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BEE4-6A3B-43FF-8489-6C0AB90651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BFFF-A730-4CDE-A012-24C12E5050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60E9-C362-4732-82B6-69CF9F543D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5D61-9D3C-420A-B138-7726006857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AA29-B524-408E-AC0C-C2D7ACCCB9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595D-F0D6-4F60-B3EE-ED999ECDA2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30B1-AF8D-4AD7-86D1-AA4EFB677B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828440" y="4266720"/>
            <a:ext cx="6095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教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304560" y="54100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  <a:ea typeface="隶书"/>
              </a:rPr>
              <a:t>2016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学习教育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体学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党章党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明确基本标准、树立行为规范，逐条逐句通读党章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认真学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准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党内法规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党的历史、革命先辈和先进典型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从周永康、薄熙来、徐才厚、郭伯雄、令计划等违纪违法案件中汲取教训，守住为人、做事的基准和底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图片 740355" descr="EDZ(NR)%K}BBK6_G5]W{WOT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系列讲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习近平总书记关于改革发展稳定、内政外交国防、治党治国治军的重要思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以习近平同志为总书记的党中央治国理政新理念新思想新战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方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指出，学习习近平总书记系列重要讲话要同学习马克思列宁主义、毛泽东思想、邓小平理论、“三个代表”重要思想、科学发展观结合起来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区别普通党员和党员领导干部，确定学习的重点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图片 741379" descr="$EXGR{$S5~8PP%AG9HE4~15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做合格党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做到“四讲四有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讲政治、有信念，讲规矩、有纪律，讲道德、有品行，讲奉献、有作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做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方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引导党员强化政治意识，保持政治本色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向党中央看齐，向党的理论和路线方针政策看齐，做政治上的明白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密切联系群众，全心全意为人民服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强党性锻炼和道德修养，心存敬畏、手握戒尺，廉洁从政、从严治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保持干事创业、开拓进取的精气神，平常时候看得出来，关键时刻冲得上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742403" descr="(7L7IWA$U}8_XACY`}A[$R3"/>
          <p:cNvPicPr/>
          <p:nvPr/>
        </p:nvPicPr>
        <p:blipFill>
          <a:blip r:embed="rId1"/>
          <a:stretch/>
        </p:blipFill>
        <p:spPr>
          <a:xfrm>
            <a:off x="609480" y="1981080"/>
            <a:ext cx="76964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图片 743427" descr="ZQAJN)(R_)CR`WY}VZ4_8R6"/>
          <p:cNvPicPr/>
          <p:nvPr/>
        </p:nvPicPr>
        <p:blipFill>
          <a:blip r:embed="rId1"/>
          <a:stretch/>
        </p:blipFill>
        <p:spPr>
          <a:xfrm>
            <a:off x="228600" y="685800"/>
            <a:ext cx="86868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主要措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围绕专题学习讨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个人自学与集中学习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照“三会一课”制度，党小组要定期组织党员集中学习；不设党小组的，以党支部为单位集中学习。党支部每季度召开一次全体党员会议，每次围绕一个专题组织讨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学习讨论要做到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能否”，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坚守共产党人信仰信念宗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正确处理公与私、义与利、个人与组织、个人与群众的关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努力追求高尚道德、带头践行社会主义核心价值观、保持积极健康生活方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自觉做到党规党纪面前知敬畏守规矩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保持良好精神状态、积极为党的事业担当作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744451" descr="OC6W{SSNOBM)CCW4@27MEYJ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2487600"/>
          </a:xfrm>
          <a:prstGeom prst="rect">
            <a:avLst/>
          </a:prstGeom>
          <a:ln w="0">
            <a:noFill/>
          </a:ln>
        </p:spPr>
      </p:pic>
      <p:pic>
        <p:nvPicPr>
          <p:cNvPr id="481" name="图片 744452" descr="$REX]PRWTI`L8VZ_(Z]][SY"/>
          <p:cNvPicPr/>
          <p:nvPr/>
        </p:nvPicPr>
        <p:blipFill>
          <a:blip r:embed="rId2"/>
          <a:stretch/>
        </p:blipFill>
        <p:spPr>
          <a:xfrm>
            <a:off x="4267080" y="2514600"/>
            <a:ext cx="4876920" cy="4343400"/>
          </a:xfrm>
          <a:prstGeom prst="rect">
            <a:avLst/>
          </a:prstGeom>
          <a:ln w="0">
            <a:noFill/>
          </a:ln>
        </p:spPr>
      </p:pic>
      <p:pic>
        <p:nvPicPr>
          <p:cNvPr id="482" name="图片 744453" descr="8{@}NJ`OERKSM~JKE17W8FM"/>
          <p:cNvPicPr/>
          <p:nvPr/>
        </p:nvPicPr>
        <p:blipFill>
          <a:blip r:embed="rId3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创新方式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何创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党员领导干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在所在党支部讲党课，到农村、社区、企业、学校等基层单位党支部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党校教师、讲师团成员、先进模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基层一线党支部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鼓励和指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层党组织书记、普通党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联系实际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重运用身边事例、现身说法，强化互动交流、答疑释惑，增强党课的吸引力和感染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方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出，“七一”前后，党支部要结合开展纪念建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周年活动，集中安排一次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开展背景及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召开党支部专题组织生活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底前，党支部召开专题组织生活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支部班子及其成员对照职能职责，进行党性分析，查摆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面向党员和群众征求意见，开展批评和自我批评，针对突出问题和薄弱环节提出整改措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织全体党员对支部班子的工作、作风等进行评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图片 745475" descr="[OU8P35CW7HZ{OV%MA$KCFV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开展民主评议党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党支部为单位召开全体党员会议，组织党员开展民主评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照党员标准，按照个人自评、党员互评、民主测评、组织评定的程序进行评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合民主评议，支部班子成员要与每名党员谈心谈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党支部综合民主评议情况和党员日常表现确定评议等次，对优秀党员予以表扬，对有不合格表现的党员，区别情况给予组织处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备注：党员人数较多的党支部，个人自评和党员互评可分党小组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图片 746499" descr="J0M_LVA@XZP{}(}PKDW}W}Q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立足岗位作贡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针对不同群体党员实际情况，提出党员发挥作用的具体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农村、社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设岗定责和承诺践诺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国有企业和非公有制企业、社会组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示范岗和党员责任区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窗口单位和服务行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挂牌上岗、亮明身份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机关事业单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促进党员模范履行岗位职责，落实党员到社区报到、直接联系服务群众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学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要求党员增强党的意识，自觉爱党护党为党，敬业修德，奉献社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矩形 7475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图片 747524" descr="T58JP2)SIRYBB26W{EB(JWA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747525" descr="VUOOPZ8NFH]{RBZV}7L]R{0"/>
          <p:cNvPicPr/>
          <p:nvPr/>
        </p:nvPicPr>
        <p:blipFill>
          <a:blip r:embed="rId2"/>
          <a:stretch/>
        </p:blipFill>
        <p:spPr>
          <a:xfrm>
            <a:off x="4495680" y="228600"/>
            <a:ext cx="4648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领导机关领导干部作表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党员领导干部要走在前面、深学一层，严格执行双重组织生活制度，以普通党员身份参加所在支部的组织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召开党委（党组）会，专题学习党章党规和习近平总书记系列重要讲话；要以党委（党组）中心组等形式组织集中研讨，深化学习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度民主生活会要以“两学一做”为主题，领导班子和领导干部把自己摆进去，查找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图片 748547" descr="TH215NQX8}51(}{ZTOJJA(U"/>
          <p:cNvPicPr/>
          <p:nvPr/>
        </p:nvPicPr>
        <p:blipFill>
          <a:blip r:embed="rId1"/>
          <a:stretch/>
        </p:blipFill>
        <p:spPr>
          <a:xfrm>
            <a:off x="228600" y="762120"/>
            <a:ext cx="876312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组织领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学一做”学习教育在中央政治局常委会领导下进行，由中央组织部牵头组织实施，中央纪委机关、中央宣传部、中央党校配合做好相关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层层落实责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各级党委（党组）要把开展“两学一做”学习教育作为一项重大政治任务，尽好责、抓到位、见实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省（自治区、直辖市）和部门（系统）党委（党组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结合实际作出部署安排，加强具体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县级党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制定具体实施方案，保障工作力量，加强督促指导把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层党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进行全覆盖、全过程现场指导，帮助党支部制定学习教育计划，派员参加党支部各项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各级党组织书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承担起主体责任，要管好干部、带好班子，管好党员、带好队伍，从严从实抓好学习教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强化组织保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大整顿软弱涣散基层党组织工作力度，配齐配强班子特别是带头人，健全工作制度，确保有人抓、有人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展党员组织关系集中排查，摸清“口袋”党员、长期与党组织失去联系党员情况，理顺党员组织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对基层党组织书记、组织委员、组织员等党务骨干普遍进行培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注重分类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层党委要根据不同特点，对学习教育内容安排等提出具体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公有制企业和社会组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可因企、因岗制宜，灵活安排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党员人数少、党员流动性强的党组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利用开放式组织生活等方式组织党员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流动党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按照流入地为主的原则，把流动党员编入一个支部，就近就便参加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离退休干部职工党员及年老体弱党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既体现从严要求又考虑实际，以适当方式组织他们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图片 749571" descr="2Z]N`2_9(3$4F`QI@61RV2I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发挥媒体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利用共产党员网、手机报、电视栏目、微信易信和远程教育平台等，开发制作学习资源，推送学习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引导党员利用网络自主学习、互动交流，扩大学习教育覆盖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运用各类媒体，宣传做法和成效，加强舆论引导，营造良好氛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905120" y="2590560"/>
            <a:ext cx="5943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99"/>
                </a:solidFill>
                <a:latin typeface="Arial"/>
                <a:ea typeface="华文琥珀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总体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图片 737283" descr="QP9EM[J]~5)GAQKU]1S~[J4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●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学一做”针对的现实问题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，着力解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问题：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理想信念模糊动摇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党的意识淡化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宗旨观念淡薄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精神不振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道德行为不端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矩形 73933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图片 739332" descr="_Q`7)0AUJ}150@O9}P8Z0QL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矩形 73830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73830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73830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7383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7383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738312"/>
          <p:cNvSpPr/>
          <p:nvPr/>
        </p:nvSpPr>
        <p:spPr>
          <a:xfrm>
            <a:off x="7680240" y="4479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7383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图片 738314" descr="UUAILH~QH02IX`)5OM73B3E"/>
          <p:cNvPicPr/>
          <p:nvPr/>
        </p:nvPicPr>
        <p:blipFill>
          <a:blip r:embed="rId1"/>
          <a:stretch/>
        </p:blipFill>
        <p:spPr>
          <a:xfrm>
            <a:off x="304920" y="1828800"/>
            <a:ext cx="88390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到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坚持”，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正面教育为主，用科学理论武装头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学用结合，知行合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问题导向，注重实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领导带头，以上率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从实际出发，分类指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0T06:39:47Z</dcterms:created>
  <dc:creator/>
  <dc:description/>
  <dc:language>en-US</dc:language>
  <cp:lastModifiedBy>admin</cp:lastModifiedBy>
  <dcterms:modified xsi:type="dcterms:W3CDTF">2017-03-20T06:41:34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60</vt:lpwstr>
  </property>
  <property fmtid="{D5CDD505-2E9C-101B-9397-08002B2CF9AE}" pid="3" name="Version">
    <vt:r8>1</vt:r8>
  </property>
</Properties>
</file>