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6A8-25C7-4992-B7F5-9A257C86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D59-35BD-4B1D-B4B5-7E308BED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57F-B6CD-4C3C-9972-56A7183E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AF0-DB23-49E2-9A64-90031B82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15D-8961-42D1-BBAB-631CFA4C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9429-97F5-4892-88DD-04CB31EB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FD13-1D0B-4517-A2C9-950CCC54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1BC1-616A-41CC-B6B9-896F1666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AEE7-457B-43A7-80DD-AC5DF9FD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F3D9-A5F6-48D9-9D85-D3214C20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BD7-87BB-4337-AE1D-8BCFE25F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D1ED-BF9E-4241-B6BC-DAC65CA9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9B6F-C183-4AE6-BFA0-CD18315F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247F-1279-4088-B950-28604211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467A-0ED5-4915-8ABB-010C4FFA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B9D5-BF61-4341-AB31-61C6C0F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806C-F861-4A01-B80D-F130AFA7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7A45-D52A-4456-8AD2-DBB258B7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31D-F601-4721-8E88-0B663F73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DA3-EE99-4B32-9603-30156DF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250-33AD-4239-9459-56D2AC0D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28B-E23B-4CB9-93E4-7490FFE9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F7D-993C-4847-A51A-74744AF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B6F-C305-4902-9981-518E1583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8680" y="0"/>
              <a:ext cx="426240" cy="8352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FA86-5ADB-4D20-8A60-4102C6A6E3C7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论文名称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AutoShape 24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AutoShape 28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AutoShape 32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AutoShape 36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3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6ca5d8"/>
                    </a:gs>
                    <a:gs pos="100000">
                      <a:srgbClr val="cbb61d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6ca5d8"/>
                  </a:gs>
                  <a:gs pos="100000">
                    <a:srgbClr val="cbb61d"/>
                  </a:gs>
                </a:gsLst>
                <a:lin ang="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3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195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内酷PPT</cp:lastModifiedBy>
  <dcterms:modified xsi:type="dcterms:W3CDTF">2011-06-10T03:30:53Z</dcterms:modified>
  <cp:revision>5</cp:revision>
  <dc:subject/>
  <dc:title>论文名称</dc:title>
</cp:coreProperties>
</file>