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2.gif" ContentType="image/gif"/>
  <Override PartName="/ppt/media/image11.png" ContentType="image/png"/>
  <Override PartName="/ppt/media/image3.gif" ContentType="image/gif"/>
  <Override PartName="/ppt/media/image12.png" ContentType="image/png"/>
  <Override PartName="/ppt/media/image4.png" ContentType="image/png"/>
  <Override PartName="/ppt/media/image7.gif" ContentType="image/gif"/>
  <Override PartName="/ppt/media/image8.png" ContentType="image/png"/>
  <Override PartName="/ppt/media/image13.png" ContentType="image/png"/>
  <Override PartName="/ppt/media/image9.png" ContentType="image/pn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1AF4-E7AA-4976-907F-557621C03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22AC-74EB-46D1-A523-E86A4F6B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0258B-7B65-4E67-BA95-E8C761F4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38214-E552-42E5-BE8A-190F3903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A88DF-B404-4A50-A49E-D57E01B5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2E19B-D946-4C21-9925-F2FE3EEA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2C0F6-03CF-48EE-A36C-2741D154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BCB72-8F3D-43BB-8484-AD54148E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FBD3C-39AB-47AE-A76A-06B46ADC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27EDB-3DAB-49F2-92E0-E3FC5A218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EDCEC-AE66-4A0B-BDE2-0B57870D8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BA8E4-C88D-4814-AE38-06FCAC181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7D64-26E2-40B0-BC94-8D5A27BF3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BB154E-AD68-4428-AACE-E6204747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50DD5-A3AE-41C6-8CCE-14E2E2ED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50601-6609-449F-96E4-F09D825E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363AE3-7DE8-478D-A1C4-07E5C6DC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0756CB-1402-47BC-9CF7-D9833671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BEF28B-7904-4EAE-99C5-6C5E8A56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1ACC37-5AA1-4BAC-A09C-0F1A45AD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21B32B-ABF1-4412-A2B5-517A90C9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A8C89D-645E-4F22-A9A7-F1FC4C83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03653-A15F-4284-85CA-6C1004682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2001-52F9-4A2C-AA3F-3C8F6F3D6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DBC957-BD4D-4FCD-8706-4E78D7BC1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6D323-B767-457E-A48B-6863FA8EF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E5F96-D636-4244-8F64-4C9B6867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AC800-DE20-4D04-A4AE-FFED36D2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D620C-2A91-4360-9BAF-3E539539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0EF6B-6E61-4455-9164-458F6BE3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5EEEC-FAC7-49E4-9F06-141C7E62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7183C-3450-4BBE-9B3C-3EFB02A9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16EFE-E9F8-4A43-BC42-11835279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63AEF-51B0-43E6-9D33-B68EFBAE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BD18-01D4-4EEF-ADCC-3B9EB0A36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7B23F-8948-4921-AD42-D57B5B6F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13B61-C8ED-446D-AD84-92F2EED4B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11D36-364D-4F5A-9EE2-945E03397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529407-CE4A-4AF6-A215-3F3918E16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74BBF-3471-4C3D-93CB-06EC46EB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0C22E9-86D7-42D9-BE12-B7916389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3D024D-EEE3-40A1-AA49-F5B45BC9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EFE8BF-F864-41A9-8EBF-A5E649D1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4CB6E-07B4-4F6F-884A-5031A160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BC586-A7BE-4B53-9102-2329B064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6B74-7A97-4E3D-9C19-E1CF7AE8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A37533-C028-4AE2-9D4E-F44D4CD0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F84031-CC89-4475-9918-701B43F5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F7C3D-76FE-4305-8E87-5FE55126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7A869A-8B58-4E14-BEC9-3E9FA01D1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024BF5-6C31-45E3-81EB-1C54FDAE4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D00B82-235F-4E49-8959-A50226298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AC2D24-7F75-4FBB-B803-897C9BE2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876AB1-F7FA-4AEB-8B5D-2BE4EC78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940E6D-3576-43EC-93FE-7CBBEE54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C4324B-234C-43FC-8AE8-26D73C2E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718A-EDDE-4A7A-A66B-2DE7EE13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8FBE4A-A8FD-4882-BD8E-B0681388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89097D-DC07-4407-835F-3137E544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5ADF7A-5AB8-4056-9853-FB128623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11EFE8-33C4-4266-874B-1AE853C8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879892-A845-4A25-AEE6-E8CFC3FE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1163FE-2AF4-43EC-83FD-2D8AF8511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127FF0-24BB-43BE-B20B-253E38711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35AF-8A5F-4A41-855E-8FBF64D2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2341-6200-4CCD-AB51-31D43092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CB53-455D-4726-B3D8-7AB73137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1056-8AD7-4F31-AFC9-43F69F38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16CB-1D49-4F3A-9E67-5B57D04E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CC21-A752-448C-A407-D3F1AB99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8172-AA9B-4BDA-9FC9-175E801D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799B-2E4E-4107-B56C-2CB95C17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95FF-0EF2-4842-B817-EF34A7FAE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88E1-FA32-4B96-815F-B34E74C3D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460B3-A94A-40FB-A478-2680561E6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A93BF-A3F5-4C53-A7C6-E3012477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FC75F-BCA1-4A80-8FF9-09A5678C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E96C5-8FC2-410A-8927-5BCF3E7D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65D22-0C1C-4D83-968E-4A2F9A65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3952-DF75-4E2C-89D9-B040257F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3AD3B-1184-480E-90BD-12EC9A11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E28DE-21AD-4C02-913E-73D6E65A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448C2-C862-436D-9DCB-44A3A5F2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B9266-1C76-4E16-90AB-47888DF3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80CFC-28E5-4C9E-9906-B659D3ED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6DAF6-F549-47FE-9826-2388841FC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6D967-CDC4-4815-B7BF-6B1291DC4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CFD82-30B8-4370-A09A-1C5BA8122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93BF3-7DB9-46E9-A075-ED4D07A3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CBBD9-B3B4-496A-A94D-1E7FC4A8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797A-BD08-42E3-B912-F442F6D2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E1735-FC70-4C36-AF41-6144E5C3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67112-FF8B-419A-8C68-377A5DA8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83F95-A9FB-4788-B363-2AB1EC6C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C8625-D6BE-46C4-B8E4-D43815B0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03060-A272-4847-BC3C-6C548AA3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0911D-8C39-4838-827E-4812C0BB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3B55E-40CC-4A19-940D-919E1DC1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13473-CF35-43F3-A30A-6D2F84F65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B0C14-91EA-4694-BD94-0C8AE24F2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CE709-1EB1-4042-80D7-2FC436EAF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5D97-2027-497C-8D36-4FDDA5AD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9565D-CA37-4D31-896F-FB288340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EE0A9-98C0-4471-9413-26D003EC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74252-9DF0-4264-AA95-24D5CBD7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7A297-E9CC-4FD9-8624-D0AECCA8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C487C-3D5D-46E5-9DC3-A1E9E26D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33B5A-7C0A-4E59-86EB-4DDA6265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BBB93-0AAA-4043-9437-370BEE85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53103-0C2C-4227-A694-404DFE3F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6CC15-CCD8-4373-91A0-FE10C2A8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A2DA0-83E3-4B0A-8B8E-1F4E04AF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EDD3-5FE1-46F6-950B-B1DEC688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9DABA-D23A-46E6-8EAD-66DA7AACC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6F781-8183-4662-9998-6F7F613EC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CA875-67F1-458C-B7F3-E801DA91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D8926-53BC-4FDA-B07A-D70537E8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BEC0B-E66B-44D6-87EC-4DCA22A5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0AF87-410D-400C-BFFA-C84A631F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C4F55-9841-43B2-84E2-B50361F8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399EE-B708-40FB-927D-DE6E5E72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1CFC0-D955-4697-8631-918748A0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0715E-E91A-4E9F-A7DF-F33906FA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A12C-95C9-4BDF-AA13-A36BAEA7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CE97F-54AD-429C-9391-9BCCD23D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8D9DD-88D4-4E86-899B-0E51017AC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AC815-A27F-45BF-B6C1-84EAB618E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634D2-3159-4D9D-9C47-7344FE9C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21320-786F-4D69-B906-2A2A3018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C7672-E401-48A2-8A13-3BD1ECC4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40A69-A979-473D-87B3-0A674D84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B0508-2121-48DC-AE14-1ED77E95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90F00-27AC-4190-8A8F-DE013843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ED651-93DD-43F3-AEFE-F2A1BBB7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0BAE-6996-4644-9989-64611F58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4D688-1274-4445-9BFD-8BE446E9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3F1D2-BA04-4CC1-9D39-6829179D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34E57-0D14-4544-A9FC-585729C4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72E12-9F29-42F2-B3D0-368683D27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ACA4B-22BA-4BF4-B086-609A1F6FA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E0FE1-1259-415E-93CE-8115616F7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15AEC-5E39-46C1-B0EE-E84DDCA7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A6A3D-C2CF-4C64-85B0-093D1D5B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DEED7-981E-4CD0-9BAF-37F915B7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F6ED5-EE23-4DE7-8407-AC321BB4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42D5-E1F3-4A66-98A0-3CE1020B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3AE92-23E2-49E0-9EA5-593BF92E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D2056-8569-49D8-876F-3CFEE9F2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01061-EAB3-47B5-99CD-0AADB303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74460-F7F2-4EFF-997D-4AB83684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685FF-1491-4708-966E-359B05ED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13B23-8B9E-4E9B-8B7B-CC9484C4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6C977-9EE3-47E5-9163-74FF81A57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B44094-56BD-4583-9EDF-F06EEAAC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55E265-E6DE-4227-AEAF-471DD63C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603CC-6B4D-4DDE-8D7C-38B1269B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2A3B-58C7-4AD4-B549-1B255F519CC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CF2D-935F-4538-8388-B80C427CE63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D666-434C-4C0D-9CDB-41915874941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2786-4019-461E-9DBB-A93D0632446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EFFC-DD06-4597-A890-FFE55D36199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0F55-62F0-4AF1-B696-A7C7D57B377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0054-125E-425E-9B8C-CF761B2169D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477C-0765-495B-AB01-93C7439530D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254C-83D1-4FE8-BDFB-70DA26DA093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954B-87A9-48AD-960E-C854CAA2E2D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DC24-02BF-4653-B14B-71EA4EF3C4B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F08A-5351-4725-90A6-084E7D7353E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9727-0607-49A2-B7EB-650608A59B9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C82B-E552-4887-A551-D650239C486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3515-90E3-4F1D-9233-F5A212A0F62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B4B8-3913-4B54-9E48-ED8B5937F42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4405-AAB7-470D-A694-D56ADA24C61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3F27-D928-4EE2-B7F0-5430A876900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067D-2980-4DDA-BDDD-F89D4FC9CED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75A3-E02C-46C3-BA39-1E1ECC35BEA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D924-361D-4F34-98D0-F496A2A7024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5C18-3A02-46E6-B956-D7D388F57D7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B96E-ACC9-4CE6-8B69-7122380A85A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8F4B-46DA-4E41-985B-B9F6F2D7824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2514-9CBA-4762-AA0A-567F333417A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AE67-AB46-43F4-BD9A-9E9B171EF5A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5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3"/>
          <p:cNvSpPr/>
          <p:nvPr/>
        </p:nvSpPr>
        <p:spPr>
          <a:xfrm>
            <a:off x="1750320" y="414324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4"/>
          <p:cNvSpPr/>
          <p:nvPr/>
        </p:nvSpPr>
        <p:spPr>
          <a:xfrm>
            <a:off x="4854600" y="3616200"/>
            <a:ext cx="4360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爱您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5"/>
          <p:cNvSpPr/>
          <p:nvPr/>
        </p:nvSpPr>
        <p:spPr>
          <a:xfrm>
            <a:off x="406800" y="260280"/>
            <a:ext cx="278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Cooper Black"/>
                <a:ea typeface="方正舒体"/>
              </a:rPr>
              <a:t>2017-5-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Box 1"/>
          <p:cNvSpPr/>
          <p:nvPr/>
        </p:nvSpPr>
        <p:spPr>
          <a:xfrm>
            <a:off x="2357280" y="1285920"/>
            <a:ext cx="650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0c0"/>
                </a:solidFill>
                <a:latin typeface="华文行楷"/>
                <a:ea typeface="华文行楷"/>
              </a:rPr>
              <a:t>五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华文行楷"/>
                <a:ea typeface="华文行楷"/>
              </a:rPr>
              <a:t>          </a:t>
            </a:r>
            <a:r>
              <a:rPr b="0" lang="zh-CN" sz="4800" spc="-1" strike="noStrike">
                <a:solidFill>
                  <a:srgbClr val="0070c0"/>
                </a:solidFill>
                <a:latin typeface="华文行楷"/>
                <a:ea typeface="华文行楷"/>
              </a:rPr>
              <a:t>春花烂漫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Box 1"/>
          <p:cNvSpPr/>
          <p:nvPr/>
        </p:nvSpPr>
        <p:spPr>
          <a:xfrm>
            <a:off x="642960" y="571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0c0"/>
                </a:solidFill>
                <a:latin typeface="华文行楷"/>
                <a:ea typeface="华文行楷"/>
              </a:rPr>
              <a:t>我采一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3"/>
          <p:cNvSpPr/>
          <p:nvPr/>
        </p:nvSpPr>
        <p:spPr>
          <a:xfrm>
            <a:off x="3949200" y="1285920"/>
            <a:ext cx="304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0c0"/>
                </a:solidFill>
                <a:latin typeface="华文行楷"/>
                <a:ea typeface="华文行楷"/>
              </a:rPr>
              <a:t> </a:t>
            </a:r>
            <a:r>
              <a:rPr b="0" lang="zh-CN" sz="4800" spc="-1" strike="noStrike">
                <a:solidFill>
                  <a:srgbClr val="0070c0"/>
                </a:solidFill>
                <a:latin typeface="华文行楷"/>
                <a:ea typeface="华文行楷"/>
              </a:rPr>
              <a:t>最芬芳的康乃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图片 8" descr=""/>
          <p:cNvPicPr/>
          <p:nvPr/>
        </p:nvPicPr>
        <p:blipFill>
          <a:blip r:embed="rId2"/>
          <a:stretch/>
        </p:blipFill>
        <p:spPr>
          <a:xfrm>
            <a:off x="7812000" y="2552760"/>
            <a:ext cx="2610000" cy="430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6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601"/>
                            </p:stCondLst>
                            <p:childTnLst>
                              <p:par>
                                <p:cTn id="4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-0.50486 0.00278 E">
                                      <p:cBhvr>
                                        <p:cTn id="44" dur="3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601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1801"/>
                            </p:stCondLst>
                            <p:childTnLst>
                              <p:par>
                                <p:cTn id="50" nodeType="after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50486 0.00278 L -1.18212 0.00278 E">
                                      <p:cBhvr>
                                        <p:cTn id="51" dur="3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图片 6" descr=""/>
          <p:cNvPicPr/>
          <p:nvPr/>
        </p:nvPicPr>
        <p:blipFill>
          <a:blip r:embed="rId2"/>
          <a:srcRect l="0" t="5747" r="0" b="0"/>
          <a:stretch/>
        </p:blipFill>
        <p:spPr>
          <a:xfrm>
            <a:off x="6364440" y="1550880"/>
            <a:ext cx="2779560" cy="5307120"/>
          </a:xfrm>
          <a:prstGeom prst="rect">
            <a:avLst/>
          </a:prstGeom>
          <a:ln w="0">
            <a:noFill/>
          </a:ln>
        </p:spPr>
      </p:pic>
      <p:sp>
        <p:nvSpPr>
          <p:cNvPr id="541" name="TextBox 1"/>
          <p:cNvSpPr/>
          <p:nvPr/>
        </p:nvSpPr>
        <p:spPr>
          <a:xfrm>
            <a:off x="785880" y="1000080"/>
            <a:ext cx="306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0c0"/>
                </a:solidFill>
                <a:latin typeface="华文行楷"/>
                <a:ea typeface="华文行楷"/>
              </a:rPr>
              <a:t>别在母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图片 4" descr=""/>
          <p:cNvPicPr/>
          <p:nvPr/>
        </p:nvPicPr>
        <p:blipFill>
          <a:blip r:embed="rId3"/>
          <a:stretch/>
        </p:blipFill>
        <p:spPr>
          <a:xfrm>
            <a:off x="4460760" y="5589720"/>
            <a:ext cx="806400" cy="1657080"/>
          </a:xfrm>
          <a:prstGeom prst="rect">
            <a:avLst/>
          </a:prstGeom>
          <a:ln w="0">
            <a:noFill/>
          </a:ln>
        </p:spPr>
      </p:pic>
      <p:sp>
        <p:nvSpPr>
          <p:cNvPr id="543" name="矩形 5"/>
          <p:cNvSpPr/>
          <p:nvPr/>
        </p:nvSpPr>
        <p:spPr>
          <a:xfrm>
            <a:off x="3090240" y="207180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那淡雅的衣襟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图片 7" descr=""/>
          <p:cNvPicPr/>
          <p:nvPr/>
        </p:nvPicPr>
        <p:blipFill>
          <a:blip r:embed="rId4"/>
          <a:stretch/>
        </p:blipFill>
        <p:spPr>
          <a:xfrm rot="21359400">
            <a:off x="9302760" y="301320"/>
            <a:ext cx="669960" cy="65232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8" descr=""/>
          <p:cNvPicPr/>
          <p:nvPr/>
        </p:nvPicPr>
        <p:blipFill>
          <a:blip r:embed="rId5"/>
          <a:stretch/>
        </p:blipFill>
        <p:spPr>
          <a:xfrm flipH="1" rot="1652400">
            <a:off x="-919080" y="2127240"/>
            <a:ext cx="1046160" cy="77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8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8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14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1401"/>
                            </p:stCondLst>
                            <p:childTnLst>
                              <p:par>
                                <p:cTn id="71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93 L 0.36181 -0.13148 E">
                                      <p:cBhvr>
                                        <p:cTn id="72" dur="3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4401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4402"/>
                            </p:stCondLst>
                            <p:childTnLst>
                              <p:par>
                                <p:cTn id="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57 4.81481E-006 C -0.0743 -0.02454 -0.12951 -0.04908 -0.17691 -0.04977 C -0.22413 -0.05047 -0.26701 -0.02755 -0.30312 -0.00463 C -0.33941 0.01828 -0.36198 0.08842 -0.39427 0.08773 C -0.42621 0.08703 -0.45416 -0.00116 -0.49496 -0.0095 C -0.53559 -0.01783 -0.58541 0.00879 -0.63906 0.03796 C -0.69288 0.06712 -0.80208 0.11481 -0.81684 0.1662 C -0.83142 0.21759 -0.79184 0.31412 -0.72795 0.34675 C -0.66406 0.37939 -0.43663 0.32939 -0.43368 0.36087 C -0.43055 0.39236 -0.66389 0.50532 -0.71007 0.53449 E">
                                      <p:cBhvr>
                                        <p:cTn id="80" dur="50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2.77778E-007 -2.59259E-006 C 0.01181 -0.02384 0.01511 -0.02013 0.03108 -0.03217 C 0.03473 -0.03495 0.03785 -0.03842 0.04132 -0.04143 C 0.04427 -0.04421 0.05174 -0.04606 0.05174 -0.04606 C 0.06042 -0.04537 0.0691 -0.0456 0.07761 -0.04375 C 0.08143 -0.04282 0.08542 -0.03449 0.08802 -0.03217 C 0.09341 -0.02731 0.10087 -0.02476 0.10695 -0.02314 C 0.11737 -0.02476 0.12796 -0.02453 0.13802 -0.02777 C 0.14462 -0.02986 0.14688 -0.05115 0.15174 -0.05532 C 0.1599 -0.0625 0.16441 -0.07037 0.17414 -0.07361 C 0.18091 -0.06898 0.1849 -0.0625 0.19132 -0.05763 C 0.19653 -0.0537 0.19896 -0.05347 0.20348 -0.04838 C 0.21216 -0.03865 0.20469 -0.04328 0.21389 -0.03912 C 0.22014 -0.03981 0.22674 -0.03888 0.23282 -0.04143 C 0.23473 -0.04236 0.23473 -0.04652 0.23629 -0.04838 C 0.2382 -0.05046 0.2408 -0.05138 0.24306 -0.05301 C 0.2441 -0.05532 0.24514 -0.05787 0.24653 -0.05995 C 0.24862 -0.06319 0.25174 -0.06551 0.25348 -0.06898 C 0.25521 -0.07245 0.25556 -0.07685 0.25695 -0.08055 C 0.26355 -0.09791 0.28438 -0.12314 0.29827 -0.1287 C 0.30868 -0.12801 0.3191 -0.12847 0.32934 -0.12662 C 0.34341 -0.1243 0.35174 -0.10648 0.36389 -0.10115 C 0.37483 -0.09027 0.37205 -0.08888 0.38629 -0.09213 C 0.39584 -0.09652 0.40434 -0.10393 0.41389 -0.1081 C 0.42084 -0.1074 0.42796 -0.10833 0.43455 -0.10578 C 0.44584 -0.10162 0.45139 -0.08379 0.46042 -0.07592 C 0.46459 -0.05393 0.45834 -0.08055 0.46893 -0.05763 C 0.47014 -0.05486 0.46841 -0.04907 0.47066 -0.04838 C 0.48195 -0.0449 0.49375 -0.04676 0.50521 -0.04606 C 0.5224 -0.02314 0.49757 0.00649 0.52587 0.01598 C 0.54323 0.03149 0.53542 0.06135 0.53802 0.08727 C 0.53924 0.09931 0.55191 0.10718 0.55695 0.11713 C 0.55643 0.12246 0.55712 0.12848 0.55521 0.13334 C 0.554 0.13681 0.55035 0.13727 0.54827 0.14005 C 0.54271 0.14723 0.54011 0.15787 0.53455 0.16551 C 0.53577 0.17477 0.53629 0.18403 0.53802 0.19306 C 0.53959 0.2007 0.54775 0.20625 0.55174 0.21135 C 0.54914 0.22524 0.54809 0.22176 0.53802 0.22524 C 0.52136 0.24005 0.54289 0.24769 0.55 0.25278 C 0.55712 0.25787 0.56355 0.26436 0.57066 0.26899 C 0.59618 0.28519 0.62257 0.29607 0.65 0.30348 C 0.66198 0.31389 0.65643 0.31065 0.66546 0.31482 C 0.66563 0.31505 0.67414 0.32732 0.67587 0.32639 C 0.67865 0.325 0.67952 0.31343 0.68108 0.31019 C 0.68299 0.30602 0.68577 0.30255 0.68802 0.29885 C 0.68855 0.29653 0.68785 0.29213 0.68959 0.2919 C 0.69827 0.29051 0.70209 0.29537 0.70521 0.30348 C 0.70608 0.30556 0.70573 0.30857 0.70695 0.31019 C 0.70782 0.31135 0.70921 0.31019 0.71042 0.31019 E">
                                      <p:cBhvr>
                                        <p:cTn id="82" dur="5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矩形 1"/>
          <p:cNvSpPr/>
          <p:nvPr/>
        </p:nvSpPr>
        <p:spPr>
          <a:xfrm rot="20763600">
            <a:off x="1054440" y="966960"/>
            <a:ext cx="4635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妈妈，我感谢您赐给了我生命，是您教会了我做人的道理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无论现在、将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永远爱您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图片 3" descr=""/>
          <p:cNvPicPr/>
          <p:nvPr/>
        </p:nvPicPr>
        <p:blipFill>
          <a:blip r:embed="rId2"/>
          <a:stretch/>
        </p:blipFill>
        <p:spPr>
          <a:xfrm>
            <a:off x="2428920" y="2617920"/>
            <a:ext cx="3054240" cy="424008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cover dir="l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图片 4" descr=""/>
          <p:cNvPicPr/>
          <p:nvPr/>
        </p:nvPicPr>
        <p:blipFill>
          <a:blip r:embed="rId2"/>
          <a:stretch/>
        </p:blipFill>
        <p:spPr>
          <a:xfrm>
            <a:off x="285840" y="303120"/>
            <a:ext cx="6500880" cy="466272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5" descr=""/>
          <p:cNvPicPr/>
          <p:nvPr/>
        </p:nvPicPr>
        <p:blipFill>
          <a:blip r:embed="rId3"/>
          <a:srcRect l="0" t="5564" r="0" b="0"/>
          <a:stretch/>
        </p:blipFill>
        <p:spPr>
          <a:xfrm>
            <a:off x="6429240" y="1530360"/>
            <a:ext cx="2714760" cy="5327640"/>
          </a:xfrm>
          <a:prstGeom prst="rect">
            <a:avLst/>
          </a:prstGeom>
          <a:ln w="0">
            <a:noFill/>
          </a:ln>
        </p:spPr>
      </p:pic>
      <p:sp>
        <p:nvSpPr>
          <p:cNvPr id="550" name="矩形 1"/>
          <p:cNvSpPr/>
          <p:nvPr/>
        </p:nvSpPr>
        <p:spPr>
          <a:xfrm>
            <a:off x="500040" y="571680"/>
            <a:ext cx="557208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妈妈，没有您就没有我，就没有我数十寒暑的快乐，也没有我春夏秋冬的欢笑，谢谢您给了我生命中美好的一切与成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亲爱的妈妈，我爱您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图片 3" descr=""/>
          <p:cNvPicPr/>
          <p:nvPr/>
        </p:nvPicPr>
        <p:blipFill>
          <a:blip r:embed="rId4"/>
          <a:stretch/>
        </p:blipFill>
        <p:spPr>
          <a:xfrm rot="19984800">
            <a:off x="7007040" y="4885920"/>
            <a:ext cx="1495080" cy="1924200"/>
          </a:xfrm>
          <a:prstGeom prst="rect">
            <a:avLst/>
          </a:prstGeom>
          <a:ln w="0">
            <a:noFill/>
          </a:ln>
        </p:spPr>
      </p:pic>
    </p:spTree>
  </p:cSld>
  <p:transition spd="med" advTm="26000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图片 3" descr=""/>
          <p:cNvPicPr/>
          <p:nvPr/>
        </p:nvPicPr>
        <p:blipFill>
          <a:blip r:embed="rId2"/>
          <a:stretch/>
        </p:blipFill>
        <p:spPr>
          <a:xfrm>
            <a:off x="2428920" y="84240"/>
            <a:ext cx="6500880" cy="4987800"/>
          </a:xfrm>
          <a:prstGeom prst="rect">
            <a:avLst/>
          </a:prstGeom>
          <a:ln w="0">
            <a:noFill/>
          </a:ln>
        </p:spPr>
      </p:pic>
      <p:sp>
        <p:nvSpPr>
          <p:cNvPr id="553" name="矩形 1"/>
          <p:cNvSpPr/>
          <p:nvPr/>
        </p:nvSpPr>
        <p:spPr>
          <a:xfrm>
            <a:off x="3143160" y="714240"/>
            <a:ext cx="5715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妈妈，您在我眼中永远是最美的，每一个微笑都让我幸福。太多的语言也无法向您表达我对您深深的爱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2"/>
          <p:cNvSpPr/>
          <p:nvPr/>
        </p:nvSpPr>
        <p:spPr>
          <a:xfrm>
            <a:off x="3143160" y="2994120"/>
            <a:ext cx="542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爱您，亲爱的妈妈！祝您母亲节快乐，永远年轻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图片 4" descr=""/>
          <p:cNvPicPr/>
          <p:nvPr/>
        </p:nvPicPr>
        <p:blipFill>
          <a:blip r:embed="rId3"/>
          <a:stretch/>
        </p:blipFill>
        <p:spPr>
          <a:xfrm>
            <a:off x="5076720" y="4214880"/>
            <a:ext cx="905040" cy="1676160"/>
          </a:xfrm>
          <a:prstGeom prst="rect">
            <a:avLst/>
          </a:prstGeom>
          <a:ln w="0">
            <a:noFill/>
          </a:ln>
        </p:spPr>
      </p:pic>
      <p:pic>
        <p:nvPicPr>
          <p:cNvPr id="556" name="图片 6" descr=""/>
          <p:cNvPicPr/>
          <p:nvPr/>
        </p:nvPicPr>
        <p:blipFill>
          <a:blip r:embed="rId4"/>
          <a:stretch/>
        </p:blipFill>
        <p:spPr>
          <a:xfrm>
            <a:off x="3643200" y="3929040"/>
            <a:ext cx="1343160" cy="2762280"/>
          </a:xfrm>
          <a:prstGeom prst="rect">
            <a:avLst/>
          </a:prstGeom>
          <a:ln w="0">
            <a:noFill/>
          </a:ln>
        </p:spPr>
      </p:pic>
      <p:sp>
        <p:nvSpPr>
          <p:cNvPr id="557" name="矩形 7"/>
          <p:cNvSpPr/>
          <p:nvPr/>
        </p:nvSpPr>
        <p:spPr>
          <a:xfrm>
            <a:off x="5000760" y="4071960"/>
            <a:ext cx="3286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爱您的宝贝女儿：晨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   </a:t>
            </a:r>
            <a:r>
              <a:rPr b="1" lang="en-US" sz="18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2011</a:t>
            </a:r>
            <a:r>
              <a:rPr b="1" lang="zh-CN" sz="18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年</a:t>
            </a:r>
            <a:r>
              <a:rPr b="1" lang="en-US" sz="18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5</a:t>
            </a:r>
            <a:r>
              <a:rPr b="1" lang="zh-CN" sz="18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月</a:t>
            </a:r>
            <a:r>
              <a:rPr b="1" lang="en-US" sz="18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8</a:t>
            </a:r>
            <a:r>
              <a:rPr b="1" lang="zh-CN" sz="18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8">
            <a:hlinkClick r:id="" action="ppaction://hlinkshowjump?jump=firstslide"/>
          </p:cNvPr>
          <p:cNvSpPr/>
          <p:nvPr/>
        </p:nvSpPr>
        <p:spPr>
          <a:xfrm>
            <a:off x="3593160" y="5934240"/>
            <a:ext cx="248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rush Script MT"/>
                <a:ea typeface="楷体_GB2312"/>
              </a:rPr>
              <a:t>Repl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图片 9" descr=""/>
          <p:cNvPicPr/>
          <p:nvPr/>
        </p:nvPicPr>
        <p:blipFill>
          <a:blip r:embed="rId5"/>
          <a:srcRect l="0" t="5564" r="0" b="0"/>
          <a:stretch/>
        </p:blipFill>
        <p:spPr>
          <a:xfrm>
            <a:off x="6429240" y="1530360"/>
            <a:ext cx="2714760" cy="5327640"/>
          </a:xfrm>
          <a:prstGeom prst="rect">
            <a:avLst/>
          </a:prstGeom>
          <a:ln w="0">
            <a:noFill/>
          </a:ln>
        </p:spPr>
      </p:pic>
    </p:spTree>
  </p:cSld>
  <p:transition spd="med" advTm="32000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94798E-006 L -0.7059 0.00393 E">
                                      <p:cBhvr>
                                        <p:cTn id="127" dur="2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8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9000"/>
                            </p:stCondLst>
                            <p:childTnLst>
                              <p:par>
                                <p:cTn id="1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5723E-006 C 0.00087 -0.00069 0.00278 -0.00046 0.00399 -0.00208 C 0.00521 -0.0037 0.00434 -0.00716 0.00573 -0.00855 C 0.00764 -0.01109 0.01441 -0.01271 0.01441 -0.01248 C 0.01892 -0.02266 0.01528 -0.01826 0.02587 -0.02335 C 0.02743 -0.02404 0.03003 -0.02543 0.03003 -0.0252 C 0.04271 -0.02242 0.03507 -0.0252 0.0434 -0.02104 C 0.04583 -0.01965 0.04913 -0.01826 0.05191 -0.01687 C 0.05312 -0.01618 0.05642 -0.01479 0.05642 -0.01456 C 0.05746 -0.01063 0.05851 -0.00624 0.0592 -0.00208 C 0.06042 0.0037 0.07274 0.00555 0.075 0.00625 C 0.08646 0.00463 0.08993 0.00578 0.09844 -0.00208 C 0.10208 -0.00994 0.10677 -0.01595 0.11285 -0.01896 C 0.11476 -0.01872 0.12743 -0.01942 0.13038 -0.01271 C 0.13177 -0.00901 0.13038 -0.00138 0.13316 -3.75723E-006 C 0.13611 0.00139 0.14201 0.00417 0.14201 0.0044 C 0.19097 0.00139 0.16684 0.00602 0.18854 -0.00416 C 0.19149 -0.01133 0.19531 -0.01318 0.19722 -0.02104 C 0.23403 -0.01734 0.20625 -0.02497 0.22326 -0.00855 C 0.22639 0.00486 0.23299 -0.00069 0.24201 -0.00208 C 0.24462 -0.01341 0.24965 -0.02104 0.25642 -0.02751 C 0.25764 -0.02705 0.2651 -0.02474 0.26684 -0.02335 C 0.26805 -0.02219 0.26858 -0.02011 0.26979 -0.01896 C 0.27344 -0.01572 0.27847 -0.01271 0.28299 -0.01063 C 0.28594 -0.00555 0.29427 0.00208 0.29427 0.00232 C 0.30555 -0.00323 0.29861 -0.00346 0.30469 -0.01687 C 0.30573 -0.01896 0.30677 -0.02104 0.30729 -0.02335 C 0.31111 -0.03491 0.30903 -0.03815 0.31753 -0.04231 C 0.32726 -0.03792 0.31788 -0.04416 0.32326 -0.03375 C 0.32448 -0.03167 0.32639 -0.03098 0.32795 -0.02959 C 0.33125 -0.01456 0.32917 -0.02057 0.33368 -0.01063 C 0.33472 -0.00647 0.3368 0.00208 0.3368 0.00232 E">
                                      <p:cBhvr>
                                        <p:cTn id="149" dur="3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6300"/>
                            </p:stCondLst>
                            <p:childTnLst>
                              <p:par>
                                <p:cTn id="154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73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9T21:42:00Z</dcterms:created>
  <dc:creator>陈静</dc:creator>
  <dc:description/>
  <cp:keywords/>
  <dc:language>en-US</dc:language>
  <cp:lastModifiedBy>Administrator</cp:lastModifiedBy>
  <dcterms:modified xsi:type="dcterms:W3CDTF">2017-05-13T03:33:13Z</dcterms:modified>
  <cp:revision>2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199</vt:lpwstr>
  </property>
</Properties>
</file>