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4.png" ContentType="image/png"/>
  <Override PartName="/ppt/media/image8.jpeg" ContentType="image/jpeg"/>
  <Override PartName="/ppt/media/image31.wmf" ContentType="image/x-wmf"/>
  <Override PartName="/ppt/media/image28.png" ContentType="image/png"/>
  <Override PartName="/ppt/media/image5.jpeg" ContentType="image/jpeg"/>
  <Override PartName="/ppt/media/image6.png" ContentType="image/png"/>
  <Override PartName="/ppt/media/image27.gif" ContentType="image/gif"/>
  <Override PartName="/ppt/media/image7.png" ContentType="image/png"/>
  <Override PartName="/ppt/media/image16.jpeg" ContentType="image/jpeg"/>
  <Override PartName="/ppt/media/image13.gif" ContentType="image/gif"/>
  <Override PartName="/ppt/media/image11.png" ContentType="image/png"/>
  <Override PartName="/ppt/media/image9.jpeg" ContentType="image/jpeg"/>
  <Override PartName="/ppt/media/image30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26.png" ContentType="image/png"/>
  <Override PartName="/ppt/media/image18.gif" ContentType="image/gif"/>
  <Override PartName="/ppt/media/image14.jpeg" ContentType="image/jpeg"/>
  <Override PartName="/ppt/media/image19.gif" ContentType="image/gif"/>
  <Override PartName="/ppt/media/image2.jpeg" ContentType="image/jpeg"/>
  <Override PartName="/ppt/media/image20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C35-94D8-4F2D-997B-50FC066F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104-9204-430E-8B2D-28A4137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84-A2CA-4FC6-9021-9F2BD50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78A-3A39-4E9F-B8A7-2BFF1CA1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AF6-99AA-45AC-A4C3-167D2E82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F4ED-5699-450B-9B46-812B847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2B5-B5CC-42A2-A6F8-14A529A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D74-B6B1-4E34-933C-3351048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EFD-2A28-46AC-A6F1-0578B64F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F46E-B146-4999-848B-ACA6DEBA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A2C-4FC4-4A9F-906D-B37063D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D6E-E3C5-44B7-81F1-56752426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1497-34DE-4EB3-95C1-6F04BF1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E5F9-4652-465D-B9E5-4D1561B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6F2-DAA2-4D69-91EB-E4F955C2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E5A8-AEC5-49DD-9712-13C2555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CEA-9021-4D5B-99E0-8CD1AD1E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BF9-6382-457B-9785-8E21A1BE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184-B08A-4C7D-8E7A-51CE098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28B-DB76-41E9-943E-F03DBA0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7F1-13CC-4DC9-8B63-2A0A346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06-6931-4100-8D2A-A6317AEA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7BA-D83D-4F71-8DC9-57FF5C4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8A8-A545-483F-8A96-DE13E39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10C-AB67-47AE-90B4-EF53F37C6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2423-A2FD-451B-9EDD-64523362AD8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jpeg"/><Relationship Id="rId3" Type="http://schemas.openxmlformats.org/officeDocument/2006/relationships/slide" Target="slide20.xm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0.xml"/><Relationship Id="rId3" Type="http://schemas.openxmlformats.org/officeDocument/2006/relationships/image" Target="../media/image1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" Target="slide20.xml"/><Relationship Id="rId5" Type="http://schemas.openxmlformats.org/officeDocument/2006/relationships/image" Target="../media/image16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13.gif"/><Relationship Id="rId4" Type="http://schemas.openxmlformats.org/officeDocument/2006/relationships/image" Target="../media/image29.gif"/><Relationship Id="rId5" Type="http://schemas.openxmlformats.org/officeDocument/2006/relationships/slide" Target="slide20.xml"/><Relationship Id="rId6" Type="http://schemas.openxmlformats.org/officeDocument/2006/relationships/image" Target="../media/image16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13.gif"/><Relationship Id="rId4" Type="http://schemas.openxmlformats.org/officeDocument/2006/relationships/image" Target="../media/image29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0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693440" cy="854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92360" y="1197000"/>
            <a:ext cx="64767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依法参与环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自觉维护环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50864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一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主题班会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021360"/>
            <a:ext cx="2262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40000" y="1628640"/>
            <a:ext cx="51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从小品中你发现了哪些不良风气？             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这些不良风气会对我们班级体带来怎样的影响？            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我们应该怎么做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3860640"/>
            <a:ext cx="2695320" cy="274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8000" y="1411200"/>
            <a:ext cx="54738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Times New Roman"/>
                <a:ea typeface="黑体"/>
              </a:rPr>
              <a:t>小品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香蕉皮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1052640"/>
            <a:ext cx="7010640" cy="3733560"/>
          </a:xfrm>
          <a:prstGeom prst="cloudCallout">
            <a:avLst>
              <a:gd name="adj1" fmla="val -37930"/>
              <a:gd name="adj2" fmla="val 49148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1125360"/>
            <a:ext cx="5257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考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、这种行为对不对，错在哪里，并说出原因和理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、当自己处于这种角色时，该如何做？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113360"/>
            <a:ext cx="2695680" cy="274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184880" y="4889520"/>
            <a:ext cx="17798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79640" y="1700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“</a:t>
            </a:r>
            <a:r>
              <a:rPr b="1" lang="en-US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IQ”</a:t>
            </a:r>
            <a:r>
              <a:rPr b="1" lang="zh-CN" sz="8000" spc="-1" strike="noStrike">
                <a:solidFill>
                  <a:srgbClr val="ff3300"/>
                </a:solidFill>
                <a:latin typeface="汉仪雪峰体简"/>
                <a:ea typeface="汉仪雪峰体简"/>
              </a:rPr>
              <a:t>大比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180324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128268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5084640"/>
            <a:ext cx="1132200" cy="1131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96360" y="4508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84360" y="3141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———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环保教育知识有奖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26920" y="1844640"/>
            <a:ext cx="831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游戏规则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幼圆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幼圆"/>
              </a:rPr>
              <a:t>全班共分为四小队，每队派两名代表作在第一排。比赛分抢答和必答两个部分。答对及相应得分，答错不得分，也不扣分。最终积分最高的一队将给与奖励，望全班同学踊跃参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62064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第一轮：必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733400" y="5638680"/>
            <a:ext cx="129564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3333600" y="5638680"/>
            <a:ext cx="1295640" cy="825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4781520" y="5638680"/>
            <a:ext cx="1295280" cy="82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6229440" y="5638680"/>
            <a:ext cx="12952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69228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人口超过一亿的国家 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Ａ、加拿大　Ｂ、英国　Ｃ、中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正确答案：美国 中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世界环境日主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莫使旱地变荒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今年世界环境日中国主题为“生态安全与环境友好型社会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 下面哪一种行为是正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乱扔果皮纸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不捕杀青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保护环境 植树造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不打扫环境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（正确答案：不捕杀青蛙 植树造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636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360" y="476280"/>
            <a:ext cx="77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下面哪一种行为是不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滥伐森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破坏环境 捕杀东北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建立自然保护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　　滥垦草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正确答案：滥伐森林 捕杀东北虎 滥垦草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世界人均森林占有面积最多的洲是那个洲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洋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达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公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世界环境日是每年的几月几日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6.5]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72.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43000" y="8380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琥珀简体"/>
              </a:rPr>
              <a:t>第二轮：风险提速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方正琥珀简体"/>
              </a:rPr>
              <a:t>抢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362320"/>
            <a:ext cx="9010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琥珀简体"/>
              </a:rPr>
              <a:t>比赛规则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轮比赛共有五小题。待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持人宣读完题目后方可解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题答对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，答错倒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，每题答题时间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秒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68280"/>
            <a:ext cx="83167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说出植树节对人类的好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环境的好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      ---------------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答对一点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木能够调节气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持生态平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通过光合作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吸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2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空气清洁新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亩地树林可以放出的氧气量足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呼吸使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林能防风固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涵养水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又能够吸收各种粉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亩地一年可以吸收各种粉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-6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71640" y="692280"/>
            <a:ext cx="6985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林能够减少噪音污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4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米宽的林带可减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-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树木的分泌物有杀菌的作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森林里每立方米空气中含细菌三四百个，而空旷地每立方米空气中含细菌三四万个，两者相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538280"/>
            <a:ext cx="830592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班会主持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龚丽君：（副班长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廖小君：（语文科代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3640" y="762120"/>
            <a:ext cx="78120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成为亚洲的”花园城市”的新加坡每年几月几日为植树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[11.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  197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第七届世界林业大会确定每年几月几日为世界林业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[3.21]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目的是要各国充分重视保护森林资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让林业为人类服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促进社会经济发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333360"/>
            <a:ext cx="7812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836640"/>
            <a:ext cx="72738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全球绿化最好的城市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波兰首都华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]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人均占有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73.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世界人均森林储蓄量最高的是那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底的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[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蒙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墨西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]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蒙古达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7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高出世界人均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.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墨西哥人均仅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0311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403280" y="1557360"/>
            <a:ext cx="7129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颁奖仪式</a:t>
            </a:r>
            <a:endParaRPr b="0" lang="en-US" sz="8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860640"/>
            <a:ext cx="2695680" cy="2745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028000" y="537372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311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1280" y="2133720"/>
            <a:ext cx="7993080" cy="1655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班主任总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860640"/>
            <a:ext cx="2695680" cy="274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7596360" y="537372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0311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63640" y="1403280"/>
            <a:ext cx="6624720" cy="6274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大家刚才提到的环境问题值得我们注意，这说明大家平时都很关心环保问题。我们不但要关心环境保护，更应该用实际行动保护环境。我们要从每一个家庭做起，从每一件事做起，为爱护地球做贡献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227640" y="4889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0" t="0" r="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87280" y="2565360"/>
            <a:ext cx="763272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幼圆"/>
              </a:rPr>
              <a:t>《让我们荡起双浆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92360" y="1700280"/>
            <a:ext cx="593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让我们高声齐唱</a:t>
            </a:r>
            <a:endParaRPr b="1" lang="en-US" sz="6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667640" y="558972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4284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280" y="333360"/>
            <a:ext cx="38163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荡起双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推开波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面倒映着美丽的白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周还绕着绿树红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领巾迎着太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光洒在海面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中鱼儿望着我们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260280"/>
            <a:ext cx="406728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悄悄地听我们愉快歌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完了一天的功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来尽情欢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问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亲爱的伙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给安排下幸福的生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船儿轻轻飘荡在水中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面吹来凉爽的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812000" y="551664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303112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99072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</a:t>
            </a: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保护环境  ，是每个人应尽的职责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5562360" cy="4762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07320" y="0"/>
            <a:ext cx="4842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46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27560" y="158760"/>
            <a:ext cx="3784680" cy="2809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71640" y="549360"/>
            <a:ext cx="45720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歌曲欣赏：</a:t>
            </a:r>
            <a:endParaRPr b="0" lang="en-US" sz="72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/>
          <p:nvPr/>
        </p:nvSpPr>
        <p:spPr>
          <a:xfrm>
            <a:off x="1330200" y="319392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爱的奉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17236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31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41280" y="1905120"/>
            <a:ext cx="660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环境污染防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法律有：《环境保护法》、《水污染防治法》、《大气污染防治法》、《固体废物污染防治法》、《环境噪声污染防治法》、《海洋环境保护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资源保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法》、《森林法》、《草原法》、《野生动物保护法》、《矿产资源法》、《土地管理法》、《渔业法》、《节约能源法》、《煤炭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灾害防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土保持法》、《防洪法》、《防震减灾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95480" y="3049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宋体"/>
              </a:rPr>
              <a:t>环保法律知多少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280" y="304920"/>
            <a:ext cx="126684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0720" y="301680"/>
            <a:ext cx="7272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是世界环境保护日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环境日主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使旱地变荒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年世界环境日中国主题为“生态安全与环境友好型社会。为什么要用这么一个主题？据目前所知，在无垠的茫茫宇宙中，只有地球才有生命。人类与地球相伴相随，走过了漫长的岁月。人类世世代代深受地球的恩惠，然而人类似乎并不知道感恩，反而对地球进行致命的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197000"/>
            <a:ext cx="66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害，砍伐森林、杀戮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u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动物，污染环境……当我们人类遭到地球的报复之后，我们深知宇宙中只有一个地球，地球是我们唯一的家园，我们必须放弃对地球的一切危害，对地球精心呵护，否则受到伤害的只能是我们人类自己。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环境是人类生存重要的需求之一。假如，人类生存的环境遭到了破坏，那么我们人类就将走向死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640" y="1413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76360" y="136440"/>
            <a:ext cx="6191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环境污染对人体的危害</a:t>
            </a:r>
            <a:endParaRPr b="1" lang="en-US" sz="4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80820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急性危害：污染物在短期内浓度很高，或者几种污。 物联合进入人体可以对人体造成急性危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慢性危害：慢性危害主要指小剂量的污染物持续的作用于人体产生的危害。如大气污染对呼吸道慢性炎症发病率的影响等。   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远期危害：环境污染对人体的危害，一般是经过一段较长的潜伏期后才表现出来，如环境因素的致癌作用等。环境中致癌因素主要有物理、化学和生物学因素。物理因素，如放射线体外照射或吸入放射性物质引起的白血病、肺癌等，生物学因放，如热带性恶性淋巴瘤，已经证明是由吸血昆曳传播的一种病毒引素的。 化学因素，根据动物实验证明，有致癌性的化学物质达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10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余种。另外，污染物对遗传有很大影响。一切生物本身都具有遗传变异的特性，环境污染对人体遗传的危害，主要表现在致突变和致畸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18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3860640"/>
            <a:ext cx="2695320" cy="27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1411200"/>
            <a:ext cx="54738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Times New Roman"/>
                <a:ea typeface="黑体"/>
              </a:rPr>
              <a:t>小品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不要乱扔垃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5:42:36Z</dcterms:created>
  <dc:creator>user</dc:creator>
  <dc:description/>
  <dc:language>en-US</dc:language>
  <cp:lastModifiedBy>微软用户</cp:lastModifiedBy>
  <dcterms:modified xsi:type="dcterms:W3CDTF">2006-08-21T04:04:39Z</dcterms:modified>
  <cp:revision>206</cp:revision>
  <dc:subject/>
  <dc:title>PowerPoint 演示文稿</dc:title>
</cp:coreProperties>
</file>