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F351-5641-4833-A6B8-0E229523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B3D-0CB9-4F7C-94FF-504450F1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8AF-1B1C-4A6F-BEA7-DFCB1FA5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E2F-C224-4944-85BE-67EACD0F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95B1-D849-4C26-99F0-A541DD30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EAC7-F424-4CC2-8C7A-89856EB2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3D536-9588-4256-AC34-0BD993B8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6F46-7CE5-40CF-9DF2-6E687027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580A-A159-4918-BE55-65F22573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3363-F417-4564-9D5A-3221F331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74EA-9067-4E58-9115-438657A9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D9C-2AD9-49EB-A447-AE387540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0935-57AB-4FED-8CA2-59D9ADFE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D73A-6932-4C04-9096-3527BB3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3DDA-3963-4013-9B6E-8D65DC80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2F0C-53B5-42FD-AD87-6D40EB70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896E-D107-45E6-B110-D27A44C3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A3B-6CC7-4D1A-BBFC-F9318FF1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EBC-48B2-4954-A610-8D074D33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27D-A0A9-455E-AB4F-0B3C7E1B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B92-E0D6-4DBB-A18E-D8636137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C72-7507-44DC-8C4E-0191A4F7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E4B-F81D-4E0E-BA8E-13A2643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A2F7-C5BF-469C-8B93-ED42B1DF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1A79-3DF7-437C-A536-4C3346FADA5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2C50-4066-4B68-8EC0-EDBD0881FF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Loong\Desktop\QQ截图20140511135752.jpg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3240" y="3989520"/>
            <a:ext cx="9144000" cy="2470680"/>
          </a:xfrm>
          <a:prstGeom prst="rect">
            <a:avLst/>
          </a:prstGeom>
          <a:solidFill>
            <a:srgbClr val="9c9cdf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世界微笑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题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867280" y="6021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分析（</a:t>
            </a: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8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2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 flipV="1">
            <a:off x="0" y="5372640"/>
            <a:ext cx="9144000" cy="1484280"/>
          </a:xfrm>
          <a:prstGeom prst="rect">
            <a:avLst/>
          </a:prstGeom>
          <a:solidFill>
            <a:srgbClr val="80808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33200" y="5423040"/>
            <a:ext cx="887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36440" y="5408640"/>
            <a:ext cx="887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ff99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284640" y="5048280"/>
            <a:ext cx="330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cc00"/>
                </a:solidFill>
                <a:latin typeface="Arial"/>
              </a:rPr>
              <a:t>快乐办公之心灵秘籍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</a:rPr>
              <a:t>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507996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83672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07996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3672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07996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3672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219400" y="631800"/>
            <a:ext cx="494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712880" y="693720"/>
            <a:ext cx="58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微笑的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个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绝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180648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乐观心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510552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提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1806480" y="285264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管理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5119560" y="285264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保持健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1806480" y="39085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加强沟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119560" y="390852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把握今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6" descr="5"/>
          <p:cNvPicPr/>
          <p:nvPr/>
        </p:nvPicPr>
        <p:blipFill>
          <a:blip r:embed="rId2"/>
          <a:stretch/>
        </p:blipFill>
        <p:spPr>
          <a:xfrm rot="720000">
            <a:off x="7380360" y="4436640"/>
            <a:ext cx="118404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4"/>
          <p:cNvPicPr/>
          <p:nvPr/>
        </p:nvPicPr>
        <p:blipFill>
          <a:blip r:embed="rId2"/>
          <a:stretch/>
        </p:blipFill>
        <p:spPr>
          <a:xfrm>
            <a:off x="900000" y="2276640"/>
            <a:ext cx="3065400" cy="1996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01300000084627121640859141042"/>
          <p:cNvPicPr/>
          <p:nvPr/>
        </p:nvPicPr>
        <p:blipFill>
          <a:blip r:embed="rId3"/>
          <a:stretch/>
        </p:blipFill>
        <p:spPr>
          <a:xfrm>
            <a:off x="5364000" y="2133720"/>
            <a:ext cx="2816280" cy="20872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4"/>
          <p:cNvSpPr/>
          <p:nvPr/>
        </p:nvSpPr>
        <p:spPr>
          <a:xfrm>
            <a:off x="4140360" y="28544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娃娃篆简"/>
              </a:rPr>
              <a:t>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279440" y="8668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619280" y="436572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愁眉苦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9440" y="43657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笑对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619280" y="5157720"/>
            <a:ext cx="614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9900"/>
                </a:solidFill>
                <a:latin typeface="Arial"/>
                <a:ea typeface="汉仪娃娃篆简"/>
              </a:rPr>
              <a:t>我们不能选择工作、学习，但可以选择心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828720" y="1557360"/>
            <a:ext cx="75913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遇到压力时要看到压力后面的动力；遇到挫折时要看到挫折后面的成长，遇到成功时要看到成功后面的失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任何事情都有两个以上的选择，我们要做的是选择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积极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对心态。有专家研究，一个乐观系数高的人，在处理问题时，他就会比一般人多出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机会得到满意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向乐观的态度不仅会平息由环境压力而带来的紊乱情绪，也较能使问题导向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积极正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692360" y="83808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、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6811920" y="5016600"/>
            <a:ext cx="1608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979640" y="4797360"/>
            <a:ext cx="525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人们需要快乐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,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就像需要衣服一样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玛格瑞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科利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雷厄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048040" y="981000"/>
            <a:ext cx="5187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4360" y="156204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熟读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黄金法则，让你快乐长伴，每天以微笑面对工作和学习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42920" y="2635200"/>
            <a:ext cx="766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微笑了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3492360" y="3286080"/>
            <a:ext cx="259236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9"/>
          <p:cNvPicPr/>
          <p:nvPr/>
        </p:nvPicPr>
        <p:blipFill>
          <a:blip r:embed="rId2"/>
          <a:stretch/>
        </p:blipFill>
        <p:spPr>
          <a:xfrm>
            <a:off x="2211480" y="3286080"/>
            <a:ext cx="4593960" cy="33130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60360" y="2349360"/>
            <a:ext cx="667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谢  谢  观  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Loong</cp:lastModifiedBy>
  <cp:lastPrinted>1899-12-30T00:00:00Z</cp:lastPrinted>
  <dcterms:modified xsi:type="dcterms:W3CDTF">2014-05-11T06:58:01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