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EBC-296D-4B19-9F39-0B023F2B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482-1AB5-4134-8CF6-5240A03B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CBE-C923-4A5C-813A-E137718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DD7-D7FF-44CB-93EA-1550EEA9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5E8B-11A8-425F-97D7-750E13BC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E46F-236E-4A7E-9006-19ED6B99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E7C-F350-45E7-ACAF-E0D4E4F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D31D-6BCB-413E-B255-20E6299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7CB-B630-44FC-99E2-D588959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B3E4-2F34-43E8-BC55-99134C3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F4E-C6C0-41C0-94CB-B897A15A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A44-66BB-4235-BBF0-CAABD6F2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8730-000D-49D8-8144-BA120C2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5E7-3C54-4BF9-8237-292E063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DC93-63D0-4FA3-87E1-6C69DC81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C19E-9552-466D-B6AB-82274D72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C4D-5B7A-4FE0-904C-BDF86937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F16-705A-492E-BE85-1EA7782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27A-D9AB-4B0B-9FB7-E1B63905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735-1FD1-4843-B3E5-60462F8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2A2-6449-4EC9-ACF7-6CFB46A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5E3-31D3-47F6-8767-D102171E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2F0-D137-4AE8-AA55-494AA50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E33-652D-459E-BAF9-289E1A2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325-740C-4A40-A3B3-7269F7D145C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55F-DA83-4897-8CFD-887F2E1BDC5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78656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"/>
              </a:rPr>
              <a:t>赠从弟</a:t>
            </a:r>
            <a:br>
              <a:rPr sz="72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"/>
              </a:rPr>
              <a:t>（其二）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刘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>
            <a:off x="-360" y="5013360"/>
            <a:ext cx="1390680" cy="10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flipH="1">
            <a:off x="1402920" y="4149720"/>
            <a:ext cx="13906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"/>
              </a:rPr>
              <a:t>赠从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亭亭山上松，瑟瑟谷中风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风声一何盛，松枝一何劲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冰霜正惨凄，终岁常端正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岂不罹凝寒，松柏有本性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刘桢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86~21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）（人教版八下语文书不确定出生年份），字公干，东汉末宁阳（今宁阳县泗店镇古城村）人（东平），东汉著名文学家，建安七子之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五言诗著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572"/>
                </a:solidFill>
                <a:latin typeface="Arial"/>
              </a:rPr>
              <a:t>注释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亭亭：高耸的样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瑟瑟：形容寒风的声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何：多么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惨凄：凛冽、严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罹（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lí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凝寒：遭受严寒。 罹，遭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"/>
              </a:rPr>
              <a:t>赠从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565360"/>
            <a:ext cx="57070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亭亭山上松，瑟瑟谷中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风声一何盛，松枝一何劲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冰霜正惨凄，终岁常端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岂不罹凝寒，松柏有本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84360" y="2492280"/>
            <a:ext cx="2760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高山上挺拔耸立的松树，顶着山谷间瑟瑟呼啸的狂风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风声是如此的猛烈，而松枝是如此的刚劲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任它满天冰霜惨惨凄凄，松树的腰杆终年直立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难道是松树没有遭遇凝重的寒意？不，是松柏天生有着耐寒的本性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>
            <a:off x="178920" y="5373720"/>
            <a:ext cx="13906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全诗的风格和寓意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首诗通篇以松柏而喻，赞颂松柏能够挺立风中而不倒，经严寒而不凋。诗人并没有讲他希望堂弟应当如何如何，但其劝勉之意却又不言而喻，将此诗赠与他的堂弟，目的是为了让堂弟像松一样，不畏严寒，屹立不倒。 全诗文字平实，风格古朴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作业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背诵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默写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4221000"/>
            <a:ext cx="2006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62520" y="1066320"/>
            <a:ext cx="4497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33cc"/>
                </a:solidFill>
                <a:latin typeface="Arial"/>
              </a:rPr>
              <a:t>谢谢大家</a:t>
            </a:r>
            <a:endParaRPr b="0" lang="en-US" sz="14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4:45:17Z</dcterms:created>
  <dc:creator>雨林木风</dc:creator>
  <dc:description/>
  <dc:language>en-US</dc:language>
  <cp:lastModifiedBy>雨林木风</cp:lastModifiedBy>
  <dcterms:modified xsi:type="dcterms:W3CDTF">2015-03-11T01:12:47Z</dcterms:modified>
  <cp:revision>8</cp:revision>
  <dc:subject/>
  <dc:title>赠从弟</dc:title>
</cp:coreProperties>
</file>