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58AA-C111-48EB-B69D-AF82FB32D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1D48-6C5D-422C-9503-E8017DE05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325F-CCB4-4C53-8DB9-7C440D24D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77A8-FD41-4902-91D0-E8DBB734E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D666-C714-4BF0-9F2D-72DE5CEFB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FE85-3DC7-4CC9-8B41-75B558B9EF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2BC4-0D3D-49BD-BAB4-765AE335B5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7CAC-4C2F-4ED8-B0F2-8C4778727C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D866-9584-4379-9AD9-85F530AC0E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1A05-9796-42CD-9B66-4DDABE30A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7A00-0DF2-4937-B98B-E5B1F7875C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BCEF-EFAE-4CD1-BDA5-05C95C4A4B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C373-3170-4A7C-B469-63653200E8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8244-3BCA-4C55-AF08-EF18F00EF2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385C-7EC0-4E18-8C90-7A3A52A802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E482-8C97-4A6C-9299-E01556C881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FB28-5868-48C7-95B7-F1647BBA27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1D34-E424-4812-9110-3130C70B01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82BF-F727-4F4C-80F2-E54E99B58C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651D-D366-4CC4-A119-FD5EAA9A5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9709-0D93-4F80-B285-84C70C60F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0947-FA8C-464D-8529-D3DFAEA53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07B7-736D-4581-988A-F00EE82D1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5917-FC3B-4220-9C1A-F60AC0BEE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8011534-B00F-4D8C-883F-661DCAA2DF1F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Num" idx="2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2E9C18A-8E42-4FB9-AA05-3B9DB20BAE6C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" y="533520"/>
            <a:ext cx="822960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xx</a:t>
            </a:r>
            <a:r>
              <a:rPr b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的自述</a:t>
            </a:r>
            <a:endParaRPr b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8" name=""/>
          <p:cNvSpPr txBox="1"/>
          <p:nvPr/>
        </p:nvSpPr>
        <p:spPr>
          <a:xfrm rot="5400000">
            <a:off x="6781680" y="4267080"/>
            <a:ext cx="28195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四级上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  <a:ea typeface="宋体"/>
              </a:rPr>
              <a:t>可如今的我们，却变成了间接的“杀人犯”。许多人因为长期酗酒，导致肝硬化，甚至肝癌而危及生命。许多“开车族”因为贪杯，结果往往是车毁人亡。所以，在此我想告诉喜欢我们的人，切勿贪杯或酗酒成性。一个个惨痛的教训摆在大家眼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宋体"/>
              </a:rPr>
              <a:t>我们虽然有好的地方，但不要贪恋我们。贪杯可要不得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2133720" cy="1347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63400" y="70632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ff33"/>
                </a:solidFill>
                <a:latin typeface="Arial"/>
              </a:rPr>
              <a:t>角色大转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9440" y="191880"/>
            <a:ext cx="59310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自己来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某种事物来提醒和告诫人们的行为，让人们从中受到教育和启发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河流、湖泊、森林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.....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9440" y="192240"/>
            <a:ext cx="6389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宋体"/>
              </a:rPr>
              <a:t>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宋体"/>
              </a:rPr>
              <a:t>青蛙的自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458640"/>
            <a:ext cx="2209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请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4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粉笔的自述》思考：粉笔向我们表达了怎样的内心感受，再想想，在生活中还有哪些事物像“粉笔”一样也向人们表达出自己的内心感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629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3520" y="3808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9999"/>
                </a:solidFill>
                <a:latin typeface="Arial"/>
              </a:rPr>
              <a:t>   </a:t>
            </a:r>
            <a:r>
              <a:rPr b="1" i="1" lang="zh-CN" sz="6000" spc="-1" strike="noStrike">
                <a:solidFill>
                  <a:srgbClr val="ff9999"/>
                </a:solidFill>
                <a:latin typeface="Arial"/>
              </a:rPr>
              <a:t>蚂蚁的自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124080" y="1981080"/>
            <a:ext cx="5943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8148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某种事物表达他们内心的感受和想法，赞美他们的某种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V="1" rot="10800000">
            <a:off x="761760" y="213264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“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自述”为题写一篇作文要求语句通  顺， 想象合理，不少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9800" y="380880"/>
            <a:ext cx="562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754280"/>
            <a:ext cx="89917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3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塑料袋的自述》、《小狗的自述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3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米饭的自述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4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洗衣机的“自述”》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42-4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水的自述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2880"/>
            <a:ext cx="7772400" cy="68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球妈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人类破坏环境实在太可恶了，他们对我造成的伤害不是靠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能说完的，真是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说啊！面对人类的残忍破坏，地球妈妈再也不相信人类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决定惩罚人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58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爱的课桌说：开学后，我的小主人是一位不爱学习的女孩，上课时她总爱趴在桌子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考试时，她却抓耳挠腮 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答不出来。我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用什么办法让她变成爱学习的孩子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搂着妈妈微笑着对妈妈说：妈妈，从今天起我再也不惹你生气了，一定要做你的乖女儿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什么叫自述体：把物当作人来写，并且用第一人称的方式进行表述，这种方法在写作中比较常见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自述体” 可以写一种植物、一种动物、一件物品、一种自然现象等，除了人，什么都可以写，只要赋予它人的思想、语言、动作等等就可以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人民币的自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1438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-124920"/>
            <a:ext cx="8207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701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我的用处有很多。买电器、买文具、买食物需要我们的帮助；出差、旅游、出国需要我们的帮助；大到开发城市，小到喝水用电，都需要我们的帮助。不论何时何地都有我们的身影，所以我们在人的心目中占有很高的地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但有的人为了得到我是不择手段，甚至是谋财害命，造假欺骗，铤而走险，人常说：君子爱财，取之有道，所以我希望全天下的人们都一定要记住这句话哦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酒的自述</a:t>
            </a:r>
            <a:br>
              <a:rPr sz="3200"/>
            </a:b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   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大家好！我是酒。我有着悠久的历史。原来的我是那么的神气，诗人们拿我来激发诗情。在我们的帮助下，一首首举世闻名的诗词就诞生了。就拿唐朝诗人李白来说吧，他只要一喝酒，就会诗兴大发，口占一绝：“峨眉山月半轮秋，影入平羌江水流。夜发清溪向三峡，思君不见下渝州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i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289584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7T00:04:01Z</dcterms:created>
  <dc:creator/>
  <dc:description/>
  <dc:language>en-US</dc:language>
  <cp:lastModifiedBy>微软用户</cp:lastModifiedBy>
  <dcterms:modified xsi:type="dcterms:W3CDTF">2012-09-09T09:30:1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