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73E-FBDB-4AF0-BC96-D7089BC3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8F7-5F67-47EC-90C5-A6B2C306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81A-99C3-4ECC-B926-ED63FC9C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E12-D2B4-4BE5-B729-AFC06A33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297-7216-4117-A9CE-E113976F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B14-B738-456A-B483-736B6488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6F9-C651-4C58-91DF-F7960391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341-E6BF-4992-A762-A1E773E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B7B-1F6E-4450-83B4-57347AC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0FF-C9E5-452E-A8CB-1BE899B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A8A-9B1C-4B58-AC8B-2BF6DBB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984-5C57-4B62-A40D-B452F17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7809-8B55-443A-92B8-AAB2B987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43" name="Picture 4" descr="timg"/>
          <p:cNvPicPr/>
          <p:nvPr/>
        </p:nvPicPr>
        <p:blipFill>
          <a:blip r:embed="rId1"/>
          <a:stretch/>
        </p:blipFill>
        <p:spPr>
          <a:xfrm>
            <a:off x="-30492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344520"/>
            <a:ext cx="1070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cc00"/>
                </a:solidFill>
                <a:latin typeface="Arial"/>
              </a:rPr>
              <a:t>学</a:t>
            </a: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《</a:t>
            </a:r>
            <a:r>
              <a:rPr b="0" lang="zh-CN" sz="7200" spc="-1" strike="noStrike">
                <a:solidFill>
                  <a:srgbClr val="99cc00"/>
                </a:solidFill>
                <a:latin typeface="Arial"/>
              </a:rPr>
              <a:t>宪法</a:t>
            </a: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》</a:t>
            </a:r>
            <a:r>
              <a:rPr b="0" lang="zh-CN" sz="7200" spc="-1" strike="noStrike">
                <a:solidFill>
                  <a:srgbClr val="99cc00"/>
                </a:solidFill>
                <a:latin typeface="Arial"/>
              </a:rPr>
              <a:t>主题班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270600" y="507672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级     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6:11:33Z</dcterms:created>
  <dc:creator>Administrator</dc:creator>
  <dc:description/>
  <dc:language>en-US</dc:language>
  <cp:lastModifiedBy>Administrator</cp:lastModifiedBy>
  <dcterms:modified xsi:type="dcterms:W3CDTF">2017-12-05T06:46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