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11D-72C4-4547-A90D-BC9C10E3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0C9-2E1C-4CE4-8D72-B1F44C74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520-9167-4C72-9D84-356D974B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D7A-6766-4545-82F4-1F752FEB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D309-0292-44CB-AB28-DB33D9D0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51F7-B95B-428A-A200-A26418C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87A-CF56-425B-8DDB-F198CD7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946B-A6C3-45CB-9AA3-672C3AE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CCB-8848-4690-AC48-B540AC4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700-B8B7-43BB-ABED-FC1CA9E0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0E31-45B2-4F79-A199-1CC17DA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413-055A-4D5A-885D-9E8CBA9C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A119-F79D-4BD2-98E4-E7DF25F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033E-85F2-4192-986E-8C5B331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24F-6341-40F6-935B-4289192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8073-C5CA-4983-A2C0-C7605CA0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500F-19D8-414E-9CBC-10B3CBAD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B81-8AA3-49A6-8821-5F05C71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1CB-9C24-4E55-914C-E5C47E9E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783-31B7-4802-99E6-646D398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372-BAA9-4814-A221-CB8ACE0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178-CA7D-4267-8639-000C56B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20F-4BAC-4133-8889-84D9EF7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CDA-290B-4F7A-8BE2-B7E52AA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2030-5264-447B-808A-09335683F3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D42-6DD1-4C2E-BD0D-953F89FB0E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415228.htm" TargetMode="External"/><Relationship Id="rId2" Type="http://schemas.openxmlformats.org/officeDocument/2006/relationships/hyperlink" Target="http://baike.baidu.com/view/60002.htm" TargetMode="External"/><Relationship Id="rId3" Type="http://schemas.openxmlformats.org/officeDocument/2006/relationships/hyperlink" Target="http://baike.baidu.com/view/78391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9276.htm" TargetMode="External"/><Relationship Id="rId2" Type="http://schemas.openxmlformats.org/officeDocument/2006/relationships/hyperlink" Target="http://baike.baidu.com/view/15004.htm" TargetMode="External"/><Relationship Id="rId3" Type="http://schemas.openxmlformats.org/officeDocument/2006/relationships/hyperlink" Target="http://baike.baidu.com/view/447279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18498.htm" TargetMode="External"/><Relationship Id="rId2" Type="http://schemas.openxmlformats.org/officeDocument/2006/relationships/hyperlink" Target="http://baike.baidu.com/view/267188.htm" TargetMode="External"/><Relationship Id="rId3" Type="http://schemas.openxmlformats.org/officeDocument/2006/relationships/hyperlink" Target="http://baike.baidu.com/view/1318453.htm" TargetMode="External"/><Relationship Id="rId4" Type="http://schemas.openxmlformats.org/officeDocument/2006/relationships/hyperlink" Target="http://baike.baidu.com/view/461511.htm" TargetMode="External"/><Relationship Id="rId5" Type="http://schemas.openxmlformats.org/officeDocument/2006/relationships/hyperlink" Target="http://baike.baidu.com/view/84207.htm" TargetMode="External"/><Relationship Id="rId6" Type="http://schemas.openxmlformats.org/officeDocument/2006/relationships/hyperlink" Target="http://baike.baidu.com/view/60147.htm" TargetMode="External"/><Relationship Id="rId7" Type="http://schemas.openxmlformats.org/officeDocument/2006/relationships/hyperlink" Target="http://baike.baidu.com/view/904882.htm" TargetMode="External"/><Relationship Id="rId8" Type="http://schemas.openxmlformats.org/officeDocument/2006/relationships/hyperlink" Target="http://baike.baidu.com/view/65782.htm" TargetMode="External"/><Relationship Id="rId9" Type="http://schemas.openxmlformats.org/officeDocument/2006/relationships/hyperlink" Target="http://baike.baidu.com/view/1625940.htm" TargetMode="External"/><Relationship Id="rId10" Type="http://schemas.openxmlformats.org/officeDocument/2006/relationships/hyperlink" Target="http://baike.baidu.com/view/31694.htm" TargetMode="External"/><Relationship Id="rId11" Type="http://schemas.openxmlformats.org/officeDocument/2006/relationships/hyperlink" Target="http://baike.baidu.com/view/545008.htm" TargetMode="External"/><Relationship Id="rId12" Type="http://schemas.openxmlformats.org/officeDocument/2006/relationships/hyperlink" Target="http://baike.baidu.com/view/455695.htm" TargetMode="External"/><Relationship Id="rId13" Type="http://schemas.openxmlformats.org/officeDocument/2006/relationships/hyperlink" Target="http://baike.baidu.com/view/744061.htm" TargetMode="External"/><Relationship Id="rId14" Type="http://schemas.openxmlformats.org/officeDocument/2006/relationships/hyperlink" Target="http://baike.baidu.com/view/61891.htm" TargetMode="External"/><Relationship Id="rId15" Type="http://schemas.openxmlformats.org/officeDocument/2006/relationships/hyperlink" Target="http://baike.baidu.com/view/1554.htm" TargetMode="External"/><Relationship Id="rId16" Type="http://schemas.openxmlformats.org/officeDocument/2006/relationships/hyperlink" Target="http://baike.baidu.com/view/78391.htm" TargetMode="External"/><Relationship Id="rId17" Type="http://schemas.openxmlformats.org/officeDocument/2006/relationships/hyperlink" Target="http://baike.baidu.com/view/22062.htm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917.htm" TargetMode="External"/><Relationship Id="rId2" Type="http://schemas.openxmlformats.org/officeDocument/2006/relationships/hyperlink" Target="http://baike.baidu.com/view/1657.htm" TargetMode="External"/><Relationship Id="rId3" Type="http://schemas.openxmlformats.org/officeDocument/2006/relationships/hyperlink" Target="http://baike.baidu.com/view/1554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1371600" y="1143000"/>
            <a:ext cx="6705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专题五  弘扬宪法精神  推进依法治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828800" y="432756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高二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33"/>
          <p:cNvPicPr/>
          <p:nvPr/>
        </p:nvPicPr>
        <p:blipFill>
          <a:blip r:embed="rId1"/>
          <a:stretch/>
        </p:blipFill>
        <p:spPr>
          <a:xfrm>
            <a:off x="762120" y="1600200"/>
            <a:ext cx="7988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33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11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55"/>
          <p:cNvPicPr/>
          <p:nvPr/>
        </p:nvPicPr>
        <p:blipFill>
          <a:blip r:embed="rId1"/>
          <a:stretch/>
        </p:blipFill>
        <p:spPr>
          <a:xfrm>
            <a:off x="838080" y="6094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22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宣传日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44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新疆恐怖组织的恐怖活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1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4"/>
          <p:cNvPicPr/>
          <p:nvPr/>
        </p:nvPicPr>
        <p:blipFill>
          <a:blip r:embed="rId1"/>
          <a:stretch/>
        </p:blipFill>
        <p:spPr>
          <a:xfrm>
            <a:off x="-1752480" y="162000"/>
            <a:ext cx="11125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5"/>
          <p:cNvPicPr/>
          <p:nvPr/>
        </p:nvPicPr>
        <p:blipFill>
          <a:blip r:embed="rId1"/>
          <a:stretch/>
        </p:blipFill>
        <p:spPr>
          <a:xfrm>
            <a:off x="-1066680" y="0"/>
            <a:ext cx="1150596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161160" y="14479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黑体"/>
              </a:rPr>
              <a:t>宪法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152280" y="152280"/>
            <a:ext cx="9144000" cy="6856560"/>
            <a:chOff x="152280" y="152280"/>
            <a:chExt cx="9144000" cy="6856560"/>
          </a:xfrm>
        </p:grpSpPr>
        <p:pic>
          <p:nvPicPr>
            <p:cNvPr id="94" name="Picture 9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0"/>
            <p:cNvGrpSpPr/>
            <p:nvPr/>
          </p:nvGrpSpPr>
          <p:grpSpPr>
            <a:xfrm>
              <a:off x="152280" y="152280"/>
              <a:ext cx="9144000" cy="1371600"/>
              <a:chOff x="152280" y="152280"/>
              <a:chExt cx="9144000" cy="1371600"/>
            </a:xfrm>
          </p:grpSpPr>
          <p:pic>
            <p:nvPicPr>
              <p:cNvPr id="96" name="Picture 11" descr="未标题-1"/>
              <p:cNvPicPr/>
              <p:nvPr/>
            </p:nvPicPr>
            <p:blipFill>
              <a:blip r:embed="rId3">
                <a:lum contrast="6000"/>
              </a:blip>
              <a:stretch/>
            </p:blipFill>
            <p:spPr>
              <a:xfrm>
                <a:off x="152280" y="152280"/>
                <a:ext cx="9144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AutoShape 12"/>
              <p:cNvSpPr/>
              <p:nvPr/>
            </p:nvSpPr>
            <p:spPr>
              <a:xfrm>
                <a:off x="1523880" y="195120"/>
                <a:ext cx="41911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7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" name="WordArt 13"/>
            <p:cNvSpPr txBox="1"/>
            <p:nvPr/>
          </p:nvSpPr>
          <p:spPr>
            <a:xfrm>
              <a:off x="1828800" y="38088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9" name="WordArt 14"/>
          <p:cNvSpPr txBox="1"/>
          <p:nvPr/>
        </p:nvSpPr>
        <p:spPr>
          <a:xfrm rot="555600">
            <a:off x="1476360" y="1773360"/>
            <a:ext cx="6480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走进宪法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7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66"/>
          <p:cNvPicPr/>
          <p:nvPr/>
        </p:nvPicPr>
        <p:blipFill>
          <a:blip r:embed="rId1"/>
          <a:stretch/>
        </p:blipFill>
        <p:spPr>
          <a:xfrm>
            <a:off x="-1676520" y="30240"/>
            <a:ext cx="115063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u=93402979,4113654017&amp;fm=11&amp;gp=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2209680" y="838080"/>
            <a:ext cx="4800600" cy="2711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香港占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u=657119817,4135544662&amp;fm=11&amp;gp=0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67057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600200" y="380880"/>
            <a:ext cx="6019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香港占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u=1051264563,3974761919&amp;fm=11&amp;gp=0"/>
          <p:cNvPicPr/>
          <p:nvPr/>
        </p:nvPicPr>
        <p:blipFill>
          <a:blip r:embed="rId1"/>
          <a:stretch/>
        </p:blipFill>
        <p:spPr>
          <a:xfrm>
            <a:off x="-228600" y="141120"/>
            <a:ext cx="9753480" cy="668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u=3545153184,3624535383&amp;fm=11&amp;gp=0"/>
          <p:cNvPicPr/>
          <p:nvPr/>
        </p:nvPicPr>
        <p:blipFill>
          <a:blip r:embed="rId1"/>
          <a:stretch/>
        </p:blipFill>
        <p:spPr>
          <a:xfrm>
            <a:off x="-304920" y="0"/>
            <a:ext cx="10287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u=3791196608,2519215080&amp;fm=11&amp;gp=0"/>
          <p:cNvPicPr/>
          <p:nvPr/>
        </p:nvPicPr>
        <p:blipFill>
          <a:blip r:embed="rId1"/>
          <a:stretch/>
        </p:blipFill>
        <p:spPr>
          <a:xfrm>
            <a:off x="-609480" y="47520"/>
            <a:ext cx="103629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u=4187395535,1102490825&amp;fm=11&amp;gp=0"/>
          <p:cNvPicPr/>
          <p:nvPr/>
        </p:nvPicPr>
        <p:blipFill>
          <a:blip r:embed="rId1"/>
          <a:stretch/>
        </p:blipFill>
        <p:spPr>
          <a:xfrm>
            <a:off x="-533520" y="0"/>
            <a:ext cx="10515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u=4197801348,1572345525&amp;fm=11&amp;gp=0"/>
          <p:cNvPicPr/>
          <p:nvPr/>
        </p:nvPicPr>
        <p:blipFill>
          <a:blip r:embed="rId1"/>
          <a:stretch/>
        </p:blipFill>
        <p:spPr>
          <a:xfrm>
            <a:off x="-457200" y="76320"/>
            <a:ext cx="1013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宪法（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是一个国家的根本大法，是特定社会政治经济和思想文化条件综合作用的产物，集中反映各种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政治力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实际对比关系，确认革命胜利成果和现实的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民主政治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规定国家的根本任务和根本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制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即社会制度、国家制度的原则和国家政权的组织以及公民的基本权利义务等内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宪法的概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宪法具有最高法律效力，为近、现代实行宪政制度的国家所公认，许多国家的宪法对此都有明文规定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中华人民共和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序言中明确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本宪法以法律的形式确认了中国各族人民奋斗的成果，规定了国家的根本制度和根本任务，是国家的根本法，具有最高的法律效力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条还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切法律、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行政法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和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地方性法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都不得同宪法相抵触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4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国宪法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规定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本宪法是国家的最高法规，违反其规定的法律、命令、诏敕以及关于国务的其他行为的全部或者一部分均属无效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概念的产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词，来源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拉丁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本是组织、确立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罗马帝国用它来表示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帝王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诏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谕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以区别于市民会议通过的法律文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欧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封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代用它表示在日常立法中对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国家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基本原则的确认，含有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组织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意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英国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中世纪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建立了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代议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当然这种情况在中国先秦时期是没有的），确立了国王没有得到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议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代议机关）同意就不得征税和进行其他立法的原则。后来代议制度普及于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欧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各国，人们就把规定代议制度的法律称为宪法，指确认立宪政体的法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12"/>
              </a:rPr>
              <a:t>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Arial"/>
                <a:hlinkClick r:id="rId13"/>
              </a:rPr>
              <a:t>宪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等词在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中国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典籍中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同义，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日本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古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也指法令、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制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都与现代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词含义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世纪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代</a:t>
            </a:r>
            <a:r>
              <a:rPr b="0" lang="zh-CN" sz="24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明治维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期，随着西方立宪政治概念的传入，日本才有相当于欧美的概念出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早期宪法形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，中国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戊戌变法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以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康有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首的维新派要求清廷制定宪法，实行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日本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式的君主立宪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中国清政府颁布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8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本帝国宪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为蓝本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钦定宪法大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从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宪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词在中国就成为国家根本法的专用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世界上最早的宪法是英国的不成文宪法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宪法的作用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权力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巩固和维护国家权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规范国家权力有效运行 宪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法制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统一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为法制的完善奠定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体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确立和维护国家政治制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改革国家政治体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社经作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保护自己的经济基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）促进经济的发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弘扬宪法精神的目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弘扬宪法精神，增强法制观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目的，就是要努力形成依法执政、依法行政、依法管理、依法办事，学法、守法、用法的良好社会环境；要努力引导领导干部和公职人员依法正确行使权力，做到权为民所用、情为民所系、利为民所谋；要努力引导全体公民行使好公民的权利，履行好公民的义务，依法维护好自身的合法权益；要努力引导企业经营管理人员守法诚信、依法经营，促进物质文明建设；要努力引导广大青少年学习基本的法律知识，遵纪守法，努力学习，逐步培养法律素质，做合格的公民。各级各部门一定要把认真学习宪法，熟悉宪法，遵守宪法，贯彻宪法，维护宪法作为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普法的重中之重的工作来抓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04920" y="114300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0" y="5410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685800"/>
            <a:ext cx="830592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增强宪法观念，推进依法治国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学习宣传宪法，推进民主法制建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依法治国，执政为民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增强法制观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　　弘扬宪法精神，构建和谐社会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       落实‘五五’普法规划，促进和谐社会建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推进依法治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服务科学发展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加强法制宣传教育，服务经济社会发展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　　弘扬法治精神，促进社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1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深入学习宣传宪法，大力弘扬法治精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    弘扬宪法精神，服务科学发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这十二年法制宣传日的主题，体现了课本哪些知识点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1406520" y="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国法制宣传日的主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5" descr="u=3470999619,3138258529&amp;fm=0&amp;gp=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0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55"/>
          <p:cNvPicPr/>
          <p:nvPr/>
        </p:nvPicPr>
        <p:blipFill>
          <a:blip r:embed="rId3"/>
          <a:stretch/>
        </p:blipFill>
        <p:spPr>
          <a:xfrm>
            <a:off x="3956040" y="2514600"/>
            <a:ext cx="123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5T06:43:23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