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F62-11F9-4D02-9EFF-9C4929B0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F04-478D-4D69-8F6B-D4AF7A3D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8C6-DE18-4AC3-A89B-A0806D3D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E2B-4671-42B5-9662-5051EBD8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6E3-4CB9-45CB-9D57-94B63DA7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04A-B9AD-4950-B20D-B0CA3CF8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393-6096-4444-A5F7-946AA2C8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B0E-9F02-4FB4-A7DB-8C0FF7DD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2AA-7BA7-457C-8C71-87BA7A6B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C99-CAC3-491F-86FE-890CF90E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E7C-D528-42F0-BD23-D11D4A36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967-FAE5-49A4-8AB1-D758622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F581-A641-497A-9D23-3D70F26C39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0008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000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护士节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98820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4997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3783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426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783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283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283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997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5783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21480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569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283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78628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4259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42836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640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3711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9165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6069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283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91656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283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568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8T02:07:26Z</dcterms:modified>
  <cp:revision>41</cp:revision>
  <dc:subject/>
  <dc:title>幻灯片 1</dc:title>
</cp:coreProperties>
</file>