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F84-3239-41E6-8E39-10449EBC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A63-EC37-4D1A-BC1E-C0384909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71E-8CA7-415E-BDAD-1D67744A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9363-5B77-4B3E-8C8D-88236A52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B97-917B-48AB-B42C-EC79F784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562F-7C97-41EB-A938-FE11C7EA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18A3-093C-483B-9C3C-B0036076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16DA-0374-407A-9D10-F1610059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6610-2D6C-449D-9476-687D9D70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112-F810-4815-BD23-A9B6F729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E18-60FD-4FE7-A063-295A1DF8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25A-6FD9-4B5C-830B-A3DFE6B1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6D4C-5890-4F1C-A77E-DDC9D237E9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919520" y="1700280"/>
            <a:ext cx="8506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360160" y="1557360"/>
            <a:ext cx="72900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清爽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1616400" y="4653000"/>
            <a:ext cx="1155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928800" y="2786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7069680" y="4773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70696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121176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4071960" y="5715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52837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925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28548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72838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402012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6426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1926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271188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92668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42836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1071720" y="4214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68551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41407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1928880" y="4071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0690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9266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391716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40690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425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68551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402012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4283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4283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42120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42120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2357280" y="3071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5355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26406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5069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3988440" y="857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69980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25689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47836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1-15T01:41:01Z</dcterms:modified>
  <cp:revision>35</cp:revision>
  <dc:subject/>
  <dc:title>幻灯片 1</dc:title>
</cp:coreProperties>
</file>