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AE88-8F38-4C11-9CFD-9158FEC3D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515196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419B-2507-473B-8585-3120667D4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7A31-589A-410B-87A7-71CA2A622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C9FC-44E6-4C48-861A-B1B10760C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D4AC-614B-4C1A-8EB9-78CE448D6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515196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495252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5151960"/>
            <a:ext cx="277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A692-B339-40EA-A57C-A2B55C18E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8F3D-DAEC-4732-B680-EC4C40F11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B867-6914-48A4-A896-0FD7F34A6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B2EE-DCF3-4FA5-B2AB-EA20B9CDB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64AF-E9D9-4A03-91EF-A7D4F167E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515196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87C8-8E50-42A1-B181-01962486D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4952520"/>
            <a:ext cx="42015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8610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26FF-DC43-4FA7-88C9-47CCDDDF3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9309-B932-439A-A7B0-FD96DEE4AC9C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76520" y="1749600"/>
            <a:ext cx="5410080" cy="1199880"/>
            <a:chOff x="1676520" y="1749600"/>
            <a:chExt cx="5410080" cy="1199880"/>
          </a:xfrm>
        </p:grpSpPr>
        <p:sp>
          <p:nvSpPr>
            <p:cNvPr id="249" name=""/>
            <p:cNvSpPr/>
            <p:nvPr/>
          </p:nvSpPr>
          <p:spPr>
            <a:xfrm>
              <a:off x="1676520" y="1749600"/>
              <a:ext cx="5410080" cy="1199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794240" y="1859760"/>
              <a:ext cx="1042920" cy="981360"/>
              <a:chOff x="1794240" y="1859760"/>
              <a:chExt cx="1042920" cy="981360"/>
            </a:xfrm>
          </p:grpSpPr>
          <p:sp>
            <p:nvSpPr>
              <p:cNvPr id="251" name=""/>
              <p:cNvSpPr/>
              <p:nvPr/>
            </p:nvSpPr>
            <p:spPr>
              <a:xfrm>
                <a:off x="1794240" y="185976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d5f6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59400" y="192276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bec2"/>
                  </a:gs>
                  <a:gs pos="50000">
                    <a:srgbClr val="2b8a91">
                      <a:alpha val="0"/>
                    </a:srgbClr>
                  </a:gs>
                  <a:gs pos="100000">
                    <a:srgbClr val="8abec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878840" y="21279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2980080" y="1933560"/>
              <a:ext cx="397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676520" y="3200400"/>
            <a:ext cx="5410080" cy="1200240"/>
            <a:chOff x="1676520" y="3200400"/>
            <a:chExt cx="5410080" cy="1200240"/>
          </a:xfrm>
        </p:grpSpPr>
        <p:sp>
          <p:nvSpPr>
            <p:cNvPr id="256" name=""/>
            <p:cNvSpPr/>
            <p:nvPr/>
          </p:nvSpPr>
          <p:spPr>
            <a:xfrm>
              <a:off x="1676520" y="3200400"/>
              <a:ext cx="5410080" cy="1200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794240" y="3310560"/>
              <a:ext cx="1042920" cy="981720"/>
              <a:chOff x="1794240" y="3310560"/>
              <a:chExt cx="1042920" cy="981720"/>
            </a:xfrm>
          </p:grpSpPr>
          <p:sp>
            <p:nvSpPr>
              <p:cNvPr id="258" name=""/>
              <p:cNvSpPr/>
              <p:nvPr/>
            </p:nvSpPr>
            <p:spPr>
              <a:xfrm>
                <a:off x="1794240" y="3310560"/>
                <a:ext cx="1042920" cy="981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4b4fe"/>
                  </a:gs>
                  <a:gs pos="100000">
                    <a:srgbClr val="9999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59400" y="337356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>
                      <a:alpha val="0"/>
                    </a:srgbClr>
                  </a:gs>
                  <a:gs pos="100000">
                    <a:srgbClr val="d2d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78840" y="35791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2980080" y="3364560"/>
              <a:ext cx="397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676520" y="4648320"/>
            <a:ext cx="5410080" cy="1199880"/>
            <a:chOff x="1676520" y="4648320"/>
            <a:chExt cx="5410080" cy="1199880"/>
          </a:xfrm>
        </p:grpSpPr>
        <p:sp>
          <p:nvSpPr>
            <p:cNvPr id="263" name=""/>
            <p:cNvSpPr/>
            <p:nvPr/>
          </p:nvSpPr>
          <p:spPr>
            <a:xfrm>
              <a:off x="1676520" y="4648320"/>
              <a:ext cx="5410080" cy="1199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794240" y="4758480"/>
              <a:ext cx="1042920" cy="981360"/>
              <a:chOff x="1794240" y="4758480"/>
              <a:chExt cx="1042920" cy="981360"/>
            </a:xfrm>
          </p:grpSpPr>
          <p:sp>
            <p:nvSpPr>
              <p:cNvPr id="265" name=""/>
              <p:cNvSpPr/>
              <p:nvPr/>
            </p:nvSpPr>
            <p:spPr>
              <a:xfrm>
                <a:off x="1794240" y="475848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59400" y="482148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78840" y="5026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2980080" y="4812480"/>
              <a:ext cx="397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447920" y="1600200"/>
            <a:ext cx="7391160" cy="4419720"/>
            <a:chOff x="1447920" y="1600200"/>
            <a:chExt cx="7391160" cy="4419720"/>
          </a:xfrm>
        </p:grpSpPr>
        <p:sp>
          <p:nvSpPr>
            <p:cNvPr id="271" name=""/>
            <p:cNvSpPr/>
            <p:nvPr/>
          </p:nvSpPr>
          <p:spPr>
            <a:xfrm>
              <a:off x="144792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2b8a91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72200" y="3733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400560" y="3753000"/>
              <a:ext cx="1704960" cy="2028600"/>
              <a:chOff x="3400560" y="3753000"/>
              <a:chExt cx="1704960" cy="2028600"/>
            </a:xfrm>
          </p:grpSpPr>
          <p:sp>
            <p:nvSpPr>
              <p:cNvPr id="274" name=""/>
              <p:cNvSpPr/>
              <p:nvPr/>
            </p:nvSpPr>
            <p:spPr>
              <a:xfrm rot="20876400">
                <a:off x="346860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00560" y="375300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1080" y="376236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38360" y="3778200"/>
                <a:ext cx="1584360" cy="15559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30520" y="3822840"/>
                <a:ext cx="1409760" cy="1261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1816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549440" y="3371760"/>
              <a:ext cx="1371240" cy="1718640"/>
              <a:chOff x="1549440" y="3371760"/>
              <a:chExt cx="1371240" cy="1718640"/>
            </a:xfrm>
          </p:grpSpPr>
          <p:sp>
            <p:nvSpPr>
              <p:cNvPr id="281" name=""/>
              <p:cNvSpPr/>
              <p:nvPr/>
            </p:nvSpPr>
            <p:spPr>
              <a:xfrm rot="20826600">
                <a:off x="1625760" y="43621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549440" y="3371760"/>
                <a:ext cx="1371240" cy="1441080"/>
                <a:chOff x="1549440" y="3371760"/>
                <a:chExt cx="1371240" cy="1441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54944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567080" y="3380040"/>
                  <a:ext cx="133740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580400" y="339372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652040" y="3430440"/>
                  <a:ext cx="113184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82988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1490760" y="2060640"/>
              <a:ext cx="1100160" cy="1139760"/>
              <a:chOff x="1490760" y="2060640"/>
              <a:chExt cx="1100160" cy="1139760"/>
            </a:xfrm>
          </p:grpSpPr>
          <p:sp>
            <p:nvSpPr>
              <p:cNvPr id="289" name=""/>
              <p:cNvSpPr/>
              <p:nvPr/>
            </p:nvSpPr>
            <p:spPr>
              <a:xfrm>
                <a:off x="1490760" y="2666880"/>
                <a:ext cx="914400" cy="5335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66720" y="206064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79680" y="206532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90840" y="207648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44480" y="2101680"/>
                <a:ext cx="847800" cy="75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4000" y="240984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714760" y="1600200"/>
              <a:ext cx="804600" cy="762120"/>
              <a:chOff x="2714760" y="1600200"/>
              <a:chExt cx="804600" cy="762120"/>
            </a:xfrm>
          </p:grpSpPr>
          <p:sp>
            <p:nvSpPr>
              <p:cNvPr id="296" name=""/>
              <p:cNvSpPr/>
              <p:nvPr/>
            </p:nvSpPr>
            <p:spPr>
              <a:xfrm>
                <a:off x="2714760" y="213372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36800" y="160020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46520" y="160344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52640" y="160956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89360" y="162864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07360" y="18241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90720" y="1447920"/>
            <a:ext cx="7543800" cy="4570200"/>
            <a:chOff x="990720" y="1447920"/>
            <a:chExt cx="7543800" cy="4570200"/>
          </a:xfrm>
        </p:grpSpPr>
        <p:sp>
          <p:nvSpPr>
            <p:cNvPr id="304" name=""/>
            <p:cNvSpPr/>
            <p:nvPr/>
          </p:nvSpPr>
          <p:spPr>
            <a:xfrm>
              <a:off x="2911320" y="2212920"/>
              <a:ext cx="3633840" cy="36547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01960" y="3127320"/>
              <a:ext cx="1852560" cy="1967040"/>
              <a:chOff x="3801960" y="3127320"/>
              <a:chExt cx="1852560" cy="1967040"/>
            </a:xfrm>
          </p:grpSpPr>
          <p:sp>
            <p:nvSpPr>
              <p:cNvPr id="306" name=""/>
              <p:cNvSpPr/>
              <p:nvPr/>
            </p:nvSpPr>
            <p:spPr>
              <a:xfrm>
                <a:off x="3801960" y="3127320"/>
                <a:ext cx="1852560" cy="19670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13640" y="3159720"/>
                <a:ext cx="142920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066560" y="39006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351320" y="1862280"/>
              <a:ext cx="617400" cy="608040"/>
              <a:chOff x="4351320" y="1862280"/>
              <a:chExt cx="617400" cy="6080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4351320" y="1862280"/>
                <a:ext cx="617400" cy="608040"/>
                <a:chOff x="4351320" y="1862280"/>
                <a:chExt cx="617400" cy="608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351320" y="1862280"/>
                  <a:ext cx="617400" cy="60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6b4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421880" y="1872360"/>
                  <a:ext cx="476280" cy="229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4480560" y="19558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750480" y="4892040"/>
              <a:ext cx="333360" cy="307440"/>
              <a:chOff x="3750480" y="4892040"/>
              <a:chExt cx="333360" cy="307440"/>
            </a:xfrm>
          </p:grpSpPr>
          <p:sp>
            <p:nvSpPr>
              <p:cNvPr id="315" name=""/>
              <p:cNvSpPr/>
              <p:nvPr/>
            </p:nvSpPr>
            <p:spPr>
              <a:xfrm rot="18226800">
                <a:off x="3775320" y="5052600"/>
                <a:ext cx="120600" cy="12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226800">
                <a:off x="3938400" y="4914360"/>
                <a:ext cx="120600" cy="12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184560" y="5160960"/>
              <a:ext cx="617400" cy="631800"/>
              <a:chOff x="3184560" y="5160960"/>
              <a:chExt cx="617400" cy="6318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184560" y="5160960"/>
                <a:ext cx="617400" cy="631800"/>
                <a:chOff x="3184560" y="5160960"/>
                <a:chExt cx="617400" cy="6318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184560" y="5160960"/>
                  <a:ext cx="617400" cy="6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255120" y="5171400"/>
                  <a:ext cx="476280" cy="238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3309480" y="52794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205680" y="3127320"/>
              <a:ext cx="614160" cy="640080"/>
              <a:chOff x="6205680" y="3127320"/>
              <a:chExt cx="614160" cy="6400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6205680" y="3127320"/>
                <a:ext cx="614160" cy="640080"/>
                <a:chOff x="6205680" y="3127320"/>
                <a:chExt cx="614160" cy="6400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205680" y="3127320"/>
                  <a:ext cx="614160" cy="64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c3c3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75880" y="3137760"/>
                  <a:ext cx="473760" cy="241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6319080" y="32151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654520" y="5164200"/>
              <a:ext cx="587520" cy="574560"/>
              <a:chOff x="5654520" y="5164200"/>
              <a:chExt cx="587520" cy="5745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5654520" y="5164200"/>
                <a:ext cx="587520" cy="574560"/>
                <a:chOff x="5654520" y="5164200"/>
                <a:chExt cx="587520" cy="5745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654520" y="5164200"/>
                  <a:ext cx="587520" cy="57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721480" y="5173560"/>
                  <a:ext cx="453240" cy="216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5776200" y="51948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705040" y="3127320"/>
              <a:ext cx="617760" cy="632160"/>
              <a:chOff x="2705040" y="3127320"/>
              <a:chExt cx="617760" cy="6321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2705040" y="3127320"/>
                <a:ext cx="617760" cy="632160"/>
                <a:chOff x="2705040" y="3127320"/>
                <a:chExt cx="617760" cy="6321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705040" y="3127320"/>
                  <a:ext cx="617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8a91"/>
                    </a:gs>
                    <a:gs pos="100000">
                      <a:srgbClr val="133e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775600" y="3137760"/>
                  <a:ext cx="4766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b8a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2830680" y="31975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 rot="18226800">
              <a:off x="5587920" y="5020560"/>
              <a:ext cx="119160" cy="1256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8226800">
              <a:off x="5449680" y="488124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367800" y="3523680"/>
              <a:ext cx="375840" cy="238680"/>
              <a:chOff x="3367800" y="3523680"/>
              <a:chExt cx="375840" cy="238680"/>
            </a:xfrm>
          </p:grpSpPr>
          <p:sp>
            <p:nvSpPr>
              <p:cNvPr id="340" name=""/>
              <p:cNvSpPr/>
              <p:nvPr/>
            </p:nvSpPr>
            <p:spPr>
              <a:xfrm rot="18226800">
                <a:off x="3392640" y="3546000"/>
                <a:ext cx="120240" cy="124200"/>
              </a:xfrm>
              <a:prstGeom prst="ellipse">
                <a:avLst/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84f5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8226800">
                <a:off x="3598560" y="3615840"/>
                <a:ext cx="119880" cy="124200"/>
              </a:xfrm>
              <a:prstGeom prst="ellipse">
                <a:avLst/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4424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603320" y="2580480"/>
              <a:ext cx="169560" cy="429120"/>
              <a:chOff x="4603320" y="2580480"/>
              <a:chExt cx="169560" cy="429120"/>
            </a:xfrm>
          </p:grpSpPr>
          <p:sp>
            <p:nvSpPr>
              <p:cNvPr id="343" name=""/>
              <p:cNvSpPr/>
              <p:nvPr/>
            </p:nvSpPr>
            <p:spPr>
              <a:xfrm rot="18226800">
                <a:off x="4628160" y="2602800"/>
                <a:ext cx="119880" cy="1238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34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8226800">
                <a:off x="4628160" y="2863440"/>
                <a:ext cx="119880" cy="1238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b4a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rot="18226800">
              <a:off x="5947560" y="3572280"/>
              <a:ext cx="120600" cy="12564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8226800">
              <a:off x="5725080" y="3687120"/>
              <a:ext cx="118800" cy="12384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90720" y="326736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76720" y="144792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19840" y="328140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33440" y="537552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70480" y="537552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SucaiFengbao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SucaiFengbao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3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8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SucaiFengbao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9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2" name="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3" name="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486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90" name=""/>
              <p:cNvCxnSpPr>
                <a:stCxn id="486" idx="3"/>
                <a:endCxn id="487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1" name=""/>
              <p:cNvCxnSpPr>
                <a:stCxn id="487" idx="3"/>
                <a:endCxn id="488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95" name="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200000">
              <a:off x="4398120" y="2042280"/>
              <a:ext cx="136548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2b8a91"/>
                </a:gs>
                <a:gs pos="100000">
                  <a:srgbClr val="133f4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98" name="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2b8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2b8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2b8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503" name="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507" name="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8a91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98440" y="1401480"/>
            <a:ext cx="8595000" cy="4827600"/>
            <a:chOff x="298440" y="1401480"/>
            <a:chExt cx="8595000" cy="4827600"/>
          </a:xfrm>
        </p:grpSpPr>
        <p:sp>
          <p:nvSpPr>
            <p:cNvPr id="515" name=""/>
            <p:cNvSpPr/>
            <p:nvPr/>
          </p:nvSpPr>
          <p:spPr>
            <a:xfrm>
              <a:off x="6775560" y="2905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200600" y="2109600"/>
              <a:ext cx="1344600" cy="1321200"/>
              <a:chOff x="1200600" y="2109600"/>
              <a:chExt cx="1344600" cy="1321200"/>
            </a:xfrm>
          </p:grpSpPr>
          <p:sp>
            <p:nvSpPr>
              <p:cNvPr id="517" name=""/>
              <p:cNvSpPr/>
              <p:nvPr/>
            </p:nvSpPr>
            <p:spPr>
              <a:xfrm rot="3418800">
                <a:off x="1410840" y="226836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507680" y="262728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000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2635560" y="4014360"/>
              <a:ext cx="1344960" cy="1321560"/>
              <a:chOff x="2635560" y="4014360"/>
              <a:chExt cx="1344960" cy="1321560"/>
            </a:xfrm>
          </p:grpSpPr>
          <p:sp>
            <p:nvSpPr>
              <p:cNvPr id="520" name=""/>
              <p:cNvSpPr/>
              <p:nvPr/>
            </p:nvSpPr>
            <p:spPr>
              <a:xfrm rot="3418800">
                <a:off x="2845800" y="4173480"/>
                <a:ext cx="924120" cy="10033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54600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942640" y="453240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705920" y="2862000"/>
              <a:ext cx="1344600" cy="1321200"/>
              <a:chOff x="4705920" y="2862000"/>
              <a:chExt cx="1344600" cy="1321200"/>
            </a:xfrm>
          </p:grpSpPr>
          <p:sp>
            <p:nvSpPr>
              <p:cNvPr id="523" name=""/>
              <p:cNvSpPr/>
              <p:nvPr/>
            </p:nvSpPr>
            <p:spPr>
              <a:xfrm rot="3418800">
                <a:off x="4916160" y="302076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13000" y="337968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055280" y="1401480"/>
              <a:ext cx="1344600" cy="1321200"/>
              <a:chOff x="7055280" y="1401480"/>
              <a:chExt cx="1344600" cy="1321200"/>
            </a:xfrm>
          </p:grpSpPr>
          <p:sp>
            <p:nvSpPr>
              <p:cNvPr id="526" name=""/>
              <p:cNvSpPr/>
              <p:nvPr/>
            </p:nvSpPr>
            <p:spPr>
              <a:xfrm rot="3418800">
                <a:off x="7265520" y="1560240"/>
                <a:ext cx="923760" cy="1003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62360" y="191916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2209680" y="3222720"/>
              <a:ext cx="76212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809880" y="3755880"/>
              <a:ext cx="1067040" cy="609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943600" y="2371680"/>
              <a:ext cx="1295280" cy="7747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14600" y="180648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any History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32160" y="549576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18160" y="44290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8440" y="35910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066680" y="223344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b8a9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087560" y="1542960"/>
            <a:ext cx="7446960" cy="4705560"/>
            <a:chOff x="1087560" y="1542960"/>
            <a:chExt cx="7446960" cy="4705560"/>
          </a:xfrm>
        </p:grpSpPr>
        <p:sp>
          <p:nvSpPr>
            <p:cNvPr id="539" name=""/>
            <p:cNvSpPr/>
            <p:nvPr/>
          </p:nvSpPr>
          <p:spPr>
            <a:xfrm>
              <a:off x="2077920" y="230508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2b8a91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1542960"/>
              <a:ext cx="5791320" cy="57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bcbc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28960" y="2914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087560" y="4178160"/>
              <a:ext cx="1579320" cy="2070360"/>
              <a:chOff x="1087560" y="4178160"/>
              <a:chExt cx="1579320" cy="207036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087560" y="4178160"/>
                <a:ext cx="1485720" cy="1514520"/>
                <a:chOff x="1087560" y="4178160"/>
                <a:chExt cx="1485720" cy="151452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1087560" y="4178160"/>
                  <a:ext cx="1485720" cy="1514520"/>
                  <a:chOff x="1087560" y="4178160"/>
                  <a:chExt cx="1485720" cy="151452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087560" y="4178160"/>
                    <a:ext cx="148572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a16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257120" y="420300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1245240" y="49492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1087560" y="5810400"/>
                <a:ext cx="1579320" cy="43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992320" y="4178160"/>
              <a:ext cx="1617480" cy="2070360"/>
              <a:chOff x="2992320" y="4178160"/>
              <a:chExt cx="1617480" cy="207036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2992320" y="4178160"/>
                <a:ext cx="1523880" cy="1521000"/>
                <a:chOff x="2992320" y="4178160"/>
                <a:chExt cx="1523880" cy="15210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2992320" y="417816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166560" y="42033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>
                <a:off x="3068280" y="49086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30480" y="5810400"/>
                <a:ext cx="1579320" cy="43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049720" y="4133880"/>
              <a:ext cx="1631880" cy="2114640"/>
              <a:chOff x="5049720" y="4133880"/>
              <a:chExt cx="1631880" cy="21146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049720" y="4133880"/>
                <a:ext cx="1523880" cy="1521000"/>
                <a:chOff x="5049720" y="4133880"/>
                <a:chExt cx="1523880" cy="15210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049720" y="41338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b8a91"/>
                    </a:gs>
                    <a:gs pos="100000">
                      <a:srgbClr val="1646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223960" y="41590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2b8a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5125680" y="48639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101920" y="581040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954840" y="4133880"/>
              <a:ext cx="1579680" cy="2114640"/>
              <a:chOff x="6954840" y="4133880"/>
              <a:chExt cx="1579680" cy="211464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6954840" y="4133880"/>
                <a:ext cx="1524240" cy="1531800"/>
                <a:chOff x="6954840" y="4133880"/>
                <a:chExt cx="1524240" cy="153180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6954840" y="4133880"/>
                  <a:ext cx="1524240" cy="1531800"/>
                  <a:chOff x="6954840" y="4133880"/>
                  <a:chExt cx="1524240" cy="15318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6954840" y="4133880"/>
                    <a:ext cx="152424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129080" y="415908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7098120" y="48477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6954840" y="581040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569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b8a91"/>
                </a:gs>
                <a:gs pos="100000">
                  <a:srgbClr val="1d5f64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2d2fe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d528d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81080" y="2057400"/>
            <a:ext cx="5410440" cy="665280"/>
            <a:chOff x="1981080" y="2057400"/>
            <a:chExt cx="5410440" cy="665280"/>
          </a:xfrm>
        </p:grpSpPr>
        <p:grpSp>
          <p:nvGrpSpPr>
            <p:cNvPr id="91" name=""/>
            <p:cNvGrpSpPr/>
            <p:nvPr/>
          </p:nvGrpSpPr>
          <p:grpSpPr>
            <a:xfrm>
              <a:off x="1981080" y="2057400"/>
              <a:ext cx="762120" cy="665280"/>
              <a:chOff x="1981080" y="2057400"/>
              <a:chExt cx="762120" cy="665280"/>
            </a:xfrm>
          </p:grpSpPr>
          <p:sp>
            <p:nvSpPr>
              <p:cNvPr id="92" name=""/>
              <p:cNvSpPr/>
              <p:nvPr/>
            </p:nvSpPr>
            <p:spPr>
              <a:xfrm>
                <a:off x="1987200" y="20685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81080" y="2057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25360" y="209664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590920" y="26668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4520" y="2133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80160" y="21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81080" y="2971800"/>
            <a:ext cx="5410440" cy="665280"/>
            <a:chOff x="1981080" y="2971800"/>
            <a:chExt cx="5410440" cy="665280"/>
          </a:xfrm>
        </p:grpSpPr>
        <p:grpSp>
          <p:nvGrpSpPr>
            <p:cNvPr id="99" name=""/>
            <p:cNvGrpSpPr/>
            <p:nvPr/>
          </p:nvGrpSpPr>
          <p:grpSpPr>
            <a:xfrm>
              <a:off x="1981080" y="2971800"/>
              <a:ext cx="761760" cy="665280"/>
              <a:chOff x="1981080" y="2971800"/>
              <a:chExt cx="761760" cy="665280"/>
            </a:xfrm>
          </p:grpSpPr>
          <p:sp>
            <p:nvSpPr>
              <p:cNvPr id="100" name=""/>
              <p:cNvSpPr/>
              <p:nvPr/>
            </p:nvSpPr>
            <p:spPr>
              <a:xfrm>
                <a:off x="1987200" y="29829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81080" y="2971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25360" y="301104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590920" y="35812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4520" y="3048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8016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81080" y="3863880"/>
            <a:ext cx="5410440" cy="665280"/>
            <a:chOff x="1981080" y="3863880"/>
            <a:chExt cx="5410440" cy="665280"/>
          </a:xfrm>
        </p:grpSpPr>
        <p:grpSp>
          <p:nvGrpSpPr>
            <p:cNvPr id="107" name=""/>
            <p:cNvGrpSpPr/>
            <p:nvPr/>
          </p:nvGrpSpPr>
          <p:grpSpPr>
            <a:xfrm>
              <a:off x="1981080" y="3863880"/>
              <a:ext cx="762120" cy="665280"/>
              <a:chOff x="1981080" y="3863880"/>
              <a:chExt cx="762120" cy="665280"/>
            </a:xfrm>
          </p:grpSpPr>
          <p:sp>
            <p:nvSpPr>
              <p:cNvPr id="108" name=""/>
              <p:cNvSpPr/>
              <p:nvPr/>
            </p:nvSpPr>
            <p:spPr>
              <a:xfrm>
                <a:off x="1987200" y="3875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81080" y="3863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25360" y="39031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590920" y="4473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4520" y="3940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8016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4778280"/>
            <a:ext cx="5410440" cy="665280"/>
            <a:chOff x="1981080" y="4778280"/>
            <a:chExt cx="5410440" cy="665280"/>
          </a:xfrm>
        </p:grpSpPr>
        <p:grpSp>
          <p:nvGrpSpPr>
            <p:cNvPr id="115" name=""/>
            <p:cNvGrpSpPr/>
            <p:nvPr/>
          </p:nvGrpSpPr>
          <p:grpSpPr>
            <a:xfrm>
              <a:off x="1981080" y="4778280"/>
              <a:ext cx="761760" cy="665280"/>
              <a:chOff x="1981080" y="4778280"/>
              <a:chExt cx="761760" cy="665280"/>
            </a:xfrm>
          </p:grpSpPr>
          <p:sp>
            <p:nvSpPr>
              <p:cNvPr id="116" name=""/>
              <p:cNvSpPr/>
              <p:nvPr/>
            </p:nvSpPr>
            <p:spPr>
              <a:xfrm>
                <a:off x="1987200" y="4789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81080" y="4778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25360" y="48175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90920" y="53881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520" y="48546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8016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763640" y="2712960"/>
            <a:ext cx="568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b8a91"/>
                    </a:gs>
                    <a:gs pos="100000">
                      <a:srgbClr val="9999ff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b8a91"/>
                  </a:gs>
                  <a:gs pos="100000">
                    <a:srgbClr val="9999ff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610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2b8a91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2b8a91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2b8a91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2b8a91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54100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[Image information in product]</a:t>
            </a:r>
            <a:br>
              <a:rPr sz="900"/>
            </a:b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● Title Master- www.iclickart.co.kr  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● Slide Master –www.iclickart.co.kr 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● Note to customers: This image has been licensed to be used within this PowerPoint template only. 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   </a:t>
            </a:r>
            <a:r>
              <a:rPr b="0" lang="en-US" sz="900" spc="-1" strike="noStrike">
                <a:solidFill>
                  <a:srgbClr val="1d528d"/>
                </a:solidFill>
                <a:latin typeface="Arial"/>
                <a:ea typeface="宋体"/>
              </a:rPr>
              <a:t>You may not extract the image for any other use.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27" name="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bd5c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1" name="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b4d5d7"/>
                  </a:gs>
                  <a:gs pos="100000">
                    <a:srgbClr val="2b8a9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2b8a91">
                      <a:alpha val="48235"/>
                    </a:srgbClr>
                  </a:gs>
                  <a:gs pos="100000">
                    <a:srgbClr val="216c7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2b8a91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141" name="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35812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ucaiFengba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2120" y="1493640"/>
            <a:ext cx="7328520" cy="4583520"/>
            <a:chOff x="762120" y="1493640"/>
            <a:chExt cx="7328520" cy="4583520"/>
          </a:xfrm>
        </p:grpSpPr>
        <p:sp>
          <p:nvSpPr>
            <p:cNvPr id="146" name=""/>
            <p:cNvSpPr/>
            <p:nvPr/>
          </p:nvSpPr>
          <p:spPr>
            <a:xfrm rot="20241600">
              <a:off x="139176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4343040" y="2514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700992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2895120" y="53337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5486040" y="47239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2057040" y="3885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2104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85800" y="31464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b8a91"/>
                </a:gs>
                <a:gs pos="100000">
                  <a:srgbClr val="0d2b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70240" y="4613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a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38760" y="4068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64160" y="20257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3400" y="3541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6680" y="2224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36680" y="2463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4400" y="44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34480" y="5002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4290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02080" y="22240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64" name=""/>
            <p:cNvCxnSpPr/>
            <p:nvPr/>
          </p:nvCxnSpPr>
          <p:spPr>
            <a:xfrm flipH="1">
              <a:off x="886680" y="22237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65" name=""/>
            <p:cNvSpPr/>
            <p:nvPr/>
          </p:nvSpPr>
          <p:spPr>
            <a:xfrm>
              <a:off x="762120" y="18288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8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33f42"/>
                </a:gs>
                <a:gs pos="50000">
                  <a:srgbClr val="2b8a91"/>
                </a:gs>
                <a:gs pos="100000">
                  <a:srgbClr val="133f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8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9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f42"/>
                </a:gs>
                <a:gs pos="50000">
                  <a:srgbClr val="2b8a91"/>
                </a:gs>
                <a:gs pos="100000">
                  <a:srgbClr val="133f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f42"/>
                </a:gs>
                <a:gs pos="50000">
                  <a:srgbClr val="2b8a91"/>
                </a:gs>
                <a:gs pos="100000">
                  <a:srgbClr val="133f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f42"/>
                </a:gs>
                <a:gs pos="50000">
                  <a:srgbClr val="2b8a91"/>
                </a:gs>
                <a:gs pos="100000">
                  <a:srgbClr val="133f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214" name="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28" name="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33f42"/>
                  </a:gs>
                  <a:gs pos="5000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b8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b86e00"/>
                  </a:gs>
                  <a:gs pos="50000">
                    <a:srgbClr val="ff9900"/>
                  </a:gs>
                  <a:gs pos="100000">
                    <a:srgbClr val="b86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e6eb8"/>
                  </a:gs>
                  <a:gs pos="50000">
                    <a:srgbClr val="9999ff"/>
                  </a:gs>
                  <a:gs pos="100000">
                    <a:srgbClr val="6e6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1f6368"/>
                  </a:gs>
                  <a:gs pos="50000">
                    <a:srgbClr val="2b8a91"/>
                  </a:gs>
                  <a:gs pos="100000">
                    <a:srgbClr val="1f63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2b8a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100000">
                <a:srgbClr val="feb7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b7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admin</cp:lastModifiedBy>
  <dcterms:modified xsi:type="dcterms:W3CDTF">2015-01-19T02:25:24Z</dcterms:modified>
  <cp:revision>80</cp:revision>
  <dc:subject/>
  <dc:title>PowerPoint Template</dc:title>
</cp:coreProperties>
</file>