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C903-6707-45F6-88A5-CCC636CB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E72-C47D-4579-AA21-2343E9A5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0D29-B36D-410F-AEB6-9CE8E15B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F2BF-A46A-47F1-BC49-2EA64A13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FF7-B91C-4B6E-813D-CDC29573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80D5-C9EF-4184-96A5-5E1D2D32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507-95D6-4BFF-AB9E-5A7A25B4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BB97-E59C-4841-BCEB-619AB455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B543-F03C-4ECB-8CC9-47D0A220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0C1-A1B1-417E-A4DC-19283100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8EDA-0EA3-4C19-AB5F-8F2CD722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CFEA-6945-49A8-89A8-AF6C9292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415800" indent="4158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8319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248120" indent="-4158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63920" indent="-8319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3F48-F2D0-4584-AEC9-7FAF7192818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A595-4675-4C56-ACDC-CF201BBF81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157480" y="199224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3633120" y="31464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标题</a:t>
            </a:r>
            <a:r>
              <a:rPr b="0" lang="en-US" sz="24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92752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363384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434196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505008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3"/>
          <p:cNvSpPr/>
          <p:nvPr/>
        </p:nvSpPr>
        <p:spPr>
          <a:xfrm>
            <a:off x="575784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5"/>
          <p:cNvSpPr/>
          <p:nvPr/>
        </p:nvSpPr>
        <p:spPr>
          <a:xfrm>
            <a:off x="646596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157480" y="199548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0"/>
          <p:cNvSpPr/>
          <p:nvPr/>
        </p:nvSpPr>
        <p:spPr>
          <a:xfrm>
            <a:off x="292752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1"/>
          <p:cNvSpPr/>
          <p:nvPr/>
        </p:nvSpPr>
        <p:spPr>
          <a:xfrm>
            <a:off x="363384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2"/>
          <p:cNvSpPr/>
          <p:nvPr/>
        </p:nvSpPr>
        <p:spPr>
          <a:xfrm>
            <a:off x="434196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3"/>
          <p:cNvSpPr/>
          <p:nvPr/>
        </p:nvSpPr>
        <p:spPr>
          <a:xfrm>
            <a:off x="505008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4"/>
          <p:cNvSpPr/>
          <p:nvPr/>
        </p:nvSpPr>
        <p:spPr>
          <a:xfrm>
            <a:off x="575784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5"/>
          <p:cNvSpPr/>
          <p:nvPr/>
        </p:nvSpPr>
        <p:spPr>
          <a:xfrm>
            <a:off x="646596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3735360" y="3619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答辩人：某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4700000">
                                      <p:cBhvr>
                                        <p:cTn id="6" dur="5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50"/>
                            </p:stCondLst>
                            <p:childTnLst>
                              <p:par>
                                <p:cTn id="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9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6600000">
                                      <p:cBhvr>
                                        <p:cTn id="11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6000000">
                                      <p:cBhvr>
                                        <p:cTn id="13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5" dur="5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5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5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4700000">
                                      <p:cBhvr>
                                        <p:cTn id="20" dur="6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22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24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850"/>
                            </p:stCondLst>
                            <p:childTnLst>
                              <p:par>
                                <p:cTn id="26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27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29" dur="7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7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34" dur="6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36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38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150"/>
                            </p:stCondLst>
                            <p:childTnLst>
                              <p:par>
                                <p:cTn id="4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41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43" dur="7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" dur="7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48" dur="6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50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52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450"/>
                            </p:stCondLst>
                            <p:childTnLst>
                              <p:par>
                                <p:cTn id="54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55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57" dur="7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7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14700000">
                                      <p:cBhvr>
                                        <p:cTn id="62" dur="6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7200000">
                                      <p:cBhvr>
                                        <p:cTn id="64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600000">
                                      <p:cBhvr>
                                        <p:cTn id="66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6000000">
                                      <p:cBhvr>
                                        <p:cTn id="68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70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10">
                                  <p:stCondLst>
                                    <p:cond delay="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75" dur="6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77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79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750"/>
                            </p:stCondLst>
                            <p:childTnLst>
                              <p:par>
                                <p:cTn id="81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82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84" dur="7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" dur="7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89" dur="6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91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93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050"/>
                            </p:stCondLst>
                            <p:childTnLst>
                              <p:par>
                                <p:cTn id="9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96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98" dur="7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7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103" dur="6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105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107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350"/>
                            </p:stCondLst>
                            <p:childTnLst>
                              <p:par>
                                <p:cTn id="10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110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12" dur="7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7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50"/>
                            </p:stCondLst>
                            <p:childTnLst>
                              <p:par>
                                <p:cTn id="11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118" dur="3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2.22222E-006 L 0 0.36305 E">
                                      <p:cBhvr>
                                        <p:cTn id="120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900000">
                                      <p:cBhvr>
                                        <p:cTn id="122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36194 L 0.37795 0.36028 E">
                                      <p:cBhvr>
                                        <p:cTn id="126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5"/>
          <p:cNvSpPr/>
          <p:nvPr/>
        </p:nvSpPr>
        <p:spPr>
          <a:xfrm>
            <a:off x="5649840" y="-739800"/>
            <a:ext cx="285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6006960" y="-73980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6305400" y="-739800"/>
            <a:ext cx="142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6519960" y="-739800"/>
            <a:ext cx="214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>
            <a:off x="6864480" y="-739800"/>
            <a:ext cx="72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5649840" y="2260440"/>
            <a:ext cx="28584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010200" y="2260440"/>
            <a:ext cx="7164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2"/>
          <p:cNvSpPr/>
          <p:nvPr/>
        </p:nvSpPr>
        <p:spPr>
          <a:xfrm>
            <a:off x="6307200" y="2260440"/>
            <a:ext cx="14292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3"/>
          <p:cNvSpPr/>
          <p:nvPr/>
        </p:nvSpPr>
        <p:spPr>
          <a:xfrm>
            <a:off x="6521400" y="2260440"/>
            <a:ext cx="21420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4"/>
          <p:cNvSpPr/>
          <p:nvPr/>
        </p:nvSpPr>
        <p:spPr>
          <a:xfrm>
            <a:off x="6867360" y="2260440"/>
            <a:ext cx="7164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5"/>
          <p:cNvSpPr/>
          <p:nvPr/>
        </p:nvSpPr>
        <p:spPr>
          <a:xfrm>
            <a:off x="5372280" y="180504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6164280" y="201312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7"/>
          <p:cNvSpPr/>
          <p:nvPr/>
        </p:nvSpPr>
        <p:spPr>
          <a:xfrm>
            <a:off x="5649840" y="-739800"/>
            <a:ext cx="285840" cy="26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8"/>
          <p:cNvSpPr/>
          <p:nvPr/>
        </p:nvSpPr>
        <p:spPr>
          <a:xfrm>
            <a:off x="6006960" y="-739800"/>
            <a:ext cx="73080" cy="26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9"/>
          <p:cNvSpPr/>
          <p:nvPr/>
        </p:nvSpPr>
        <p:spPr>
          <a:xfrm>
            <a:off x="6305400" y="-739800"/>
            <a:ext cx="14292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0"/>
          <p:cNvSpPr/>
          <p:nvPr/>
        </p:nvSpPr>
        <p:spPr>
          <a:xfrm>
            <a:off x="6519960" y="-739800"/>
            <a:ext cx="21420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1"/>
          <p:cNvSpPr/>
          <p:nvPr/>
        </p:nvSpPr>
        <p:spPr>
          <a:xfrm>
            <a:off x="6864480" y="-739800"/>
            <a:ext cx="7272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7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7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7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7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7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7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7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700"/>
                            </p:stCondLst>
                            <p:childTnLst>
                              <p:par>
                                <p:cTn id="428" dur="indefinite" nodeType="after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dur="indefinite" nodeType="after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5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900"/>
                            </p:stCondLst>
                            <p:childTnLst>
                              <p:par>
                                <p:cTn id="49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8"/>
          <p:cNvSpPr/>
          <p:nvPr/>
        </p:nvSpPr>
        <p:spPr>
          <a:xfrm>
            <a:off x="-2493720" y="490536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: 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7"/>
          <p:cNvSpPr/>
          <p:nvPr/>
        </p:nvSpPr>
        <p:spPr>
          <a:xfrm>
            <a:off x="-69840" y="5162400"/>
            <a:ext cx="3349440" cy="0"/>
          </a:xfrm>
          <a:prstGeom prst="line">
            <a:avLst/>
          </a:prstGeom>
          <a:ln w="31680">
            <a:solidFill>
              <a:srgbClr val="ffc000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31"/>
          <p:cNvSpPr/>
          <p:nvPr/>
        </p:nvSpPr>
        <p:spPr>
          <a:xfrm>
            <a:off x="5889600" y="5162400"/>
            <a:ext cx="3349800" cy="0"/>
          </a:xfrm>
          <a:prstGeom prst="line">
            <a:avLst/>
          </a:prstGeom>
          <a:ln w="31680">
            <a:solidFill>
              <a:srgbClr val="ffc000"/>
            </a:solidFill>
            <a:bevel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33"/>
          <p:cNvSpPr/>
          <p:nvPr/>
        </p:nvSpPr>
        <p:spPr>
          <a:xfrm>
            <a:off x="1979640" y="3002040"/>
            <a:ext cx="1299960" cy="2160360"/>
          </a:xfrm>
          <a:prstGeom prst="line">
            <a:avLst/>
          </a:prstGeom>
          <a:ln w="57240">
            <a:solidFill>
              <a:srgbClr val="ffc000"/>
            </a:solidFill>
            <a:bevel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5"/>
          <p:cNvSpPr/>
          <p:nvPr/>
        </p:nvSpPr>
        <p:spPr>
          <a:xfrm flipV="1">
            <a:off x="1979640" y="1201320"/>
            <a:ext cx="1008000" cy="1800360"/>
          </a:xfrm>
          <a:prstGeom prst="line">
            <a:avLst/>
          </a:prstGeom>
          <a:ln w="57240">
            <a:solidFill>
              <a:srgbClr val="ffc000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37"/>
          <p:cNvSpPr/>
          <p:nvPr/>
        </p:nvSpPr>
        <p:spPr>
          <a:xfrm>
            <a:off x="2987640" y="1201680"/>
            <a:ext cx="2736720" cy="216000"/>
          </a:xfrm>
          <a:prstGeom prst="line">
            <a:avLst/>
          </a:prstGeom>
          <a:ln w="57240">
            <a:solidFill>
              <a:srgbClr val="ffc000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39"/>
          <p:cNvSpPr/>
          <p:nvPr/>
        </p:nvSpPr>
        <p:spPr>
          <a:xfrm>
            <a:off x="5724360" y="1417680"/>
            <a:ext cx="1224000" cy="2160720"/>
          </a:xfrm>
          <a:prstGeom prst="line">
            <a:avLst/>
          </a:prstGeom>
          <a:ln w="5724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41"/>
          <p:cNvSpPr/>
          <p:nvPr/>
        </p:nvSpPr>
        <p:spPr>
          <a:xfrm flipH="1">
            <a:off x="5889240" y="3578400"/>
            <a:ext cx="1058760" cy="1584000"/>
          </a:xfrm>
          <a:prstGeom prst="line">
            <a:avLst/>
          </a:prstGeom>
          <a:ln w="5724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3"/>
          <p:cNvSpPr/>
          <p:nvPr/>
        </p:nvSpPr>
        <p:spPr>
          <a:xfrm>
            <a:off x="3191040" y="50594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43"/>
          <p:cNvSpPr/>
          <p:nvPr/>
        </p:nvSpPr>
        <p:spPr>
          <a:xfrm>
            <a:off x="2292480" y="453960"/>
            <a:ext cx="1390680" cy="1443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44"/>
          <p:cNvSpPr/>
          <p:nvPr/>
        </p:nvSpPr>
        <p:spPr>
          <a:xfrm>
            <a:off x="4619520" y="284040"/>
            <a:ext cx="2210040" cy="219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验证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45"/>
          <p:cNvSpPr/>
          <p:nvPr/>
        </p:nvSpPr>
        <p:spPr>
          <a:xfrm>
            <a:off x="6299280" y="2884320"/>
            <a:ext cx="1252440" cy="130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42"/>
          <p:cNvSpPr/>
          <p:nvPr/>
        </p:nvSpPr>
        <p:spPr>
          <a:xfrm>
            <a:off x="1173240" y="2281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11111E-006 L 0.63698 0.00472 E">
                                      <p:cBhvr>
                                        <p:cTn id="132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-0.14427 -0.37889 E">
                                      <p:cBhvr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"/>
                            </p:stCondLst>
                            <p:childTnLst>
                              <p:par>
                                <p:cTn id="1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427 -0.37889 L -0.03402 -0.69389 E">
                                      <p:cBhvr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0"/>
                            </p:stCondLst>
                            <p:childTnLst>
                              <p:par>
                                <p:cTn id="1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02 -0.69389 L 0.26528 -0.65611 E">
                                      <p:cBhvr>
                                        <p:cTn id="18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00"/>
                            </p:stCondLst>
                            <p:childTnLst>
                              <p:par>
                                <p:cTn id="1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528 -0.65611 L 0.39914 -0.29084 E">
                                      <p:cBhvr>
                                        <p:cTn id="20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00"/>
                            </p:stCondLst>
                            <p:childTnLst>
                              <p:par>
                                <p:cTn id="2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914 -0.2775 L 0.28091 -0.00028 E">
                                      <p:cBhvr>
                                        <p:cTn id="22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091 -0.00084 L 0.69046 -0.00084 E">
                                      <p:cBhvr>
                                        <p:cTn id="233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椭圆 3"/>
          <p:cNvSpPr/>
          <p:nvPr/>
        </p:nvSpPr>
        <p:spPr>
          <a:xfrm>
            <a:off x="3808440" y="1849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4"/>
          <p:cNvSpPr/>
          <p:nvPr/>
        </p:nvSpPr>
        <p:spPr>
          <a:xfrm>
            <a:off x="-69840" y="5162400"/>
            <a:ext cx="1041480" cy="0"/>
          </a:xfrm>
          <a:prstGeom prst="line">
            <a:avLst/>
          </a:prstGeom>
          <a:ln w="3168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6"/>
          <p:cNvSpPr/>
          <p:nvPr/>
        </p:nvSpPr>
        <p:spPr>
          <a:xfrm flipV="1">
            <a:off x="971640" y="2641680"/>
            <a:ext cx="1800000" cy="2520720"/>
          </a:xfrm>
          <a:prstGeom prst="line">
            <a:avLst/>
          </a:prstGeom>
          <a:ln w="3168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15"/>
          <p:cNvSpPr/>
          <p:nvPr/>
        </p:nvSpPr>
        <p:spPr>
          <a:xfrm>
            <a:off x="2771640" y="2641680"/>
            <a:ext cx="1008360" cy="9360"/>
          </a:xfrm>
          <a:prstGeom prst="line">
            <a:avLst/>
          </a:prstGeom>
          <a:ln w="3168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20"/>
          <p:cNvSpPr/>
          <p:nvPr/>
        </p:nvSpPr>
        <p:spPr>
          <a:xfrm>
            <a:off x="5315040" y="2651040"/>
            <a:ext cx="1417680" cy="7920"/>
          </a:xfrm>
          <a:prstGeom prst="line">
            <a:avLst/>
          </a:prstGeom>
          <a:ln w="3168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22"/>
          <p:cNvSpPr/>
          <p:nvPr/>
        </p:nvSpPr>
        <p:spPr>
          <a:xfrm>
            <a:off x="6732720" y="2660760"/>
            <a:ext cx="934920" cy="2501640"/>
          </a:xfrm>
          <a:prstGeom prst="line">
            <a:avLst/>
          </a:prstGeom>
          <a:ln w="3168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27"/>
          <p:cNvSpPr/>
          <p:nvPr/>
        </p:nvSpPr>
        <p:spPr>
          <a:xfrm>
            <a:off x="7667640" y="5162400"/>
            <a:ext cx="1584360" cy="0"/>
          </a:xfrm>
          <a:prstGeom prst="line">
            <a:avLst/>
          </a:prstGeom>
          <a:ln w="3168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1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D61F-5CB6-4ADC-8271-B3C2B5D3D159}" type="slidenum">
              <a:t>3</a:t>
            </a:fld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63076E-006 L 0.09444 -0.00083 E">
                                      <p:cBhvr>
                                        <p:cTn id="239" dur="4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"/>
                            </p:stCondLst>
                            <p:childTnLst>
                              <p:par>
                                <p:cTn id="24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-0.00083 L 0.29132 -0.44169 E">
                                      <p:cBhvr>
                                        <p:cTn id="242" dur="4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00"/>
                            </p:stCondLst>
                            <p:childTnLst>
                              <p:par>
                                <p:cTn id="24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32 -0.44169 L 0.40156 -0.44169 E">
                                      <p:cBhvr>
                                        <p:cTn id="245" dur="2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0.44169 C 0.39513 -0.45141 0.39757 -0.46113 0.39878 -0.47084 C 0.4 -0.48139 0.39843 -0.49361 0.40208 -0.50249 C 0.40555 -0.51166 0.41041 -0.51582 0.41527 -0.52359 C 0.41736 -0.5347 0.41979 -0.53498 0.42517 -0.54219 C 0.43072 -0.54913 0.43541 -0.55802 0.4401 -0.56635 C 0.44375 -0.57218 0.44288 -0.57634 0.44843 -0.5794 C 0.45225 -0.58106 0.45625 -0.58134 0.46007 -0.58217 C 0.46736 -0.58606 0.47447 -0.58883 0.48159 -0.59244 C 0.50243 -0.58939 0.50052 -0.58661 0.51805 -0.57662 C 0.5217 -0.57468 0.52604 -0.5744 0.52968 -0.57134 C 0.53784 -0.56496 0.53177 -0.56829 0.53802 -0.56079 C 0.54132 -0.55691 0.54809 -0.55025 0.54809 -0.54997 C 0.5526 -0.5397 0.55538 -0.52887 0.55972 -0.51832 C 0.56145 -0.50666 0.56267 -0.49555 0.56788 -0.48667 C 0.57135 -0.47084 0.57465 -0.45585 0.57465 -0.43892 E">
                                      <p:cBhvr>
                                        <p:cTn id="249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65 -0.43892 L 0.72447 -0.44169 E">
                                      <p:cBhvr>
                                        <p:cTn id="252" dur="3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"/>
                            </p:stCondLst>
                            <p:childTnLst>
                              <p:par>
                                <p:cTn id="25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447 -0.44169 L 0.82673 -0.00083 E">
                                      <p:cBhvr>
                                        <p:cTn id="255" dur="4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"/>
                            </p:stCondLst>
                            <p:childTnLst>
                              <p:par>
                                <p:cTn id="257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673 -0.00083 L 1.00798 -0.00083 E">
                                      <p:cBhvr>
                                        <p:cTn id="258" dur="2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12"/>
          <p:cNvSpPr/>
          <p:nvPr/>
        </p:nvSpPr>
        <p:spPr>
          <a:xfrm rot="19164600">
            <a:off x="-847800" y="318960"/>
            <a:ext cx="360036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资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34"/>
          <p:cNvGrpSpPr/>
          <p:nvPr/>
        </p:nvGrpSpPr>
        <p:grpSpPr>
          <a:xfrm>
            <a:off x="6956280" y="-1766880"/>
            <a:ext cx="1930680" cy="1457640"/>
            <a:chOff x="6956280" y="-1766880"/>
            <a:chExt cx="1930680" cy="1457640"/>
          </a:xfrm>
        </p:grpSpPr>
        <p:sp>
          <p:nvSpPr>
            <p:cNvPr id="80" name="椭圆​​ 24"/>
            <p:cNvSpPr/>
            <p:nvPr/>
          </p:nvSpPr>
          <p:spPr>
            <a:xfrm>
              <a:off x="7180200" y="-10364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椭圆​​ 25"/>
            <p:cNvSpPr/>
            <p:nvPr/>
          </p:nvSpPr>
          <p:spPr>
            <a:xfrm>
              <a:off x="8464320" y="-10364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圆角矩形​​ 26"/>
            <p:cNvSpPr/>
            <p:nvPr/>
          </p:nvSpPr>
          <p:spPr>
            <a:xfrm>
              <a:off x="6956280" y="-904320"/>
              <a:ext cx="1930680" cy="59508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23"/>
            <p:cNvSpPr/>
            <p:nvPr/>
          </p:nvSpPr>
          <p:spPr>
            <a:xfrm>
              <a:off x="7047360" y="-83268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Firm-b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​​ 22"/>
            <p:cNvSpPr/>
            <p:nvPr/>
          </p:nvSpPr>
          <p:spPr>
            <a:xfrm flipV="1">
              <a:off x="7289640" y="-1766880"/>
              <a:ext cx="10080" cy="73008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​​ 23"/>
            <p:cNvSpPr/>
            <p:nvPr/>
          </p:nvSpPr>
          <p:spPr>
            <a:xfrm flipV="1">
              <a:off x="8573400" y="-1766880"/>
              <a:ext cx="3600" cy="73008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直接连接符 35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燕尾形 38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燕尾形 39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1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2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3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4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45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8"/>
          <p:cNvGrpSpPr/>
          <p:nvPr/>
        </p:nvGrpSpPr>
        <p:grpSpPr>
          <a:xfrm>
            <a:off x="684360" y="1906560"/>
            <a:ext cx="1511280" cy="1511280"/>
            <a:chOff x="684360" y="1906560"/>
            <a:chExt cx="1511280" cy="1511280"/>
          </a:xfrm>
        </p:grpSpPr>
        <p:sp>
          <p:nvSpPr>
            <p:cNvPr id="98" name="椭圆​​ 2"/>
            <p:cNvSpPr/>
            <p:nvPr/>
          </p:nvSpPr>
          <p:spPr>
            <a:xfrm>
              <a:off x="684360" y="1906560"/>
              <a:ext cx="151128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​​ 11"/>
            <p:cNvSpPr/>
            <p:nvPr/>
          </p:nvSpPr>
          <p:spPr>
            <a:xfrm>
              <a:off x="744840" y="245880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irm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6"/>
          <p:cNvGrpSpPr/>
          <p:nvPr/>
        </p:nvGrpSpPr>
        <p:grpSpPr>
          <a:xfrm>
            <a:off x="3726000" y="1916280"/>
            <a:ext cx="1944720" cy="1942920"/>
            <a:chOff x="3726000" y="1916280"/>
            <a:chExt cx="1944720" cy="1942920"/>
          </a:xfrm>
        </p:grpSpPr>
        <p:sp>
          <p:nvSpPr>
            <p:cNvPr id="101" name="椭圆​​ 3"/>
            <p:cNvSpPr/>
            <p:nvPr/>
          </p:nvSpPr>
          <p:spPr>
            <a:xfrm>
              <a:off x="3726000" y="1916280"/>
              <a:ext cx="1944720" cy="1942920"/>
            </a:xfrm>
            <a:prstGeom prst="ellipse">
              <a:avLst/>
            </a:prstGeom>
            <a:solidFill>
              <a:srgbClr val="00b0f0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​​ 12"/>
            <p:cNvSpPr/>
            <p:nvPr/>
          </p:nvSpPr>
          <p:spPr>
            <a:xfrm>
              <a:off x="3859560" y="2693880"/>
              <a:ext cx="171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rand Equ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7"/>
          <p:cNvGrpSpPr/>
          <p:nvPr/>
        </p:nvGrpSpPr>
        <p:grpSpPr>
          <a:xfrm>
            <a:off x="7020000" y="1906560"/>
            <a:ext cx="1512720" cy="1511280"/>
            <a:chOff x="7020000" y="1906560"/>
            <a:chExt cx="1512720" cy="1511280"/>
          </a:xfrm>
        </p:grpSpPr>
        <p:sp>
          <p:nvSpPr>
            <p:cNvPr id="104" name="椭圆​​ 4"/>
            <p:cNvSpPr/>
            <p:nvPr/>
          </p:nvSpPr>
          <p:spPr>
            <a:xfrm>
              <a:off x="7020000" y="1906560"/>
              <a:ext cx="151272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​​ 13"/>
            <p:cNvSpPr/>
            <p:nvPr/>
          </p:nvSpPr>
          <p:spPr>
            <a:xfrm>
              <a:off x="7120800" y="2353320"/>
              <a:ext cx="136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onsume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直接连接符 4"/>
          <p:cNvSpPr/>
          <p:nvPr/>
        </p:nvSpPr>
        <p:spPr>
          <a:xfrm>
            <a:off x="2195640" y="2662200"/>
            <a:ext cx="1530360" cy="22536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57"/>
          <p:cNvSpPr/>
          <p:nvPr/>
        </p:nvSpPr>
        <p:spPr>
          <a:xfrm flipV="1">
            <a:off x="5705640" y="2661840"/>
            <a:ext cx="1314360" cy="298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58"/>
          <p:cNvGrpSpPr/>
          <p:nvPr/>
        </p:nvGrpSpPr>
        <p:grpSpPr>
          <a:xfrm>
            <a:off x="6928200" y="-1766880"/>
            <a:ext cx="2015640" cy="1457640"/>
            <a:chOff x="6928200" y="-1766880"/>
            <a:chExt cx="2015640" cy="1457640"/>
          </a:xfrm>
        </p:grpSpPr>
        <p:sp>
          <p:nvSpPr>
            <p:cNvPr id="109" name="椭圆​​ 24"/>
            <p:cNvSpPr/>
            <p:nvPr/>
          </p:nvSpPr>
          <p:spPr>
            <a:xfrm>
              <a:off x="7173720" y="-10364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​​ 25"/>
            <p:cNvSpPr/>
            <p:nvPr/>
          </p:nvSpPr>
          <p:spPr>
            <a:xfrm>
              <a:off x="8457840" y="-10364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圆角矩形​​ 26"/>
            <p:cNvSpPr/>
            <p:nvPr/>
          </p:nvSpPr>
          <p:spPr>
            <a:xfrm>
              <a:off x="6949800" y="-904320"/>
              <a:ext cx="1930680" cy="59508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62"/>
            <p:cNvSpPr/>
            <p:nvPr/>
          </p:nvSpPr>
          <p:spPr>
            <a:xfrm>
              <a:off x="6928200" y="-813600"/>
              <a:ext cx="20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sumer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​​ 22"/>
            <p:cNvSpPr/>
            <p:nvPr/>
          </p:nvSpPr>
          <p:spPr>
            <a:xfrm flipV="1">
              <a:off x="7283160" y="-1766880"/>
              <a:ext cx="10080" cy="73008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​​ 23"/>
            <p:cNvSpPr/>
            <p:nvPr/>
          </p:nvSpPr>
          <p:spPr>
            <a:xfrm flipV="1">
              <a:off x="8566920" y="-1766880"/>
              <a:ext cx="3600" cy="73008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07083 -0.00084 E">
                                      <p:cBhvr>
                                        <p:cTn id="264" dur="3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"/>
                            </p:stCondLst>
                            <p:childTnLst>
                              <p:par>
                                <p:cTn id="266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0084 L 0.07083 -0.68139 E">
                                      <p:cBhvr>
                                        <p:cTn id="267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"/>
                            </p:stCondLst>
                            <p:childTnLst>
                              <p:par>
                                <p:cTn id="26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"/>
                            </p:stCondLst>
                            <p:childTnLst>
                              <p:par>
                                <p:cTn id="2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1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7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0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3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1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dur="indefinite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4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8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dur="indefinite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31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2316240" y="2077920"/>
            <a:ext cx="35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 rot="2700000">
            <a:off x="6352920" y="539640"/>
            <a:ext cx="360036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34"/>
          <p:cNvGrpSpPr/>
          <p:nvPr/>
        </p:nvGrpSpPr>
        <p:grpSpPr>
          <a:xfrm>
            <a:off x="1204920" y="-1765800"/>
            <a:ext cx="1930320" cy="1458360"/>
            <a:chOff x="1204920" y="-1765800"/>
            <a:chExt cx="1930320" cy="1458360"/>
          </a:xfrm>
        </p:grpSpPr>
        <p:sp>
          <p:nvSpPr>
            <p:cNvPr id="118" name="椭圆​​ 24"/>
            <p:cNvSpPr/>
            <p:nvPr/>
          </p:nvSpPr>
          <p:spPr>
            <a:xfrm>
              <a:off x="1428840" y="-10346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​​ 25"/>
            <p:cNvSpPr/>
            <p:nvPr/>
          </p:nvSpPr>
          <p:spPr>
            <a:xfrm>
              <a:off x="2712600" y="-10346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圆角矩形​​ 26"/>
            <p:cNvSpPr/>
            <p:nvPr/>
          </p:nvSpPr>
          <p:spPr>
            <a:xfrm>
              <a:off x="1204920" y="-902520"/>
              <a:ext cx="1930320" cy="59508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23"/>
            <p:cNvSpPr/>
            <p:nvPr/>
          </p:nvSpPr>
          <p:spPr>
            <a:xfrm>
              <a:off x="1345320" y="-830880"/>
              <a:ext cx="172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in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​​ 22"/>
            <p:cNvSpPr/>
            <p:nvPr/>
          </p:nvSpPr>
          <p:spPr>
            <a:xfrm flipV="1">
              <a:off x="1537920" y="-1765800"/>
              <a:ext cx="10080" cy="73044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​​ 23"/>
            <p:cNvSpPr/>
            <p:nvPr/>
          </p:nvSpPr>
          <p:spPr>
            <a:xfrm flipV="1">
              <a:off x="2821680" y="-1765800"/>
              <a:ext cx="3600" cy="73044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直接连接符 35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燕尾形 38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燕尾形 39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1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2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3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4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24"/>
          <p:cNvSpPr/>
          <p:nvPr/>
        </p:nvSpPr>
        <p:spPr>
          <a:xfrm>
            <a:off x="8605800" y="50655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222E-006 L -1.38889E-006 -0.55639 E">
                                      <p:cBhvr>
                                        <p:cTn id="337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5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dur="indefinite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8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3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dur="indefinite" nodeType="after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-2.22222E-006 L 0.38541 -2.22222E-006 E">
                                      <p:cBhvr>
                                        <p:cTn id="362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直接连接符 43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燕尾形 52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燕尾形 53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燕尾形 54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071800" y="2444760"/>
            <a:ext cx="4967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1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2"/>
          <p:cNvSpPr/>
          <p:nvPr/>
        </p:nvSpPr>
        <p:spPr>
          <a:xfrm>
            <a:off x="2050920" y="336600"/>
            <a:ext cx="471024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111E-006 L 0.26024 -0.0025 E">
                                      <p:cBhvr>
                                        <p:cTn id="368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33333E-006 L 0.93646 0.00444 E">
                                      <p:cBhvr>
                                        <p:cTn id="384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直接连接符 43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燕尾形 52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燕尾形 53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2124000" y="196380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1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燕尾形 14"/>
          <p:cNvSpPr/>
          <p:nvPr/>
        </p:nvSpPr>
        <p:spPr>
          <a:xfrm>
            <a:off x="-1476360" y="488628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47517 0.00416 E">
                                      <p:cBhvr>
                                        <p:cTn id="390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直接连接符 43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燕尾形 52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燕尾形 53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燕尾形 54"/>
          <p:cNvSpPr/>
          <p:nvPr/>
        </p:nvSpPr>
        <p:spPr>
          <a:xfrm>
            <a:off x="289080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2087640" y="1920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Explanatio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1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396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直接连接符 43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燕尾形 52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燕尾形 53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燕尾形 54"/>
          <p:cNvSpPr/>
          <p:nvPr/>
        </p:nvSpPr>
        <p:spPr>
          <a:xfrm>
            <a:off x="48862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2087640" y="1920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llylover 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1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402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6:08:00Z</dcterms:created>
  <dc:creator>Noah</dc:creator>
  <dc:description/>
  <dc:language>en-US</dc:language>
  <cp:lastModifiedBy>jccook</cp:lastModifiedBy>
  <dcterms:modified xsi:type="dcterms:W3CDTF">2015-02-06T02:04:07Z</dcterms:modified>
  <cp:revision>9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