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AFC-6F20-46DB-B544-8CFD7C7B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83A-A2B5-4270-A657-EC7819A0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2DCAA-4991-4DD8-8602-8CCEB034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E3BB7-30FE-4CE4-ADCB-7DDA43F6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BD8CD-8007-4DB3-84C4-26D405AC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964F5-746D-499D-9FA0-A4D18E47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A005D-45A2-411C-91A5-3D7DA6AC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16C65-B4DE-4CB2-8A8B-21E408D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E3CE8-126F-44B2-A40B-FD6E45EC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F2EAE-FD61-4C2F-83ED-E2DD00BD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083BC-1045-4794-98CA-45B6DCC9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16537-D321-4FC4-B219-075F3B55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AC8-66C5-4FE9-A6F1-7AF82F53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A78B0-D6D1-4A61-838B-24909ADE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E0849-0BF5-4CDF-A4B1-F5C9F39E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53B75-2BC3-4D90-8F2A-B4E8CBF1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84982-7519-4D88-AA3C-8FE48F78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0ECDC-4407-4146-BBAB-7EA87D48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07C49-D6FC-441A-BFAB-C33679F3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BA783-4DA6-4080-9C4A-624D9D2F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8CA0-F850-4EFF-9BFC-52217C5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7738B-16FF-4372-B98C-8496BE83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EB7FF-38CA-4FB9-9861-AC4EFF09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82F-1B8B-4E56-95F8-4AAFB768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69A64-0B33-4713-BE69-B9EF95A8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39A46-F873-46BE-84BC-703F48CA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2DF88-19D9-4F06-BAF3-2FD76694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164A4-EDD3-4F13-BF36-5EBF557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2FC6E-57FA-4640-8999-5F20E9F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21871-191C-44DB-9294-9BDA0C4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6CC70-0DF3-4D69-BF16-8BF6FE01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55FC1-9CC2-4C0C-BBE6-A3C5288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DF432-74E3-4C31-B5F6-9E612EF6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D9B53-43D3-411B-83AD-F9C8D31D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5A37-3CF7-48AD-ADCC-DC6AC872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81118-C118-403E-B5B0-7C148A5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CFDBA-7960-4F33-AD5F-05DE6667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31002-E369-4F96-BAAA-E980BD5C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9FAE4-D544-4384-9069-8AD8AB6E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74F3C-0224-499C-9DB6-9B0F6209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86A18-8CB1-4544-AD2C-97D52AF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6780D-7F14-4D9C-95A7-94AA3789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34A79-5553-4E93-859C-CC73B187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50699-E5B4-41A9-84CC-8C07A92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629DB-3167-4D03-B8A8-6FB70C66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B231-3E67-4122-A974-ED1733FD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0477F-534C-4C19-AFC6-53D9192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D08C2-05B6-42E7-9B77-4A0FB9E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7E7BC-B857-4E88-8A8A-C437906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A5CD3-F4F4-4762-9D38-037891A1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EDD75-3678-4FDF-B34C-0B724A84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5BF-026C-405C-9272-59B5399B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425D-4FE6-43F9-A3B6-E89CDCC5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085D-7E90-4C85-8C16-796989A9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0557-C14B-461A-ADA8-DAE397C8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3A34-A1C4-4A84-A428-43838908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D9B-6401-4EEE-8C60-8D5662AE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2274-22E1-44C5-90A7-64AB5416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5A64-1755-4F1C-8715-FDA1F67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4FCE-C4B5-46EB-BDFB-F61A3EC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EF88-2ED3-488F-BFA2-8A77CCDE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068A-41F9-4A21-A4C5-5B3A4EDA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DC55-B055-438B-924E-BB3ADE2B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898C-F85D-43FE-BC69-C21BD2E6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8211-A333-4788-98A0-BC35A632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CBF6-6CBE-451C-9768-A23CDDCA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575D-A506-4DB4-ADC5-FBD5C689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B5C-009B-4D75-8659-D7F52CE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7D6D-B479-4A86-9696-237A7F58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D35E-9CFC-42E6-BBB2-6677D171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D9F3F-B12F-450E-8AE7-04E32559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8A560-BAFD-4215-8970-311020B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AFA2-BD20-4A01-898D-8D7718D2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0460-6725-46AD-8621-CD0B44D2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6063-4376-429A-9F7D-ED8082A9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E4A1-E174-44CF-B87C-6E84049F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1B97-20A2-4350-BF81-2792C976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98268-73B8-4220-804A-2B41FF26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380-E611-4AAD-A2F2-02FFDB78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4B8B-783E-4049-8E69-8E657893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36D3-16C3-4DA5-8970-5F7CB2B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B44B-2D69-4E6F-B47D-C5EAA12E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7081-A4C4-4D78-8454-8BC5B8E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5085-BB71-4CA0-BC48-8D6A779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1F25-23C1-48A5-B012-04E2FA0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8A435-EC89-42A0-AA2D-1F1B3890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18FE-CD2F-4E23-8519-F826D9E1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D0F1-6411-42B2-8269-AF75EC33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F4EB7-A793-4B94-8243-B36B9981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91B-9F2B-4793-8C41-7BAC2860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34DED-AE92-468A-BB9C-4010FC87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1823-8976-4E73-80AD-DC21B870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F398-2179-4474-B71C-66E38600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920C4-3810-462C-931A-2FFAE94C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6BDB3-82DB-40D2-B9AC-80FFA5F6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DB54-5C68-498A-AEDA-B2E105B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053B-ABA8-40B4-A34A-8B71EC44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2B04B-B8E7-4D92-88ED-C5D61DBD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F14D-2779-4C9A-BFB9-2A0A858C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37E8C-1DA5-421A-9DC7-6FB76310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013-E70C-47F2-8F7D-80B48458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095BB-334E-4D71-9B00-0D757AB3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5867-E5E7-4B6B-9D8E-2BB25DCD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A2B66-DA30-46C4-A273-065B7849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947A4-FDFB-4185-84B0-56BBFA6A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0CBC-E4D4-44A6-A508-FF7A52C5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E436D-1F68-4BF2-A256-D0CD32C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C8453-1967-464D-A17C-B6EF42E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4863-1B2D-49D0-8373-E7F3A38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DAB7-1779-4D00-BB32-538DF6F0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43C3B-0362-45AD-BDA3-F29ADC6E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BE7-DCFF-42BB-862E-8CA8EC1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A9955-F24F-4C09-BDEB-51D740E8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38E21-ACD8-445E-98FC-00A94771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78FA6-2FB3-4110-B79E-2C9F3E62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2EBF-CA7F-4A52-9BE3-7684F0DA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999E-7FEC-43EA-89C6-BBCD5A5F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1C3F5-5CD3-4ECC-9F9A-D9C2C638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C0C64-C45E-4828-9864-65F5D0F7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E5A8B-8D90-407C-ABAB-C0E5220B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5837-8225-4064-B0C0-3F0C70DF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D914-76E2-4DB5-8882-6B88AB8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1C4-DCFC-4CB2-AABD-CDF0770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AF140-272B-40A4-BFE3-4204072F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733C9-6E7C-49C8-B4D1-DBE6D506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0BCD-FBAA-4277-B90B-E6540DF2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4BC53-1567-4FCC-99BA-DCEA286F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F5531-D70A-4D15-872C-F3F634E1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8EBB0-CE2F-426D-96DA-55E68454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B7A50-375C-46C0-BBEF-CA7D6D7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3C1C-FC82-4094-B02C-5DAC9B97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33A3B-F5A9-4861-8F17-9551B0CB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57F0A-08C3-4A55-8F65-E2795088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5FD-4A22-41CE-A892-94493C8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6A02E-C60B-452B-AEEB-0C268DA6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308EF-CBFC-438D-A6F3-8009504B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9CB46-3FE9-40F2-905B-81B3538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A45F9-992D-47CE-990F-6FBFB4D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36288-5B1D-41B3-937E-1747BEDF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7CC4A-EE91-4EE2-AAEF-16F4A5E8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96B56-B39D-4BC7-B6FD-931FCBD5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D5707-A758-4D9F-BA70-A440C9C0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0F650-6B63-4EC5-80E5-7D3E8635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F9936-728F-47CE-97F0-8AD88EFB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8B03-FFB5-4637-9D0E-066B62744F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8CA1-52DE-498E-B4B1-1FA6247BC1B3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8393-EEE8-41CD-9C1A-9CB181C6C594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BE0F-ED9C-4162-AB8A-0AF6FCF66738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27B7-080C-4ADF-98D9-362694F9C1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E6BD-0E07-4648-B20E-66160F8D30F1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19D4-E023-4C1D-A8E8-FB79D8094870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2B6-996C-41E7-8F04-F818A140B89C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F9C-1FE3-40B4-919E-3A67547E4F69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4C50-9101-41AA-8755-FEA1E89010C8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5602-7576-456C-AF43-992025E596AD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AEC4-0EE6-4F28-B05D-ED48400D0C16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2"/>
          <p:cNvSpPr/>
          <p:nvPr/>
        </p:nvSpPr>
        <p:spPr>
          <a:xfrm>
            <a:off x="2514600" y="2743200"/>
            <a:ext cx="12193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1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1" lang="en-US" sz="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1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3" name="Picture 2" descr="1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1811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meet </a:t>
            </a:r>
            <a:br>
              <a:rPr sz="26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lov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ood conversatio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2" name="Picture 5" descr="10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ould you like to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start a convers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4" name="Picture 7" descr="1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ell him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6" name="Picture 5" descr="19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ch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8" name="Picture 4" descr="17"/>
          <p:cNvPicPr/>
          <p:nvPr/>
        </p:nvPicPr>
        <p:blipFill>
          <a:blip r:embed="rId1"/>
          <a:stretch/>
        </p:blipFill>
        <p:spPr>
          <a:xfrm>
            <a:off x="0" y="-23004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 j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hang ou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s gang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0" name="Picture 4" descr="1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20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e can help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2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you 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star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the conversa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7"/>
          <p:cNvSpPr/>
          <p:nvPr/>
        </p:nvSpPr>
        <p:spPr>
          <a:xfrm>
            <a:off x="1724040" y="2895480"/>
            <a:ext cx="56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All you need to do is.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1" descr="20"/>
          <p:cNvPicPr/>
          <p:nvPr/>
        </p:nvPicPr>
        <p:blipFill>
          <a:blip r:embed="rId1"/>
          <a:stretch/>
        </p:blipFill>
        <p:spPr>
          <a:xfrm>
            <a:off x="0" y="1295280"/>
            <a:ext cx="9101160" cy="560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8"/>
          <p:cNvSpPr/>
          <p:nvPr/>
        </p:nvSpPr>
        <p:spPr>
          <a:xfrm>
            <a:off x="1828800" y="19051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  <a:ea typeface="宋体"/>
              </a:rPr>
              <a:t>Contact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5029200" y="266688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aurabh@Phonethics.i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2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67080" y="5333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a.k.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3"/>
          <p:cNvPicPr/>
          <p:nvPr/>
        </p:nvPicPr>
        <p:blipFill>
          <a:blip r:embed="rId1"/>
          <a:stretch/>
        </p:blipFill>
        <p:spPr>
          <a:xfrm>
            <a:off x="-380880" y="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86200" y="5333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Mr. Multiple Profiles!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74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lives in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loba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villag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0" name="Picture 5" descr="4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5"/>
          <p:cNvPicPr/>
          <p:nvPr/>
        </p:nvPicPr>
        <p:blipFill>
          <a:blip r:embed="rId1"/>
          <a:stretch/>
        </p:blipFill>
        <p:spPr>
          <a:xfrm>
            <a:off x="380880" y="78120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11430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ives a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eco friend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reat sport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7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makes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1676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grea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9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05280" y="114264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 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lousy at.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5T08:44:00Z</dcterms:created>
  <dc:creator/>
  <dc:description/>
  <dc:language>en-US</dc:language>
  <cp:lastModifiedBy>lenovo</cp:lastModifiedBy>
  <dcterms:modified xsi:type="dcterms:W3CDTF">2015-02-05T08:49:0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