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66E-9506-4D23-8882-EA3B9482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F1F-E243-4DED-BEA9-D42B4B06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C72-EC00-47F7-BF03-E711032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B0-A994-40C3-A839-119FE7C8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76A-E1B0-4C89-B32B-9A3D82C4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21F-47BB-4B77-A818-40B74948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FD5-BE63-440B-A797-65F8BB8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419-651B-4EF2-8723-E18F1BBB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072-1C23-4EC7-A748-36E527F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0E9-FEED-4054-BEDF-B09CD03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07F-FAA0-4E2D-B490-24863FD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380-2ED8-42E3-A55B-CA9616AF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077A-1E67-4631-9517-B11CD6E75C9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BFEE-5236-4FE7-A864-985734E452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50920" y="4586400"/>
            <a:ext cx="31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bevel/>
          </a:ln>
        </p:spPr>
      </p:pic>
      <p:pic>
        <p:nvPicPr>
          <p:cNvPr id="58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副标题 2"/>
          <p:cNvSpPr/>
          <p:nvPr/>
        </p:nvSpPr>
        <p:spPr>
          <a:xfrm>
            <a:off x="324000" y="31464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</a:t>
            </a:r>
            <a:r>
              <a:rPr b="0" lang="zh-CN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D</a:t>
            </a: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lidan</dc:creator>
  <dc:description/>
  <dc:language>en-US</dc:language>
  <cp:lastModifiedBy>lenovo</cp:lastModifiedBy>
  <dcterms:modified xsi:type="dcterms:W3CDTF">2015-02-05T07:30:58Z</dcterms:modified>
  <cp:revision>33</cp:revision>
  <dc:subject/>
  <dc:title>自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