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89B12-4585-4BE1-8B8D-A4FA4F578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0E58C-7324-4CF5-8D24-527FC43AF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28B75C-6DE5-4E67-B4F3-E56A39528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827DFE-B667-4D5A-8E2C-BA061F077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2562AC-E4FF-4150-821C-A97C4A4BF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217237-9AD9-42C4-9EE7-46C5924DB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D5A618-D6A4-4363-AC40-6B232B397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7C8593-D44A-4316-8496-76E775EC5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29E9A2-B9CC-4D60-B667-CCF9B7092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ED9B57-80B2-4478-BF90-C30A58F71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3B7918-FBDC-4649-8DEE-87673AAF0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5A4D47-1EAA-4003-955E-A6091C086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8D084-3FC7-4DCF-A298-FCED29D43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86EC19-1D6A-4197-9591-867212D6E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23666B-F8DA-4CAC-ADF7-70E9AF447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473F03-1E5D-46BF-9249-49AFB3D6C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D5360B-BAC3-4386-BB1F-0D05F6954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912375-9BBF-4EBD-AD60-C000241C3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88E9DC-D40A-49AE-A8DF-789AA7019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74E4F0-9F9C-41BE-8BAA-37D66CC70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1DEFD3-BBA7-427C-8951-DDB1F7A86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EA6F23-6042-41B7-BACB-737B9405E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663771-F835-4397-AD3A-D3411D357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8EBED-5FE1-41B8-A025-025C3517D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B772F5-9CD3-41FF-A747-4B5890CBD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E273D2-B426-4526-8D17-6D45583F9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217B62-2119-4287-B2F8-FFDBE86D8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2477E7-A05F-48F4-A773-1BCB7CB3E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9E6AC9-40A4-474B-99C8-02C5146E1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AE275A-E98A-4C51-AB2E-15DC08D1B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86D8B4-4C41-4ED9-8A8E-F155CF93F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19BA94-E081-4B77-96D2-02A06FB84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15EEA9-D314-40D1-92E4-E237BE0F5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06A0D0-ED38-4281-A585-E18795BFD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AB33A-AEFF-481D-AA7A-8EB0A388B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315471-0EB9-4BF0-B339-6B72133FF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D44D2B-E631-474C-851E-A3210765A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68FCED-6986-41F3-8F07-4BB7BFFC9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227931-1250-44F0-8CD7-3DC85B2A1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53826D-08AC-48E5-A13A-049993B06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B53D58-AF6A-4221-B34E-78B5F1C3B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C2E100-8332-4373-A0C4-B7A0354E2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B945C9-A9C7-4F12-9A66-FED8F2C05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38971B-07C8-49DB-94C2-EF42FC8FE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B97813-1E98-4B3B-BA1F-0F5DCFAEB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E0615-5BB9-488B-80A5-9A8C15945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00A180-06C9-480B-B055-E1A1743BE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1DAF08-DCD7-4DE0-8C0E-286504D76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8D50C1-FD46-462E-8707-E79688545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0CBD84-C180-495D-AFF9-58702C65B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BA9E97-E3DB-4852-B28A-4F74F20BA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20078-C0B6-4292-A0DB-A7F0E3CA4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B2A9E-1BA6-4E08-8ED9-A163CFAE5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6B460-FB63-47C5-9EA0-674F99E15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CC169-3E69-4205-8180-AFD538435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595C4-20B7-42DB-8CB7-319E7561D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428DD-C0C8-474C-86BC-F1D13498C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31932-36B1-4C48-9CDB-FE8EE1575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0CB12-5D06-4DED-9F67-7F061227B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B1B0F-F105-47C6-A23F-D6AC31A0E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FE39B-874B-4EAC-834B-87503EFA4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86AA0-4ABB-4A2D-8817-8835CF167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90E957-B0D6-46EC-9704-0FD34BE63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BFF6F6-A67C-4A31-AC1D-7B6276610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98AAD9-41ED-45CA-8939-3831FA520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C81DAE-4B9A-470F-B864-E9797CE9A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47BA80-5854-4862-B7B7-F06F54B50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EABD5-0790-4188-B8D2-DF16A3C0C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6D714A-7CED-4BB0-98FB-B02653217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19B885-16E4-4FEF-B4B2-DE61D8685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1ACC34-7FC4-421F-B70A-EA71E3319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6D0052-0A6C-4ED8-894D-ECA624384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D1E863-349E-4A02-9609-DB5CB0948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28CE1E-2907-437D-96E4-6A2056721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637464-DB95-4A85-93E3-F2D77DA22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E8E978-D2F1-4223-A217-06D1D2838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270887-6DFA-45E0-AE23-E021F6742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705DE6-53BE-42A0-9F47-BA158DF9A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F24E0-6AD8-4C82-97BE-FE6698314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349367-377F-48B7-A872-44ABBB7DF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06BCCB-21B1-4B1F-A385-A6EDA0169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8335F5-1C4F-4A78-BF14-F15163E3A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B3E180-B0F6-496E-BF16-B9250A0D1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A2E8F3-3987-47CA-9E8E-A106B6948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EBC81D-E723-4D46-87D2-9A0251FB4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095085-2882-4A31-9362-DB5092BD2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E16803-AE1A-43BB-ADB0-93EFAE562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7E3EF1-DE34-4FB0-9C7A-AE4792EEC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60A1C7-95DB-4284-A5C1-861204D6B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84C7C-9562-40E5-82EE-23DFB2F6D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14AB77-8BCF-427F-A171-9017B80B0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8DF1CA-5CAC-4854-B7F9-E56596A66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81768D-A93B-4DC7-A275-DD4629D2D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4EF09D-0021-472D-A2D3-5A4426580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1CC671-75D4-4447-A6B2-EFB917A37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3BC3A9-41B7-4650-81B9-DE5578D37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6CAF31-C73B-4D22-9EE8-49F48E57B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899E37-535B-4046-9C8C-77241C3C4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4179B3-D6FB-4E15-B6AF-39F958392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031583-BF39-417B-9102-374E6D828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79720-4D12-4DCA-B915-D11A6C1B9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3748D4-1FDE-48A1-A00B-B12378608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052842-219E-4E18-9978-A97315D45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EF900C-E422-453D-9348-085D64DB8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063329-0B92-4562-824F-EBA8C0644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B19BEE-0169-4AD7-9E76-157D8D124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8644A0-37E3-4E90-A736-6F633A406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5F8457-B613-4B94-BAC9-773967D60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9B68C3-595B-4270-AE99-77FBB74F7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A68442-3D05-435D-BBA8-2A4BD0891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FDCFA7-BA4B-4D1C-9391-BF0B53350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FD785-E180-429F-B11A-88C7BB4B6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9E62D1-DF33-47F7-985B-7650B09FF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25E883-8A6F-4219-BF34-09B700F2F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A52FAF-A412-4D1B-BD69-CA475FD1D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6CE0A4-F94E-4041-95C7-E33B09604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CF567F-38B1-4B20-98CC-08F20FC7C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1708E8-F911-4528-B07E-767264203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B2C5BD-8A2A-45EE-82EA-7E75AA5D3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A151D8-BA5D-4733-A65D-61646078E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A74348-D70B-4BCB-9763-6A8681FFF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81019B-59F2-4697-A3EF-8BD18152D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B3F9E-F7AB-4591-9442-B330254CC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05028A-E473-4EC0-95AE-028DDE674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C60F1B-9E8C-4F5F-BEDE-C876038C5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D7EB58-897F-4828-841E-08F5B6B77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BE1361-4C87-4E16-AE68-973AC1262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9BD330-82A0-459C-AB68-B47B1483A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36F6CD-EA1C-44C8-8677-F0BB46BE7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6614A9-D87D-4F9F-AA26-DABC5AD74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A76637-4549-4F67-9132-0EEBE2395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D9E943-7E4D-4CBF-A5D6-D5929BBBE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FB777D-E426-4185-995A-5856EF76F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49BE6-D29A-47E8-B57F-17C15F77C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0BE9D0-3F3C-4FD3-A8CA-736963C6B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C854A8-039F-465A-B94B-1BADA7866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30344C-E635-412D-95EF-CF2CFDEED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C6893F-518E-473B-A85C-C8A5070A4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69D6C2-50F4-4D84-8166-5B134D4EB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363505-4003-4124-B91B-E5AF099B1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95F43C-1C0D-44EC-8D80-9A2C4B972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B9E46A-B31B-4624-84D8-D65427C34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DC055E-87A7-4966-98D4-DFC9BF3EA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EF47BA-57B3-4209-898C-0BFBB89D6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1C820-BF2E-4520-B348-9964865CA2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61820-FD8D-4F24-B776-5A1B6B2ECB9F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543D4-E906-47EF-BD98-925ACFD6CC48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06A12-4623-4621-B51A-52D6200F16DA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8AD68-A07F-4161-A67E-FBB212A0602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9DAFA-CF65-4F3B-8830-1F34B53A02FC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1FC07-1D86-408C-A826-75B18DD7CEAA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0B879-5C08-4BD8-A866-EEBB30E70A54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B31D4-FE71-4AF2-8575-19779D73E5C3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7ECEF-E422-410F-A180-918FD9E7604F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80F7B-41C0-4798-8F38-80EB2EACE771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37042-BF05-4BC8-B8F8-B02D398D453C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hyperlink" Target="http://www.1ppt.com/moban/" TargetMode="External"/><Relationship Id="rId4" Type="http://schemas.openxmlformats.org/officeDocument/2006/relationships/hyperlink" Target="http://www.1ppt.com/hangye/" TargetMode="External"/><Relationship Id="rId5" Type="http://schemas.openxmlformats.org/officeDocument/2006/relationships/hyperlink" Target="http://www.1ppt.com/jieri/" TargetMode="External"/><Relationship Id="rId6" Type="http://schemas.openxmlformats.org/officeDocument/2006/relationships/hyperlink" Target="http://www.1ppt.com/sucai/" TargetMode="External"/><Relationship Id="rId7" Type="http://schemas.openxmlformats.org/officeDocument/2006/relationships/hyperlink" Target="http://www.1ppt.com/beijing/" TargetMode="External"/><Relationship Id="rId8" Type="http://schemas.openxmlformats.org/officeDocument/2006/relationships/hyperlink" Target="http://www.1ppt.com/tubiao/" TargetMode="External"/><Relationship Id="rId9" Type="http://schemas.openxmlformats.org/officeDocument/2006/relationships/hyperlink" Target="http://www.1ppt.com/xiazai/" TargetMode="External"/><Relationship Id="rId10" Type="http://schemas.openxmlformats.org/officeDocument/2006/relationships/hyperlink" Target="http://www.1ppt.com/powerpoint/" TargetMode="External"/><Relationship Id="rId11" Type="http://schemas.openxmlformats.org/officeDocument/2006/relationships/hyperlink" Target="http://www.1ppt.com/word/" TargetMode="External"/><Relationship Id="rId12" Type="http://schemas.openxmlformats.org/officeDocument/2006/relationships/hyperlink" Target="http://www.1ppt.com/excel/" TargetMode="External"/><Relationship Id="rId13" Type="http://schemas.openxmlformats.org/officeDocument/2006/relationships/hyperlink" Target="http://www.1ppt.com/ziliao/" TargetMode="External"/><Relationship Id="rId14" Type="http://schemas.openxmlformats.org/officeDocument/2006/relationships/hyperlink" Target="http://www.1ppt.com/kejian/" TargetMode="External"/><Relationship Id="rId15" Type="http://schemas.openxmlformats.org/officeDocument/2006/relationships/hyperlink" Target="http://www.1ppt.com/fanwen/" TargetMode="External"/><Relationship Id="rId16" Type="http://schemas.openxmlformats.org/officeDocument/2006/relationships/hyperlink" Target="http://www.1ppt.com/shiti/" TargetMode="External"/><Relationship Id="rId17" Type="http://schemas.openxmlformats.org/officeDocument/2006/relationships/hyperlink" Target="http://www.1ppt.com/jiaoan/" TargetMode="External"/><Relationship Id="rId18" Type="http://schemas.openxmlformats.org/officeDocument/2006/relationships/image" Target="../media/image5.png"/><Relationship Id="rId19" Type="http://schemas.openxmlformats.org/officeDocument/2006/relationships/image" Target="../media/image6.png"/><Relationship Id="rId20" Type="http://schemas.openxmlformats.org/officeDocument/2006/relationships/image" Target="../media/image7.png"/><Relationship Id="rId2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Text Box 12"/>
          <p:cNvSpPr/>
          <p:nvPr/>
        </p:nvSpPr>
        <p:spPr>
          <a:xfrm>
            <a:off x="1085400" y="3807720"/>
            <a:ext cx="60696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f7f7f"/>
                </a:solidFill>
                <a:latin typeface="汉仪行楷简"/>
                <a:ea typeface="汉仪行楷简"/>
              </a:rPr>
              <a:t>姓名</a:t>
            </a:r>
            <a:r>
              <a:rPr b="0" lang="en-US" sz="2800" spc="-1" strike="noStrike">
                <a:solidFill>
                  <a:srgbClr val="7f7f7f"/>
                </a:solidFill>
                <a:latin typeface="汉仪行楷简"/>
                <a:ea typeface="汉仪行楷简"/>
              </a:rPr>
              <a:t>XX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3" name="Picture 15" descr=""/>
          <p:cNvPicPr/>
          <p:nvPr/>
        </p:nvPicPr>
        <p:blipFill>
          <a:blip r:embed="rId2"/>
          <a:stretch/>
        </p:blipFill>
        <p:spPr>
          <a:xfrm>
            <a:off x="1692360" y="971640"/>
            <a:ext cx="939600" cy="454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4" name="Picture 20" descr=""/>
          <p:cNvPicPr/>
          <p:nvPr/>
        </p:nvPicPr>
        <p:blipFill>
          <a:blip r:embed="rId2"/>
          <a:stretch/>
        </p:blipFill>
        <p:spPr>
          <a:xfrm>
            <a:off x="3564000" y="795240"/>
            <a:ext cx="5056200" cy="5081760"/>
          </a:xfrm>
          <a:prstGeom prst="rect">
            <a:avLst/>
          </a:prstGeom>
          <a:ln w="0">
            <a:noFill/>
          </a:ln>
        </p:spPr>
      </p:pic>
      <p:grpSp>
        <p:nvGrpSpPr>
          <p:cNvPr id="495" name="组合 2"/>
          <p:cNvGrpSpPr/>
          <p:nvPr/>
        </p:nvGrpSpPr>
        <p:grpSpPr>
          <a:xfrm>
            <a:off x="0" y="0"/>
            <a:ext cx="9144000" cy="1574640"/>
            <a:chOff x="0" y="0"/>
            <a:chExt cx="9144000" cy="1574640"/>
          </a:xfrm>
        </p:grpSpPr>
        <p:sp>
          <p:nvSpPr>
            <p:cNvPr id="496" name="矩形 14"/>
            <p:cNvSpPr/>
            <p:nvPr/>
          </p:nvSpPr>
          <p:spPr>
            <a:xfrm>
              <a:off x="5076000" y="715320"/>
              <a:ext cx="648000" cy="14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" spc="-1" strike="noStrike">
                  <a:solidFill>
                    <a:srgbClr val="4a452a"/>
                  </a:solidFill>
                  <a:latin typeface="Calibri"/>
                </a:rPr>
                <a:t>PPT</a:t>
              </a:r>
              <a:r>
                <a:rPr b="0" lang="zh-CN" sz="100" spc="-1" strike="noStrike">
                  <a:solidFill>
                    <a:srgbClr val="4a452a"/>
                  </a:solidFill>
                  <a:latin typeface="Calibri"/>
                </a:rPr>
                <a:t>模板下载：</a:t>
              </a:r>
              <a:r>
                <a:rPr b="0" lang="en-US" sz="100" spc="-1" strike="noStrike" u="sng">
                  <a:solidFill>
                    <a:srgbClr val="009999"/>
                  </a:solidFill>
                  <a:uFillTx/>
                  <a:latin typeface="Calibri"/>
                  <a:hlinkClick r:id="rId3"/>
                </a:rPr>
                <a:t>www.1ppt.com/moban/</a:t>
              </a:r>
              <a:r>
                <a:rPr b="0" lang="en-US" sz="100" spc="-1" strike="noStrike">
                  <a:solidFill>
                    <a:srgbClr val="4a452a"/>
                  </a:solidFill>
                  <a:latin typeface="Calibri"/>
                </a:rPr>
                <a:t>     </a:t>
              </a:r>
              <a:r>
                <a:rPr b="0" lang="zh-CN" sz="100" spc="-1" strike="noStrike">
                  <a:solidFill>
                    <a:srgbClr val="4a452a"/>
                  </a:solidFill>
                  <a:latin typeface="Calibri"/>
                </a:rPr>
                <a:t>行业</a:t>
              </a:r>
              <a:r>
                <a:rPr b="0" lang="en-US" sz="100" spc="-1" strike="noStrike">
                  <a:solidFill>
                    <a:srgbClr val="4a452a"/>
                  </a:solidFill>
                  <a:latin typeface="Calibri"/>
                </a:rPr>
                <a:t>PPT</a:t>
              </a:r>
              <a:r>
                <a:rPr b="0" lang="zh-CN" sz="100" spc="-1" strike="noStrike">
                  <a:solidFill>
                    <a:srgbClr val="4a452a"/>
                  </a:solidFill>
                  <a:latin typeface="Calibri"/>
                </a:rPr>
                <a:t>模板：</a:t>
              </a:r>
              <a:r>
                <a:rPr b="0" lang="en-US" sz="100" spc="-1" strike="noStrike" u="sng">
                  <a:solidFill>
                    <a:srgbClr val="009999"/>
                  </a:solidFill>
                  <a:uFillTx/>
                  <a:latin typeface="Calibri"/>
                  <a:hlinkClick r:id="rId4"/>
                </a:rPr>
                <a:t>www.1ppt.com/hangye/</a:t>
              </a:r>
              <a:r>
                <a:rPr b="0" lang="en-US" sz="100" spc="-1" strike="noStrike">
                  <a:solidFill>
                    <a:srgbClr val="4a452a"/>
                  </a:solidFill>
                  <a:latin typeface="Calibri"/>
                </a:rPr>
                <a:t> </a:t>
              </a: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" spc="-1" strike="noStrike">
                  <a:solidFill>
                    <a:srgbClr val="4a452a"/>
                  </a:solidFill>
                  <a:latin typeface="Calibri"/>
                </a:rPr>
                <a:t>节日</a:t>
              </a:r>
              <a:r>
                <a:rPr b="0" lang="en-US" sz="100" spc="-1" strike="noStrike">
                  <a:solidFill>
                    <a:srgbClr val="4a452a"/>
                  </a:solidFill>
                  <a:latin typeface="Calibri"/>
                </a:rPr>
                <a:t>PPT</a:t>
              </a:r>
              <a:r>
                <a:rPr b="0" lang="zh-CN" sz="100" spc="-1" strike="noStrike">
                  <a:solidFill>
                    <a:srgbClr val="4a452a"/>
                  </a:solidFill>
                  <a:latin typeface="Calibri"/>
                </a:rPr>
                <a:t>模板：</a:t>
              </a:r>
              <a:r>
                <a:rPr b="0" lang="en-US" sz="100" spc="-1" strike="noStrike" u="sng">
                  <a:solidFill>
                    <a:srgbClr val="009999"/>
                  </a:solidFill>
                  <a:uFillTx/>
                  <a:latin typeface="Calibri"/>
                  <a:hlinkClick r:id="rId5"/>
                </a:rPr>
                <a:t>www.1ppt.com/jieri/</a:t>
              </a:r>
              <a:r>
                <a:rPr b="0" lang="en-US" sz="100" spc="-1" strike="noStrike">
                  <a:solidFill>
                    <a:srgbClr val="4a452a"/>
                  </a:solidFill>
                  <a:latin typeface="Calibri"/>
                </a:rPr>
                <a:t>           PPT</a:t>
              </a:r>
              <a:r>
                <a:rPr b="0" lang="zh-CN" sz="100" spc="-1" strike="noStrike">
                  <a:solidFill>
                    <a:srgbClr val="4a452a"/>
                  </a:solidFill>
                  <a:latin typeface="Calibri"/>
                </a:rPr>
                <a:t>素材下载：</a:t>
              </a:r>
              <a:r>
                <a:rPr b="0" lang="en-US" sz="100" spc="-1" strike="noStrike" u="sng">
                  <a:solidFill>
                    <a:srgbClr val="009999"/>
                  </a:solidFill>
                  <a:uFillTx/>
                  <a:latin typeface="Calibri"/>
                  <a:hlinkClick r:id="rId6"/>
                </a:rPr>
                <a:t>www.1ppt.com/sucai/</a:t>
              </a: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" spc="-1" strike="noStrike">
                  <a:solidFill>
                    <a:srgbClr val="4a452a"/>
                  </a:solidFill>
                  <a:latin typeface="Calibri"/>
                </a:rPr>
                <a:t>PPT</a:t>
              </a:r>
              <a:r>
                <a:rPr b="0" lang="zh-CN" sz="100" spc="-1" strike="noStrike">
                  <a:solidFill>
                    <a:srgbClr val="4a452a"/>
                  </a:solidFill>
                  <a:latin typeface="Calibri"/>
                </a:rPr>
                <a:t>背景图片：</a:t>
              </a:r>
              <a:r>
                <a:rPr b="0" lang="en-US" sz="100" spc="-1" strike="noStrike" u="sng">
                  <a:solidFill>
                    <a:srgbClr val="009999"/>
                  </a:solidFill>
                  <a:uFillTx/>
                  <a:latin typeface="Calibri"/>
                  <a:hlinkClick r:id="rId7"/>
                </a:rPr>
                <a:t>www.1ppt.com/beijing/</a:t>
              </a:r>
              <a:r>
                <a:rPr b="0" lang="en-US" sz="100" spc="-1" strike="noStrike">
                  <a:solidFill>
                    <a:srgbClr val="4a452a"/>
                  </a:solidFill>
                  <a:latin typeface="Calibri"/>
                </a:rPr>
                <a:t>      PPT</a:t>
              </a:r>
              <a:r>
                <a:rPr b="0" lang="zh-CN" sz="100" spc="-1" strike="noStrike">
                  <a:solidFill>
                    <a:srgbClr val="4a452a"/>
                  </a:solidFill>
                  <a:latin typeface="Calibri"/>
                </a:rPr>
                <a:t>图表下载：</a:t>
              </a:r>
              <a:r>
                <a:rPr b="0" lang="en-US" sz="100" spc="-1" strike="noStrike" u="sng">
                  <a:solidFill>
                    <a:srgbClr val="009999"/>
                  </a:solidFill>
                  <a:uFillTx/>
                  <a:latin typeface="Calibri"/>
                  <a:hlinkClick r:id="rId8"/>
                </a:rPr>
                <a:t>www.1ppt.com/tubiao/</a:t>
              </a:r>
              <a:r>
                <a:rPr b="0" lang="en-US" sz="100" spc="-1" strike="noStrike">
                  <a:solidFill>
                    <a:srgbClr val="4a452a"/>
                  </a:solidFill>
                  <a:latin typeface="Calibri"/>
                </a:rPr>
                <a:t>      </a:t>
              </a: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" spc="-1" strike="noStrike">
                  <a:solidFill>
                    <a:srgbClr val="4a452a"/>
                  </a:solidFill>
                  <a:latin typeface="Calibri"/>
                </a:rPr>
                <a:t>优秀</a:t>
              </a:r>
              <a:r>
                <a:rPr b="0" lang="en-US" sz="100" spc="-1" strike="noStrike">
                  <a:solidFill>
                    <a:srgbClr val="4a452a"/>
                  </a:solidFill>
                  <a:latin typeface="Calibri"/>
                </a:rPr>
                <a:t>PPT</a:t>
              </a:r>
              <a:r>
                <a:rPr b="0" lang="zh-CN" sz="100" spc="-1" strike="noStrike">
                  <a:solidFill>
                    <a:srgbClr val="4a452a"/>
                  </a:solidFill>
                  <a:latin typeface="Calibri"/>
                </a:rPr>
                <a:t>下载：</a:t>
              </a:r>
              <a:r>
                <a:rPr b="0" lang="en-US" sz="100" spc="-1" strike="noStrike" u="sng">
                  <a:solidFill>
                    <a:srgbClr val="009999"/>
                  </a:solidFill>
                  <a:uFillTx/>
                  <a:latin typeface="Calibri"/>
                  <a:hlinkClick r:id="rId9"/>
                </a:rPr>
                <a:t>www.1ppt.com/xiazai/</a:t>
              </a:r>
              <a:r>
                <a:rPr b="0" lang="en-US" sz="100" spc="-1" strike="noStrike">
                  <a:solidFill>
                    <a:srgbClr val="4a452a"/>
                  </a:solidFill>
                  <a:latin typeface="Calibri"/>
                </a:rPr>
                <a:t>        PPT</a:t>
              </a:r>
              <a:r>
                <a:rPr b="0" lang="zh-CN" sz="100" spc="-1" strike="noStrike">
                  <a:solidFill>
                    <a:srgbClr val="4a452a"/>
                  </a:solidFill>
                  <a:latin typeface="Calibri"/>
                </a:rPr>
                <a:t>教程： </a:t>
              </a:r>
              <a:r>
                <a:rPr b="0" lang="en-US" sz="100" spc="-1" strike="noStrike" u="sng">
                  <a:solidFill>
                    <a:srgbClr val="009999"/>
                  </a:solidFill>
                  <a:uFillTx/>
                  <a:latin typeface="Calibri"/>
                  <a:hlinkClick r:id="rId10"/>
                </a:rPr>
                <a:t>www.1ppt.com/powerpoint/</a:t>
              </a:r>
              <a:r>
                <a:rPr b="0" lang="en-US" sz="100" spc="-1" strike="noStrike">
                  <a:solidFill>
                    <a:srgbClr val="4a452a"/>
                  </a:solidFill>
                  <a:latin typeface="Calibri"/>
                </a:rPr>
                <a:t>      </a:t>
              </a: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" spc="-1" strike="noStrike">
                  <a:solidFill>
                    <a:srgbClr val="4a452a"/>
                  </a:solidFill>
                  <a:latin typeface="Calibri"/>
                </a:rPr>
                <a:t>Word</a:t>
              </a:r>
              <a:r>
                <a:rPr b="0" lang="zh-CN" sz="100" spc="-1" strike="noStrike">
                  <a:solidFill>
                    <a:srgbClr val="4a452a"/>
                  </a:solidFill>
                  <a:latin typeface="Calibri"/>
                </a:rPr>
                <a:t>教程： </a:t>
              </a:r>
              <a:r>
                <a:rPr b="0" lang="en-US" sz="100" spc="-1" strike="noStrike" u="sng">
                  <a:solidFill>
                    <a:srgbClr val="009999"/>
                  </a:solidFill>
                  <a:uFillTx/>
                  <a:latin typeface="Calibri"/>
                  <a:hlinkClick r:id="rId11"/>
                </a:rPr>
                <a:t>www.1ppt.com/word/</a:t>
              </a:r>
              <a:r>
                <a:rPr b="0" lang="en-US" sz="100" spc="-1" strike="noStrike">
                  <a:solidFill>
                    <a:srgbClr val="4a452a"/>
                  </a:solidFill>
                  <a:latin typeface="Calibri"/>
                </a:rPr>
                <a:t>              Excel</a:t>
              </a:r>
              <a:r>
                <a:rPr b="0" lang="zh-CN" sz="100" spc="-1" strike="noStrike">
                  <a:solidFill>
                    <a:srgbClr val="4a452a"/>
                  </a:solidFill>
                  <a:latin typeface="Calibri"/>
                </a:rPr>
                <a:t>教程：</a:t>
              </a:r>
              <a:r>
                <a:rPr b="0" lang="en-US" sz="100" spc="-1" strike="noStrike" u="sng">
                  <a:solidFill>
                    <a:srgbClr val="009999"/>
                  </a:solidFill>
                  <a:uFillTx/>
                  <a:latin typeface="Calibri"/>
                  <a:hlinkClick r:id="rId12"/>
                </a:rPr>
                <a:t>www.1ppt.com/excel/</a:t>
              </a:r>
              <a:r>
                <a:rPr b="0" lang="en-US" sz="100" spc="-1" strike="noStrike">
                  <a:solidFill>
                    <a:srgbClr val="4a452a"/>
                  </a:solidFill>
                  <a:latin typeface="Calibri"/>
                </a:rPr>
                <a:t>  </a:t>
              </a: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" spc="-1" strike="noStrike">
                  <a:solidFill>
                    <a:srgbClr val="4a452a"/>
                  </a:solidFill>
                  <a:latin typeface="Calibri"/>
                </a:rPr>
                <a:t>资料下载：</a:t>
              </a:r>
              <a:r>
                <a:rPr b="0" lang="en-US" sz="100" spc="-1" strike="noStrike" u="sng">
                  <a:solidFill>
                    <a:srgbClr val="009999"/>
                  </a:solidFill>
                  <a:uFillTx/>
                  <a:latin typeface="Calibri"/>
                  <a:hlinkClick r:id="rId13"/>
                </a:rPr>
                <a:t>www.1ppt.com/ziliao/</a:t>
              </a:r>
              <a:r>
                <a:rPr b="0" lang="en-US" sz="100" spc="-1" strike="noStrike">
                  <a:solidFill>
                    <a:srgbClr val="4a452a"/>
                  </a:solidFill>
                  <a:latin typeface="Calibri"/>
                </a:rPr>
                <a:t>                PPT</a:t>
              </a:r>
              <a:r>
                <a:rPr b="0" lang="zh-CN" sz="100" spc="-1" strike="noStrike">
                  <a:solidFill>
                    <a:srgbClr val="4a452a"/>
                  </a:solidFill>
                  <a:latin typeface="Calibri"/>
                </a:rPr>
                <a:t>课件下载：</a:t>
              </a:r>
              <a:r>
                <a:rPr b="0" lang="en-US" sz="100" spc="-1" strike="noStrike" u="sng">
                  <a:solidFill>
                    <a:srgbClr val="009999"/>
                  </a:solidFill>
                  <a:uFillTx/>
                  <a:latin typeface="Calibri"/>
                  <a:hlinkClick r:id="rId14"/>
                </a:rPr>
                <a:t>www.1ppt.com/kejian/</a:t>
              </a:r>
              <a:r>
                <a:rPr b="0" lang="en-US" sz="100" spc="-1" strike="noStrike">
                  <a:solidFill>
                    <a:srgbClr val="4a452a"/>
                  </a:solidFill>
                  <a:latin typeface="Calibri"/>
                </a:rPr>
                <a:t> </a:t>
              </a: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" spc="-1" strike="noStrike">
                  <a:solidFill>
                    <a:srgbClr val="4a452a"/>
                  </a:solidFill>
                  <a:latin typeface="Calibri"/>
                </a:rPr>
                <a:t>范文下载：</a:t>
              </a:r>
              <a:r>
                <a:rPr b="0" lang="en-US" sz="100" spc="-1" strike="noStrike" u="sng">
                  <a:solidFill>
                    <a:srgbClr val="009999"/>
                  </a:solidFill>
                  <a:uFillTx/>
                  <a:latin typeface="Calibri"/>
                  <a:hlinkClick r:id="rId15"/>
                </a:rPr>
                <a:t>www.1ppt.com/fanwen/</a:t>
              </a:r>
              <a:r>
                <a:rPr b="0" lang="en-US" sz="100" spc="-1" strike="noStrike">
                  <a:solidFill>
                    <a:srgbClr val="4a452a"/>
                  </a:solidFill>
                  <a:latin typeface="Calibri"/>
                </a:rPr>
                <a:t>             </a:t>
              </a:r>
              <a:r>
                <a:rPr b="0" lang="zh-CN" sz="100" spc="-1" strike="noStrike">
                  <a:solidFill>
                    <a:srgbClr val="4a452a"/>
                  </a:solidFill>
                  <a:latin typeface="Calibri"/>
                </a:rPr>
                <a:t>试卷下载：</a:t>
              </a:r>
              <a:r>
                <a:rPr b="0" lang="en-US" sz="100" spc="-1" strike="noStrike" u="sng">
                  <a:solidFill>
                    <a:srgbClr val="009999"/>
                  </a:solidFill>
                  <a:uFillTx/>
                  <a:latin typeface="Calibri"/>
                  <a:hlinkClick r:id="rId16"/>
                </a:rPr>
                <a:t>www.1ppt.com/shiti/</a:t>
              </a:r>
              <a:r>
                <a:rPr b="0" lang="en-US" sz="100" spc="-1" strike="noStrike">
                  <a:solidFill>
                    <a:srgbClr val="4a452a"/>
                  </a:solidFill>
                  <a:latin typeface="Calibri"/>
                </a:rPr>
                <a:t>  </a:t>
              </a: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" spc="-1" strike="noStrike">
                  <a:solidFill>
                    <a:srgbClr val="4a452a"/>
                  </a:solidFill>
                  <a:latin typeface="Calibri"/>
                </a:rPr>
                <a:t>教案下载：</a:t>
              </a:r>
              <a:r>
                <a:rPr b="0" lang="en-US" sz="100" spc="-1" strike="noStrike" u="sng">
                  <a:solidFill>
                    <a:srgbClr val="009999"/>
                  </a:solidFill>
                  <a:uFillTx/>
                  <a:latin typeface="Calibri"/>
                  <a:hlinkClick r:id="rId17"/>
                </a:rPr>
                <a:t>www.1ppt.com/jiaoan/</a:t>
              </a:r>
              <a:r>
                <a:rPr b="0" lang="en-US" sz="100" spc="-1" strike="noStrike">
                  <a:solidFill>
                    <a:srgbClr val="4a452a"/>
                  </a:solidFill>
                  <a:latin typeface="Calibri"/>
                </a:rPr>
                <a:t>  </a:t>
              </a: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" spc="-1" strike="noStrike">
                  <a:solidFill>
                    <a:srgbClr val="4a452a"/>
                  </a:solidFill>
                  <a:latin typeface="Calibri"/>
                </a:rPr>
                <a:t>  </a:t>
              </a: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97" name="Picture 4" descr=""/>
            <p:cNvPicPr/>
            <p:nvPr/>
          </p:nvPicPr>
          <p:blipFill>
            <a:blip r:embed="rId18"/>
            <a:stretch/>
          </p:blipFill>
          <p:spPr>
            <a:xfrm>
              <a:off x="0" y="0"/>
              <a:ext cx="9144000" cy="1574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98" name="Group 18"/>
          <p:cNvGrpSpPr/>
          <p:nvPr/>
        </p:nvGrpSpPr>
        <p:grpSpPr>
          <a:xfrm>
            <a:off x="1023840" y="404640"/>
            <a:ext cx="2031840" cy="2502000"/>
            <a:chOff x="1023840" y="404640"/>
            <a:chExt cx="2031840" cy="2502000"/>
          </a:xfrm>
        </p:grpSpPr>
        <p:pic>
          <p:nvPicPr>
            <p:cNvPr id="499" name="Picture 10" descr=""/>
            <p:cNvPicPr/>
            <p:nvPr/>
          </p:nvPicPr>
          <p:blipFill>
            <a:blip r:embed="rId19"/>
            <a:stretch/>
          </p:blipFill>
          <p:spPr>
            <a:xfrm>
              <a:off x="1023840" y="404640"/>
              <a:ext cx="2031840" cy="250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0" name="Picture 12" descr=""/>
            <p:cNvPicPr/>
            <p:nvPr/>
          </p:nvPicPr>
          <p:blipFill>
            <a:blip r:embed="rId20"/>
            <a:stretch/>
          </p:blipFill>
          <p:spPr>
            <a:xfrm>
              <a:off x="1239840" y="620640"/>
              <a:ext cx="1584360" cy="2031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1" name="Text Box 13"/>
          <p:cNvSpPr/>
          <p:nvPr/>
        </p:nvSpPr>
        <p:spPr>
          <a:xfrm>
            <a:off x="324000" y="2930400"/>
            <a:ext cx="955440" cy="17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姓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学校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专业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电话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Line 14"/>
          <p:cNvSpPr/>
          <p:nvPr/>
        </p:nvSpPr>
        <p:spPr>
          <a:xfrm>
            <a:off x="1044720" y="3284640"/>
            <a:ext cx="2305080" cy="0"/>
          </a:xfrm>
          <a:prstGeom prst="line">
            <a:avLst/>
          </a:prstGeom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Line 15"/>
          <p:cNvSpPr/>
          <p:nvPr/>
        </p:nvSpPr>
        <p:spPr>
          <a:xfrm>
            <a:off x="1044720" y="3716280"/>
            <a:ext cx="2305080" cy="0"/>
          </a:xfrm>
          <a:prstGeom prst="line">
            <a:avLst/>
          </a:prstGeom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Line 16"/>
          <p:cNvSpPr/>
          <p:nvPr/>
        </p:nvSpPr>
        <p:spPr>
          <a:xfrm>
            <a:off x="1044720" y="4149720"/>
            <a:ext cx="2305080" cy="0"/>
          </a:xfrm>
          <a:prstGeom prst="line">
            <a:avLst/>
          </a:prstGeom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Line 17"/>
          <p:cNvSpPr/>
          <p:nvPr/>
        </p:nvSpPr>
        <p:spPr>
          <a:xfrm>
            <a:off x="1044720" y="4653000"/>
            <a:ext cx="2305080" cy="0"/>
          </a:xfrm>
          <a:prstGeom prst="line">
            <a:avLst/>
          </a:prstGeom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 Box 21"/>
          <p:cNvSpPr/>
          <p:nvPr/>
        </p:nvSpPr>
        <p:spPr>
          <a:xfrm>
            <a:off x="3851280" y="1773360"/>
            <a:ext cx="4537080" cy="4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9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7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574640"/>
          </a:xfrm>
          <a:prstGeom prst="rect">
            <a:avLst/>
          </a:prstGeom>
          <a:ln w="0">
            <a:noFill/>
          </a:ln>
        </p:spPr>
      </p:pic>
      <p:pic>
        <p:nvPicPr>
          <p:cNvPr id="508" name="矩形 4" descr=""/>
          <p:cNvPicPr/>
          <p:nvPr/>
        </p:nvPicPr>
        <p:blipFill>
          <a:blip r:embed="rId3"/>
          <a:stretch/>
        </p:blipFill>
        <p:spPr>
          <a:xfrm>
            <a:off x="2498760" y="2255760"/>
            <a:ext cx="4852800" cy="16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6T13:54:32Z</dcterms:created>
  <dc:creator>admin</dc:creator>
  <dc:description/>
  <dc:language>en-US</dc:language>
  <cp:lastModifiedBy>lenovo</cp:lastModifiedBy>
  <dcterms:modified xsi:type="dcterms:W3CDTF">2015-02-05T07:44:21Z</dcterms:modified>
  <cp:revision>9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