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DB18-B87B-4CF5-978B-0A9FA086D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181D-DCC7-4B68-8D3D-607728E6FD9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71D626-A526-4BF3-88DD-CA04384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FEE010-9D0B-450B-B31C-AE001C99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698EC2-01C8-438A-8D9F-42866F3C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52481A-D907-4458-93D2-4AA55B3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311399-D086-412C-909B-2174B832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1DA9D7-930F-45FA-84C5-7A27564C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0B5BBC-91F2-4A0A-8DA3-D02B3526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528BA-0ADC-4133-8F46-D7B8C4E0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8E1EB7-19D4-40F0-B1BE-9C4ADE22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5E1B3-7AE0-4071-A171-DACE74B5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855C-5C93-43EF-9FCD-B3EFD7521A4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A0E9D-51DA-4443-A157-5FA9324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D9369-7180-496D-AC3F-C5ED5C50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9F58C-2EAC-4176-B021-C248606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F31E5-2176-4BE1-9068-BA01F73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7B4C9-DB6D-4B8D-9974-F7595457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C3FEA-753C-487A-AC4B-54D2E6D1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455C0-FBD7-4DD6-9A18-224318B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5B947-41A3-4FDE-BE60-8D7205C4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303AE-F215-4183-91E6-B1408C3E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A4C26-C72F-4DE5-ABAC-620839FE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AF8D-61C1-4373-82E3-EC4AF7E5369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9FB06-2779-4F2C-8BD7-8C77F094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D026B-85A8-49BB-B097-CE12C988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38BDC-C5DB-4713-9A9A-94B2ED6C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D25F7-F132-493C-B0E6-5B7974D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B47B6-1D67-4A77-8BAD-EAAB0B6D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AF5BF-B595-4898-AF7B-AE70EB2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98630-CEB3-4495-9989-084AACCF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5FD44-03B0-472D-8CC1-BC9CE14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2CB2E-8F15-4232-93FE-CBA83464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24637-C1D3-4182-BF78-49B9038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D8238-2734-415A-9091-2568C1DA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D24B9-C252-4E36-A648-1595FFC1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CF67D-CA96-43F6-B287-4EECD6FA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57CAD-9A64-40C0-B062-B0A6F95E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D98077-DD01-45D1-A38C-0E2EDF50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557082-4D31-4EF7-971F-3EE93394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5E0430-EA65-483D-B8D5-B4BEE267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340451-6D6B-4F84-89F3-AFBE66FE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CBFBC9-7FFA-4280-BD2A-33404A18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01DAA2-1F88-4F4B-B144-A07C9648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B980C5-4C20-4937-8919-C67D4E4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EA36F-1F61-409A-B895-807994E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718CD9-9D4A-402B-8B83-9DCFFD4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9BF7CA-16B0-40C2-8006-0B16023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D1FE52-7E63-4275-8F78-9FBF9B37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B73B5F-DB09-416E-8220-91F3A966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8BF58A-604C-49EA-BF5F-069A54B6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03E4C-3D09-4C40-9ABE-5D8C5787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DECD6-9C21-4C50-874A-AD9FEA2B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BEB56-9020-4FE1-9F5A-6713B815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5A8BB-7EAD-4E22-8215-5722EE77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92897-91A6-4B19-A035-D713224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6B6FF-A949-446E-BAC2-3FB6671B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F76A8-5A4A-4B84-A6F7-4A548DD7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DC57B-9C9C-45C7-B6C5-C2067F1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1CBE7-43CB-4282-BF49-3710EEC2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398F9-D882-4444-A8DD-00269D1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11685-5AAD-4173-A9C5-48B81B4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7BBF9-7616-4EAF-A55E-377691CC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81AFC-0A24-4D1D-853B-DB7FF379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A9D0F-F1D4-45A9-B4F5-5CA21B9A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02FF8-152E-43A9-BE07-66EDA6B1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50028-88CD-4836-8C05-C4BE7E66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3C3E-F1A0-47A5-A704-5BFC3902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121E-00AC-4A9B-BDD9-9DD2CCF44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FA16-CBE0-4F0D-8F41-21CA8793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57DB6-6C85-4054-BDF5-65E6FAF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26EA2-D082-4A81-80E9-54456159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58849-1860-4462-B826-3FC03219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DA947-A015-4ECA-BD12-58ABAA27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95E7-D7B0-4E2C-B11B-E9B04E1990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3FAFC-F8FA-4BBE-AA6A-26E845B7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07D89-CF9C-4DE1-B69A-470B96BF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08F1B-AF75-4D91-ACF7-C1FF727E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03D3-12D9-4991-BC27-1B302BF847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88192-AD13-45A5-9D07-457B00E7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1656D-F1DE-42F2-AD9E-87578907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6B66E-6B4C-46C0-88D3-16821BD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997F0-E95A-47BB-83F2-4725D09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98FF7-3CBD-4948-88E3-2CBFB624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C5F6B-B059-4B2B-B899-7F2D68F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87D68-8FB6-420E-AB89-4E36651C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D1AB6-402D-485A-9305-8E292358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ABF64-F5F2-48DC-A54C-B317B64E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1CF934-C66F-4AA0-9EAB-55CC1A04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792A-29DD-4A76-8664-088E2AA675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62134-D8DB-43E1-ACCC-5803DB83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BC64F-2FF7-4EA6-9408-CF919AA8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6DC08-57C5-4152-A7A6-9CF1C54F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A660F3-2DC1-4C4C-8FA7-454FEAB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2FF8C-7080-415A-8F89-7518F91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311D7-07B8-4A8D-BC6E-FCF73A35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FE007-152A-4806-A0FE-1959234E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DE8159-A681-4D4B-B7E2-568A919B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724E8-F7DA-4D72-8DF5-1B92B8D2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A0B48-9FFC-4C65-A2C8-D830ADE6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092D-ED41-47D0-9712-8A10D20C7C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726BC-6198-4F19-98ED-56217164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A19A15-67AF-4A66-9EDD-F3193071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EACD3-C822-4713-8E6E-0220248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E36B3B-BBF8-47E9-A642-BFC0A6E8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6231BF-F1E3-442F-96CA-A6807C04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353EF0-AD7E-4889-AFEF-296B69CD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66449-E721-4F17-8471-5A96C208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65545-17CD-4AD7-86C2-9104D55F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D621AB-C485-43F6-90D5-54E6C779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AA93A-D474-45A9-AB52-DAEC3185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B77A-EACD-4026-989C-975064E301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3C3A92-5498-407D-B606-C567BD7E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FFAE4D-F783-48AE-ADBA-700C50CC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A7B027-C3ED-44B5-B77F-9BE19A31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6F59A-5CE4-49FF-B6CF-30C4461F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0C4FB3-9866-4E1F-A0C2-6F79C8CF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3881D3-DF19-4C6E-9B6E-3F2E290C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0624AB-C691-48AC-8A27-9ED58BBA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CA590D-FDD6-43F0-A568-07962873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4C59DD-D5D8-4084-9465-2E76600F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D86D41-8BF2-4C39-96DB-5CE75FFB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7D6D-4E9E-4D5C-84CD-80099831A6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215EB-F65B-4ED7-A9AF-82EB01C1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BE825B-21EF-4707-916A-6200EA8E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B3D30-1330-49D9-8586-47F4E2D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5D2D9-94B8-4553-9ECB-A5CADCC7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398C77-C3AA-4B00-8704-F2449B94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8447AF-0EED-4DC9-A39D-D3238040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C61DC1-E271-4FB9-A235-CDE5847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561A72-DEB8-4D76-AF27-F787F014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976F61-7268-4145-AE51-6BA9AE44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5D7E38-701F-47D1-A0F6-C39E428F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E330-9BEC-4312-BC00-787A601455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2C6795-3D14-4182-AF2D-A5402AB5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7F9226-8D97-46DB-95C8-D92F3F83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8CD0F-50E0-465A-B218-6AB681C5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B6404A-B121-4767-9495-E81859DF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90A70-ED14-4945-A026-2B16507B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7E76BE-37CE-4034-85A6-B9B1151C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115160-9844-4540-B197-D79E43BC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AB83B7-FE54-4FB4-9C63-70E9AD87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D0CC9A-F1D1-48A8-9E0A-90C541DA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A3E892-97A9-4ADC-8407-E3D304C8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0" y="318960"/>
            <a:ext cx="7072200" cy="6539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3817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9311A98-0681-44BF-9A39-39669A11ACD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8F7F-6651-4CFF-B986-A62DFEE4C3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4C4F-E96C-410C-8A36-814FEFE1880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86F6-B752-487A-850F-5B787616004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3608-4985-46C7-BC00-D64983C095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787C-A5E2-4ED3-8B28-194F40F83A6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2" descr=""/>
          <p:cNvPicPr/>
          <p:nvPr/>
        </p:nvPicPr>
        <p:blipFill>
          <a:blip r:embed="rId2"/>
          <a:srcRect l="9568" t="0" r="0" b="0"/>
          <a:stretch/>
        </p:blipFill>
        <p:spPr>
          <a:xfrm>
            <a:off x="0" y="0"/>
            <a:ext cx="82677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286760" y="6969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B59B-6673-4F20-AB50-DC31D22F064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CE7F-11E4-4F08-9307-3590C26D38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1ADD-2930-4042-BB83-1F3F07D89D6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8A10-953D-48B1-B0A5-35A3B86678B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80FB-3389-4264-979D-C9EA582FD0D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4E5E-7890-4BAF-82FE-7FF63FCC40C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76360" y="275436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274920" y="38332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62FCF7D-D354-4C0E-BDF9-4056B9913C3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468360" y="3062160"/>
            <a:ext cx="4390920" cy="2743200"/>
            <a:chOff x="468360" y="3062160"/>
            <a:chExt cx="4390920" cy="2743200"/>
          </a:xfrm>
        </p:grpSpPr>
        <p:sp>
          <p:nvSpPr>
            <p:cNvPr id="538" name="Rectangle 4"/>
            <p:cNvSpPr/>
            <p:nvPr/>
          </p:nvSpPr>
          <p:spPr>
            <a:xfrm>
              <a:off x="4273560" y="3612960"/>
              <a:ext cx="585720" cy="219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5"/>
            <p:cNvSpPr/>
            <p:nvPr/>
          </p:nvSpPr>
          <p:spPr>
            <a:xfrm>
              <a:off x="3522600" y="391788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6"/>
            <p:cNvSpPr/>
            <p:nvPr/>
          </p:nvSpPr>
          <p:spPr>
            <a:xfrm>
              <a:off x="2768760" y="4273560"/>
              <a:ext cx="585720" cy="1531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7"/>
            <p:cNvSpPr/>
            <p:nvPr/>
          </p:nvSpPr>
          <p:spPr>
            <a:xfrm>
              <a:off x="2016000" y="4576680"/>
              <a:ext cx="587520" cy="12286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8"/>
            <p:cNvSpPr/>
            <p:nvPr/>
          </p:nvSpPr>
          <p:spPr>
            <a:xfrm>
              <a:off x="1263600" y="4832280"/>
              <a:ext cx="585720" cy="973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"/>
            <p:cNvSpPr/>
            <p:nvPr/>
          </p:nvSpPr>
          <p:spPr>
            <a:xfrm>
              <a:off x="511200" y="5133960"/>
              <a:ext cx="585720" cy="67140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0"/>
            <p:cNvSpPr/>
            <p:nvPr/>
          </p:nvSpPr>
          <p:spPr>
            <a:xfrm>
              <a:off x="468360" y="306216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1"/>
            <p:cNvSpPr/>
            <p:nvPr/>
          </p:nvSpPr>
          <p:spPr>
            <a:xfrm>
              <a:off x="511200" y="342900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2"/>
            <p:cNvSpPr/>
            <p:nvPr/>
          </p:nvSpPr>
          <p:spPr>
            <a:xfrm>
              <a:off x="3522600" y="513072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3"/>
          <p:cNvGrpSpPr/>
          <p:nvPr/>
        </p:nvGrpSpPr>
        <p:grpSpPr>
          <a:xfrm>
            <a:off x="468360" y="1628640"/>
            <a:ext cx="8207280" cy="863640"/>
            <a:chOff x="468360" y="1628640"/>
            <a:chExt cx="8207280" cy="863640"/>
          </a:xfrm>
        </p:grpSpPr>
        <p:grpSp>
          <p:nvGrpSpPr>
            <p:cNvPr id="548" name="Group 14"/>
            <p:cNvGrpSpPr/>
            <p:nvPr/>
          </p:nvGrpSpPr>
          <p:grpSpPr>
            <a:xfrm>
              <a:off x="468360" y="1628640"/>
              <a:ext cx="8207280" cy="576360"/>
              <a:chOff x="468360" y="1628640"/>
              <a:chExt cx="8207280" cy="576360"/>
            </a:xfrm>
          </p:grpSpPr>
          <p:sp>
            <p:nvSpPr>
              <p:cNvPr id="549" name="Rectangle 15"/>
              <p:cNvSpPr/>
              <p:nvPr/>
            </p:nvSpPr>
            <p:spPr>
              <a:xfrm>
                <a:off x="468360" y="162864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16"/>
              <p:cNvSpPr/>
              <p:nvPr/>
            </p:nvSpPr>
            <p:spPr>
              <a:xfrm>
                <a:off x="1494000" y="162864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17"/>
              <p:cNvSpPr/>
              <p:nvPr/>
            </p:nvSpPr>
            <p:spPr>
              <a:xfrm>
                <a:off x="2519280" y="162864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8"/>
              <p:cNvSpPr/>
              <p:nvPr/>
            </p:nvSpPr>
            <p:spPr>
              <a:xfrm>
                <a:off x="3544920" y="162864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9"/>
              <p:cNvSpPr/>
              <p:nvPr/>
            </p:nvSpPr>
            <p:spPr>
              <a:xfrm>
                <a:off x="4573800" y="1628640"/>
                <a:ext cx="1025280" cy="576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20"/>
              <p:cNvSpPr/>
              <p:nvPr/>
            </p:nvSpPr>
            <p:spPr>
              <a:xfrm>
                <a:off x="5599080" y="1628640"/>
                <a:ext cx="1025640" cy="57636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21"/>
              <p:cNvSpPr/>
              <p:nvPr/>
            </p:nvSpPr>
            <p:spPr>
              <a:xfrm>
                <a:off x="6624720" y="162864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22"/>
              <p:cNvSpPr/>
              <p:nvPr/>
            </p:nvSpPr>
            <p:spPr>
              <a:xfrm>
                <a:off x="7650360" y="1628640"/>
                <a:ext cx="102528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23"/>
            <p:cNvGrpSpPr/>
            <p:nvPr/>
          </p:nvGrpSpPr>
          <p:grpSpPr>
            <a:xfrm>
              <a:off x="468360" y="2205000"/>
              <a:ext cx="8207280" cy="287280"/>
              <a:chOff x="468360" y="2205000"/>
              <a:chExt cx="8207280" cy="287280"/>
            </a:xfrm>
          </p:grpSpPr>
          <p:sp>
            <p:nvSpPr>
              <p:cNvPr id="558" name="Rectangle 24"/>
              <p:cNvSpPr/>
              <p:nvPr/>
            </p:nvSpPr>
            <p:spPr>
              <a:xfrm>
                <a:off x="46836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25"/>
              <p:cNvSpPr/>
              <p:nvPr/>
            </p:nvSpPr>
            <p:spPr>
              <a:xfrm>
                <a:off x="1494000" y="220500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6"/>
              <p:cNvSpPr/>
              <p:nvPr/>
            </p:nvSpPr>
            <p:spPr>
              <a:xfrm>
                <a:off x="251928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7"/>
              <p:cNvSpPr/>
              <p:nvPr/>
            </p:nvSpPr>
            <p:spPr>
              <a:xfrm>
                <a:off x="354492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8"/>
              <p:cNvSpPr/>
              <p:nvPr/>
            </p:nvSpPr>
            <p:spPr>
              <a:xfrm>
                <a:off x="4573800" y="220500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9"/>
              <p:cNvSpPr/>
              <p:nvPr/>
            </p:nvSpPr>
            <p:spPr>
              <a:xfrm>
                <a:off x="559908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0"/>
              <p:cNvSpPr/>
              <p:nvPr/>
            </p:nvSpPr>
            <p:spPr>
              <a:xfrm>
                <a:off x="662472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1"/>
              <p:cNvSpPr/>
              <p:nvPr/>
            </p:nvSpPr>
            <p:spPr>
              <a:xfrm>
                <a:off x="7650360" y="220500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Group 32"/>
          <p:cNvGrpSpPr/>
          <p:nvPr/>
        </p:nvGrpSpPr>
        <p:grpSpPr>
          <a:xfrm>
            <a:off x="5999040" y="3081240"/>
            <a:ext cx="2676240" cy="2876040"/>
            <a:chOff x="5999040" y="3081240"/>
            <a:chExt cx="2676240" cy="2876040"/>
          </a:xfrm>
        </p:grpSpPr>
        <p:grpSp>
          <p:nvGrpSpPr>
            <p:cNvPr id="567" name="Group 33"/>
            <p:cNvGrpSpPr/>
            <p:nvPr/>
          </p:nvGrpSpPr>
          <p:grpSpPr>
            <a:xfrm>
              <a:off x="6294600" y="3589920"/>
              <a:ext cx="2089080" cy="2083680"/>
              <a:chOff x="6294600" y="3589920"/>
              <a:chExt cx="2089080" cy="2083680"/>
            </a:xfrm>
          </p:grpSpPr>
          <p:sp>
            <p:nvSpPr>
              <p:cNvPr id="568" name="Freeform 34"/>
              <p:cNvSpPr/>
              <p:nvPr/>
            </p:nvSpPr>
            <p:spPr>
              <a:xfrm>
                <a:off x="6294600" y="3890880"/>
                <a:ext cx="104472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5"/>
              <p:cNvSpPr/>
              <p:nvPr/>
            </p:nvSpPr>
            <p:spPr>
              <a:xfrm>
                <a:off x="6594480" y="358992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"/>
              <p:cNvSpPr/>
              <p:nvPr/>
            </p:nvSpPr>
            <p:spPr>
              <a:xfrm>
                <a:off x="6294600" y="4626360"/>
                <a:ext cx="104472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"/>
              <p:cNvSpPr/>
              <p:nvPr/>
            </p:nvSpPr>
            <p:spPr>
              <a:xfrm>
                <a:off x="6594480" y="4635360"/>
                <a:ext cx="744480" cy="103824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8"/>
              <p:cNvSpPr/>
              <p:nvPr/>
            </p:nvSpPr>
            <p:spPr>
              <a:xfrm>
                <a:off x="7339320" y="4635360"/>
                <a:ext cx="738360" cy="103824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9"/>
              <p:cNvSpPr/>
              <p:nvPr/>
            </p:nvSpPr>
            <p:spPr>
              <a:xfrm>
                <a:off x="7339320" y="358992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292929"/>
              </a:solidFill>
              <a:ln w="3240">
                <a:solidFill>
                  <a:srgbClr val="c0c0c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0"/>
              <p:cNvSpPr/>
              <p:nvPr/>
            </p:nvSpPr>
            <p:spPr>
              <a:xfrm>
                <a:off x="7339320" y="3890880"/>
                <a:ext cx="104436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c0c0c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41"/>
              <p:cNvSpPr/>
              <p:nvPr/>
            </p:nvSpPr>
            <p:spPr>
              <a:xfrm>
                <a:off x="7339320" y="4635360"/>
                <a:ext cx="104436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5f5f5f"/>
              </a:solidFill>
              <a:ln w="3240">
                <a:solidFill>
                  <a:srgbClr val="c0c0c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Arc 42"/>
            <p:cNvSpPr/>
            <p:nvPr/>
          </p:nvSpPr>
          <p:spPr>
            <a:xfrm>
              <a:off x="5999040" y="3524400"/>
              <a:ext cx="2676240" cy="243288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3"/>
            <p:cNvSpPr/>
            <p:nvPr/>
          </p:nvSpPr>
          <p:spPr>
            <a:xfrm>
              <a:off x="6855120" y="3081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D9C268C-791B-4B3C-8C58-73F0241386F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A376B2D-00D8-4711-97DE-6ECC0610194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468360" y="1986120"/>
            <a:ext cx="3990960" cy="299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4710240" y="1928880"/>
            <a:ext cx="38890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pt宝藏 www.pptbz.com提供漂亮ppt模板下载</cp:lastModifiedBy>
  <dcterms:modified xsi:type="dcterms:W3CDTF">2015-02-06T07:32:31Z</dcterms:modified>
  <cp:revision>156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