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BA49-99D5-4225-8FA5-A23BBFAC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EEB-D456-49F0-9484-DBBF3EF0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B14B2-DA88-40FC-ABAD-37E6A3DC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9B6EF-7C6C-4810-A1EF-73F0A0B7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0C9E7-5FBC-42F8-AB80-145F4E26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CB5B0-48EC-4EBB-B665-68D0A223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80E2A-EBA8-4BB5-A334-BE616CA8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FD014-423A-4A36-B9DA-2247E2BE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D48B7-118D-47B1-99D5-8694FC8E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6FB58-46E8-4616-9D5D-3F947F94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71C85-492C-4E9A-9BEB-0A32755E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1133E-8AD5-446A-BD0F-C14A351BF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32A-B074-4F27-8C84-8FEA6EDB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B3A64-427A-4602-8B89-570B2242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2C257-F417-49AE-830D-C2A4DE1D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C04C9-0269-4884-ABFE-E3EECD48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56EEE-AE94-426C-AE56-EC583547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A7F48-EB37-4978-B762-ACEF62B0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AC121-57F8-4AE9-AB9A-1F241132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FA8B4E-0F4A-4D8F-B39C-D5302D72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188A1-7B3E-4DF9-BFB9-D2ED956A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D695B-F5F8-41D2-8011-A3E2FB0E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99B6B-71DF-4FF0-9599-1D4933C2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87A-18E3-446D-BD86-2C5B3086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CD834-EC73-434F-ACA3-3517F0CD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22FED-02CA-4F10-BDED-946B6B637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CA60D-A8F7-4EDE-BCAA-A2A79EC2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CA96D-8E1E-4C89-A433-B2411BA3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94199-4E9B-4390-8BBC-7FD438E2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E29B8-D48F-4D57-AFEC-21AEC34E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97E5C-8D36-415E-9A3C-4EED9EC4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40BF1-2244-441F-94FF-04FE872B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3C00F-281A-491F-AAE1-A63E4C13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14D9B-8606-4069-B4B5-34AF857F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3D2B-0E7C-4319-8E2E-B8D1259B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EE9F5-49BE-4C4E-B48E-04D52D0E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8250E-4F8F-4671-8D0F-AC28BDF1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2D958-F577-49A2-98A9-680B12C2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91C39-A311-4373-9E2C-6ABE99FD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8CD21-EF59-403F-88F5-B25E9895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C4141-9805-4D6F-A428-E66B84F7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6EC8EB-D91F-4AAB-AF85-F6C17863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5916ED-EC63-4A2D-B440-B180D432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CF761-9665-4621-9E78-0D4DE913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3A38E-F552-46DA-AF5B-BA3F16C5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BF57-206F-4ED2-990E-130B8055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6F23A-9F85-4255-B4E2-44BB66FF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69610-1B29-4082-95B0-5BE917A7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466C6-E2E8-4DA5-BF71-26C52541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111DF-4559-42D8-81B0-67ADB97D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6310D-9411-47E6-B31B-21B0FA0A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7C3B-7EEF-469B-85B2-BFF01F13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4E06-F455-4359-B36C-CE3289B3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8D41-9CF2-4226-8451-53825BFC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8719-6C8D-4B42-91B6-CEB30AE7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C520-98A7-4F42-971F-C2476570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6C2-B54A-49D8-8616-775AB005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C0C6-BD99-4507-A87E-5B7D7CB0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3C1C-7CF5-4981-BC0B-932BBC42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9E5F-596E-41CF-B611-5C3F4CB0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A275-D43A-4CD5-BA2E-5841C8CA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891B-A38F-4B74-992D-BC022C37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B12BD-51E4-4F14-AF40-3B41B3BB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125E9-76BE-4B0E-8C17-A204A074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8AE44-3BBF-4BAF-83D9-238ED0B0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ED7CA-AA4F-4D19-A7CD-2FC025A7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D99BB-BA23-4FA6-BFF8-95AE476F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D74-28FE-445D-B81F-6DD443C6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8757C-2D01-4DFF-AF77-F1F3BAC6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A5F39-399F-476A-8CC3-727731A7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2C5E9-70D7-4F9C-BB00-D176307B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F5D21-3A3A-46DC-AEDC-95BB6550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2EF5F-0F5D-4326-A25B-215CF8BC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AD3FF-4607-4802-8A5A-9A1DA7D5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65199-089B-49BB-A72E-1578DEE9A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86FC0-719A-4DCA-8FB6-A00E4DA7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9DF33-3EB8-4760-8A27-193A0CFD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35D6B-5C59-4B8E-9B38-58E9E30E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7C7-684A-466C-9C53-E592F239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9A4CC-FF62-4FEE-8ECF-A97B9B6C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FB0F4-C109-4621-B49E-23ACE1D7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C1E3A-DF73-4C11-8739-7E158F38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8702D-DD35-4200-AD2E-E8DADB05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73185-A001-4D35-B04F-A832B9D3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788BD-D4F0-49DC-9A92-A209AB60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BBA70-28D1-4843-AD90-D2C01652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24E1D-5C88-4303-A567-D5D6DEF8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09DB5-2B9D-45B1-9D2B-C997B8C1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F4A23-DFD0-4A4D-9797-BC5F4D55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47F-C912-44AE-9E7B-A8A31954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0276A-AE9C-491F-B62D-C0087825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27A14-B225-4E4C-9CFC-790A7CCC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A396E-76A9-4FD9-8CAF-FDA48AF8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45432-597E-4D1C-93F2-89414CD4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F317C-C960-4BC1-AD69-3B444145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9D7A1-5667-428F-BF64-F3BA771C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456F8-E82C-4F3E-9125-A690167F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B3EC0-6244-47E7-8F91-AEE229AE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CFEB6-D6EE-4789-9F42-AD4A6EA8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B1D14-6BAE-44B3-AEE7-54B6D1F6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95D-0B13-4437-B914-0754D231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AB4F8-64F6-4C2D-B88E-BCAD6324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55898-CE3D-4785-9789-6BB61D73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90649-8FE1-4CF9-954C-D7A32122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54C0C-E50B-4247-8E46-5204E469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CC1B8-AC42-41D2-8BBF-CB95B541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7A77B-3CF0-458E-A9EB-E9B13E3D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A938D-E1D3-434A-85DD-122FBB88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F3E31-D99E-4254-9C11-6D8CF715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D4C10-D827-4903-8895-E54F318E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A8307-ACEC-412F-9A50-4F299308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1DF-1709-4026-9627-8C6E0F93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A5F94-54A7-4A82-924A-659E98C7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92756-AB86-4C48-BAB9-4C204D0B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63E04-43DA-43EA-82B2-D751872A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D0958-62D8-415D-A8A9-0BB72022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15A70-006E-484E-85CA-4F3A3EF6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37708-ED90-4DD2-B68A-CAC0FF02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3A09B-FAD3-4C32-9A71-B1955D4A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1331D-4122-4843-816B-C0339736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3369F-8A71-4053-A715-948481E0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1716B-12C5-4E07-ACAC-DD82E9A6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486D-3D72-4E27-8F07-78A05997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45CFC-E000-4617-8382-58E373FC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55595-774D-458E-AF36-236BDB07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A599C-592C-469F-B774-D6020B14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02206-3BC2-42FC-A0FF-2EEEAB7C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6B0C9-FEB8-4A0D-AC21-A858643E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5E404-B8E5-4EDB-B431-6C7A77F8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BFE207-50DD-4774-82CF-C92AF01C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A7C58-2D69-41E5-83B5-5ADDC956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DC36C-E5B3-4302-B84A-339398C7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7B658-DB35-45CB-BDBD-3C9FFEF0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E9C-60BF-488F-83FE-26FB4FE8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F5072-A3BD-418B-B94C-ED5782A9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36394-296C-4F5B-9E92-DAC20885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7B50A-417E-47ED-B710-0C63618F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B5BD2-3747-4BFB-8E18-CDD4775E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F24AB-93AE-443A-8B5B-FDBA5A0A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DDC81-8465-45D3-9C6A-2AAF377A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39AE2-6D4B-4A77-B88D-E657166B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05970-31F4-4343-90E6-77894558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2E34F-1A93-4010-B2F1-BECA8DF1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894D5-ED15-46A4-807E-59A6E1DD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DCC1-C7CC-4902-AD2D-55480C727D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F1E6-8B74-48FC-8105-C0F7635DF42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37D6-78FD-4D8D-AB7A-122AA84A8C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8F72-C70C-4F06-987C-9B60AE2225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07D5-6933-4B51-9254-C93335CF26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F969-D271-405F-94D1-2FCF2CCD44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2CB4-0917-4DE7-A744-C04F5A9FEC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DD6E-7F3F-4050-8DEB-352B918A7A8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60C0-F990-4B02-9D86-CC32EEE34C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73C7-7105-45D0-9D80-45F85CE0BD2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DF0A-CC9D-4BA3-A62B-2A4B282469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341E-AD2F-4AF7-A45F-F974A248EF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3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3" name="矩形 4"/>
          <p:cNvSpPr/>
          <p:nvPr/>
        </p:nvSpPr>
        <p:spPr>
          <a:xfrm>
            <a:off x="4284720" y="299412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Group 3"/>
          <p:cNvGrpSpPr/>
          <p:nvPr/>
        </p:nvGrpSpPr>
        <p:grpSpPr>
          <a:xfrm>
            <a:off x="2700360" y="2705040"/>
            <a:ext cx="4896000" cy="684360"/>
            <a:chOff x="2700360" y="2705040"/>
            <a:chExt cx="4896000" cy="684360"/>
          </a:xfrm>
        </p:grpSpPr>
        <p:sp>
          <p:nvSpPr>
            <p:cNvPr id="495" name="任意多边形 5"/>
            <p:cNvSpPr/>
            <p:nvPr/>
          </p:nvSpPr>
          <p:spPr>
            <a:xfrm>
              <a:off x="2700360" y="2705040"/>
              <a:ext cx="4896000" cy="6843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bevel/>
            </a:ln>
            <a:effectLst>
              <a:outerShdw dist="153753" dir="2700000" blurRad="0" rotWithShape="0">
                <a:srgbClr val="000000">
                  <a:alpha val="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任意多边形 6"/>
            <p:cNvSpPr/>
            <p:nvPr/>
          </p:nvSpPr>
          <p:spPr>
            <a:xfrm>
              <a:off x="2748240" y="2721600"/>
              <a:ext cx="4799880" cy="6512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Group 6"/>
          <p:cNvGrpSpPr/>
          <p:nvPr/>
        </p:nvGrpSpPr>
        <p:grpSpPr>
          <a:xfrm>
            <a:off x="2700360" y="3471840"/>
            <a:ext cx="4896000" cy="682560"/>
            <a:chOff x="2700360" y="3471840"/>
            <a:chExt cx="4896000" cy="682560"/>
          </a:xfrm>
        </p:grpSpPr>
        <p:sp>
          <p:nvSpPr>
            <p:cNvPr id="498" name="任意多边形 8"/>
            <p:cNvSpPr/>
            <p:nvPr/>
          </p:nvSpPr>
          <p:spPr>
            <a:xfrm>
              <a:off x="2700360" y="3471840"/>
              <a:ext cx="4896000" cy="6825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bevel/>
            </a:ln>
            <a:effectLst>
              <a:outerShdw dist="153753" dir="2700000" blurRad="0" rotWithShape="0">
                <a:srgbClr val="000000">
                  <a:alpha val="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任意多边形 9"/>
            <p:cNvSpPr/>
            <p:nvPr/>
          </p:nvSpPr>
          <p:spPr>
            <a:xfrm>
              <a:off x="2748240" y="3488400"/>
              <a:ext cx="4799880" cy="6494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9"/>
          <p:cNvGrpSpPr/>
          <p:nvPr/>
        </p:nvGrpSpPr>
        <p:grpSpPr>
          <a:xfrm>
            <a:off x="2700360" y="4237200"/>
            <a:ext cx="4896000" cy="684000"/>
            <a:chOff x="2700360" y="4237200"/>
            <a:chExt cx="4896000" cy="684000"/>
          </a:xfrm>
        </p:grpSpPr>
        <p:sp>
          <p:nvSpPr>
            <p:cNvPr id="501" name="任意多边形 11"/>
            <p:cNvSpPr/>
            <p:nvPr/>
          </p:nvSpPr>
          <p:spPr>
            <a:xfrm>
              <a:off x="2700360" y="4237200"/>
              <a:ext cx="4896000" cy="68400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bevel/>
            </a:ln>
            <a:effectLst>
              <a:outerShdw dist="153753" dir="2700000" blurRad="0" rotWithShape="0">
                <a:srgbClr val="000000">
                  <a:alpha val="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任意多边形 12"/>
            <p:cNvSpPr/>
            <p:nvPr/>
          </p:nvSpPr>
          <p:spPr>
            <a:xfrm>
              <a:off x="2748240" y="4253760"/>
              <a:ext cx="4799880" cy="65088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12"/>
          <p:cNvGrpSpPr/>
          <p:nvPr/>
        </p:nvGrpSpPr>
        <p:grpSpPr>
          <a:xfrm>
            <a:off x="2700360" y="5003640"/>
            <a:ext cx="4896000" cy="682920"/>
            <a:chOff x="2700360" y="5003640"/>
            <a:chExt cx="4896000" cy="682920"/>
          </a:xfrm>
        </p:grpSpPr>
        <p:sp>
          <p:nvSpPr>
            <p:cNvPr id="504" name="任意多边形 14"/>
            <p:cNvSpPr/>
            <p:nvPr/>
          </p:nvSpPr>
          <p:spPr>
            <a:xfrm>
              <a:off x="2700360" y="5003640"/>
              <a:ext cx="4896000" cy="68292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bevel/>
            </a:ln>
            <a:effectLst>
              <a:outerShdw dist="153753" dir="2700000" blurRad="0" rotWithShape="0">
                <a:srgbClr val="000000">
                  <a:alpha val="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任意多边形 15"/>
            <p:cNvSpPr/>
            <p:nvPr/>
          </p:nvSpPr>
          <p:spPr>
            <a:xfrm>
              <a:off x="2748240" y="5020200"/>
              <a:ext cx="4799880" cy="64980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15"/>
          <p:cNvGrpSpPr/>
          <p:nvPr/>
        </p:nvGrpSpPr>
        <p:grpSpPr>
          <a:xfrm>
            <a:off x="2700360" y="5769000"/>
            <a:ext cx="4896000" cy="684360"/>
            <a:chOff x="2700360" y="5769000"/>
            <a:chExt cx="4896000" cy="684360"/>
          </a:xfrm>
        </p:grpSpPr>
        <p:sp>
          <p:nvSpPr>
            <p:cNvPr id="507" name="任意多边形 17"/>
            <p:cNvSpPr/>
            <p:nvPr/>
          </p:nvSpPr>
          <p:spPr>
            <a:xfrm>
              <a:off x="2700360" y="5769000"/>
              <a:ext cx="4896000" cy="684360"/>
            </a:xfrm>
            <a:custGeom>
              <a:avLst/>
              <a:gdLst/>
              <a:ahLst/>
              <a:rect l="l" t="t" r="r" b="b"/>
              <a:pathLst>
                <a:path w="2578139" h="521890">
                  <a:moveTo>
                    <a:pt x="0" y="86999"/>
                  </a:moveTo>
                  <a:cubicBezTo>
                    <a:pt x="0" y="38951"/>
                    <a:pt x="38951" y="0"/>
                    <a:pt x="86999" y="0"/>
                  </a:cubicBezTo>
                  <a:lnTo>
                    <a:pt x="2491140" y="0"/>
                  </a:lnTo>
                  <a:cubicBezTo>
                    <a:pt x="2539188" y="0"/>
                    <a:pt x="2578139" y="38951"/>
                    <a:pt x="2578139" y="86999"/>
                  </a:cubicBezTo>
                  <a:lnTo>
                    <a:pt x="2578139" y="434891"/>
                  </a:lnTo>
                  <a:cubicBezTo>
                    <a:pt x="2578139" y="482939"/>
                    <a:pt x="2539188" y="521890"/>
                    <a:pt x="2491140" y="521890"/>
                  </a:cubicBezTo>
                  <a:lnTo>
                    <a:pt x="86999" y="521890"/>
                  </a:lnTo>
                  <a:cubicBezTo>
                    <a:pt x="38951" y="521890"/>
                    <a:pt x="0" y="482939"/>
                    <a:pt x="0" y="434891"/>
                  </a:cubicBezTo>
                  <a:lnTo>
                    <a:pt x="0" y="869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0f0f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ddddd"/>
              </a:solidFill>
              <a:bevel/>
            </a:ln>
            <a:effectLst>
              <a:outerShdw dist="153753" dir="2700000" blurRad="0" rotWithShape="0">
                <a:srgbClr val="000000">
                  <a:alpha val="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任意多边形 18"/>
            <p:cNvSpPr/>
            <p:nvPr/>
          </p:nvSpPr>
          <p:spPr>
            <a:xfrm>
              <a:off x="2748240" y="5785560"/>
              <a:ext cx="4799880" cy="6512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8"/>
          <p:cNvGrpSpPr/>
          <p:nvPr/>
        </p:nvGrpSpPr>
        <p:grpSpPr>
          <a:xfrm>
            <a:off x="1763640" y="1898640"/>
            <a:ext cx="5832720" cy="684360"/>
            <a:chOff x="1763640" y="1898640"/>
            <a:chExt cx="5832720" cy="684360"/>
          </a:xfrm>
        </p:grpSpPr>
        <p:sp>
          <p:nvSpPr>
            <p:cNvPr id="510" name="任意多边形 23"/>
            <p:cNvSpPr/>
            <p:nvPr/>
          </p:nvSpPr>
          <p:spPr>
            <a:xfrm>
              <a:off x="1763640" y="1898640"/>
              <a:ext cx="5832720" cy="684360"/>
            </a:xfrm>
            <a:custGeom>
              <a:avLst/>
              <a:gdLst/>
              <a:ahLst/>
              <a:rect l="l" t="t" r="r" b="b"/>
              <a:pathLst>
                <a:path w="3131343" h="521890">
                  <a:moveTo>
                    <a:pt x="0" y="52189"/>
                  </a:moveTo>
                  <a:cubicBezTo>
                    <a:pt x="0" y="23366"/>
                    <a:pt x="23366" y="0"/>
                    <a:pt x="52189" y="0"/>
                  </a:cubicBezTo>
                  <a:lnTo>
                    <a:pt x="3079154" y="0"/>
                  </a:lnTo>
                  <a:cubicBezTo>
                    <a:pt x="3107977" y="0"/>
                    <a:pt x="3131343" y="23366"/>
                    <a:pt x="3131343" y="52189"/>
                  </a:cubicBezTo>
                  <a:lnTo>
                    <a:pt x="3131343" y="469701"/>
                  </a:lnTo>
                  <a:cubicBezTo>
                    <a:pt x="3131343" y="498524"/>
                    <a:pt x="3107977" y="521890"/>
                    <a:pt x="3079154" y="521890"/>
                  </a:cubicBezTo>
                  <a:lnTo>
                    <a:pt x="52189" y="521890"/>
                  </a:lnTo>
                  <a:cubicBezTo>
                    <a:pt x="23366" y="521890"/>
                    <a:pt x="0" y="498524"/>
                    <a:pt x="0" y="469701"/>
                  </a:cubicBezTo>
                  <a:lnTo>
                    <a:pt x="0" y="52189"/>
                  </a:lnTo>
                  <a:close/>
                </a:path>
              </a:pathLst>
            </a:cu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bevel/>
            </a:ln>
            <a:effectLst>
              <a:outerShdw dist="153753" dir="2700000" blurRad="0" rotWithShape="0">
                <a:srgbClr val="000000">
                  <a:alpha val="1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8400" rIns="68400" tIns="50760" bIns="50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20"/>
            <p:cNvGrpSpPr/>
            <p:nvPr/>
          </p:nvGrpSpPr>
          <p:grpSpPr>
            <a:xfrm>
              <a:off x="1798920" y="1911960"/>
              <a:ext cx="5760000" cy="659160"/>
              <a:chOff x="1798920" y="1911960"/>
              <a:chExt cx="5760000" cy="659160"/>
            </a:xfrm>
          </p:grpSpPr>
          <p:pic>
            <p:nvPicPr>
              <p:cNvPr id="512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8920" y="1911960"/>
                <a:ext cx="5760000" cy="65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Text Box 22"/>
              <p:cNvSpPr/>
              <p:nvPr/>
            </p:nvSpPr>
            <p:spPr>
              <a:xfrm>
                <a:off x="1810440" y="1914840"/>
                <a:ext cx="5738400" cy="65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Group 23"/>
          <p:cNvGrpSpPr/>
          <p:nvPr/>
        </p:nvGrpSpPr>
        <p:grpSpPr>
          <a:xfrm>
            <a:off x="1765440" y="2705040"/>
            <a:ext cx="718920" cy="684360"/>
            <a:chOff x="1765440" y="2705040"/>
            <a:chExt cx="718920" cy="684360"/>
          </a:xfrm>
        </p:grpSpPr>
        <p:sp>
          <p:nvSpPr>
            <p:cNvPr id="515" name="圆角矩形 26"/>
            <p:cNvSpPr/>
            <p:nvPr/>
          </p:nvSpPr>
          <p:spPr>
            <a:xfrm>
              <a:off x="1765440" y="2705040"/>
              <a:ext cx="718920" cy="6843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25"/>
            <p:cNvGrpSpPr/>
            <p:nvPr/>
          </p:nvGrpSpPr>
          <p:grpSpPr>
            <a:xfrm>
              <a:off x="1794600" y="2716200"/>
              <a:ext cx="658800" cy="665280"/>
              <a:chOff x="1794600" y="2716200"/>
              <a:chExt cx="658800" cy="665280"/>
            </a:xfrm>
          </p:grpSpPr>
          <p:pic>
            <p:nvPicPr>
              <p:cNvPr id="517" name="圆角矩形 27" descr=""/>
              <p:cNvPicPr/>
              <p:nvPr/>
            </p:nvPicPr>
            <p:blipFill>
              <a:blip r:embed="rId3"/>
              <a:stretch/>
            </p:blipFill>
            <p:spPr>
              <a:xfrm>
                <a:off x="1794600" y="2716200"/>
                <a:ext cx="658800" cy="6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8" name="Text Box 27"/>
              <p:cNvSpPr/>
              <p:nvPr/>
            </p:nvSpPr>
            <p:spPr>
              <a:xfrm>
                <a:off x="1831680" y="2753280"/>
                <a:ext cx="58608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9" name="Group 28"/>
          <p:cNvGrpSpPr/>
          <p:nvPr/>
        </p:nvGrpSpPr>
        <p:grpSpPr>
          <a:xfrm>
            <a:off x="1765440" y="3471840"/>
            <a:ext cx="718920" cy="682560"/>
            <a:chOff x="1765440" y="3471840"/>
            <a:chExt cx="718920" cy="682560"/>
          </a:xfrm>
        </p:grpSpPr>
        <p:sp>
          <p:nvSpPr>
            <p:cNvPr id="520" name="圆角矩形 29"/>
            <p:cNvSpPr/>
            <p:nvPr/>
          </p:nvSpPr>
          <p:spPr>
            <a:xfrm>
              <a:off x="1765440" y="3471840"/>
              <a:ext cx="718920" cy="6825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30"/>
            <p:cNvGrpSpPr/>
            <p:nvPr/>
          </p:nvGrpSpPr>
          <p:grpSpPr>
            <a:xfrm>
              <a:off x="1794600" y="3485160"/>
              <a:ext cx="658800" cy="657360"/>
              <a:chOff x="1794600" y="3485160"/>
              <a:chExt cx="658800" cy="657360"/>
            </a:xfrm>
          </p:grpSpPr>
          <p:pic>
            <p:nvPicPr>
              <p:cNvPr id="522" name="圆角矩形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1794600" y="3485160"/>
                <a:ext cx="658800" cy="65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3" name="Text Box 32"/>
              <p:cNvSpPr/>
              <p:nvPr/>
            </p:nvSpPr>
            <p:spPr>
              <a:xfrm>
                <a:off x="1831680" y="3519720"/>
                <a:ext cx="58608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8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" name="Group 33"/>
          <p:cNvGrpSpPr/>
          <p:nvPr/>
        </p:nvGrpSpPr>
        <p:grpSpPr>
          <a:xfrm>
            <a:off x="1765440" y="4237200"/>
            <a:ext cx="718920" cy="684000"/>
            <a:chOff x="1765440" y="4237200"/>
            <a:chExt cx="718920" cy="684000"/>
          </a:xfrm>
        </p:grpSpPr>
        <p:sp>
          <p:nvSpPr>
            <p:cNvPr id="525" name="圆角矩形 32"/>
            <p:cNvSpPr/>
            <p:nvPr/>
          </p:nvSpPr>
          <p:spPr>
            <a:xfrm>
              <a:off x="1765440" y="4237200"/>
              <a:ext cx="718920" cy="68400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" name="Group 35"/>
            <p:cNvGrpSpPr/>
            <p:nvPr/>
          </p:nvGrpSpPr>
          <p:grpSpPr>
            <a:xfrm>
              <a:off x="1794600" y="4246560"/>
              <a:ext cx="658800" cy="664920"/>
              <a:chOff x="1794600" y="4246560"/>
              <a:chExt cx="658800" cy="664920"/>
            </a:xfrm>
          </p:grpSpPr>
          <p:pic>
            <p:nvPicPr>
              <p:cNvPr id="527" name="圆角矩形 33" descr=""/>
              <p:cNvPicPr/>
              <p:nvPr/>
            </p:nvPicPr>
            <p:blipFill>
              <a:blip r:embed="rId5"/>
              <a:stretch/>
            </p:blipFill>
            <p:spPr>
              <a:xfrm>
                <a:off x="1794600" y="4246560"/>
                <a:ext cx="658800" cy="66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8" name="Text Box 37"/>
              <p:cNvSpPr/>
              <p:nvPr/>
            </p:nvSpPr>
            <p:spPr>
              <a:xfrm>
                <a:off x="1831680" y="4285440"/>
                <a:ext cx="58608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9" name="Group 38"/>
          <p:cNvGrpSpPr/>
          <p:nvPr/>
        </p:nvGrpSpPr>
        <p:grpSpPr>
          <a:xfrm>
            <a:off x="1765440" y="5003640"/>
            <a:ext cx="718920" cy="682920"/>
            <a:chOff x="1765440" y="5003640"/>
            <a:chExt cx="718920" cy="682920"/>
          </a:xfrm>
        </p:grpSpPr>
        <p:sp>
          <p:nvSpPr>
            <p:cNvPr id="530" name="圆角矩形 35"/>
            <p:cNvSpPr/>
            <p:nvPr/>
          </p:nvSpPr>
          <p:spPr>
            <a:xfrm>
              <a:off x="1765440" y="5003640"/>
              <a:ext cx="718920" cy="68292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40"/>
            <p:cNvGrpSpPr/>
            <p:nvPr/>
          </p:nvGrpSpPr>
          <p:grpSpPr>
            <a:xfrm>
              <a:off x="1794600" y="5015160"/>
              <a:ext cx="658800" cy="663840"/>
              <a:chOff x="1794600" y="5015160"/>
              <a:chExt cx="658800" cy="663840"/>
            </a:xfrm>
          </p:grpSpPr>
          <p:pic>
            <p:nvPicPr>
              <p:cNvPr id="532" name="圆角矩形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1794600" y="5015160"/>
                <a:ext cx="658800" cy="66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3" name="Text Box 42"/>
              <p:cNvSpPr/>
              <p:nvPr/>
            </p:nvSpPr>
            <p:spPr>
              <a:xfrm>
                <a:off x="1831680" y="5051520"/>
                <a:ext cx="586080" cy="58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Group 43"/>
          <p:cNvGrpSpPr/>
          <p:nvPr/>
        </p:nvGrpSpPr>
        <p:grpSpPr>
          <a:xfrm>
            <a:off x="1765440" y="5769000"/>
            <a:ext cx="718920" cy="684360"/>
            <a:chOff x="1765440" y="5769000"/>
            <a:chExt cx="718920" cy="684360"/>
          </a:xfrm>
        </p:grpSpPr>
        <p:sp>
          <p:nvSpPr>
            <p:cNvPr id="535" name="圆角矩形 38"/>
            <p:cNvSpPr/>
            <p:nvPr/>
          </p:nvSpPr>
          <p:spPr>
            <a:xfrm>
              <a:off x="1765440" y="5769000"/>
              <a:ext cx="718920" cy="684360"/>
            </a:xfrm>
            <a:prstGeom prst="roundRect">
              <a:avLst>
                <a:gd name="adj" fmla="val 16671"/>
              </a:avLst>
            </a:prstGeom>
            <a:gradFill rotWithShape="0">
              <a:gsLst>
                <a:gs pos="0">
                  <a:srgbClr val="ffbfbf"/>
                </a:gs>
                <a:gs pos="50000">
                  <a:srgbClr val="ff4040"/>
                </a:gs>
                <a:gs pos="100000">
                  <a:srgbClr val="ffbfbf"/>
                </a:gs>
              </a:gsLst>
              <a:lin ang="5400000"/>
            </a:gradFill>
            <a:ln w="9360">
              <a:solidFill>
                <a:srgbClr val="ff4040"/>
              </a:solidFill>
              <a:miter/>
            </a:ln>
            <a:effectLst>
              <a:outerShdw dist="153753" dir="2700000" blurRad="0" rotWithShape="0">
                <a:srgbClr val="000000">
                  <a:alpha val="1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45"/>
            <p:cNvGrpSpPr/>
            <p:nvPr/>
          </p:nvGrpSpPr>
          <p:grpSpPr>
            <a:xfrm>
              <a:off x="1794600" y="5776560"/>
              <a:ext cx="658800" cy="665280"/>
              <a:chOff x="1794600" y="5776560"/>
              <a:chExt cx="658800" cy="665280"/>
            </a:xfrm>
          </p:grpSpPr>
          <p:pic>
            <p:nvPicPr>
              <p:cNvPr id="537" name="圆角矩形 39" descr=""/>
              <p:cNvPicPr/>
              <p:nvPr/>
            </p:nvPicPr>
            <p:blipFill>
              <a:blip r:embed="rId7"/>
              <a:stretch/>
            </p:blipFill>
            <p:spPr>
              <a:xfrm>
                <a:off x="1794600" y="5776560"/>
                <a:ext cx="658800" cy="6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Text Box 47"/>
              <p:cNvSpPr/>
              <p:nvPr/>
            </p:nvSpPr>
            <p:spPr>
              <a:xfrm>
                <a:off x="1831680" y="5816880"/>
                <a:ext cx="586080" cy="58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0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Impact"/>
                    <a:ea typeface="微软雅黑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4"/>
          <p:cNvSpPr/>
          <p:nvPr/>
        </p:nvSpPr>
        <p:spPr>
          <a:xfrm>
            <a:off x="395280" y="573264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图片 3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09:39:51Z</dcterms:created>
  <dc:creator>雨林木风</dc:creator>
  <dc:description/>
  <dc:language>en-US</dc:language>
  <cp:lastModifiedBy>lenovo</cp:lastModifiedBy>
  <dcterms:modified xsi:type="dcterms:W3CDTF">2015-02-04T08:03:58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