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5.jpeg" ContentType="image/jpeg"/>
  <Override PartName="/ppt/media/image26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A26D-96DB-4F05-832E-6176F7D5F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03BB-3687-46B2-B1B5-6809CEC26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B3D6-4F29-472E-8A02-D562081FD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5989-5208-4284-8314-0AFB86E82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5132-032F-4D20-85A8-33B6F7FEE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8E75-E28C-42F7-BA5C-1CF391F2C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76F6-9A6A-433F-B0DF-7E3389D8C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CC0E-6D8B-4961-9390-8A3E064DA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FC8D-D70F-481B-A46A-98982F680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347D-8D7D-4768-B86A-AAD0A6972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4638-DBC7-453E-BC35-C0450A527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6D3A-3E8D-4973-A435-5C2491A51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78D21-E9EF-4982-9295-CAC3E58A06FE}" type="slidenum">
              <a:rPr b="0" lang="zh-CN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2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0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2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4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6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8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70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72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74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76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78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80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82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84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86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88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90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92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94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96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98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6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00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8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0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2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4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6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8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3T15:32:47Z</dcterms:created>
  <dc:creator/>
  <dc:description/>
  <cp:keywords/>
  <dc:language>en-US</dc:language>
  <cp:lastModifiedBy>Administrator</cp:lastModifiedBy>
  <dcterms:modified xsi:type="dcterms:W3CDTF">2015-03-05T07:41:10Z</dcterms:modified>
  <cp:revision>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764</vt:lpwstr>
  </property>
</Properties>
</file>