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A3EA5-8BF1-4DDD-89F1-C9D0E4A7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4FCAF-FA0C-42FE-AD4F-116A84CA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D1DA7-A875-4475-9ADC-582AD7FA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C18F5-8F39-4A3B-B05C-36636CF7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654CB-E29F-48DC-8C2E-BAF92CFA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F852D-6909-4329-B6AD-C506640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12BAC-DC9E-454F-8003-2AD024D4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B9BD-C814-474C-8FAD-46C1F9AC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14A3-D44F-4C8B-BD52-3BAE9787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16115-749F-412A-8E3B-2029F26B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00795-A74B-4146-A4D5-AAFE7921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8F901-B89B-4400-9069-D2CF3AA9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EB136-95FF-4420-8A5F-8327C5BC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6CF5B-3C11-4B97-B1C9-DFCCA1C4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D5E21-6955-4E07-A8E6-47CEE959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BFC35-8F84-470D-B328-47735F6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9BB00-EA2E-412F-8E9C-E67D00C9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4ED3A-2341-4CF6-B411-449327A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776D3-CA36-46FF-988B-4DF5FD56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F49F-D318-47E5-94E7-21A7B5DE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3AF9D-E4BA-4A16-A855-8A113606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EFE-49B7-47DC-95F4-30821982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37F-7913-4271-B610-43A09A2C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913-B73F-420D-9CA9-BCEA598C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247-1007-4870-ACB9-1A4D63BF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815-0849-4E20-9522-DBBE727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545-526B-40E8-B26E-786E37F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B1A-4FC7-4F80-9D00-CBC46FB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EC7-BBD6-40B3-854D-96E89EE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096-6103-43F9-94B1-F32A7C07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A90-1FB0-4DAF-8713-C9B4FE87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B83-CC17-4BA4-94B9-DA419AF9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64E-610D-4242-8E05-E51E8FEB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5CE2-AA9F-4D40-8259-475C0463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7152-C939-4A3F-975C-412C43B4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06CE-3DCB-4EF4-8BC2-E6AB995F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DF78-A837-4B07-8035-7280A871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2E26-E79E-4321-92ED-5DB68274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5AE6-6E0A-4DB1-87F7-132E0719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E065-B3A8-4ED9-BFF5-38F84AE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639E-1327-45E4-B139-A26A82CF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81CC-01B6-44F5-A1C8-CEC4EC8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7848-5B8F-4BBB-99A6-196EC25D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9C82-A245-4581-B6ED-7F581BB7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751A-9B7C-487F-A9A1-23AC0B2F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FDB9-BF93-45AD-84CD-5459131D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57A0-CCC3-42C9-A9AC-F9066299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7254-3E13-4555-A893-F3162248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B3AA-41FD-41F7-A48A-A6FD245B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C135-DB9C-4805-B3FD-CD774B0F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F269-61D4-40B5-8844-4EA8323F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7606-22E0-4465-9E0C-4031A8FC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CE8A-277C-48BF-A939-DD927751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D3CD-10CF-4619-8BCE-5A38C5D6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8B29-1774-4153-8600-E91F649D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BACD-5DD4-4377-93EB-5347DBFB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9104-6D05-4DD0-848F-1BA06F75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B8AC7-CB04-430A-AFF7-18343979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57AF-E3A4-404C-8244-974DA3B3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058C-2BA8-4E3A-BC91-CD068CD5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6B780-C121-4826-818C-CCCA82B5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CEC4-D1A8-44CE-93AB-E0F5BDFB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6D78F-0628-4EF1-99E7-533C6CE3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6FA88-F936-4E3F-91B0-2B4B899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0173-36CA-47D0-934D-B835BF84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C586C-559A-4D9B-863C-6AFC4CD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C655-90DB-4D09-A513-848785F8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381E-3FE6-4710-B335-6CCECA0A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7923B-2446-43B6-9586-19A41CC0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C81DC-3ACF-404C-977F-EB1C5371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401BE-3E59-4C26-ACB8-CD37CBC3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7B539-F900-46A3-BAD0-69C3FF76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E3D5F-5BD7-4733-824F-ED9EB784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B7120-8C52-4AEA-9CDD-0AC2363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1A885-662E-4C56-95E9-4B56FCA5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E4F84-B3FC-4565-AA17-3FBD3E91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733B4-DF3C-429E-A341-0C71864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D8883-6D26-4BA6-AF8B-6E46B03F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5549-1364-4241-A09A-A113AF2D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FA891-A8AC-4AEB-BB33-55A7042E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F3D98-CD74-4C4D-A2EB-47BB7809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B83C3-FB29-4960-AE21-FB300F84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B877-405A-4A37-9750-8ED8CCA2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3058B-543F-4222-BB80-AEA05199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6A2A6-D3E2-4550-8DD3-72C1009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C7AD6-ED26-450A-8B92-E9927E66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FB36D-5C27-4BC4-BBD1-2EEAA07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AE7EB-5286-4187-ABCE-134EE9D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3F59-74A0-4792-B78D-EF38CA37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C7241-BE63-4E4A-900D-93EE34FE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41521-B478-479C-9646-EB23DEE1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03C73-59B7-48CE-B464-E9EE71B5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728E2-1D23-4892-B601-4BADD4DF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2FB7E-4D77-4F35-9247-184F5CB3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F2122-EAE5-4319-BDBC-B6B8A902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496DB-577D-4111-BA8E-A4F5FC32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BE3F-6A77-483D-B15A-8CB71A8332F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07F0-AC71-4B70-8FB1-7C1DEC32253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FC7-4410-47B6-8991-D532435FF27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DCFC-98AC-47D9-A8AE-F864C07A6CC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062E-99B2-47E4-85AC-77D060F9AA4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124F-2695-43BB-8AC1-D524D0F42F2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6A63-846E-4928-9036-49A85F13391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E0B7-D23A-41D7-8A2F-2891E4BD88A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4625280" y="2878200"/>
            <a:ext cx="1857240" cy="860400"/>
            <a:chOff x="4625280" y="2878200"/>
            <a:chExt cx="1857240" cy="860400"/>
          </a:xfrm>
        </p:grpSpPr>
        <p:sp>
          <p:nvSpPr>
            <p:cNvPr id="398" name="TextBox 12"/>
            <p:cNvSpPr/>
            <p:nvPr/>
          </p:nvSpPr>
          <p:spPr>
            <a:xfrm>
              <a:off x="5380200" y="326268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TextBox 13"/>
            <p:cNvSpPr/>
            <p:nvPr/>
          </p:nvSpPr>
          <p:spPr>
            <a:xfrm>
              <a:off x="5192640" y="3522960"/>
              <a:ext cx="18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Box 1"/>
            <p:cNvSpPr/>
            <p:nvPr/>
          </p:nvSpPr>
          <p:spPr>
            <a:xfrm>
              <a:off x="4625280" y="2878200"/>
              <a:ext cx="185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方正大标宋简体"/>
                  <a:ea typeface="方正大标宋简体"/>
                </a:rPr>
                <a:t>         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1" name="Picture 2" descr="E:\工作夹\PPT模版\s1040妇女节\原图片\4.png"/>
          <p:cNvPicPr/>
          <p:nvPr/>
        </p:nvPicPr>
        <p:blipFill>
          <a:blip r:embed="rId1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E:\工作夹\PPT模版\s1040妇女节\原图片\5.png"/>
          <p:cNvPicPr/>
          <p:nvPr/>
        </p:nvPicPr>
        <p:blipFill>
          <a:blip r:embed="rId2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  <p:sp>
        <p:nvSpPr>
          <p:cNvPr id="403" name="直接连接符 11"/>
          <p:cNvSpPr/>
          <p:nvPr/>
        </p:nvSpPr>
        <p:spPr>
          <a:xfrm>
            <a:off x="4140360" y="2678040"/>
            <a:ext cx="433044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3" descr="E:\工作夹\PPT模版\s1040妇女节\原图片\5.png"/>
          <p:cNvPicPr/>
          <p:nvPr/>
        </p:nvPicPr>
        <p:blipFill>
          <a:blip r:embed="rId3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5" dur="500" fill="hold"/>
                                        <p:tgtEl>
                                          <p:spTgt spid="4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189880" y="406440"/>
            <a:ext cx="6045120" cy="3763800"/>
            <a:chOff x="2189880" y="406440"/>
            <a:chExt cx="6045120" cy="3763800"/>
          </a:xfrm>
        </p:grpSpPr>
        <p:sp>
          <p:nvSpPr>
            <p:cNvPr id="406" name="任意多边形 16"/>
            <p:cNvSpPr/>
            <p:nvPr/>
          </p:nvSpPr>
          <p:spPr>
            <a:xfrm flipH="1" rot="214200">
              <a:off x="2526840" y="645480"/>
              <a:ext cx="5608800" cy="3353040"/>
            </a:xfrm>
            <a:custGeom>
              <a:avLst/>
              <a:gdLst>
                <a:gd name="textAreaLeft" fmla="*/ 360 w 5608800"/>
                <a:gd name="textAreaRight" fmla="*/ 5609520 w 560880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5130112" h="3067205">
                  <a:moveTo>
                    <a:pt x="5130112" y="2190186"/>
                  </a:moveTo>
                  <a:lnTo>
                    <a:pt x="4572696" y="2312432"/>
                  </a:lnTo>
                  <a:cubicBezTo>
                    <a:pt x="4437230" y="2476120"/>
                    <a:pt x="3623949" y="2967880"/>
                    <a:pt x="2946816" y="3013338"/>
                  </a:cubicBezTo>
                  <a:cubicBezTo>
                    <a:pt x="2269683" y="3058796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130112" y="2190186"/>
                  </a:lnTo>
                  <a:close/>
                </a:path>
              </a:pathLst>
            </a:cu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任意多边形 15"/>
            <p:cNvSpPr/>
            <p:nvPr/>
          </p:nvSpPr>
          <p:spPr>
            <a:xfrm flipH="1" rot="214200">
              <a:off x="2288160" y="582480"/>
              <a:ext cx="5764320" cy="3354480"/>
            </a:xfrm>
            <a:custGeom>
              <a:avLst/>
              <a:gdLst>
                <a:gd name="textAreaLeft" fmla="*/ 360 w 5764320"/>
                <a:gd name="textAreaRight" fmla="*/ 5765040 w 5764320"/>
                <a:gd name="textAreaTop" fmla="*/ 0 h 3354480"/>
                <a:gd name="textAreaBottom" fmla="*/ 3354840 h 3354480"/>
              </a:gdLst>
              <a:ahLst/>
              <a:rect l="textAreaLeft" t="textAreaTop" r="textAreaRight" b="textAreaBottom"/>
              <a:pathLst>
                <a:path w="5272396" h="3069961">
                  <a:moveTo>
                    <a:pt x="5272396" y="2177286"/>
                  </a:moveTo>
                  <a:lnTo>
                    <a:pt x="4487995" y="2274503"/>
                  </a:lnTo>
                  <a:cubicBezTo>
                    <a:pt x="4352529" y="2438191"/>
                    <a:pt x="3609832" y="2961559"/>
                    <a:pt x="2946816" y="3013338"/>
                  </a:cubicBezTo>
                  <a:cubicBezTo>
                    <a:pt x="2283800" y="3065117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272396" y="217728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矩形 2"/>
          <p:cNvSpPr/>
          <p:nvPr/>
        </p:nvSpPr>
        <p:spPr>
          <a:xfrm>
            <a:off x="3276720" y="1563840"/>
            <a:ext cx="4574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因为有了女人，而显得分外美丽！问候只是短短的几行，却是一个浓浓的真意！祝三八节快乐，永远年轻漂亮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E:\公司作品\新logo应用\20110708新LOGO应用\锐普PPT红LOGO-02.png"/>
          <p:cNvPicPr/>
          <p:nvPr/>
        </p:nvPicPr>
        <p:blipFill>
          <a:blip r:embed="rId1"/>
          <a:stretch/>
        </p:blipFill>
        <p:spPr>
          <a:xfrm>
            <a:off x="482760" y="3413160"/>
            <a:ext cx="711000" cy="276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E:\工作夹\PPT模版\s1040妇女节\原图片\3.png"/>
          <p:cNvPicPr/>
          <p:nvPr/>
        </p:nvPicPr>
        <p:blipFill>
          <a:blip r:embed="rId2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E:\工作夹\PPT模版\s1040妇女节\原图片\2.png"/>
          <p:cNvPicPr/>
          <p:nvPr/>
        </p:nvPicPr>
        <p:blipFill>
          <a:blip r:embed="rId3"/>
          <a:stretch/>
        </p:blipFill>
        <p:spPr>
          <a:xfrm>
            <a:off x="5388120" y="2822400"/>
            <a:ext cx="2071440" cy="371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E:\工作夹\PPT模版\s1040妇女节\原图片\4.png"/>
          <p:cNvPicPr/>
          <p:nvPr/>
        </p:nvPicPr>
        <p:blipFill>
          <a:blip r:embed="rId4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E:\工作夹\PPT模版\s1040妇女节\原图片\3.png"/>
          <p:cNvPicPr/>
          <p:nvPr/>
        </p:nvPicPr>
        <p:blipFill>
          <a:blip r:embed="rId5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9" dur="5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4:18:33Z</dcterms:created>
  <dc:creator>锐普PPT</dc:creator>
  <dc:description/>
  <cp:keywords/>
  <dc:language>en-US</dc:language>
  <cp:lastModifiedBy>Administrator</cp:lastModifiedBy>
  <cp:lastPrinted>1899-12-30T00:00:00Z</cp:lastPrinted>
  <dcterms:modified xsi:type="dcterms:W3CDTF">2015-03-04T02:19:06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