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021-D228-4F99-B1D2-A937194F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333-B195-4A52-A53E-01E7E922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C687-D771-4936-9033-C1B6B925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FDD17-A7F3-467A-B1FB-0DE21EF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6DB87-2552-4C3B-A466-B41590B2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FB80C-C05A-4AB6-A225-B91C505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20E4C-2CA0-4073-BA52-ABB06F5C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E42C3-236D-4E4D-AE54-40FDC1E9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5C2E2-4307-41D1-980B-5AF91D49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B9EA9-C8FD-4FE5-B542-9F2C1C67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FD742-508A-46AD-BD3F-21BBD2B3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AF3EB-A734-44D9-A5A2-5F5ABE44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48D-3725-4A70-A29B-521F6597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6DE5-16F1-4B51-909D-B007DD21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F3B4A-4675-461B-81B1-50786976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90E40-B225-4840-A939-F7C07E43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738F3-61C5-48B3-953C-35628B96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A7968-3A73-41DA-A1EB-C9999964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07F8B-F286-4113-944E-69A0B762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BDE4F-621F-4A0E-B835-065CA49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4D74D-C6B4-4E52-A488-26DFCCFA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D29AC-D6CD-4A37-A17C-CF98338D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851DE-657C-499D-B7B6-111668A4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5E0-9FF4-4824-9C3D-32737461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216F3-6CF0-471E-B811-1CD89D86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7E3B8-D5A6-4214-9E98-DBFBB2AA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13ADE-FF73-4950-8119-FCC6F7AB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D03CB-E67E-421E-AD95-560AFBF6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7DCB1-A129-42FD-B416-64D5EBE7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1A5A2-1FDB-4DD1-87ED-349A467C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77284-6DEA-4F7C-BCC3-2CFB8B83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7A7C0-0F12-4984-AC19-896C265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958E9-206D-4862-80CF-A0C6F90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BF64B-7F2C-47CD-8704-4B1B687E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FE53-5648-4962-99BF-C01D93D0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062CA-6D68-42D0-94F8-00FC8ECB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197F4-EE8D-4041-8F69-56EF5B7D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6FBAC-EE31-4F35-8677-78AB8D34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2EF64-F1E3-4141-931A-F1F69FB3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DDEE3-9345-438F-B21C-1267F165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A1219-A71E-445B-8EB5-6270DCC4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A73EF-EFAF-4A2E-B63B-456267DF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099C2-C55A-4068-97B9-5944E09C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B4F6C-2E9F-4168-B4C9-38677358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53982-130F-4000-A5FE-858B15C4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7238-9A9A-4190-ACBA-AC53A62F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34026-D001-4341-A264-AEC5F9B1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5BA52-52DD-4D78-84DC-03CEFB3B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51A1A-148F-4DC6-B769-AA3C34FA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AE114-599C-48EC-A320-83BD16B4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1B5C2-7789-4609-A8DF-5E5E75B3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8AA4E-0FD7-49B7-9148-1E0C2819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9E121-533E-4BDB-A715-15382982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70287-3EE9-4D85-ADA2-C0484A6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553B2-8AE4-4536-86C5-3F104B87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51C86-28AD-4631-8485-2B1BCE12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4F2C-5C73-42EE-8868-B03DB01C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7EB25-C3B8-4029-81A2-4A0E3FDA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2B34D-0800-4918-A42D-4811A7C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F8164-EE1C-43F1-9F38-38B45A0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DF867-7C00-4B97-85FE-14479310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E5D6F-0115-4332-944B-03F34FFA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6A3DB-1BB0-4C32-BF2F-B9477184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8A65D-7B53-47B5-8241-75D66B13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5BEF-E116-4DCC-AF21-B085BA73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05EC-A21C-4ADE-8FE6-1FFAE40D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187-C2B7-4942-AED6-5F2959AE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EC98-17D7-480D-8A84-ADC41FE7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C94-DCAD-4876-A3A4-66BFAEA5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BCC2-AB4F-414B-A4C3-38DD755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4BBF-25D8-435B-A874-0398B170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835E-F51A-44AD-9179-D8723949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E0DD-9955-4919-8F05-B0CF4922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3468-0B89-44BC-92B9-BAB3D5EA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77AF-713A-4A87-B2A7-5FD1E766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3C996-07BF-4116-BE36-D614026A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73733-F7F3-4D13-BC0C-7E0273D4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A7F6E-B8EE-4366-B407-4C26C4C3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A548-6E1E-46EE-A21F-E426825D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4CA-CE33-4E48-8AD7-12A712BC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0E02-ED46-4A41-A4DC-E735F763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10B5-315B-4B95-B7CC-43BF9EA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7F4C-A6D4-47A2-B854-D9CDCFB7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F85F-DFD4-469A-95DE-16113A5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5050-2E90-4161-AADD-8BD791CA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8A20-5BF7-488F-9B79-73769A46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8A18-0F8F-4836-AB6A-7AB28FD7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279A6-CBD0-459C-96AF-84432635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9DD19-FF65-454B-9BFD-12D04956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4BAB-F631-4E18-8769-1435DBB6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E81-6957-498C-96CC-A46C7F78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1E67-E782-43C0-B501-1B9F8004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269B-A3D2-4F08-848D-96C02F80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2D6C-AA4D-4C83-BBFD-4CA30EFB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79E01-CDA8-4522-9398-2CF5020F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D142E-3276-467B-BB10-6B50B92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2765-187C-469F-8FD6-B82994D9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F619B-476D-463E-840A-CBA3EE58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B7D0-70C8-4F80-B800-95A221CB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D8AB6-D449-43B8-833A-ECB219E7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71ED-3873-4D70-98F5-A63A4F94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BBB-0BF2-4991-9BB3-AD15AB7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5E0CC-73ED-42D2-AC8E-E03CB60E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395E-B396-472E-B8FB-AFBF186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9CC5A-7BB8-43C4-AA01-47B887B8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8EF43-17A8-4BCF-B62B-165E99D8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B6E55-BC27-406B-B1E6-EDCF0A3B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F3BE6-E1E8-4857-890F-21AB0C55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F0D7C-FD9F-4662-ADF2-AA5FB590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E3B4A-B7FC-45D9-B300-F8E9B457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00028-DBDA-49BB-979B-6CBF19B8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987E-67E3-400D-8FAC-CE3CE875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3BA-BD8F-40EB-B96A-B45025FC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FBE42-964E-4CD8-A7E4-DB0D1443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77779-2E91-4D87-9707-205E4BD0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E9E7A-9170-4678-9FB0-70D44B98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D0E13-DB5C-413C-8E3A-76E7F4BB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56F72-2340-4729-986C-347305CB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64AF-66F7-4DAE-A3D5-1DC682DF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A30D4-B40F-457C-85D8-1D44DBD6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107D-4192-43B4-9158-1343DFB0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A43E-FB59-43B5-A72A-C28FE16C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A1E4D-254A-4B31-B4C4-CABBEAD9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8C9-8CC6-4106-ABF6-382811F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0B9A3-E4F0-4AA1-8485-657115CA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702C-D617-4B97-AD00-FDA73677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8CF99-8F3C-4742-B411-F1233247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57562-CC6B-4550-8EB3-2627638B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271B9-DF1D-44D4-B064-844BC16B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B369-0BF9-4C09-9E61-9FE06139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5F817-E038-46CD-BE24-025BBE40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A883-5FFD-4FAB-A051-F1894201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FACF3-8BC0-4426-9E3B-B418A194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7C4D-C1EE-4D93-87F2-89F01E86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059-2591-4FA2-BA39-3FB47AB8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21517-C772-4C06-BA34-EC2F97C7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2C05F-9C89-4A85-99DF-DBF0BD5C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C664-6307-42C9-861A-EC7E915E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1ED8-6264-49B2-947D-A6FE6325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1808-2C9D-4CCE-94BD-9D773F85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AB82-2319-47EB-A759-A0221868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C2E94-FEED-4389-AE5E-60C1C026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BFAC2-9C3A-4F76-BD63-DA24C144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FC16-9743-4435-9374-ED838F8B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BA7DA-325D-4F84-B710-3682F297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C11-ADEA-49ED-A692-EC4CE27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FCFB3-7242-47DA-9665-484C81C4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A3B1A-8A4E-42CE-A8C8-EC4B164F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86610-60DC-4D43-80B5-8009A6FB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CA456-917F-444E-9A9D-01F5260A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2A955-17FC-4B8C-8AAD-9406B427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CF725-E5FE-4BFA-8CB6-DA0076F1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15C74-C8EF-48C7-8F1E-F2A59F7B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89CA1-B605-43B1-8D34-5C6EA867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68C3B-CA95-444F-A641-E1970C02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5E853-78FE-4F3F-AE26-87AB0FC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C83D-026B-4D6B-B2FF-B475442770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F7F5-00CE-4C5D-A3BD-BA4362541B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6F4-D8BB-4B59-916A-13BD6FA8FAF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3678-E4A4-4A5A-85AB-EDD2A51D95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BCF9-1A6D-4B71-8039-8ED58CF676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5112-6973-48C1-9B06-A3FF68AF4C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36DF-F9E2-437F-A486-455238EA6F3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FB44-79B3-4226-A033-0BA3509102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ACBB-AA79-49FD-B7AC-FDB52A3C8C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48D-EE8E-4E4A-9D86-2A8A3A79B0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D837-5B13-461B-8AE0-E2A0A7C0D4E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E8AA-D25F-4372-9B5D-15637C1A2F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551F-6360-42DF-AD07-4ADC180BD0A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FB23-21C2-4817-8647-7C2B3EBC24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945A-D9C3-490F-B2A6-B2419B3695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FD1C-840C-46C7-8F97-73320B20F4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913D-635A-4B7D-AD9B-2AD221A6BE6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5173-2782-42F5-B87D-7420B40681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6007-73E6-47F9-B85D-1E7D9140CD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DC2B-E6B5-4DFA-897E-8BA527B4FD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3C6C-8338-40AF-8A5A-3A0A514324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2E5-12FE-4184-B2A9-920646684D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F99C-F425-4AC5-8D8F-28398E822F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C29B-95FE-40FD-A5D3-A86AAF287E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D879-3F1F-4C12-8329-9F4A8EAB417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0338-0FA7-4B8B-BB75-55EA12681D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造字工房悦黑体验版纤细体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造字工房悦黑体验版纤细体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3997080"/>
                <a:gd name="textAreaBottom" fmla="*/ 3997440 h 3997080"/>
              </a:gdLst>
              <a:ahLst/>
              <a:rect l="textAreaLeft" t="textAreaTop" r="textAreaRight" b="textAreaBottom"/>
              <a:pathLst>
                <a:path w="936104" h="3996384">
                  <a:moveTo>
                    <a:pt x="468052" y="0"/>
                  </a:moveTo>
                  <a:cubicBezTo>
                    <a:pt x="617451" y="0"/>
                    <a:pt x="738562" y="120883"/>
                    <a:pt x="738562" y="270000"/>
                  </a:cubicBezTo>
                  <a:lnTo>
                    <a:pt x="733111" y="323976"/>
                  </a:lnTo>
                  <a:lnTo>
                    <a:pt x="738562" y="323976"/>
                  </a:lnTo>
                  <a:lnTo>
                    <a:pt x="738562" y="3114787"/>
                  </a:lnTo>
                  <a:lnTo>
                    <a:pt x="799015" y="3166587"/>
                  </a:lnTo>
                  <a:cubicBezTo>
                    <a:pt x="883716" y="3254551"/>
                    <a:pt x="936104" y="3376072"/>
                    <a:pt x="936104" y="3510300"/>
                  </a:cubicBezTo>
                  <a:cubicBezTo>
                    <a:pt x="936104" y="3778757"/>
                    <a:pt x="726550" y="3996384"/>
                    <a:pt x="468052" y="3996384"/>
                  </a:cubicBezTo>
                  <a:cubicBezTo>
                    <a:pt x="209554" y="3996384"/>
                    <a:pt x="0" y="3778757"/>
                    <a:pt x="0" y="3510300"/>
                  </a:cubicBezTo>
                  <a:cubicBezTo>
                    <a:pt x="0" y="3376072"/>
                    <a:pt x="52388" y="3254551"/>
                    <a:pt x="137089" y="3166587"/>
                  </a:cubicBezTo>
                  <a:lnTo>
                    <a:pt x="198562" y="3113913"/>
                  </a:lnTo>
                  <a:lnTo>
                    <a:pt x="198562" y="323976"/>
                  </a:lnTo>
                  <a:lnTo>
                    <a:pt x="202994" y="323976"/>
                  </a:lnTo>
                  <a:lnTo>
                    <a:pt x="197542" y="270000"/>
                  </a:lnTo>
                  <a:cubicBezTo>
                    <a:pt x="197542" y="120883"/>
                    <a:pt x="318653" y="0"/>
                    <a:pt x="468052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223720"/>
                <a:gd name="textAreaBottom" fmla="*/ 2224080 h 2223720"/>
              </a:gdLst>
              <a:ahLst/>
              <a:rect l="textAreaLeft" t="textAreaTop" r="textAreaRight" b="textAreaBottom"/>
              <a:pathLst>
                <a:path w="720000" h="2223180">
                  <a:moveTo>
                    <a:pt x="360000" y="0"/>
                  </a:moveTo>
                  <a:cubicBezTo>
                    <a:pt x="449470" y="0"/>
                    <a:pt x="522000" y="72530"/>
                    <a:pt x="522000" y="162000"/>
                  </a:cubicBezTo>
                  <a:lnTo>
                    <a:pt x="522000" y="1543342"/>
                  </a:lnTo>
                  <a:lnTo>
                    <a:pt x="561280" y="1564662"/>
                  </a:lnTo>
                  <a:cubicBezTo>
                    <a:pt x="657040" y="1629357"/>
                    <a:pt x="720000" y="1738916"/>
                    <a:pt x="720000" y="1863180"/>
                  </a:cubicBezTo>
                  <a:cubicBezTo>
                    <a:pt x="720000" y="2062003"/>
                    <a:pt x="558823" y="2223180"/>
                    <a:pt x="360000" y="2223180"/>
                  </a:cubicBezTo>
                  <a:cubicBezTo>
                    <a:pt x="161177" y="2223180"/>
                    <a:pt x="0" y="2062003"/>
                    <a:pt x="0" y="1863180"/>
                  </a:cubicBezTo>
                  <a:cubicBezTo>
                    <a:pt x="0" y="1738916"/>
                    <a:pt x="62960" y="1629357"/>
                    <a:pt x="158720" y="1564662"/>
                  </a:cubicBezTo>
                  <a:lnTo>
                    <a:pt x="198000" y="1543342"/>
                  </a:lnTo>
                  <a:lnTo>
                    <a:pt x="198000" y="162000"/>
                  </a:lnTo>
                  <a:cubicBezTo>
                    <a:pt x="198000" y="72530"/>
                    <a:pt x="270530" y="0"/>
                    <a:pt x="36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custGeom>
            <a:avLst/>
            <a:gdLst>
              <a:gd name="textAreaLeft" fmla="*/ 0 w 936360"/>
              <a:gd name="textAreaRight" fmla="*/ 936720 w 93636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936104" h="3996384">
                <a:moveTo>
                  <a:pt x="468052" y="0"/>
                </a:moveTo>
                <a:cubicBezTo>
                  <a:pt x="617451" y="0"/>
                  <a:pt x="738562" y="120883"/>
                  <a:pt x="738562" y="270000"/>
                </a:cubicBezTo>
                <a:lnTo>
                  <a:pt x="733111" y="323976"/>
                </a:lnTo>
                <a:lnTo>
                  <a:pt x="738562" y="323976"/>
                </a:lnTo>
                <a:lnTo>
                  <a:pt x="738562" y="3114787"/>
                </a:lnTo>
                <a:lnTo>
                  <a:pt x="799015" y="3166587"/>
                </a:lnTo>
                <a:cubicBezTo>
                  <a:pt x="883716" y="3254551"/>
                  <a:pt x="936104" y="3376072"/>
                  <a:pt x="936104" y="3510300"/>
                </a:cubicBezTo>
                <a:cubicBezTo>
                  <a:pt x="936104" y="3778757"/>
                  <a:pt x="726550" y="3996384"/>
                  <a:pt x="468052" y="3996384"/>
                </a:cubicBezTo>
                <a:cubicBezTo>
                  <a:pt x="209554" y="3996384"/>
                  <a:pt x="0" y="3778757"/>
                  <a:pt x="0" y="3510300"/>
                </a:cubicBezTo>
                <a:cubicBezTo>
                  <a:pt x="0" y="3376072"/>
                  <a:pt x="52388" y="3254551"/>
                  <a:pt x="137089" y="3166587"/>
                </a:cubicBezTo>
                <a:lnTo>
                  <a:pt x="198562" y="3113913"/>
                </a:lnTo>
                <a:lnTo>
                  <a:pt x="198562" y="323976"/>
                </a:lnTo>
                <a:lnTo>
                  <a:pt x="202994" y="323976"/>
                </a:lnTo>
                <a:lnTo>
                  <a:pt x="197542" y="270000"/>
                </a:lnTo>
                <a:cubicBezTo>
                  <a:pt x="197542" y="120883"/>
                  <a:pt x="318653" y="0"/>
                  <a:pt x="468052" y="0"/>
                </a:cubicBezTo>
                <a:close/>
              </a:path>
            </a:pathLst>
          </a:cu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custGeom>
            <a:avLst/>
            <a:gdLst>
              <a:gd name="textAreaLeft" fmla="*/ 0 w 720720"/>
              <a:gd name="textAreaRight" fmla="*/ 721080 w 720720"/>
              <a:gd name="textAreaTop" fmla="*/ 0 h 2955600"/>
              <a:gd name="textAreaBottom" fmla="*/ 2955960 h 2955600"/>
            </a:gdLst>
            <a:ahLst/>
            <a:rect l="textAreaLeft" t="textAreaTop" r="textAreaRight" b="textAreaBottom"/>
            <a:pathLst>
              <a:path w="720000" h="2955756">
                <a:moveTo>
                  <a:pt x="360000" y="0"/>
                </a:moveTo>
                <a:cubicBezTo>
                  <a:pt x="427110" y="0"/>
                  <a:pt x="484690" y="42329"/>
                  <a:pt x="509286" y="102654"/>
                </a:cubicBezTo>
                <a:lnTo>
                  <a:pt x="517336" y="144016"/>
                </a:lnTo>
                <a:lnTo>
                  <a:pt x="522018" y="144016"/>
                </a:lnTo>
                <a:lnTo>
                  <a:pt x="522018" y="168078"/>
                </a:lnTo>
                <a:lnTo>
                  <a:pt x="522018" y="2272616"/>
                </a:lnTo>
                <a:lnTo>
                  <a:pt x="561280" y="2294030"/>
                </a:lnTo>
                <a:cubicBezTo>
                  <a:pt x="657040" y="2359040"/>
                  <a:pt x="720000" y="2469133"/>
                  <a:pt x="720000" y="2594002"/>
                </a:cubicBezTo>
                <a:cubicBezTo>
                  <a:pt x="720000" y="2793793"/>
                  <a:pt x="558823" y="2955756"/>
                  <a:pt x="360000" y="2955756"/>
                </a:cubicBezTo>
                <a:cubicBezTo>
                  <a:pt x="161177" y="2955756"/>
                  <a:pt x="0" y="2793793"/>
                  <a:pt x="0" y="2594002"/>
                </a:cubicBezTo>
                <a:cubicBezTo>
                  <a:pt x="0" y="2469133"/>
                  <a:pt x="62960" y="2359040"/>
                  <a:pt x="158720" y="2294030"/>
                </a:cubicBezTo>
                <a:lnTo>
                  <a:pt x="198018" y="2272596"/>
                </a:lnTo>
                <a:lnTo>
                  <a:pt x="198018" y="168263"/>
                </a:lnTo>
                <a:lnTo>
                  <a:pt x="197982" y="168078"/>
                </a:lnTo>
                <a:lnTo>
                  <a:pt x="198018" y="167893"/>
                </a:lnTo>
                <a:lnTo>
                  <a:pt x="198018" y="144016"/>
                </a:lnTo>
                <a:lnTo>
                  <a:pt x="202665" y="144016"/>
                </a:lnTo>
                <a:lnTo>
                  <a:pt x="210714" y="102654"/>
                </a:lnTo>
                <a:cubicBezTo>
                  <a:pt x="235310" y="42329"/>
                  <a:pt x="292890" y="0"/>
                  <a:pt x="3600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custGeom>
            <a:avLst/>
            <a:gdLst>
              <a:gd name="textAreaLeft" fmla="*/ 0 w 9245520"/>
              <a:gd name="textAreaRight" fmla="*/ 9245880 w 924552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9245080" h="4397330">
                <a:moveTo>
                  <a:pt x="4536504" y="0"/>
                </a:moveTo>
                <a:cubicBezTo>
                  <a:pt x="5113089" y="0"/>
                  <a:pt x="5580504" y="467415"/>
                  <a:pt x="5580504" y="1044000"/>
                </a:cubicBezTo>
                <a:lnTo>
                  <a:pt x="5579928" y="1050102"/>
                </a:lnTo>
                <a:lnTo>
                  <a:pt x="5597171" y="1021918"/>
                </a:lnTo>
                <a:cubicBezTo>
                  <a:pt x="5955551" y="495176"/>
                  <a:pt x="6562462" y="148858"/>
                  <a:pt x="7250832" y="148858"/>
                </a:cubicBezTo>
                <a:cubicBezTo>
                  <a:pt x="8352225" y="148858"/>
                  <a:pt x="9245080" y="1035433"/>
                  <a:pt x="9245080" y="2129078"/>
                </a:cubicBezTo>
                <a:cubicBezTo>
                  <a:pt x="9245080" y="3222723"/>
                  <a:pt x="8352225" y="4109298"/>
                  <a:pt x="7250832" y="4109298"/>
                </a:cubicBezTo>
                <a:cubicBezTo>
                  <a:pt x="6149439" y="4109298"/>
                  <a:pt x="5256584" y="3222723"/>
                  <a:pt x="5256584" y="2129078"/>
                </a:cubicBezTo>
                <a:cubicBezTo>
                  <a:pt x="5256584" y="2060725"/>
                  <a:pt x="5260072" y="1993181"/>
                  <a:pt x="5266880" y="1926612"/>
                </a:cubicBezTo>
                <a:lnTo>
                  <a:pt x="5292235" y="1761650"/>
                </a:lnTo>
                <a:lnTo>
                  <a:pt x="5171148" y="1873020"/>
                </a:lnTo>
                <a:cubicBezTo>
                  <a:pt x="5021819" y="1987509"/>
                  <a:pt x="4840663" y="2062561"/>
                  <a:pt x="4643247" y="2082610"/>
                </a:cubicBezTo>
                <a:lnTo>
                  <a:pt x="4549906" y="2087323"/>
                </a:lnTo>
                <a:lnTo>
                  <a:pt x="4611207" y="2133163"/>
                </a:lnTo>
                <a:cubicBezTo>
                  <a:pt x="4895239" y="2367567"/>
                  <a:pt x="5076280" y="2722306"/>
                  <a:pt x="5076280" y="3119330"/>
                </a:cubicBezTo>
                <a:cubicBezTo>
                  <a:pt x="5076280" y="3825150"/>
                  <a:pt x="4504100" y="4397330"/>
                  <a:pt x="3798280" y="4397330"/>
                </a:cubicBezTo>
                <a:cubicBezTo>
                  <a:pt x="3092460" y="4397330"/>
                  <a:pt x="2520280" y="3825150"/>
                  <a:pt x="2520280" y="3119330"/>
                </a:cubicBezTo>
                <a:cubicBezTo>
                  <a:pt x="2520280" y="3075217"/>
                  <a:pt x="2522516" y="3031625"/>
                  <a:pt x="2526878" y="2988662"/>
                </a:cubicBezTo>
                <a:lnTo>
                  <a:pt x="2533624" y="2944463"/>
                </a:lnTo>
                <a:lnTo>
                  <a:pt x="2469630" y="2992317"/>
                </a:lnTo>
                <a:cubicBezTo>
                  <a:pt x="2216822" y="3163111"/>
                  <a:pt x="1912057" y="3262839"/>
                  <a:pt x="1584000" y="3262839"/>
                </a:cubicBezTo>
                <a:cubicBezTo>
                  <a:pt x="709181" y="3262839"/>
                  <a:pt x="0" y="2553658"/>
                  <a:pt x="0" y="1678839"/>
                </a:cubicBezTo>
                <a:cubicBezTo>
                  <a:pt x="0" y="804020"/>
                  <a:pt x="709181" y="94839"/>
                  <a:pt x="1584000" y="94839"/>
                </a:cubicBezTo>
                <a:cubicBezTo>
                  <a:pt x="2458819" y="94839"/>
                  <a:pt x="3168000" y="804020"/>
                  <a:pt x="3168000" y="1678839"/>
                </a:cubicBezTo>
                <a:cubicBezTo>
                  <a:pt x="3168000" y="1788192"/>
                  <a:pt x="3156919" y="1894956"/>
                  <a:pt x="3135819" y="1998070"/>
                </a:cubicBezTo>
                <a:lnTo>
                  <a:pt x="3126713" y="2033485"/>
                </a:lnTo>
                <a:lnTo>
                  <a:pt x="3189110" y="1995578"/>
                </a:lnTo>
                <a:cubicBezTo>
                  <a:pt x="3370194" y="1897207"/>
                  <a:pt x="3577712" y="1841330"/>
                  <a:pt x="3798280" y="1841330"/>
                </a:cubicBezTo>
                <a:lnTo>
                  <a:pt x="3867149" y="1844808"/>
                </a:lnTo>
                <a:lnTo>
                  <a:pt x="3798285" y="1782220"/>
                </a:lnTo>
                <a:cubicBezTo>
                  <a:pt x="3609358" y="1593293"/>
                  <a:pt x="3492504" y="1332293"/>
                  <a:pt x="3492504" y="1044000"/>
                </a:cubicBezTo>
                <a:cubicBezTo>
                  <a:pt x="3492504" y="467415"/>
                  <a:pt x="3959919" y="0"/>
                  <a:pt x="4536504" y="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custGeom>
              <a:avLst/>
              <a:gdLst>
                <a:gd name="textAreaLeft" fmla="*/ 144720 w 1662120"/>
                <a:gd name="textAreaRight" fmla="*/ 1517400 w 1662120"/>
                <a:gd name="textAreaTop" fmla="*/ 4320 h 50040"/>
                <a:gd name="textAreaBottom" fmla="*/ 45720 h 5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custGeom>
              <a:avLst/>
              <a:gdLst>
                <a:gd name="textAreaLeft" fmla="*/ 18720 w 186840"/>
                <a:gd name="textAreaRight" fmla="*/ 168120 w 186840"/>
                <a:gd name="textAreaTop" fmla="*/ 2520 h 24840"/>
                <a:gd name="textAreaBottom" fmla="*/ 22320 h 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27" y="21600"/>
                  </a:lnTo>
                  <a:lnTo>
                    <a:pt x="2087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5-03-02T03:16:05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