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4AE5-C7FE-4F41-8193-2188543E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0A53-08BA-4F2B-B64C-8A3E539C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C684B-E535-4B3C-AC18-B8AA0B1D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DE6F1-9F30-409F-A38F-CB33992E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82CE8-4A3B-46D9-AFBA-0240E3AF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78BD0-0D8B-445D-B2C4-0592A2F9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01CDC-5E27-489E-B682-EA44AFD0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74963-E071-4F9B-B2B5-95D36A4B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B52E6-9C8D-4638-AA08-C9C1F89C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FA444-A3C3-460F-8374-3707606D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BC492-63A3-4C41-9F3B-0BAEFF0F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51F7F-A041-4AB9-BC4C-F20064FB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99D-DC0B-4241-8606-AF84F00B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BD9C3-A9D6-49B5-8878-CF426FE0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0DB5E-1A4E-4B8E-B687-AC356084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C4055-1594-4F16-8D2E-8EEFE400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E4E23-DFC3-4C3E-B980-D2D7B21E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7E771-DDDD-4F0B-A096-8510FC0D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3D8E2-9EFF-456A-9615-13FBA2AD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75F0B-D540-4AAF-BDA2-7830F94E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79D85-51FF-4C7E-ABBF-6CA259AC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219D9-88D1-49B3-8229-F9E96F97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68615-FE7F-4DBC-9BC9-51FFAFA1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C127-A483-42A1-BCC8-F677642A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E0AC7-0484-47B1-9583-5155E498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F1442-9F53-4D00-AC8C-858D3F67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811D4-40B0-4BA4-B5D9-43B53854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47EC9-0002-472A-A238-EE7356CA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0AA00-C4AC-4D0D-AEF2-7E582EF5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279F6-0A7E-4233-9E66-AF6506FB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2A327-4553-4897-B990-3634E8DE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822FE-A3A8-48D8-88DA-E84EEA31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6C279-0C93-449E-BFC0-4F6DBC3E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8EFEA-2CB2-4615-943C-9D1DD4AC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CEB65-2FEB-4E24-A4F9-1477A1F8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53E35-88B5-4763-AAD8-D379BEE1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83EC8-35FC-4E5B-A5E7-BBCEFAD7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12F1A-57A1-497A-B28B-A901C17C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99317-9FBB-4F90-94F0-FA36474B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4E2A9-5019-470A-B8B0-EB646825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1ECB3-F00C-430C-9B8C-A8022A20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6D803-6903-4765-ADB9-029B8128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D3E6A-79FA-453A-8CF9-211F6CD9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9D9CA-C327-4884-AD80-DFB87C3B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67E9F-1053-4852-994F-1C98DBCE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68230-A041-42E1-92E1-69286F4D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AC54D-7C8F-48F1-B4AF-12EA1655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94813-0124-4DD3-AD51-1D99EBDB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A907D-482E-44A3-B7B0-EF949970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6336F-6401-4869-831B-0FA42685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3E150-53BC-4744-A2FF-ACC5ED55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5DE85-3A06-4EC9-8932-29F351DD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D0898-5FCB-495B-AD5C-ED46F2C5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18224-66C2-4CD7-899A-2FB980AC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ABA2F-CFE3-4769-8E76-1D12E876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4621E-128B-46EE-A3A8-A71CBD5E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D196B-FAD0-4510-9864-D0288A69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CB2BC-EA6B-42FB-A802-42C81C89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CACCA-9A24-416A-BC43-A1E8F1B5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CF994-244A-46AB-8069-1F28ED5A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3DC31-9827-433B-AB1B-B4BE2565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25B35-6185-46C6-B857-78FD3258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50E1F-9B40-4651-AC07-E0561CBE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77E7A-F11E-4955-B884-7E3D2FE8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13F41-96AB-4937-B324-F3CDF740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2CA5A-DF80-4C74-9A6A-76BD5B00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1B860-BA4D-40A0-9152-F10904F1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23AAE-06A8-4873-BDBD-64D98067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07FF7-2A46-4384-B8F4-01CBB993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97D79-585E-40E6-83AB-0C7B5C08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1BDEB-DB56-4F6F-B9E9-A02ABCF9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07BC0-8D2E-45D9-ABD3-6FAEC0F6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7188D-022F-4BB0-8437-77D0BA05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78197-0916-4587-8453-02257533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9BFD0-FCDB-4197-B8B0-585D9C2D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EEDC8-08C5-4D27-A5DE-FD6BCF28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874D9-A527-4CEB-96C3-6F45E2DA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783F0-D215-4263-B37B-6812943B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7A8BB-9609-4C7B-AFAB-DC214545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8BD85-5E83-4F85-9AE8-0D8143B1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162BD-4B19-4B3C-BA63-B1B664BC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C86B9-71B4-4983-BCCC-0975E96A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33F71-4855-4A31-8662-EB0841A3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E51FC-5705-4E43-A3EF-681CF1D1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A068E-3644-419B-A5F3-8E419168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0DF33-31EB-4C3C-8F2E-076B0975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68C65-4225-4638-9159-F53118D8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40021-A793-4369-BFBA-738B95FE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4F57E9-9F34-4E08-AE8D-22269B09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244FF-1E4B-4F7F-BA19-71F0D26D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7BE7FC-89D5-4B78-A662-6BB96255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F2207-908E-4F61-A5D2-558000AB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C22B8C-9B51-41FA-AABF-4C012186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0C40B-C23D-4667-8A00-B5C1FB49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22888-41B3-439F-B0E9-1943FADD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91AAB-BD7F-4903-8B6C-CA543C26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3EC2C8-5B6F-4336-8B88-BAA11015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760-EE30-4404-A21F-7CE73E62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9E4-A3B4-4BD6-865F-1B3636A6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B15-9308-47B2-A364-EDF3D12F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B93A-56F6-4DED-8970-0659E98A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A713-8177-4BE0-BBD1-B91F12F9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4856-D384-48AA-813B-184CBFA6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6632-A3CB-4294-AD48-B505A9CB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BB54-C091-493E-970A-A92B0546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2781-CD76-4516-8B9B-9ADA6BD7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F221-09E5-4519-90F1-FADFBAA0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D113-2A61-4540-A1F9-0D2D9DEA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9FCA-E800-4104-A959-E8FA201D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CD51-D12F-4B5C-8D2C-FD0F9FB7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760F-43FC-4236-A211-7928CFA0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3775-6604-44CF-AA2A-A20DF950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ADF-B7B0-41BF-BA9E-84D91834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264C-82D2-47C7-92F7-B4193CA6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C09FB-55BC-465F-B681-E8B8E356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8B927-CBA5-4AA9-B701-D5EC211B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F3042-BCF0-4E6E-BB86-B2E6D855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8C3C2-689B-4DF6-922E-9C98EE39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C9144-7A1A-4F96-A2BA-50012CBB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09478-661C-45AD-83F2-7E30FCC8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9BCC1-91C3-4839-BDC6-B428B354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2797D-1394-4616-9E20-4CB3C39D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D04F3-9068-4478-96C8-1073C6A0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830B-1AE6-4C1D-B8A6-0665CCBA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D999B-3BBF-48AE-8A97-283E706A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BCA76-EBF7-4BBC-8D5C-760558AE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22195-1C27-460E-9910-011FEB31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286EA-DDDA-4DA8-95E2-A62610F0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9DFE8-6D3F-4F7A-A5DD-A406CFDE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5D164-157F-4A2F-8234-4B14740C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3E417-D001-43AD-8DD9-54D05664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11CE5-8609-4BCB-A932-2F0C6382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B2DA9-6D15-4C23-AFEF-B975CDA9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C1856-D979-4078-97FD-3E97F4F2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F873-1FFB-4524-BEF9-46624BA2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3E8CD-EE36-496F-BA9F-B2819C25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8B3BF-E4DB-444D-9D8A-B352DA14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131D5-E74A-4E78-A4CB-1A186A72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CD95D-0745-4DCE-B75F-4D80471D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32D2B-7656-47F4-A9C9-A0220EA0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7022C-DB8C-4C64-91AF-026EB68D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571D3-A764-4218-B68E-E016D133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A9199-01DD-4FD4-8D92-911A485F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A7565-230A-4A8E-B15D-141ACAAA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9FEBF-D631-4C08-9606-475122F6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27CE-1016-4F93-A79B-6E9AEF73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46E57-9C09-4B98-9253-0986C11C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D08D8-A337-491D-9885-5D0CBD45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60772-1040-4A80-8326-F02195E1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638D9-804D-4CA7-8B20-CB18857D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ED6CF-5DB7-4FD3-9921-3A18501A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6446F-FCFB-445F-9BE1-358B1721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3E95A-08EC-4135-AB5E-1B4A6A5E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CA20C-4E2E-42AD-9E83-4CA54027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3C2EF-EC0F-4863-A649-57C1D428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6B38E-9FEC-4050-B339-0BC60AC6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 fontScale="85000"/>
          </a:bodyPr>
          <a:p>
            <a:pPr marL="372240" indent="-37224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807840" indent="-30996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244160" indent="-24840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1740600" indent="-24840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F63C311F-E540-4A4E-BA76-8F1EC00C9DDF}" type="datetime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4D1325D5-7F83-4683-A7EB-D996848B229E}" type="slidenum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矩形 60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" rIns="117000" tIns="58680" bIns="58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矩形 60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" rIns="117000" tIns="58680" bIns="58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 fontScale="85000"/>
          </a:bodyPr>
          <a:p>
            <a:pPr marL="372240" indent="-37224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807840" indent="-30996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244160" indent="-24840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1740600" indent="-24840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CE11483C-B22E-4118-89D7-A36A23755D87}" type="datetime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A8C1FB86-81D5-41A6-9EB5-0A2604844912}" type="slidenum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60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" rIns="117000" tIns="58680" bIns="58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 fontScale="85000"/>
          </a:bodyPr>
          <a:p>
            <a:pPr marL="372240" indent="-37224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807840" indent="-30996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244160" indent="-24840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1740600" indent="-24840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801A7CA6-46D4-46B2-9972-99C6EAA6548E}" type="datetime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9EA931EE-051D-409E-8FFC-9708F5E671C2}" type="slidenum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矩形 60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" rIns="117000" tIns="58680" bIns="58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 fontScale="85000"/>
          </a:bodyPr>
          <a:p>
            <a:pPr marL="372240" indent="-37224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807840" indent="-30996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244160" indent="-24840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1740600" indent="-24840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02AA7D1B-3CC1-4F44-A5F8-68DB9A4187E7}" type="datetime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A636A3CD-72E1-4543-A569-F6DB3A045A74}" type="slidenum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矩形 60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" rIns="117000" tIns="58680" bIns="58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 fontScale="85000"/>
          </a:bodyPr>
          <a:p>
            <a:pPr marL="372240" indent="-37224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807840" indent="-30996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244160" indent="-24840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1740600" indent="-24840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56E7CD10-8470-47EE-9FE3-9256B6E67283}" type="datetime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DE662823-2430-408D-889A-0D28A3AB1998}" type="slidenum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60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" rIns="117000" tIns="58680" bIns="58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 fontScale="85000"/>
          </a:bodyPr>
          <a:p>
            <a:pPr marL="372240" indent="-37224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807840" indent="-30996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244160" indent="-24840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1740600" indent="-24840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83D81AAE-EAE0-4000-82FE-0BD4F83D1D38}" type="datetime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C2B76460-4AE7-4C1A-904F-58FAF797904E}" type="slidenum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矩形 60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" rIns="117000" tIns="58680" bIns="58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 fontScale="85000"/>
          </a:bodyPr>
          <a:p>
            <a:pPr marL="372240" indent="-37224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807840" indent="-30996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244160" indent="-24840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1740600" indent="-24840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7FB08DDB-5437-46A2-B931-E43904D0C709}" type="datetime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470E04DE-190C-42CF-8A7B-2BB104B7E484}" type="slidenum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矩形 60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" rIns="117000" tIns="58680" bIns="58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 fontScale="85000"/>
          </a:bodyPr>
          <a:p>
            <a:pPr marL="372240" indent="-37224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807840" indent="-30996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244160" indent="-24840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1740600" indent="-24840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D9302182-D505-4DB9-A647-BB65B5B8488B}" type="datetime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A7E4FCB7-A173-42C4-99DC-F3F91272AA24}" type="slidenum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4160" indent="-17280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39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18108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181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181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8215560" y="63961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4160" indent="-17280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39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18108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181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181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8215560" y="63961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4160" indent="-17280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39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18108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181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181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8215560" y="63961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60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" rIns="117000" tIns="58680" bIns="58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 fontScale="85000"/>
          </a:bodyPr>
          <a:p>
            <a:pPr marL="372240" indent="-37224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807840" indent="-30996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244160" indent="-24840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1740600" indent="-24840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9AEDEA93-F4CD-4400-BAF0-AD1785ADD950}" type="datetime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8B216031-B948-4C70-B5D8-3D5261CF3587}" type="slidenum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60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" rIns="117000" tIns="58680" bIns="58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 fontScale="85000"/>
          </a:bodyPr>
          <a:p>
            <a:pPr marL="372240" indent="-37224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807840" indent="-30996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244160" indent="-24840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1740600" indent="-24840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5B7495D0-138A-419D-90E7-7A0C1F873916}" type="datetime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4132391F-675B-491D-9286-EC0CD5619D80}" type="slidenum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60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" rIns="117000" tIns="58680" bIns="58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 fontScale="85000"/>
          </a:bodyPr>
          <a:p>
            <a:pPr marL="372240" indent="-37224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807840" indent="-30996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244160" indent="-24840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1740600" indent="-24840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A7AEAD55-3D6E-46ED-BBDE-43B49252C736}" type="datetime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A5866B8C-DDDF-4715-881F-955E0091C6C2}" type="slidenum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60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" rIns="117000" tIns="58680" bIns="58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 fontScale="85000"/>
          </a:bodyPr>
          <a:p>
            <a:pPr marL="372240" indent="-37224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807840" indent="-30996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244160" indent="-24840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1740600" indent="-24840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4B8D99D6-37C5-423D-A35F-314853526613}" type="datetime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2C7BF18C-ED15-4DD3-82B8-B44E39387D4F}" type="slidenum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矩形 60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" rIns="117000" tIns="58680" bIns="58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 fontScale="85000"/>
          </a:bodyPr>
          <a:p>
            <a:pPr marL="372240" indent="-37224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807840" indent="-30996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244160" indent="-24840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1740600" indent="-24840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3D78F5BF-9629-471E-9336-B62AB913A4C4}" type="datetime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97D1E1DD-4097-4319-8914-0116D8FB6B8F}" type="slidenum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图片 13" descr=""/>
          <p:cNvPicPr/>
          <p:nvPr/>
        </p:nvPicPr>
        <p:blipFill>
          <a:blip r:embed="rId1"/>
          <a:stretch/>
        </p:blipFill>
        <p:spPr>
          <a:xfrm>
            <a:off x="-11160" y="2536920"/>
            <a:ext cx="9178920" cy="178596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6" descr=""/>
          <p:cNvPicPr/>
          <p:nvPr/>
        </p:nvPicPr>
        <p:blipFill>
          <a:blip r:embed="rId2"/>
          <a:stretch/>
        </p:blipFill>
        <p:spPr>
          <a:xfrm>
            <a:off x="108000" y="1604880"/>
            <a:ext cx="2519280" cy="4345200"/>
          </a:xfrm>
          <a:prstGeom prst="rect">
            <a:avLst/>
          </a:prstGeom>
          <a:ln w="0">
            <a:noFill/>
          </a:ln>
        </p:spPr>
      </p:pic>
      <p:sp>
        <p:nvSpPr>
          <p:cNvPr id="668" name="TextBox 2"/>
          <p:cNvSpPr/>
          <p:nvPr/>
        </p:nvSpPr>
        <p:spPr>
          <a:xfrm>
            <a:off x="8238240" y="1584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页脚占位符 3"/>
          <p:cNvSpPr/>
          <p:nvPr/>
        </p:nvSpPr>
        <p:spPr>
          <a:xfrm>
            <a:off x="8155080" y="6423120"/>
            <a:ext cx="129060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" rIns="117000" tIns="22320" bIns="22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3"/>
          <p:cNvSpPr/>
          <p:nvPr/>
        </p:nvSpPr>
        <p:spPr>
          <a:xfrm>
            <a:off x="4319640" y="44406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3"/>
          <p:cNvSpPr/>
          <p:nvPr/>
        </p:nvSpPr>
        <p:spPr>
          <a:xfrm>
            <a:off x="4479120" y="2997360"/>
            <a:ext cx="239076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部门名称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　月度质量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1871280" y="1773000"/>
            <a:ext cx="237492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1869840" y="3860280"/>
            <a:ext cx="23778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7" name=""/>
          <p:cNvGraphicFramePr/>
          <p:nvPr/>
        </p:nvGraphicFramePr>
        <p:xfrm>
          <a:off x="4895640" y="1773000"/>
          <a:ext cx="2376360" cy="1439640"/>
        </p:xfrm>
        <a:graphic>
          <a:graphicData uri="http://schemas.openxmlformats.org/drawingml/2006/table"/>
        </a:graphic>
      </p:graphicFrame>
      <p:sp>
        <p:nvSpPr>
          <p:cNvPr id="748" name=""/>
          <p:cNvSpPr txBox="1"/>
          <p:nvPr/>
        </p:nvSpPr>
        <p:spPr>
          <a:xfrm>
            <a:off x="4878000" y="3860280"/>
            <a:ext cx="241308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8"/>
          <p:cNvSpPr/>
          <p:nvPr/>
        </p:nvSpPr>
        <p:spPr>
          <a:xfrm>
            <a:off x="3260520" y="692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修障满意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1871280" y="1773000"/>
            <a:ext cx="237492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1869840" y="3860280"/>
            <a:ext cx="23778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4" name=""/>
          <p:cNvGraphicFramePr/>
          <p:nvPr/>
        </p:nvGraphicFramePr>
        <p:xfrm>
          <a:off x="4895640" y="1773000"/>
          <a:ext cx="2376360" cy="1439640"/>
        </p:xfrm>
        <a:graphic>
          <a:graphicData uri="http://schemas.openxmlformats.org/drawingml/2006/table"/>
        </a:graphic>
      </p:graphicFrame>
      <p:sp>
        <p:nvSpPr>
          <p:cNvPr id="755" name=""/>
          <p:cNvSpPr txBox="1"/>
          <p:nvPr/>
        </p:nvSpPr>
        <p:spPr>
          <a:xfrm>
            <a:off x="4878000" y="3860280"/>
            <a:ext cx="241308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8"/>
          <p:cNvSpPr/>
          <p:nvPr/>
        </p:nvSpPr>
        <p:spPr>
          <a:xfrm>
            <a:off x="3096720" y="692280"/>
            <a:ext cx="14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en-US" sz="1800" spc="-1" strike="noStrike">
                <a:solidFill>
                  <a:srgbClr val="c11103"/>
                </a:solidFill>
                <a:latin typeface="Arial"/>
                <a:ea typeface="微软雅黑"/>
              </a:rPr>
              <a:t>10010</a:t>
            </a: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投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1871280" y="1773000"/>
            <a:ext cx="237492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1869840" y="3860280"/>
            <a:ext cx="23778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1" name=""/>
          <p:cNvGraphicFramePr/>
          <p:nvPr/>
        </p:nvGraphicFramePr>
        <p:xfrm>
          <a:off x="4895640" y="1773000"/>
          <a:ext cx="2376360" cy="1439640"/>
        </p:xfrm>
        <a:graphic>
          <a:graphicData uri="http://schemas.openxmlformats.org/drawingml/2006/table"/>
        </a:graphic>
      </p:graphicFrame>
      <p:sp>
        <p:nvSpPr>
          <p:cNvPr id="762" name=""/>
          <p:cNvSpPr txBox="1"/>
          <p:nvPr/>
        </p:nvSpPr>
        <p:spPr>
          <a:xfrm>
            <a:off x="4878000" y="3860280"/>
            <a:ext cx="241308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8"/>
          <p:cNvSpPr/>
          <p:nvPr/>
        </p:nvSpPr>
        <p:spPr>
          <a:xfrm>
            <a:off x="3260520" y="692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大客户故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871280" y="1773000"/>
            <a:ext cx="237492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1869840" y="3860280"/>
            <a:ext cx="23778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8" name=""/>
          <p:cNvGraphicFramePr/>
          <p:nvPr/>
        </p:nvGraphicFramePr>
        <p:xfrm>
          <a:off x="4895640" y="1773000"/>
          <a:ext cx="2376360" cy="1439640"/>
        </p:xfrm>
        <a:graphic>
          <a:graphicData uri="http://schemas.openxmlformats.org/drawingml/2006/table"/>
        </a:graphic>
      </p:graphicFrame>
      <p:sp>
        <p:nvSpPr>
          <p:cNvPr id="769" name=""/>
          <p:cNvSpPr txBox="1"/>
          <p:nvPr/>
        </p:nvSpPr>
        <p:spPr>
          <a:xfrm>
            <a:off x="4878000" y="3860280"/>
            <a:ext cx="241308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8"/>
          <p:cNvSpPr/>
          <p:nvPr/>
        </p:nvSpPr>
        <p:spPr>
          <a:xfrm>
            <a:off x="3260520" y="692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大面积故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1871280" y="1773000"/>
            <a:ext cx="237492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1869840" y="3860280"/>
            <a:ext cx="23778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5" name=""/>
          <p:cNvGraphicFramePr/>
          <p:nvPr/>
        </p:nvGraphicFramePr>
        <p:xfrm>
          <a:off x="4895640" y="1773000"/>
          <a:ext cx="2376360" cy="1439640"/>
        </p:xfrm>
        <a:graphic>
          <a:graphicData uri="http://schemas.openxmlformats.org/drawingml/2006/table"/>
        </a:graphic>
      </p:graphicFrame>
      <p:sp>
        <p:nvSpPr>
          <p:cNvPr id="776" name=""/>
          <p:cNvSpPr txBox="1"/>
          <p:nvPr/>
        </p:nvSpPr>
        <p:spPr>
          <a:xfrm>
            <a:off x="4878000" y="3860280"/>
            <a:ext cx="241308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8"/>
          <p:cNvSpPr/>
          <p:nvPr/>
        </p:nvSpPr>
        <p:spPr>
          <a:xfrm>
            <a:off x="3400920" y="69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小组内部横向比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1871280" y="1773000"/>
            <a:ext cx="237492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1"/>
          <a:stretch/>
        </p:blipFill>
        <p:spPr>
          <a:xfrm>
            <a:off x="1869840" y="3860280"/>
            <a:ext cx="23778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2" name=""/>
          <p:cNvGraphicFramePr/>
          <p:nvPr/>
        </p:nvGraphicFramePr>
        <p:xfrm>
          <a:off x="4895640" y="1773000"/>
          <a:ext cx="2376360" cy="1439640"/>
        </p:xfrm>
        <a:graphic>
          <a:graphicData uri="http://schemas.openxmlformats.org/drawingml/2006/table"/>
        </a:graphic>
      </p:graphicFrame>
      <p:sp>
        <p:nvSpPr>
          <p:cNvPr id="783" name=""/>
          <p:cNvSpPr txBox="1"/>
          <p:nvPr/>
        </p:nvSpPr>
        <p:spPr>
          <a:xfrm>
            <a:off x="4878000" y="3860280"/>
            <a:ext cx="241308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8"/>
          <p:cNvSpPr/>
          <p:nvPr/>
        </p:nvSpPr>
        <p:spPr>
          <a:xfrm>
            <a:off x="3213360" y="692280"/>
            <a:ext cx="10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专项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1871280" y="1773000"/>
            <a:ext cx="237492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1"/>
          <a:stretch/>
        </p:blipFill>
        <p:spPr>
          <a:xfrm>
            <a:off x="1869840" y="3860280"/>
            <a:ext cx="23778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9" name=""/>
          <p:cNvGraphicFramePr/>
          <p:nvPr/>
        </p:nvGraphicFramePr>
        <p:xfrm>
          <a:off x="4895640" y="1773000"/>
          <a:ext cx="2376360" cy="1439640"/>
        </p:xfrm>
        <a:graphic>
          <a:graphicData uri="http://schemas.openxmlformats.org/drawingml/2006/table"/>
        </a:graphic>
      </p:graphicFrame>
      <p:sp>
        <p:nvSpPr>
          <p:cNvPr id="790" name=""/>
          <p:cNvSpPr txBox="1"/>
          <p:nvPr/>
        </p:nvSpPr>
        <p:spPr>
          <a:xfrm>
            <a:off x="4878000" y="3860280"/>
            <a:ext cx="241308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8"/>
          <p:cNvSpPr/>
          <p:nvPr/>
        </p:nvSpPr>
        <p:spPr>
          <a:xfrm>
            <a:off x="3213360" y="692280"/>
            <a:ext cx="10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网优网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31"/>
          <p:cNvSpPr/>
          <p:nvPr/>
        </p:nvSpPr>
        <p:spPr>
          <a:xfrm>
            <a:off x="1619280" y="1954080"/>
            <a:ext cx="58705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6"/>
          <p:cNvSpPr/>
          <p:nvPr/>
        </p:nvSpPr>
        <p:spPr>
          <a:xfrm>
            <a:off x="1657440" y="1533600"/>
            <a:ext cx="583236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25"/>
          <p:cNvSpPr/>
          <p:nvPr/>
        </p:nvSpPr>
        <p:spPr>
          <a:xfrm>
            <a:off x="1657440" y="1533600"/>
            <a:ext cx="5832360" cy="533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片区（部门）概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33"/>
          <p:cNvSpPr/>
          <p:nvPr/>
        </p:nvSpPr>
        <p:spPr>
          <a:xfrm>
            <a:off x="1619280" y="4106880"/>
            <a:ext cx="58705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12"/>
          <p:cNvSpPr/>
          <p:nvPr/>
        </p:nvSpPr>
        <p:spPr>
          <a:xfrm>
            <a:off x="1657440" y="367668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27"/>
          <p:cNvSpPr/>
          <p:nvPr/>
        </p:nvSpPr>
        <p:spPr>
          <a:xfrm>
            <a:off x="1657440" y="36669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月工作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4"/>
          <p:cNvSpPr/>
          <p:nvPr/>
        </p:nvSpPr>
        <p:spPr>
          <a:xfrm>
            <a:off x="1619280" y="5145120"/>
            <a:ext cx="58705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15"/>
          <p:cNvSpPr/>
          <p:nvPr/>
        </p:nvSpPr>
        <p:spPr>
          <a:xfrm>
            <a:off x="1657440" y="472428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28"/>
          <p:cNvSpPr/>
          <p:nvPr/>
        </p:nvSpPr>
        <p:spPr>
          <a:xfrm>
            <a:off x="1657440" y="472428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反馈及工作思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2"/>
          <p:cNvSpPr/>
          <p:nvPr/>
        </p:nvSpPr>
        <p:spPr>
          <a:xfrm>
            <a:off x="1619280" y="3059280"/>
            <a:ext cx="5870520" cy="18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9"/>
          <p:cNvSpPr/>
          <p:nvPr/>
        </p:nvSpPr>
        <p:spPr>
          <a:xfrm>
            <a:off x="1657440" y="263844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月质量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26"/>
          <p:cNvSpPr/>
          <p:nvPr/>
        </p:nvSpPr>
        <p:spPr>
          <a:xfrm>
            <a:off x="1657440" y="26193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右箭头 26"/>
          <p:cNvSpPr/>
          <p:nvPr/>
        </p:nvSpPr>
        <p:spPr>
          <a:xfrm>
            <a:off x="1951200" y="3797280"/>
            <a:ext cx="431640" cy="27324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2"/>
          <p:cNvSpPr/>
          <p:nvPr/>
        </p:nvSpPr>
        <p:spPr>
          <a:xfrm>
            <a:off x="179280" y="1090440"/>
            <a:ext cx="302436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73528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下月工作计划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5"/>
          <p:cNvSpPr/>
          <p:nvPr/>
        </p:nvSpPr>
        <p:spPr>
          <a:xfrm rot="10800000">
            <a:off x="1330200" y="1628280"/>
            <a:ext cx="2571840" cy="1476360"/>
          </a:xfrm>
          <a:prstGeom prst="roundRect">
            <a:avLst>
              <a:gd name="adj" fmla="val 2556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5"/>
          <p:cNvSpPr/>
          <p:nvPr/>
        </p:nvSpPr>
        <p:spPr>
          <a:xfrm rot="10800000">
            <a:off x="5290920" y="1628280"/>
            <a:ext cx="2570040" cy="1476360"/>
          </a:xfrm>
          <a:prstGeom prst="roundRect">
            <a:avLst>
              <a:gd name="adj" fmla="val 2556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3"/>
          <p:cNvSpPr/>
          <p:nvPr/>
        </p:nvSpPr>
        <p:spPr>
          <a:xfrm>
            <a:off x="5284800" y="2374920"/>
            <a:ext cx="2849400" cy="2752560"/>
          </a:xfrm>
          <a:prstGeom prst="roundRect">
            <a:avLst>
              <a:gd name="adj" fmla="val 8014"/>
            </a:avLst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4"/>
          <p:cNvSpPr/>
          <p:nvPr/>
        </p:nvSpPr>
        <p:spPr>
          <a:xfrm>
            <a:off x="5348160" y="2440080"/>
            <a:ext cx="2703600" cy="2611440"/>
          </a:xfrm>
          <a:prstGeom prst="roundRect">
            <a:avLst>
              <a:gd name="adj" fmla="val 7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8"/>
          <p:cNvGrpSpPr/>
          <p:nvPr/>
        </p:nvGrpSpPr>
        <p:grpSpPr>
          <a:xfrm>
            <a:off x="974880" y="1660680"/>
            <a:ext cx="2856960" cy="466560"/>
            <a:chOff x="974880" y="1660680"/>
            <a:chExt cx="2856960" cy="466560"/>
          </a:xfrm>
        </p:grpSpPr>
        <p:sp>
          <p:nvSpPr>
            <p:cNvPr id="813" name="AutoShape 6"/>
            <p:cNvSpPr/>
            <p:nvPr/>
          </p:nvSpPr>
          <p:spPr>
            <a:xfrm>
              <a:off x="974880" y="1660680"/>
              <a:ext cx="2856960" cy="4665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AutoShape 7"/>
            <p:cNvSpPr/>
            <p:nvPr/>
          </p:nvSpPr>
          <p:spPr>
            <a:xfrm flipH="1">
              <a:off x="3689280" y="173052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AutoShape 8"/>
            <p:cNvSpPr/>
            <p:nvPr/>
          </p:nvSpPr>
          <p:spPr>
            <a:xfrm>
              <a:off x="1005120" y="173052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12"/>
          <p:cNvGrpSpPr/>
          <p:nvPr/>
        </p:nvGrpSpPr>
        <p:grpSpPr>
          <a:xfrm>
            <a:off x="5259240" y="1660680"/>
            <a:ext cx="2857320" cy="466560"/>
            <a:chOff x="5259240" y="1660680"/>
            <a:chExt cx="2857320" cy="466560"/>
          </a:xfrm>
        </p:grpSpPr>
        <p:sp>
          <p:nvSpPr>
            <p:cNvPr id="817" name="AutoShape 10"/>
            <p:cNvSpPr/>
            <p:nvPr/>
          </p:nvSpPr>
          <p:spPr>
            <a:xfrm>
              <a:off x="5259240" y="1660680"/>
              <a:ext cx="2857320" cy="4665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AutoShape 11"/>
            <p:cNvSpPr/>
            <p:nvPr/>
          </p:nvSpPr>
          <p:spPr>
            <a:xfrm flipH="1">
              <a:off x="7974000" y="173052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AutoShape 12"/>
            <p:cNvSpPr/>
            <p:nvPr/>
          </p:nvSpPr>
          <p:spPr>
            <a:xfrm>
              <a:off x="5289480" y="173052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AutoShape 13"/>
          <p:cNvSpPr/>
          <p:nvPr/>
        </p:nvSpPr>
        <p:spPr>
          <a:xfrm>
            <a:off x="974880" y="2374920"/>
            <a:ext cx="2849400" cy="2711520"/>
          </a:xfrm>
          <a:prstGeom prst="roundRect">
            <a:avLst>
              <a:gd name="adj" fmla="val 8014"/>
            </a:avLst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8"/>
          <p:cNvSpPr/>
          <p:nvPr/>
        </p:nvSpPr>
        <p:spPr>
          <a:xfrm>
            <a:off x="1241280" y="173988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上月完成情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8"/>
          <p:cNvSpPr/>
          <p:nvPr/>
        </p:nvSpPr>
        <p:spPr>
          <a:xfrm>
            <a:off x="5580000" y="173988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月工作计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16"/>
          <p:cNvSpPr/>
          <p:nvPr/>
        </p:nvSpPr>
        <p:spPr>
          <a:xfrm flipH="1" flipV="1" rot="10806000">
            <a:off x="3906360" y="2918880"/>
            <a:ext cx="1293840" cy="756000"/>
          </a:xfrm>
          <a:prstGeom prst="rightArrow">
            <a:avLst>
              <a:gd name="adj1" fmla="val 46509"/>
              <a:gd name="adj2" fmla="val 376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7"/>
          <p:cNvSpPr/>
          <p:nvPr/>
        </p:nvSpPr>
        <p:spPr>
          <a:xfrm>
            <a:off x="5527800" y="251604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标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8"/>
          <p:cNvSpPr/>
          <p:nvPr/>
        </p:nvSpPr>
        <p:spPr>
          <a:xfrm>
            <a:off x="5516640" y="379584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标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9"/>
          <p:cNvSpPr/>
          <p:nvPr/>
        </p:nvSpPr>
        <p:spPr>
          <a:xfrm>
            <a:off x="5657760" y="28209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20"/>
          <p:cNvSpPr/>
          <p:nvPr/>
        </p:nvSpPr>
        <p:spPr>
          <a:xfrm>
            <a:off x="5657760" y="40417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24"/>
          <p:cNvGrpSpPr/>
          <p:nvPr/>
        </p:nvGrpSpPr>
        <p:grpSpPr>
          <a:xfrm>
            <a:off x="5416560" y="2585880"/>
            <a:ext cx="168120" cy="168480"/>
            <a:chOff x="5416560" y="2585880"/>
            <a:chExt cx="168120" cy="168480"/>
          </a:xfrm>
        </p:grpSpPr>
        <p:sp>
          <p:nvSpPr>
            <p:cNvPr id="829" name="Oval 22"/>
            <p:cNvSpPr/>
            <p:nvPr/>
          </p:nvSpPr>
          <p:spPr>
            <a:xfrm>
              <a:off x="5416560" y="2585880"/>
              <a:ext cx="168120" cy="16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3"/>
            <p:cNvSpPr/>
            <p:nvPr/>
          </p:nvSpPr>
          <p:spPr>
            <a:xfrm>
              <a:off x="5429160" y="2599920"/>
              <a:ext cx="141120" cy="140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Group 27"/>
          <p:cNvGrpSpPr/>
          <p:nvPr/>
        </p:nvGrpSpPr>
        <p:grpSpPr>
          <a:xfrm>
            <a:off x="5416560" y="3876840"/>
            <a:ext cx="168120" cy="168120"/>
            <a:chOff x="5416560" y="3876840"/>
            <a:chExt cx="168120" cy="168120"/>
          </a:xfrm>
        </p:grpSpPr>
        <p:sp>
          <p:nvSpPr>
            <p:cNvPr id="832" name="Oval 25"/>
            <p:cNvSpPr/>
            <p:nvPr/>
          </p:nvSpPr>
          <p:spPr>
            <a:xfrm>
              <a:off x="5416560" y="3876840"/>
              <a:ext cx="168120" cy="16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6"/>
            <p:cNvSpPr/>
            <p:nvPr/>
          </p:nvSpPr>
          <p:spPr>
            <a:xfrm>
              <a:off x="5429160" y="3890880"/>
              <a:ext cx="141120" cy="140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Text Box 27"/>
          <p:cNvSpPr/>
          <p:nvPr/>
        </p:nvSpPr>
        <p:spPr>
          <a:xfrm>
            <a:off x="1127160" y="436572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单总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单总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28"/>
          <p:cNvSpPr/>
          <p:nvPr/>
        </p:nvSpPr>
        <p:spPr>
          <a:xfrm>
            <a:off x="1050840" y="260208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cc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29"/>
          <p:cNvSpPr/>
          <p:nvPr/>
        </p:nvSpPr>
        <p:spPr>
          <a:xfrm>
            <a:off x="1050840" y="31860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cc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30"/>
          <p:cNvSpPr/>
          <p:nvPr/>
        </p:nvSpPr>
        <p:spPr>
          <a:xfrm>
            <a:off x="1050840" y="374652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cc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1"/>
          <p:cNvSpPr/>
          <p:nvPr/>
        </p:nvSpPr>
        <p:spPr>
          <a:xfrm>
            <a:off x="1283760" y="2674800"/>
            <a:ext cx="991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2"/>
          <p:cNvSpPr/>
          <p:nvPr/>
        </p:nvSpPr>
        <p:spPr>
          <a:xfrm>
            <a:off x="1283760" y="3259080"/>
            <a:ext cx="991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3"/>
          <p:cNvSpPr/>
          <p:nvPr/>
        </p:nvSpPr>
        <p:spPr>
          <a:xfrm>
            <a:off x="1283760" y="3817800"/>
            <a:ext cx="991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34"/>
          <p:cNvSpPr/>
          <p:nvPr/>
        </p:nvSpPr>
        <p:spPr>
          <a:xfrm flipV="1" rot="10794000">
            <a:off x="3874320" y="3524400"/>
            <a:ext cx="1297080" cy="755640"/>
          </a:xfrm>
          <a:prstGeom prst="rightArrow">
            <a:avLst>
              <a:gd name="adj1" fmla="val 46509"/>
              <a:gd name="adj2" fmla="val 3772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36"/>
          <p:cNvSpPr/>
          <p:nvPr/>
        </p:nvSpPr>
        <p:spPr>
          <a:xfrm>
            <a:off x="1530720" y="52927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月工作完成情况的大体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7"/>
          <p:cNvSpPr/>
          <p:nvPr/>
        </p:nvSpPr>
        <p:spPr>
          <a:xfrm>
            <a:off x="5961960" y="529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月工作计划的简要概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Group 2"/>
          <p:cNvGrpSpPr/>
          <p:nvPr/>
        </p:nvGrpSpPr>
        <p:grpSpPr>
          <a:xfrm>
            <a:off x="1638360" y="4754520"/>
            <a:ext cx="5870520" cy="617760"/>
            <a:chOff x="1638360" y="4754520"/>
            <a:chExt cx="5870520" cy="617760"/>
          </a:xfrm>
        </p:grpSpPr>
        <p:grpSp>
          <p:nvGrpSpPr>
            <p:cNvPr id="845" name="Group 3"/>
            <p:cNvGrpSpPr/>
            <p:nvPr/>
          </p:nvGrpSpPr>
          <p:grpSpPr>
            <a:xfrm>
              <a:off x="1638360" y="4754520"/>
              <a:ext cx="5870520" cy="617760"/>
              <a:chOff x="1638360" y="4754520"/>
              <a:chExt cx="5870520" cy="617760"/>
            </a:xfrm>
          </p:grpSpPr>
          <p:sp>
            <p:nvSpPr>
              <p:cNvPr id="846" name="Rectangle 33"/>
              <p:cNvSpPr/>
              <p:nvPr/>
            </p:nvSpPr>
            <p:spPr>
              <a:xfrm>
                <a:off x="1638360" y="5186520"/>
                <a:ext cx="5870520" cy="18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171440"/>
                    <a:tab algn="l" pos="2343240"/>
                    <a:tab algn="l" pos="3514680"/>
                    <a:tab algn="l" pos="4686480"/>
                    <a:tab algn="l" pos="5857920"/>
                    <a:tab algn="l" pos="7029360"/>
                    <a:tab algn="l" pos="8201160"/>
                    <a:tab algn="l" pos="9372600"/>
                    <a:tab algn="l" pos="10544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AutoShape 12"/>
              <p:cNvSpPr/>
              <p:nvPr/>
            </p:nvSpPr>
            <p:spPr>
              <a:xfrm>
                <a:off x="1675080" y="4754520"/>
                <a:ext cx="5833800" cy="533880"/>
              </a:xfrm>
              <a:prstGeom prst="roundRect">
                <a:avLst>
                  <a:gd name="adj" fmla="val 1666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1171440"/>
                    <a:tab algn="l" pos="2343240"/>
                    <a:tab algn="l" pos="3514680"/>
                    <a:tab algn="l" pos="4686480"/>
                    <a:tab algn="l" pos="5857920"/>
                    <a:tab algn="l" pos="7029360"/>
                    <a:tab algn="l" pos="8201160"/>
                    <a:tab algn="l" pos="9372600"/>
                    <a:tab algn="l" pos="10544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8" name="AutoShape 28"/>
            <p:cNvSpPr/>
            <p:nvPr/>
          </p:nvSpPr>
          <p:spPr>
            <a:xfrm>
              <a:off x="1675080" y="4754520"/>
              <a:ext cx="5833800" cy="53388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问题反馈及工作思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Rectangle 31"/>
          <p:cNvSpPr/>
          <p:nvPr/>
        </p:nvSpPr>
        <p:spPr>
          <a:xfrm>
            <a:off x="1619280" y="1954080"/>
            <a:ext cx="58705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6"/>
          <p:cNvSpPr/>
          <p:nvPr/>
        </p:nvSpPr>
        <p:spPr>
          <a:xfrm>
            <a:off x="1657440" y="1533600"/>
            <a:ext cx="583236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25"/>
          <p:cNvSpPr/>
          <p:nvPr/>
        </p:nvSpPr>
        <p:spPr>
          <a:xfrm>
            <a:off x="1657440" y="1533600"/>
            <a:ext cx="5832360" cy="533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片区（部门）概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33"/>
          <p:cNvSpPr/>
          <p:nvPr/>
        </p:nvSpPr>
        <p:spPr>
          <a:xfrm>
            <a:off x="1619280" y="4083120"/>
            <a:ext cx="587052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12"/>
          <p:cNvSpPr/>
          <p:nvPr/>
        </p:nvSpPr>
        <p:spPr>
          <a:xfrm>
            <a:off x="1657440" y="367668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27"/>
          <p:cNvSpPr/>
          <p:nvPr/>
        </p:nvSpPr>
        <p:spPr>
          <a:xfrm>
            <a:off x="1657440" y="36669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月工作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32"/>
          <p:cNvSpPr/>
          <p:nvPr/>
        </p:nvSpPr>
        <p:spPr>
          <a:xfrm>
            <a:off x="1619280" y="3059280"/>
            <a:ext cx="5870520" cy="18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9"/>
          <p:cNvSpPr/>
          <p:nvPr/>
        </p:nvSpPr>
        <p:spPr>
          <a:xfrm>
            <a:off x="1657440" y="263844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月质量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26"/>
          <p:cNvSpPr/>
          <p:nvPr/>
        </p:nvSpPr>
        <p:spPr>
          <a:xfrm>
            <a:off x="1657440" y="26193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右箭头 26"/>
          <p:cNvSpPr/>
          <p:nvPr/>
        </p:nvSpPr>
        <p:spPr>
          <a:xfrm>
            <a:off x="1951200" y="4854600"/>
            <a:ext cx="431640" cy="27288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31"/>
          <p:cNvSpPr/>
          <p:nvPr/>
        </p:nvSpPr>
        <p:spPr>
          <a:xfrm>
            <a:off x="1619280" y="1954080"/>
            <a:ext cx="58705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6"/>
          <p:cNvSpPr/>
          <p:nvPr/>
        </p:nvSpPr>
        <p:spPr>
          <a:xfrm>
            <a:off x="1657440" y="1533600"/>
            <a:ext cx="5832360" cy="53316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25"/>
          <p:cNvSpPr/>
          <p:nvPr/>
        </p:nvSpPr>
        <p:spPr>
          <a:xfrm>
            <a:off x="1657440" y="1533600"/>
            <a:ext cx="5832360" cy="533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片区（部门）概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33"/>
          <p:cNvSpPr/>
          <p:nvPr/>
        </p:nvSpPr>
        <p:spPr>
          <a:xfrm>
            <a:off x="1619280" y="4083120"/>
            <a:ext cx="587052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12"/>
          <p:cNvSpPr/>
          <p:nvPr/>
        </p:nvSpPr>
        <p:spPr>
          <a:xfrm>
            <a:off x="1657440" y="367668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27"/>
          <p:cNvSpPr/>
          <p:nvPr/>
        </p:nvSpPr>
        <p:spPr>
          <a:xfrm>
            <a:off x="1657440" y="36669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月工作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4"/>
          <p:cNvSpPr/>
          <p:nvPr/>
        </p:nvSpPr>
        <p:spPr>
          <a:xfrm>
            <a:off x="1619280" y="5145120"/>
            <a:ext cx="58705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15"/>
          <p:cNvSpPr/>
          <p:nvPr/>
        </p:nvSpPr>
        <p:spPr>
          <a:xfrm>
            <a:off x="1657440" y="472428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28"/>
          <p:cNvSpPr/>
          <p:nvPr/>
        </p:nvSpPr>
        <p:spPr>
          <a:xfrm>
            <a:off x="1657440" y="472428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反馈及工作思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2"/>
          <p:cNvSpPr/>
          <p:nvPr/>
        </p:nvSpPr>
        <p:spPr>
          <a:xfrm>
            <a:off x="1619280" y="3059280"/>
            <a:ext cx="5870520" cy="18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9"/>
          <p:cNvSpPr/>
          <p:nvPr/>
        </p:nvSpPr>
        <p:spPr>
          <a:xfrm>
            <a:off x="1657440" y="263844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月质量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26"/>
          <p:cNvSpPr/>
          <p:nvPr/>
        </p:nvSpPr>
        <p:spPr>
          <a:xfrm>
            <a:off x="1657440" y="26193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右箭头 26"/>
          <p:cNvSpPr/>
          <p:nvPr/>
        </p:nvSpPr>
        <p:spPr>
          <a:xfrm>
            <a:off x="1946160" y="1685880"/>
            <a:ext cx="432000" cy="2732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32"/>
          <p:cNvSpPr/>
          <p:nvPr/>
        </p:nvSpPr>
        <p:spPr>
          <a:xfrm>
            <a:off x="179280" y="1090440"/>
            <a:ext cx="302436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73528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问题反馈及工作思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图片 5" descr=""/>
          <p:cNvPicPr/>
          <p:nvPr/>
        </p:nvPicPr>
        <p:blipFill>
          <a:blip r:embed="rId1"/>
          <a:stretch/>
        </p:blipFill>
        <p:spPr>
          <a:xfrm>
            <a:off x="-11160" y="2536920"/>
            <a:ext cx="9178920" cy="1785960"/>
          </a:xfrm>
          <a:prstGeom prst="rect">
            <a:avLst/>
          </a:prstGeom>
          <a:ln w="0">
            <a:noFill/>
          </a:ln>
        </p:spPr>
      </p:pic>
      <p:sp>
        <p:nvSpPr>
          <p:cNvPr id="863" name="TextBox 6"/>
          <p:cNvSpPr/>
          <p:nvPr/>
        </p:nvSpPr>
        <p:spPr>
          <a:xfrm>
            <a:off x="3081600" y="2997360"/>
            <a:ext cx="293940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汇报完毕，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0"/>
          <p:cNvSpPr/>
          <p:nvPr/>
        </p:nvSpPr>
        <p:spPr>
          <a:xfrm>
            <a:off x="8238240" y="1584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页脚占位符 3"/>
          <p:cNvSpPr/>
          <p:nvPr/>
        </p:nvSpPr>
        <p:spPr>
          <a:xfrm>
            <a:off x="8155080" y="6423120"/>
            <a:ext cx="129060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" rIns="117000" tIns="22320" bIns="22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3"/>
          <p:cNvSpPr/>
          <p:nvPr/>
        </p:nvSpPr>
        <p:spPr>
          <a:xfrm>
            <a:off x="4854600" y="5037120"/>
            <a:ext cx="40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：　　片区装拆移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   月   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32"/>
          <p:cNvSpPr/>
          <p:nvPr/>
        </p:nvSpPr>
        <p:spPr>
          <a:xfrm>
            <a:off x="179280" y="1090440"/>
            <a:ext cx="302436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33"/>
          <p:cNvSpPr/>
          <p:nvPr/>
        </p:nvSpPr>
        <p:spPr>
          <a:xfrm>
            <a:off x="1917720" y="299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片区维护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73528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679040" y="1988640"/>
            <a:ext cx="5556600" cy="7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−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添加文本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679040" y="3429000"/>
            <a:ext cx="555660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−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添加文本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673280" y="4869000"/>
            <a:ext cx="556272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−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添加文本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22"/>
          <p:cNvSpPr/>
          <p:nvPr/>
        </p:nvSpPr>
        <p:spPr>
          <a:xfrm>
            <a:off x="1964160" y="1628640"/>
            <a:ext cx="12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片区组织架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36"/>
          <p:cNvSpPr/>
          <p:nvPr/>
        </p:nvSpPr>
        <p:spPr>
          <a:xfrm>
            <a:off x="2837160" y="4365720"/>
            <a:ext cx="6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人员、车辆、工器具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2016000" y="1557000"/>
            <a:ext cx="511200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8"/>
          <p:cNvSpPr/>
          <p:nvPr/>
        </p:nvSpPr>
        <p:spPr>
          <a:xfrm>
            <a:off x="3307320" y="692280"/>
            <a:ext cx="12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片区组织架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1871280" y="1773000"/>
            <a:ext cx="237492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1869840" y="3860280"/>
            <a:ext cx="23778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2" name=""/>
          <p:cNvGraphicFramePr/>
          <p:nvPr/>
        </p:nvGraphicFramePr>
        <p:xfrm>
          <a:off x="4895640" y="1773000"/>
          <a:ext cx="2376360" cy="1439640"/>
        </p:xfrm>
        <a:graphic>
          <a:graphicData uri="http://schemas.openxmlformats.org/drawingml/2006/table"/>
        </a:graphic>
      </p:graphicFrame>
      <p:sp>
        <p:nvSpPr>
          <p:cNvPr id="703" name=""/>
          <p:cNvSpPr txBox="1"/>
          <p:nvPr/>
        </p:nvSpPr>
        <p:spPr>
          <a:xfrm>
            <a:off x="4878000" y="3860280"/>
            <a:ext cx="241308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8"/>
          <p:cNvSpPr/>
          <p:nvPr/>
        </p:nvSpPr>
        <p:spPr>
          <a:xfrm>
            <a:off x="3260520" y="692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片区维护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2016000" y="1557000"/>
            <a:ext cx="511200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8"/>
          <p:cNvSpPr/>
          <p:nvPr/>
        </p:nvSpPr>
        <p:spPr>
          <a:xfrm>
            <a:off x="4190760" y="692280"/>
            <a:ext cx="6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人员、车辆、工器具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2"/>
          <p:cNvGrpSpPr/>
          <p:nvPr/>
        </p:nvGrpSpPr>
        <p:grpSpPr>
          <a:xfrm>
            <a:off x="1619280" y="1533600"/>
            <a:ext cx="5870520" cy="606240"/>
            <a:chOff x="1619280" y="1533600"/>
            <a:chExt cx="5870520" cy="606240"/>
          </a:xfrm>
        </p:grpSpPr>
        <p:sp>
          <p:nvSpPr>
            <p:cNvPr id="710" name="Rectangle 31"/>
            <p:cNvSpPr/>
            <p:nvPr/>
          </p:nvSpPr>
          <p:spPr>
            <a:xfrm>
              <a:off x="1619280" y="1954080"/>
              <a:ext cx="587052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6"/>
            <p:cNvSpPr/>
            <p:nvPr/>
          </p:nvSpPr>
          <p:spPr>
            <a:xfrm>
              <a:off x="1656000" y="1533600"/>
              <a:ext cx="5833800" cy="533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AutoShape 25"/>
            <p:cNvSpPr/>
            <p:nvPr/>
          </p:nvSpPr>
          <p:spPr>
            <a:xfrm>
              <a:off x="1656000" y="1533600"/>
              <a:ext cx="5833800" cy="53352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片区（部门）概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6"/>
          <p:cNvGrpSpPr/>
          <p:nvPr/>
        </p:nvGrpSpPr>
        <p:grpSpPr>
          <a:xfrm>
            <a:off x="1619280" y="3666960"/>
            <a:ext cx="5870520" cy="603360"/>
            <a:chOff x="1619280" y="3666960"/>
            <a:chExt cx="5870520" cy="603360"/>
          </a:xfrm>
        </p:grpSpPr>
        <p:sp>
          <p:nvSpPr>
            <p:cNvPr id="714" name="Rectangle 33"/>
            <p:cNvSpPr/>
            <p:nvPr/>
          </p:nvSpPr>
          <p:spPr>
            <a:xfrm>
              <a:off x="1619280" y="4084200"/>
              <a:ext cx="5870520" cy="18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12"/>
            <p:cNvSpPr/>
            <p:nvPr/>
          </p:nvSpPr>
          <p:spPr>
            <a:xfrm>
              <a:off x="1656000" y="3674880"/>
              <a:ext cx="5833800" cy="53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27"/>
            <p:cNvSpPr/>
            <p:nvPr/>
          </p:nvSpPr>
          <p:spPr>
            <a:xfrm>
              <a:off x="1656000" y="3666960"/>
              <a:ext cx="5833800" cy="53460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下月工作计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0"/>
          <p:cNvGrpSpPr/>
          <p:nvPr/>
        </p:nvGrpSpPr>
        <p:grpSpPr>
          <a:xfrm>
            <a:off x="1619280" y="4724280"/>
            <a:ext cx="5870520" cy="606600"/>
            <a:chOff x="1619280" y="4724280"/>
            <a:chExt cx="5870520" cy="606600"/>
          </a:xfrm>
        </p:grpSpPr>
        <p:sp>
          <p:nvSpPr>
            <p:cNvPr id="718" name="Rectangle 34"/>
            <p:cNvSpPr/>
            <p:nvPr/>
          </p:nvSpPr>
          <p:spPr>
            <a:xfrm>
              <a:off x="1619280" y="5145120"/>
              <a:ext cx="587052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5"/>
            <p:cNvSpPr/>
            <p:nvPr/>
          </p:nvSpPr>
          <p:spPr>
            <a:xfrm>
              <a:off x="1656000" y="4724280"/>
              <a:ext cx="5833800" cy="533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28"/>
            <p:cNvSpPr/>
            <p:nvPr/>
          </p:nvSpPr>
          <p:spPr>
            <a:xfrm>
              <a:off x="1656000" y="4724280"/>
              <a:ext cx="5833800" cy="53352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问题反馈及工作思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2"/>
          <p:cNvSpPr/>
          <p:nvPr/>
        </p:nvSpPr>
        <p:spPr>
          <a:xfrm>
            <a:off x="1619280" y="3059280"/>
            <a:ext cx="5870520" cy="18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9"/>
          <p:cNvSpPr/>
          <p:nvPr/>
        </p:nvSpPr>
        <p:spPr>
          <a:xfrm>
            <a:off x="1657440" y="263844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月质量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26"/>
          <p:cNvSpPr/>
          <p:nvPr/>
        </p:nvSpPr>
        <p:spPr>
          <a:xfrm>
            <a:off x="1657440" y="26193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右箭头 26"/>
          <p:cNvSpPr/>
          <p:nvPr/>
        </p:nvSpPr>
        <p:spPr>
          <a:xfrm>
            <a:off x="1946160" y="2749680"/>
            <a:ext cx="432000" cy="27288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32"/>
          <p:cNvSpPr/>
          <p:nvPr/>
        </p:nvSpPr>
        <p:spPr>
          <a:xfrm>
            <a:off x="179280" y="1090440"/>
            <a:ext cx="302436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73528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本月质量分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826920" y="1979280"/>
            <a:ext cx="3043440" cy="15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添加文本单击添加文本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–"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839880" y="4257360"/>
            <a:ext cx="3155760" cy="14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>
              <a:lnSpc>
                <a:spcPct val="120000"/>
              </a:lnSpc>
              <a:spcBef>
                <a:spcPts val="400"/>
              </a:spcBef>
              <a:buClr>
                <a:srgbClr val="c11103"/>
              </a:buClr>
              <a:buSzPct val="60000"/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新装满意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修障满意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c11103"/>
              </a:buClr>
              <a:buSzPct val="60000"/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00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投诉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大客户故障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c11103"/>
              </a:buClr>
              <a:buSzPct val="60000"/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大面积故障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c11103"/>
              </a:buClr>
              <a:buSzPct val="60000"/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小组内部横向比较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5238720" y="1989000"/>
            <a:ext cx="3006720" cy="14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−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添加文本单击添加文本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−"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25"/>
          <p:cNvSpPr/>
          <p:nvPr/>
        </p:nvSpPr>
        <p:spPr>
          <a:xfrm>
            <a:off x="2229480" y="38876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本月装机、修障满意度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26"/>
          <p:cNvSpPr/>
          <p:nvPr/>
        </p:nvSpPr>
        <p:spPr>
          <a:xfrm>
            <a:off x="1165680" y="1619280"/>
            <a:ext cx="12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本月代维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27"/>
          <p:cNvSpPr/>
          <p:nvPr/>
        </p:nvSpPr>
        <p:spPr>
          <a:xfrm>
            <a:off x="5424840" y="1628640"/>
            <a:ext cx="10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专项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占位符 3"/>
          <p:cNvSpPr/>
          <p:nvPr/>
        </p:nvSpPr>
        <p:spPr>
          <a:xfrm>
            <a:off x="5232240" y="4246560"/>
            <a:ext cx="294012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本单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11"/>
          <p:cNvSpPr/>
          <p:nvPr/>
        </p:nvSpPr>
        <p:spPr>
          <a:xfrm>
            <a:off x="5417640" y="3886200"/>
            <a:ext cx="10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网优网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871280" y="1773000"/>
            <a:ext cx="237492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1869840" y="3860280"/>
            <a:ext cx="23778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0" name=""/>
          <p:cNvGraphicFramePr/>
          <p:nvPr/>
        </p:nvGraphicFramePr>
        <p:xfrm>
          <a:off x="4895640" y="1773000"/>
          <a:ext cx="2376360" cy="1439640"/>
        </p:xfrm>
        <a:graphic>
          <a:graphicData uri="http://schemas.openxmlformats.org/drawingml/2006/table"/>
        </a:graphic>
      </p:graphicFrame>
      <p:sp>
        <p:nvSpPr>
          <p:cNvPr id="741" name=""/>
          <p:cNvSpPr txBox="1"/>
          <p:nvPr/>
        </p:nvSpPr>
        <p:spPr>
          <a:xfrm>
            <a:off x="4878000" y="3860280"/>
            <a:ext cx="241308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8"/>
          <p:cNvSpPr/>
          <p:nvPr/>
        </p:nvSpPr>
        <p:spPr>
          <a:xfrm>
            <a:off x="3260520" y="692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装机满意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4:01:51Z</dcterms:created>
  <dc:creator>Administrator</dc:creator>
  <dc:description/>
  <cp:keywords/>
  <dc:language>en-US</dc:language>
  <cp:lastModifiedBy>Administrator</cp:lastModifiedBy>
  <cp:lastPrinted>1899-12-30T00:00:00Z</cp:lastPrinted>
  <dcterms:modified xsi:type="dcterms:W3CDTF">2015-03-02T06:39:36Z</dcterms:modified>
  <cp:revision>37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