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30.png" ContentType="image/png"/>
  <Override PartName="/ppt/media/image42.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73A4-E98A-4C96-A3B5-48F07E0DA4D7}" type="datetime">
              <a:rPr b="0" lang="zh-CN" sz="1200" spc="-1" strike="noStrike">
                <a:solidFill>
                  <a:srgbClr val="000000"/>
                </a:solidFill>
                <a:latin typeface="Calibri"/>
              </a:rPr>
              <a:t>26/7/29</a:t>
            </a:fld>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680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7B41-746D-4E12-BB7C-D3BBD9BD218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409680" y="754200"/>
            <a:ext cx="5854680" cy="3294000"/>
          </a:xfrm>
          <a:prstGeom prst="rect">
            <a:avLst/>
          </a:prstGeom>
          <a:ln w="0">
            <a:noFill/>
          </a:ln>
        </p:spPr>
      </p:sp>
      <p:sp>
        <p:nvSpPr>
          <p:cNvPr id="877"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封面页（背景蓝</a:t>
            </a:r>
            <a:r>
              <a:rPr b="0" lang="zh-CN" sz="1200" spc="-1" strike="noStrike">
                <a:solidFill>
                  <a:srgbClr val="000000"/>
                </a:solidFill>
                <a:latin typeface="Calibri"/>
              </a:rPr>
              <a:t>jpg</a:t>
            </a:r>
            <a:r>
              <a:rPr b="0" lang="zh-CN" sz="1200" spc="-1" strike="noStrike">
                <a:solidFill>
                  <a:srgbClr val="000000"/>
                </a:solidFill>
                <a:latin typeface="Calibri"/>
              </a:rPr>
              <a:t>、云朵</a:t>
            </a:r>
            <a:r>
              <a:rPr b="0" lang="zh-CN" sz="1200" spc="-1" strike="noStrike">
                <a:solidFill>
                  <a:srgbClr val="000000"/>
                </a:solidFill>
                <a:latin typeface="Calibri"/>
              </a:rPr>
              <a:t>png</a:t>
            </a:r>
            <a:r>
              <a:rPr b="0" lang="zh-CN" sz="1200" spc="-1" strike="noStrike">
                <a:solidFill>
                  <a:srgbClr val="000000"/>
                </a:solidFill>
                <a:latin typeface="Calibri"/>
              </a:rPr>
              <a:t>、云朵和文字有动画）</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404640" y="749160"/>
            <a:ext cx="5855040" cy="3294360"/>
          </a:xfrm>
          <a:prstGeom prst="rect">
            <a:avLst/>
          </a:prstGeom>
          <a:ln w="0">
            <a:noFill/>
          </a:ln>
        </p:spPr>
      </p:sp>
      <p:sp>
        <p:nvSpPr>
          <p:cNvPr id="895"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404640" y="749160"/>
            <a:ext cx="5855040" cy="3294360"/>
          </a:xfrm>
          <a:prstGeom prst="rect">
            <a:avLst/>
          </a:prstGeom>
          <a:ln w="0">
            <a:noFill/>
          </a:ln>
        </p:spPr>
      </p:sp>
      <p:sp>
        <p:nvSpPr>
          <p:cNvPr id="897"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404640" y="749160"/>
            <a:ext cx="5855040" cy="3294360"/>
          </a:xfrm>
          <a:prstGeom prst="rect">
            <a:avLst/>
          </a:prstGeom>
          <a:ln w="0">
            <a:noFill/>
          </a:ln>
        </p:spPr>
      </p:sp>
      <p:sp>
        <p:nvSpPr>
          <p:cNvPr id="899"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407880" y="752400"/>
            <a:ext cx="5854680" cy="3294000"/>
          </a:xfrm>
          <a:prstGeom prst="rect">
            <a:avLst/>
          </a:prstGeom>
          <a:ln w="0">
            <a:noFill/>
          </a:ln>
        </p:spPr>
      </p:sp>
      <p:sp>
        <p:nvSpPr>
          <p:cNvPr id="901"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404640" y="749160"/>
            <a:ext cx="5855040" cy="3294360"/>
          </a:xfrm>
          <a:prstGeom prst="rect">
            <a:avLst/>
          </a:prstGeom>
          <a:ln w="0">
            <a:noFill/>
          </a:ln>
        </p:spPr>
      </p:sp>
      <p:sp>
        <p:nvSpPr>
          <p:cNvPr id="903"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403200" y="749160"/>
            <a:ext cx="5854680" cy="3292560"/>
          </a:xfrm>
          <a:prstGeom prst="rect">
            <a:avLst/>
          </a:prstGeom>
          <a:ln w="0">
            <a:noFill/>
          </a:ln>
        </p:spPr>
      </p:sp>
      <p:sp>
        <p:nvSpPr>
          <p:cNvPr id="905"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404640" y="749160"/>
            <a:ext cx="5855040" cy="3294360"/>
          </a:xfrm>
          <a:prstGeom prst="rect">
            <a:avLst/>
          </a:prstGeom>
          <a:ln w="0">
            <a:noFill/>
          </a:ln>
        </p:spPr>
      </p:sp>
      <p:sp>
        <p:nvSpPr>
          <p:cNvPr id="907"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404640" y="749160"/>
            <a:ext cx="5855040" cy="3294360"/>
          </a:xfrm>
          <a:prstGeom prst="rect">
            <a:avLst/>
          </a:prstGeom>
          <a:ln w="0">
            <a:noFill/>
          </a:ln>
        </p:spPr>
      </p:sp>
      <p:sp>
        <p:nvSpPr>
          <p:cNvPr id="909"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403200" y="749160"/>
            <a:ext cx="5854680" cy="3292560"/>
          </a:xfrm>
          <a:prstGeom prst="rect">
            <a:avLst/>
          </a:prstGeom>
          <a:ln w="0">
            <a:noFill/>
          </a:ln>
        </p:spPr>
      </p:sp>
      <p:sp>
        <p:nvSpPr>
          <p:cNvPr id="911"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403200" y="747720"/>
            <a:ext cx="5854680" cy="3294000"/>
          </a:xfrm>
          <a:prstGeom prst="rect">
            <a:avLst/>
          </a:prstGeom>
          <a:ln w="0">
            <a:noFill/>
          </a:ln>
        </p:spPr>
      </p:sp>
      <p:sp>
        <p:nvSpPr>
          <p:cNvPr id="913"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409680" y="754200"/>
            <a:ext cx="5854680" cy="3294000"/>
          </a:xfrm>
          <a:prstGeom prst="rect">
            <a:avLst/>
          </a:prstGeom>
          <a:ln w="0">
            <a:noFill/>
          </a:ln>
        </p:spPr>
      </p:sp>
      <p:sp>
        <p:nvSpPr>
          <p:cNvPr id="879"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目录页，浅灰色的没有链接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403200" y="747720"/>
            <a:ext cx="5854680" cy="3294000"/>
          </a:xfrm>
          <a:prstGeom prst="rect">
            <a:avLst/>
          </a:prstGeom>
          <a:ln w="0">
            <a:noFill/>
          </a:ln>
        </p:spPr>
      </p:sp>
      <p:sp>
        <p:nvSpPr>
          <p:cNvPr id="915"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401760" y="746280"/>
            <a:ext cx="5854680" cy="3294000"/>
          </a:xfrm>
          <a:prstGeom prst="rect">
            <a:avLst/>
          </a:prstGeom>
          <a:ln w="0">
            <a:noFill/>
          </a:ln>
        </p:spPr>
      </p:sp>
      <p:sp>
        <p:nvSpPr>
          <p:cNvPr id="917"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401760" y="746280"/>
            <a:ext cx="5854680" cy="3294000"/>
          </a:xfrm>
          <a:prstGeom prst="rect">
            <a:avLst/>
          </a:prstGeom>
          <a:ln w="0">
            <a:noFill/>
          </a:ln>
        </p:spPr>
      </p:sp>
      <p:sp>
        <p:nvSpPr>
          <p:cNvPr id="919"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404640" y="749160"/>
            <a:ext cx="5855040" cy="3294360"/>
          </a:xfrm>
          <a:prstGeom prst="rect">
            <a:avLst/>
          </a:prstGeom>
          <a:ln w="0">
            <a:noFill/>
          </a:ln>
        </p:spPr>
      </p:sp>
      <p:sp>
        <p:nvSpPr>
          <p:cNvPr id="921"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403200" y="749160"/>
            <a:ext cx="5854680" cy="3292560"/>
          </a:xfrm>
          <a:prstGeom prst="rect">
            <a:avLst/>
          </a:prstGeom>
          <a:ln w="0">
            <a:noFill/>
          </a:ln>
        </p:spPr>
      </p:sp>
      <p:sp>
        <p:nvSpPr>
          <p:cNvPr id="923"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403200" y="747720"/>
            <a:ext cx="5854680" cy="3294000"/>
          </a:xfrm>
          <a:prstGeom prst="rect">
            <a:avLst/>
          </a:prstGeom>
          <a:ln w="0">
            <a:noFill/>
          </a:ln>
        </p:spPr>
      </p:sp>
      <p:sp>
        <p:nvSpPr>
          <p:cNvPr id="925"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403200" y="747720"/>
            <a:ext cx="5854680" cy="3294000"/>
          </a:xfrm>
          <a:prstGeom prst="rect">
            <a:avLst/>
          </a:prstGeom>
          <a:ln w="0">
            <a:noFill/>
          </a:ln>
        </p:spPr>
      </p:sp>
      <p:sp>
        <p:nvSpPr>
          <p:cNvPr id="927"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403200" y="747720"/>
            <a:ext cx="5854680" cy="3294000"/>
          </a:xfrm>
          <a:prstGeom prst="rect">
            <a:avLst/>
          </a:prstGeom>
          <a:ln w="0">
            <a:noFill/>
          </a:ln>
        </p:spPr>
      </p:sp>
      <p:sp>
        <p:nvSpPr>
          <p:cNvPr id="929"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403200" y="747720"/>
            <a:ext cx="5854680" cy="3294000"/>
          </a:xfrm>
          <a:prstGeom prst="rect">
            <a:avLst/>
          </a:prstGeom>
          <a:ln w="0">
            <a:noFill/>
          </a:ln>
        </p:spPr>
      </p:sp>
      <p:sp>
        <p:nvSpPr>
          <p:cNvPr id="931"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403200" y="747720"/>
            <a:ext cx="5854680" cy="3294000"/>
          </a:xfrm>
          <a:prstGeom prst="rect">
            <a:avLst/>
          </a:prstGeom>
          <a:ln w="0">
            <a:noFill/>
          </a:ln>
        </p:spPr>
      </p:sp>
      <p:sp>
        <p:nvSpPr>
          <p:cNvPr id="933"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409680" y="754200"/>
            <a:ext cx="5854680" cy="3294000"/>
          </a:xfrm>
          <a:prstGeom prst="rect">
            <a:avLst/>
          </a:prstGeom>
          <a:ln w="0">
            <a:noFill/>
          </a:ln>
        </p:spPr>
      </p:sp>
      <p:sp>
        <p:nvSpPr>
          <p:cNvPr id="881"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407880" y="752400"/>
            <a:ext cx="5854680" cy="3294000"/>
          </a:xfrm>
          <a:prstGeom prst="rect">
            <a:avLst/>
          </a:prstGeom>
          <a:ln w="0">
            <a:noFill/>
          </a:ln>
        </p:spPr>
      </p:sp>
      <p:sp>
        <p:nvSpPr>
          <p:cNvPr id="935"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403200" y="749160"/>
            <a:ext cx="5854680" cy="3292560"/>
          </a:xfrm>
          <a:prstGeom prst="rect">
            <a:avLst/>
          </a:prstGeom>
          <a:ln w="0">
            <a:noFill/>
          </a:ln>
        </p:spPr>
      </p:sp>
      <p:sp>
        <p:nvSpPr>
          <p:cNvPr id="937"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404640" y="749160"/>
            <a:ext cx="5855040" cy="3294360"/>
          </a:xfrm>
          <a:prstGeom prst="rect">
            <a:avLst/>
          </a:prstGeom>
          <a:ln w="0">
            <a:noFill/>
          </a:ln>
        </p:spPr>
      </p:sp>
      <p:sp>
        <p:nvSpPr>
          <p:cNvPr id="939"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404640" y="749160"/>
            <a:ext cx="5855040" cy="3294360"/>
          </a:xfrm>
          <a:prstGeom prst="rect">
            <a:avLst/>
          </a:prstGeom>
          <a:ln w="0">
            <a:noFill/>
          </a:ln>
        </p:spPr>
      </p:sp>
      <p:sp>
        <p:nvSpPr>
          <p:cNvPr id="941"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404640" y="749160"/>
            <a:ext cx="5855040" cy="3294360"/>
          </a:xfrm>
          <a:prstGeom prst="rect">
            <a:avLst/>
          </a:prstGeom>
          <a:ln w="0">
            <a:noFill/>
          </a:ln>
        </p:spPr>
      </p:sp>
      <p:sp>
        <p:nvSpPr>
          <p:cNvPr id="943"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404640" y="749160"/>
            <a:ext cx="5855040" cy="3294360"/>
          </a:xfrm>
          <a:prstGeom prst="rect">
            <a:avLst/>
          </a:prstGeom>
          <a:ln w="0">
            <a:noFill/>
          </a:ln>
        </p:spPr>
      </p:sp>
      <p:sp>
        <p:nvSpPr>
          <p:cNvPr id="945"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407880" y="752400"/>
            <a:ext cx="5854680" cy="3294000"/>
          </a:xfrm>
          <a:prstGeom prst="rect">
            <a:avLst/>
          </a:prstGeom>
          <a:ln w="0">
            <a:noFill/>
          </a:ln>
        </p:spPr>
      </p:sp>
      <p:sp>
        <p:nvSpPr>
          <p:cNvPr id="947"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401760" y="746280"/>
            <a:ext cx="5854680" cy="3294000"/>
          </a:xfrm>
          <a:prstGeom prst="rect">
            <a:avLst/>
          </a:prstGeom>
          <a:ln w="0">
            <a:noFill/>
          </a:ln>
        </p:spPr>
      </p:sp>
      <p:sp>
        <p:nvSpPr>
          <p:cNvPr id="949"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401760" y="746280"/>
            <a:ext cx="5854680" cy="3294000"/>
          </a:xfrm>
          <a:prstGeom prst="rect">
            <a:avLst/>
          </a:prstGeom>
          <a:ln w="0">
            <a:noFill/>
          </a:ln>
        </p:spPr>
      </p:sp>
      <p:sp>
        <p:nvSpPr>
          <p:cNvPr id="951"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401760" y="746280"/>
            <a:ext cx="5854680" cy="3294000"/>
          </a:xfrm>
          <a:prstGeom prst="rect">
            <a:avLst/>
          </a:prstGeom>
          <a:ln w="0">
            <a:noFill/>
          </a:ln>
        </p:spPr>
      </p:sp>
      <p:sp>
        <p:nvSpPr>
          <p:cNvPr id="953"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407880" y="752400"/>
            <a:ext cx="5854680" cy="3294000"/>
          </a:xfrm>
          <a:prstGeom prst="rect">
            <a:avLst/>
          </a:prstGeom>
          <a:ln w="0">
            <a:noFill/>
          </a:ln>
        </p:spPr>
      </p:sp>
      <p:sp>
        <p:nvSpPr>
          <p:cNvPr id="883"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399960" y="746280"/>
            <a:ext cx="5854680" cy="3292200"/>
          </a:xfrm>
          <a:prstGeom prst="rect">
            <a:avLst/>
          </a:prstGeom>
          <a:ln w="0">
            <a:noFill/>
          </a:ln>
        </p:spPr>
      </p:sp>
      <p:sp>
        <p:nvSpPr>
          <p:cNvPr id="955" name="PlaceHolder 2"/>
          <p:cNvSpPr>
            <a:spLocks noGrp="1"/>
          </p:cNvSpPr>
          <p:nvPr>
            <p:ph type="body"/>
          </p:nvPr>
        </p:nvSpPr>
        <p:spPr>
          <a:xfrm>
            <a:off x="529920" y="437832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399960" y="744480"/>
            <a:ext cx="5854680" cy="3294000"/>
          </a:xfrm>
          <a:prstGeom prst="rect">
            <a:avLst/>
          </a:prstGeom>
          <a:ln w="0">
            <a:noFill/>
          </a:ln>
        </p:spPr>
      </p:sp>
      <p:sp>
        <p:nvSpPr>
          <p:cNvPr id="957" name="PlaceHolder 2"/>
          <p:cNvSpPr>
            <a:spLocks noGrp="1"/>
          </p:cNvSpPr>
          <p:nvPr>
            <p:ph type="body"/>
          </p:nvPr>
        </p:nvSpPr>
        <p:spPr>
          <a:xfrm>
            <a:off x="528480" y="437832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399960" y="744480"/>
            <a:ext cx="5854680" cy="3294000"/>
          </a:xfrm>
          <a:prstGeom prst="rect">
            <a:avLst/>
          </a:prstGeom>
          <a:ln w="0">
            <a:noFill/>
          </a:ln>
        </p:spPr>
      </p:sp>
      <p:sp>
        <p:nvSpPr>
          <p:cNvPr id="959" name="PlaceHolder 2"/>
          <p:cNvSpPr>
            <a:spLocks noGrp="1"/>
          </p:cNvSpPr>
          <p:nvPr>
            <p:ph type="body"/>
          </p:nvPr>
        </p:nvSpPr>
        <p:spPr>
          <a:xfrm>
            <a:off x="528480" y="437832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407880" y="752400"/>
            <a:ext cx="5854680" cy="3294000"/>
          </a:xfrm>
          <a:prstGeom prst="rect">
            <a:avLst/>
          </a:prstGeom>
          <a:ln w="0">
            <a:noFill/>
          </a:ln>
        </p:spPr>
      </p:sp>
      <p:sp>
        <p:nvSpPr>
          <p:cNvPr id="885"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406440" y="752400"/>
            <a:ext cx="5854680" cy="3292560"/>
          </a:xfrm>
          <a:prstGeom prst="rect">
            <a:avLst/>
          </a:prstGeom>
          <a:ln w="0">
            <a:noFill/>
          </a:ln>
        </p:spPr>
      </p:sp>
      <p:sp>
        <p:nvSpPr>
          <p:cNvPr id="887" name="PlaceHolder 2"/>
          <p:cNvSpPr>
            <a:spLocks noGrp="1"/>
          </p:cNvSpPr>
          <p:nvPr>
            <p:ph type="body"/>
          </p:nvPr>
        </p:nvSpPr>
        <p:spPr>
          <a:xfrm>
            <a:off x="536400" y="4384800"/>
            <a:ext cx="577872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407880" y="752400"/>
            <a:ext cx="5854680" cy="3294000"/>
          </a:xfrm>
          <a:prstGeom prst="rect">
            <a:avLst/>
          </a:prstGeom>
          <a:ln w="0">
            <a:noFill/>
          </a:ln>
        </p:spPr>
      </p:sp>
      <p:sp>
        <p:nvSpPr>
          <p:cNvPr id="889"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406440" y="750960"/>
            <a:ext cx="5854680" cy="3294000"/>
          </a:xfrm>
          <a:prstGeom prst="rect">
            <a:avLst/>
          </a:prstGeom>
          <a:ln w="0">
            <a:noFill/>
          </a:ln>
        </p:spPr>
      </p:sp>
      <p:sp>
        <p:nvSpPr>
          <p:cNvPr id="891" name="PlaceHolder 2"/>
          <p:cNvSpPr>
            <a:spLocks noGrp="1"/>
          </p:cNvSpPr>
          <p:nvPr>
            <p:ph type="body"/>
          </p:nvPr>
        </p:nvSpPr>
        <p:spPr>
          <a:xfrm>
            <a:off x="534960" y="438480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406440" y="750960"/>
            <a:ext cx="5854680" cy="3294000"/>
          </a:xfrm>
          <a:prstGeom prst="rect">
            <a:avLst/>
          </a:prstGeom>
          <a:ln w="0">
            <a:noFill/>
          </a:ln>
        </p:spPr>
      </p:sp>
      <p:sp>
        <p:nvSpPr>
          <p:cNvPr id="893" name="PlaceHolder 2"/>
          <p:cNvSpPr>
            <a:spLocks noGrp="1"/>
          </p:cNvSpPr>
          <p:nvPr>
            <p:ph type="body"/>
          </p:nvPr>
        </p:nvSpPr>
        <p:spPr>
          <a:xfrm>
            <a:off x="534960" y="438480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1BE38-7F0B-4364-AB5E-80BAEF417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D4612-3495-47A5-A10A-CE4FAE199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9F521-E8FA-486E-BFCC-764A3AC90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5BEF1-2823-40BE-9007-85899B65D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6B0C1-3F6C-41C7-8F19-5669214D4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03847-A143-4003-87F2-34B33761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A6E38-24AC-4F44-A9B5-5D588849C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B2598-5FA9-4C85-A901-80BFE6B77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E6AC1-99B5-4039-B70A-872BFC307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5F518-6A38-46DE-B351-88D5D436C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45FA-1DDC-438F-AF67-45F119A24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FD00-CFE1-410B-9B7E-8B936BBBD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6C7D-FBC7-4DF6-B9A5-47E6D56D09C1}" type="datetime">
              <a:rPr b="0" lang="zh-CN" sz="1200" spc="-1" strike="noStrike">
                <a:solidFill>
                  <a:srgbClr val="898989"/>
                </a:solidFill>
                <a:latin typeface="Calibri"/>
              </a:rPr>
              <a:t>26/7/29</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12BE-7293-4D1E-92A9-214A1F68550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4.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15.xml"/><Relationship Id="rId16" Type="http://schemas.openxmlformats.org/officeDocument/2006/relationships/image" Target="../media/image8.png"/><Relationship Id="rId17" Type="http://schemas.openxmlformats.org/officeDocument/2006/relationships/slide" Target="slide17.xml"/><Relationship Id="rId18" Type="http://schemas.openxmlformats.org/officeDocument/2006/relationships/image" Target="../media/image8.png"/><Relationship Id="rId19" Type="http://schemas.openxmlformats.org/officeDocument/2006/relationships/slide" Target="slide23.xml"/><Relationship Id="rId20" Type="http://schemas.openxmlformats.org/officeDocument/2006/relationships/image" Target="../media/image8.png"/><Relationship Id="rId21" Type="http://schemas.openxmlformats.org/officeDocument/2006/relationships/slide" Target="slide40.xml"/><Relationship Id="rId22" Type="http://schemas.openxmlformats.org/officeDocument/2006/relationships/image" Target="../media/image16.png"/><Relationship Id="rId23" Type="http://schemas.openxmlformats.org/officeDocument/2006/relationships/slide" Target="slide13.xml"/><Relationship Id="rId24" Type="http://schemas.openxmlformats.org/officeDocument/2006/relationships/image" Target="../media/image11.png"/><Relationship Id="rId25" Type="http://schemas.openxmlformats.org/officeDocument/2006/relationships/slide" Target="slide2.xml"/><Relationship Id="rId26" Type="http://schemas.openxmlformats.org/officeDocument/2006/relationships/image" Target="../media/image11.png"/><Relationship Id="rId27" Type="http://schemas.openxmlformats.org/officeDocument/2006/relationships/slideLayout" Target="../slideLayouts/slideLayout1.xml"/><Relationship Id="rId2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31.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13.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18.xml"/><Relationship Id="rId11" Type="http://schemas.openxmlformats.org/officeDocument/2006/relationships/image" Target="../media/image21.png"/><Relationship Id="rId12" Type="http://schemas.openxmlformats.org/officeDocument/2006/relationships/slide" Target="slide19.xml"/><Relationship Id="rId13" Type="http://schemas.openxmlformats.org/officeDocument/2006/relationships/image" Target="../media/image21.png"/><Relationship Id="rId14" Type="http://schemas.openxmlformats.org/officeDocument/2006/relationships/slide" Target="slide20.xml"/><Relationship Id="rId15" Type="http://schemas.openxmlformats.org/officeDocument/2006/relationships/image" Target="../media/image21.png"/><Relationship Id="rId16" Type="http://schemas.openxmlformats.org/officeDocument/2006/relationships/slide" Target="slide21.xml"/><Relationship Id="rId17" Type="http://schemas.openxmlformats.org/officeDocument/2006/relationships/image" Target="../media/image21.png"/><Relationship Id="rId18" Type="http://schemas.openxmlformats.org/officeDocument/2006/relationships/slide" Target="slide22.xml"/><Relationship Id="rId19" Type="http://schemas.openxmlformats.org/officeDocument/2006/relationships/image" Target="../media/image21.png"/><Relationship Id="rId20" Type="http://schemas.openxmlformats.org/officeDocument/2006/relationships/slide" Target="slide40.xml"/><Relationship Id="rId21" Type="http://schemas.openxmlformats.org/officeDocument/2006/relationships/image" Target="../media/image16.png"/><Relationship Id="rId22" Type="http://schemas.openxmlformats.org/officeDocument/2006/relationships/slide" Target="slide13.xml"/><Relationship Id="rId23" Type="http://schemas.openxmlformats.org/officeDocument/2006/relationships/image" Target="../media/image11.png"/><Relationship Id="rId24" Type="http://schemas.openxmlformats.org/officeDocument/2006/relationships/slide" Target="slide2.xml"/><Relationship Id="rId25" Type="http://schemas.openxmlformats.org/officeDocument/2006/relationships/image" Target="../media/image11.png"/><Relationship Id="rId26" Type="http://schemas.openxmlformats.org/officeDocument/2006/relationships/slideLayout" Target="../slideLayouts/slideLayout1.xml"/><Relationship Id="rId2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17.xml"/><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32.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13.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3.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3.xml"/><Relationship Id="rId6" Type="http://schemas.openxmlformats.org/officeDocument/2006/relationships/image" Target="../media/image7.png"/><Relationship Id="rId7" Type="http://schemas.openxmlformats.org/officeDocument/2006/relationships/slide" Target="slide3.xml"/><Relationship Id="rId8" Type="http://schemas.openxmlformats.org/officeDocument/2006/relationships/image" Target="../media/image7.png"/><Relationship Id="rId9" Type="http://schemas.openxmlformats.org/officeDocument/2006/relationships/slide" Target="slide7.xml"/><Relationship Id="rId10" Type="http://schemas.openxmlformats.org/officeDocument/2006/relationships/image" Target="../media/image7.png"/><Relationship Id="rId11" Type="http://schemas.openxmlformats.org/officeDocument/2006/relationships/slide" Target="slide30.xml"/><Relationship Id="rId12" Type="http://schemas.openxmlformats.org/officeDocument/2006/relationships/image" Target="../media/image7.png"/><Relationship Id="rId13" Type="http://schemas.openxmlformats.org/officeDocument/2006/relationships/slide" Target="slide36.xml"/><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slide" Target="slide14.xml"/><Relationship Id="rId17" Type="http://schemas.openxmlformats.org/officeDocument/2006/relationships/image" Target="../media/image8.png"/><Relationship Id="rId18" Type="http://schemas.openxmlformats.org/officeDocument/2006/relationships/slide" Target="slide15.xml"/><Relationship Id="rId19" Type="http://schemas.openxmlformats.org/officeDocument/2006/relationships/image" Target="../media/image8.png"/><Relationship Id="rId20" Type="http://schemas.openxmlformats.org/officeDocument/2006/relationships/slide" Target="slide17.xml"/><Relationship Id="rId21" Type="http://schemas.openxmlformats.org/officeDocument/2006/relationships/image" Target="../media/image8.png"/><Relationship Id="rId22" Type="http://schemas.openxmlformats.org/officeDocument/2006/relationships/slide" Target="slide23.xml"/><Relationship Id="rId23" Type="http://schemas.openxmlformats.org/officeDocument/2006/relationships/image" Target="../media/image8.png"/><Relationship Id="rId24" Type="http://schemas.openxmlformats.org/officeDocument/2006/relationships/slide" Target="slide4.xml"/><Relationship Id="rId25" Type="http://schemas.openxmlformats.org/officeDocument/2006/relationships/image" Target="../media/image8.png"/><Relationship Id="rId26" Type="http://schemas.openxmlformats.org/officeDocument/2006/relationships/slide" Target="slide5.xml"/><Relationship Id="rId27" Type="http://schemas.openxmlformats.org/officeDocument/2006/relationships/image" Target="../media/image8.png"/><Relationship Id="rId28" Type="http://schemas.openxmlformats.org/officeDocument/2006/relationships/slide" Target="slide6.xml"/><Relationship Id="rId29" Type="http://schemas.openxmlformats.org/officeDocument/2006/relationships/image" Target="../media/image8.png"/><Relationship Id="rId30" Type="http://schemas.openxmlformats.org/officeDocument/2006/relationships/slide" Target="slide8.xml"/><Relationship Id="rId31" Type="http://schemas.openxmlformats.org/officeDocument/2006/relationships/image" Target="../media/image8.png"/><Relationship Id="rId32" Type="http://schemas.openxmlformats.org/officeDocument/2006/relationships/slide" Target="slide9.xml"/><Relationship Id="rId33" Type="http://schemas.openxmlformats.org/officeDocument/2006/relationships/image" Target="../media/image8.png"/><Relationship Id="rId34" Type="http://schemas.openxmlformats.org/officeDocument/2006/relationships/slide" Target="slide31.xml"/><Relationship Id="rId35" Type="http://schemas.openxmlformats.org/officeDocument/2006/relationships/image" Target="../media/image8.png"/><Relationship Id="rId36" Type="http://schemas.openxmlformats.org/officeDocument/2006/relationships/slide" Target="slide32.xml"/><Relationship Id="rId37" Type="http://schemas.openxmlformats.org/officeDocument/2006/relationships/image" Target="../media/image8.png"/><Relationship Id="rId38" Type="http://schemas.openxmlformats.org/officeDocument/2006/relationships/slide" Target="slide37.xml"/><Relationship Id="rId39" Type="http://schemas.openxmlformats.org/officeDocument/2006/relationships/image" Target="../media/image8.png"/><Relationship Id="rId40" Type="http://schemas.openxmlformats.org/officeDocument/2006/relationships/slide" Target="slide38.xml"/><Relationship Id="rId41" Type="http://schemas.openxmlformats.org/officeDocument/2006/relationships/image" Target="../media/image8.png"/><Relationship Id="rId42" Type="http://schemas.openxmlformats.org/officeDocument/2006/relationships/slide" Target="slide39.xml"/><Relationship Id="rId43" Type="http://schemas.openxmlformats.org/officeDocument/2006/relationships/image" Target="../media/image9.png"/><Relationship Id="rId44" Type="http://schemas.openxmlformats.org/officeDocument/2006/relationships/image" Target="../media/image10.png"/><Relationship Id="rId45" Type="http://schemas.openxmlformats.org/officeDocument/2006/relationships/slide" Target="slide2.xml"/><Relationship Id="rId46" Type="http://schemas.openxmlformats.org/officeDocument/2006/relationships/image" Target="../media/image11.png"/><Relationship Id="rId47" Type="http://schemas.openxmlformats.org/officeDocument/2006/relationships/image" Target="../media/image12.png"/><Relationship Id="rId48" Type="http://schemas.openxmlformats.org/officeDocument/2006/relationships/image" Target="../media/image12.png"/><Relationship Id="rId49" Type="http://schemas.openxmlformats.org/officeDocument/2006/relationships/image" Target="../media/image13.png"/><Relationship Id="rId50" Type="http://schemas.openxmlformats.org/officeDocument/2006/relationships/image" Target="../media/image14.png"/><Relationship Id="rId51" Type="http://schemas.openxmlformats.org/officeDocument/2006/relationships/image" Target="../media/image15.png"/><Relationship Id="rId52" Type="http://schemas.openxmlformats.org/officeDocument/2006/relationships/slide" Target="slide40.xml"/><Relationship Id="rId53" Type="http://schemas.openxmlformats.org/officeDocument/2006/relationships/image" Target="../media/image16.png"/><Relationship Id="rId54" Type="http://schemas.openxmlformats.org/officeDocument/2006/relationships/image" Target="../media/image17.png"/><Relationship Id="rId55" Type="http://schemas.openxmlformats.org/officeDocument/2006/relationships/slideLayout" Target="../slideLayouts/slideLayout1.xml"/><Relationship Id="rId5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4.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17.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24.xml"/><Relationship Id="rId11" Type="http://schemas.openxmlformats.org/officeDocument/2006/relationships/image" Target="../media/image21.png"/><Relationship Id="rId12" Type="http://schemas.openxmlformats.org/officeDocument/2006/relationships/slide" Target="slide25.xml"/><Relationship Id="rId13" Type="http://schemas.openxmlformats.org/officeDocument/2006/relationships/image" Target="../media/image21.png"/><Relationship Id="rId14" Type="http://schemas.openxmlformats.org/officeDocument/2006/relationships/slide" Target="slide26.xml"/><Relationship Id="rId15" Type="http://schemas.openxmlformats.org/officeDocument/2006/relationships/image" Target="../media/image21.png"/><Relationship Id="rId16" Type="http://schemas.openxmlformats.org/officeDocument/2006/relationships/slide" Target="slide28.xml"/><Relationship Id="rId17" Type="http://schemas.openxmlformats.org/officeDocument/2006/relationships/image" Target="../media/image21.png"/><Relationship Id="rId18" Type="http://schemas.openxmlformats.org/officeDocument/2006/relationships/slide" Target="slide29.xml"/><Relationship Id="rId19" Type="http://schemas.openxmlformats.org/officeDocument/2006/relationships/image" Target="../media/image21.png"/><Relationship Id="rId20" Type="http://schemas.openxmlformats.org/officeDocument/2006/relationships/slide" Target="slide40.xml"/><Relationship Id="rId21" Type="http://schemas.openxmlformats.org/officeDocument/2006/relationships/image" Target="../media/image16.png"/><Relationship Id="rId22" Type="http://schemas.openxmlformats.org/officeDocument/2006/relationships/slide" Target="slide13.xml"/><Relationship Id="rId23" Type="http://schemas.openxmlformats.org/officeDocument/2006/relationships/image" Target="../media/image11.png"/><Relationship Id="rId24" Type="http://schemas.openxmlformats.org/officeDocument/2006/relationships/slide" Target="slide2.xml"/><Relationship Id="rId25" Type="http://schemas.openxmlformats.org/officeDocument/2006/relationships/image" Target="../media/image11.png"/><Relationship Id="rId26" Type="http://schemas.openxmlformats.org/officeDocument/2006/relationships/slideLayout" Target="../slideLayouts/slideLayout1.xml"/><Relationship Id="rId2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23.xml"/><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13.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3.png"/><Relationship Id="rId12" Type="http://schemas.openxmlformats.org/officeDocument/2006/relationships/image" Target="../media/image19.png"/><Relationship Id="rId13" Type="http://schemas.openxmlformats.org/officeDocument/2006/relationships/image" Target="../media/image7.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slide" Target="slide40.xml"/><Relationship Id="rId17" Type="http://schemas.openxmlformats.org/officeDocument/2006/relationships/image" Target="../media/image16.png"/><Relationship Id="rId18" Type="http://schemas.openxmlformats.org/officeDocument/2006/relationships/slide" Target="slide5.xml"/><Relationship Id="rId19" Type="http://schemas.openxmlformats.org/officeDocument/2006/relationships/image" Target="../media/image8.png"/><Relationship Id="rId20" Type="http://schemas.openxmlformats.org/officeDocument/2006/relationships/slide" Target="slide6.xml"/><Relationship Id="rId21" Type="http://schemas.openxmlformats.org/officeDocument/2006/relationships/image" Target="../media/image8.png"/><Relationship Id="rId22" Type="http://schemas.openxmlformats.org/officeDocument/2006/relationships/slide" Target="slide2.xml"/><Relationship Id="rId23" Type="http://schemas.openxmlformats.org/officeDocument/2006/relationships/image" Target="../media/image11.png"/><Relationship Id="rId24" Type="http://schemas.openxmlformats.org/officeDocument/2006/relationships/slideLayout" Target="../slideLayouts/slideLayout1.xml"/><Relationship Id="rId2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31.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32.xml"/><Relationship Id="rId16" Type="http://schemas.openxmlformats.org/officeDocument/2006/relationships/image" Target="../media/image8.png"/><Relationship Id="rId17" Type="http://schemas.openxmlformats.org/officeDocument/2006/relationships/slide" Target="slide40.xml"/><Relationship Id="rId18" Type="http://schemas.openxmlformats.org/officeDocument/2006/relationships/image" Target="../media/image16.png"/><Relationship Id="rId19" Type="http://schemas.openxmlformats.org/officeDocument/2006/relationships/slide" Target="slide30.xml"/><Relationship Id="rId20" Type="http://schemas.openxmlformats.org/officeDocument/2006/relationships/image" Target="../media/image11.png"/><Relationship Id="rId21" Type="http://schemas.openxmlformats.org/officeDocument/2006/relationships/slide" Target="slide2.xml"/><Relationship Id="rId22" Type="http://schemas.openxmlformats.org/officeDocument/2006/relationships/image" Target="../media/image11.png"/><Relationship Id="rId23" Type="http://schemas.openxmlformats.org/officeDocument/2006/relationships/slideLayout" Target="../slideLayouts/slideLayout1.xml"/><Relationship Id="rId2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2.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30.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3.png"/><Relationship Id="rId11" Type="http://schemas.openxmlformats.org/officeDocument/2006/relationships/image" Target="../media/image36.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5.png"/><Relationship Id="rId11" Type="http://schemas.openxmlformats.org/officeDocument/2006/relationships/image" Target="../media/image37.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7.png"/><Relationship Id="rId11" Type="http://schemas.openxmlformats.org/officeDocument/2006/relationships/image" Target="../media/image38.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37.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38.xml"/><Relationship Id="rId16" Type="http://schemas.openxmlformats.org/officeDocument/2006/relationships/image" Target="../media/image8.png"/><Relationship Id="rId17" Type="http://schemas.openxmlformats.org/officeDocument/2006/relationships/slide" Target="slide39.xml"/><Relationship Id="rId18" Type="http://schemas.openxmlformats.org/officeDocument/2006/relationships/image" Target="../media/image8.png"/><Relationship Id="rId19" Type="http://schemas.openxmlformats.org/officeDocument/2006/relationships/slide" Target="slide40.xml"/><Relationship Id="rId20" Type="http://schemas.openxmlformats.org/officeDocument/2006/relationships/image" Target="../media/image16.png"/><Relationship Id="rId21" Type="http://schemas.openxmlformats.org/officeDocument/2006/relationships/slide" Target="slide36.xml"/><Relationship Id="rId22" Type="http://schemas.openxmlformats.org/officeDocument/2006/relationships/image" Target="../media/image11.png"/><Relationship Id="rId23" Type="http://schemas.openxmlformats.org/officeDocument/2006/relationships/slide" Target="slide2.xml"/><Relationship Id="rId24" Type="http://schemas.openxmlformats.org/officeDocument/2006/relationships/image" Target="../media/image11.png"/><Relationship Id="rId25" Type="http://schemas.openxmlformats.org/officeDocument/2006/relationships/slideLayout" Target="../slideLayouts/slideLayout1.xml"/><Relationship Id="rId2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3.xml"/><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1.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16.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image" Target="../media/image40.png"/><Relationship Id="rId15" Type="http://schemas.openxmlformats.org/officeDocument/2006/relationships/image" Target="../media/image40.png"/><Relationship Id="rId16" Type="http://schemas.openxmlformats.org/officeDocument/2006/relationships/image" Target="../media/image16.png"/><Relationship Id="rId17" Type="http://schemas.openxmlformats.org/officeDocument/2006/relationships/slideLayout" Target="../slideLayouts/slideLayout1.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4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8.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40.xml"/><Relationship Id="rId16" Type="http://schemas.openxmlformats.org/officeDocument/2006/relationships/image" Target="../media/image16.png"/><Relationship Id="rId17" Type="http://schemas.openxmlformats.org/officeDocument/2006/relationships/image" Target="../media/image8.png"/><Relationship Id="rId18" Type="http://schemas.openxmlformats.org/officeDocument/2006/relationships/image" Target="../media/image21.png"/><Relationship Id="rId19" Type="http://schemas.openxmlformats.org/officeDocument/2006/relationships/slide" Target="slide10.xml"/><Relationship Id="rId20" Type="http://schemas.openxmlformats.org/officeDocument/2006/relationships/image" Target="../media/image21.png"/><Relationship Id="rId21" Type="http://schemas.openxmlformats.org/officeDocument/2006/relationships/slide" Target="slide11.xml"/><Relationship Id="rId22" Type="http://schemas.openxmlformats.org/officeDocument/2006/relationships/image" Target="../media/image21.png"/><Relationship Id="rId23" Type="http://schemas.openxmlformats.org/officeDocument/2006/relationships/slide" Target="slide12.xml"/><Relationship Id="rId24" Type="http://schemas.openxmlformats.org/officeDocument/2006/relationships/image" Target="../media/image21.png"/><Relationship Id="rId25" Type="http://schemas.openxmlformats.org/officeDocument/2006/relationships/slide" Target="slide7.xml"/><Relationship Id="rId26" Type="http://schemas.openxmlformats.org/officeDocument/2006/relationships/image" Target="../media/image11.png"/><Relationship Id="rId27" Type="http://schemas.openxmlformats.org/officeDocument/2006/relationships/slide" Target="slide2.xml"/><Relationship Id="rId28" Type="http://schemas.openxmlformats.org/officeDocument/2006/relationships/image" Target="../media/image11.png"/><Relationship Id="rId29" Type="http://schemas.openxmlformats.org/officeDocument/2006/relationships/slideLayout" Target="../slideLayouts/slideLayout1.xml"/><Relationship Id="rId3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image" Target="../media/image22.png"/><Relationship Id="rId13" Type="http://schemas.openxmlformats.org/officeDocument/2006/relationships/slide" Target="slide7.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bg" descr="bg"/>
          <p:cNvPicPr/>
          <p:nvPr/>
        </p:nvPicPr>
        <p:blipFill>
          <a:blip r:embed="rId1"/>
          <a:stretch/>
        </p:blipFill>
        <p:spPr>
          <a:xfrm>
            <a:off x="-46080" y="-11160"/>
            <a:ext cx="12250800" cy="6918480"/>
          </a:xfrm>
          <a:prstGeom prst="rect">
            <a:avLst/>
          </a:prstGeom>
          <a:ln w="0">
            <a:noFill/>
          </a:ln>
        </p:spPr>
      </p:pic>
      <p:pic>
        <p:nvPicPr>
          <p:cNvPr id="49" name="big cloud" descr="F:\wps ppt work\imgs\fengye-cloud.pngfengye-cloud">
            <a:hlinkClick r:id="rId2" action="ppaction://hlinksldjump"/>
          </p:cNvPr>
          <p:cNvPicPr/>
          <p:nvPr/>
        </p:nvPicPr>
        <p:blipFill>
          <a:blip r:embed="rId3"/>
          <a:stretch/>
        </p:blipFill>
        <p:spPr>
          <a:xfrm>
            <a:off x="-304920" y="-5770440"/>
            <a:ext cx="12747600" cy="12974400"/>
          </a:xfrm>
          <a:prstGeom prst="rect">
            <a:avLst/>
          </a:prstGeom>
          <a:ln w="0">
            <a:noFill/>
          </a:ln>
        </p:spPr>
      </p:pic>
      <p:pic>
        <p:nvPicPr>
          <p:cNvPr id="50" name="cloud1" descr="F:\wps ppt work\imgs\cloud1.pngcloud1"/>
          <p:cNvPicPr/>
          <p:nvPr/>
        </p:nvPicPr>
        <p:blipFill>
          <a:blip r:embed="rId4"/>
          <a:stretch/>
        </p:blipFill>
        <p:spPr>
          <a:xfrm>
            <a:off x="1765440" y="-1282680"/>
            <a:ext cx="8829360" cy="3833640"/>
          </a:xfrm>
          <a:prstGeom prst="rect">
            <a:avLst/>
          </a:prstGeom>
          <a:ln w="0">
            <a:noFill/>
          </a:ln>
        </p:spPr>
      </p:pic>
      <p:sp>
        <p:nvSpPr>
          <p:cNvPr id="51" name="大标题"/>
          <p:cNvSpPr/>
          <p:nvPr/>
        </p:nvSpPr>
        <p:spPr>
          <a:xfrm>
            <a:off x="4391280" y="255600"/>
            <a:ext cx="35686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造字工房悦黑体验版常规体"/>
                <a:ea typeface="造字工房悦黑体验版常规体"/>
              </a:rPr>
              <a:t>Simple Work</a:t>
            </a:r>
            <a:endParaRPr b="0" lang="en-US" sz="4500" spc="-1" strike="noStrike">
              <a:solidFill>
                <a:srgbClr val="000000"/>
              </a:solidFill>
              <a:latin typeface="Calibri"/>
            </a:endParaRPr>
          </a:p>
        </p:txBody>
      </p:sp>
      <p:sp>
        <p:nvSpPr>
          <p:cNvPr id="52" name="副标题"/>
          <p:cNvSpPr/>
          <p:nvPr/>
        </p:nvSpPr>
        <p:spPr>
          <a:xfrm>
            <a:off x="5497920" y="955800"/>
            <a:ext cx="1229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2b2b2"/>
                </a:solidFill>
                <a:latin typeface="造字工房悦黑体验版常规体"/>
                <a:ea typeface="造字工房悦黑体验版常规体"/>
              </a:rPr>
              <a:t>简 约 办 公</a:t>
            </a:r>
            <a:endParaRPr b="0" lang="en-US" sz="2600" spc="-1" strike="noStrike">
              <a:solidFill>
                <a:srgbClr val="000000"/>
              </a:solidFill>
              <a:latin typeface="Calibri"/>
            </a:endParaRPr>
          </a:p>
        </p:txBody>
      </p:sp>
      <p:sp>
        <p:nvSpPr>
          <p:cNvPr id="53" name="封面标注"/>
          <p:cNvSpPr/>
          <p:nvPr/>
        </p:nvSpPr>
        <p:spPr>
          <a:xfrm>
            <a:off x="4212720" y="2233440"/>
            <a:ext cx="380016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简约办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这里放置一段备注文字，作为对标题的注释，</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也可以加入姓名单位等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This placed a note words, as the title of the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note, also can add name unit, etc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6" repeatCount="indefinite">
                                  <p:stCondLst>
                                    <p:cond delay="0"/>
                                  </p:stCondLst>
                                  <p:childTnLst>
                                    <p:animMotion origin="layout" path="M -0.11971 -0.03525 C -0.124807 -0.021188 -0.128881 -0.006121 -0.128881 0.008946 C -0.128881 0.079257 -0.070799 0.134502 -0.00049 0.134502 C 0.068803 0.134501 0.12586 0.079257 0.12586 0.008945 C 0.12586 -0.006122 0.122803 -0.021188 0.117713 -0.03525 C 0.099372 0.011958 0.053518 0.045106 -0.00049 0.045106 C -0.055515 0.045106 -0.101369 0.011959 -0.11971 -0.03525 Z">
                                      <p:cBhvr>
                                        <p:cTn id="6" dur="1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bg"/>
          <p:cNvPicPr/>
          <p:nvPr/>
        </p:nvPicPr>
        <p:blipFill>
          <a:blip r:embed="rId1"/>
          <a:stretch/>
        </p:blipFill>
        <p:spPr>
          <a:xfrm>
            <a:off x="-46080" y="-11160"/>
            <a:ext cx="12250800" cy="6918480"/>
          </a:xfrm>
          <a:prstGeom prst="rect">
            <a:avLst/>
          </a:prstGeom>
          <a:ln w="0">
            <a:noFill/>
          </a:ln>
        </p:spPr>
      </p:pic>
      <p:sp>
        <p:nvSpPr>
          <p:cNvPr id="27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77" name="Picture 4" descr="board"/>
          <p:cNvPicPr/>
          <p:nvPr/>
        </p:nvPicPr>
        <p:blipFill>
          <a:blip r:embed="rId2"/>
          <a:stretch/>
        </p:blipFill>
        <p:spPr>
          <a:xfrm>
            <a:off x="-44280" y="0"/>
            <a:ext cx="12228480" cy="6886440"/>
          </a:xfrm>
          <a:prstGeom prst="rect">
            <a:avLst/>
          </a:prstGeom>
          <a:ln w="0">
            <a:noFill/>
          </a:ln>
        </p:spPr>
      </p:pic>
      <p:sp>
        <p:nvSpPr>
          <p:cNvPr id="278"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二部分</a:t>
            </a:r>
            <a:endParaRPr b="0" lang="en-US" sz="2600" spc="-1" strike="noStrike">
              <a:solidFill>
                <a:srgbClr val="000000"/>
              </a:solidFill>
              <a:latin typeface="Calibri"/>
            </a:endParaRPr>
          </a:p>
        </p:txBody>
      </p:sp>
      <p:pic>
        <p:nvPicPr>
          <p:cNvPr id="279" name="Picture 6" descr="3"/>
          <p:cNvPicPr/>
          <p:nvPr/>
        </p:nvPicPr>
        <p:blipFill>
          <a:blip r:embed="rId3"/>
          <a:stretch/>
        </p:blipFill>
        <p:spPr>
          <a:xfrm>
            <a:off x="1938240" y="6273720"/>
            <a:ext cx="4603680" cy="490680"/>
          </a:xfrm>
          <a:prstGeom prst="rect">
            <a:avLst/>
          </a:prstGeom>
          <a:ln w="0">
            <a:noFill/>
          </a:ln>
        </p:spPr>
      </p:pic>
      <p:pic>
        <p:nvPicPr>
          <p:cNvPr id="280"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81" name="铅笔" descr="qianbi"/>
          <p:cNvPicPr/>
          <p:nvPr/>
        </p:nvPicPr>
        <p:blipFill>
          <a:blip r:embed="rId5"/>
          <a:stretch/>
        </p:blipFill>
        <p:spPr>
          <a:xfrm>
            <a:off x="88920" y="6105600"/>
            <a:ext cx="847800" cy="720720"/>
          </a:xfrm>
          <a:prstGeom prst="rect">
            <a:avLst/>
          </a:prstGeom>
          <a:ln w="0">
            <a:noFill/>
          </a:ln>
        </p:spPr>
      </p:pic>
      <p:pic>
        <p:nvPicPr>
          <p:cNvPr id="282" name="Picture 9" descr="jindu-lan"/>
          <p:cNvPicPr/>
          <p:nvPr/>
        </p:nvPicPr>
        <p:blipFill>
          <a:blip r:embed="rId6"/>
          <a:stretch/>
        </p:blipFill>
        <p:spPr>
          <a:xfrm>
            <a:off x="5981760" y="6369120"/>
            <a:ext cx="264960" cy="303120"/>
          </a:xfrm>
          <a:prstGeom prst="rect">
            <a:avLst/>
          </a:prstGeom>
          <a:ln w="0">
            <a:noFill/>
          </a:ln>
        </p:spPr>
      </p:pic>
      <p:pic>
        <p:nvPicPr>
          <p:cNvPr id="283"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84"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85"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286"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87" name="Picture 44" descr=""/>
          <p:cNvPicPr/>
          <p:nvPr/>
        </p:nvPicPr>
        <p:blipFill>
          <a:blip r:embed="rId10"/>
          <a:stretch/>
        </p:blipFill>
        <p:spPr>
          <a:xfrm>
            <a:off x="8664480" y="4707000"/>
            <a:ext cx="2168640" cy="1241280"/>
          </a:xfrm>
          <a:prstGeom prst="rect">
            <a:avLst/>
          </a:prstGeom>
          <a:ln w="0">
            <a:noFill/>
          </a:ln>
        </p:spPr>
      </p:pic>
      <p:pic>
        <p:nvPicPr>
          <p:cNvPr id="288" name="Picture 45" descr=""/>
          <p:cNvPicPr/>
          <p:nvPr/>
        </p:nvPicPr>
        <p:blipFill>
          <a:blip r:embed="rId11"/>
          <a:stretch/>
        </p:blipFill>
        <p:spPr>
          <a:xfrm>
            <a:off x="671400" y="1771560"/>
            <a:ext cx="4405320" cy="2613240"/>
          </a:xfrm>
          <a:prstGeom prst="rect">
            <a:avLst/>
          </a:prstGeom>
          <a:ln w="0">
            <a:noFill/>
          </a:ln>
        </p:spPr>
      </p:pic>
      <p:pic>
        <p:nvPicPr>
          <p:cNvPr id="289"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290"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291"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89" dur="1000" fill="hold"/>
                                        <p:tgtEl>
                                          <p:spTgt spid="280"/>
                                        </p:tgtEl>
                                      </p:cBhvr>
                                    </p:animMotion>
                                  </p:childTnLst>
                                </p:cTn>
                              </p:par>
                            </p:childTnLst>
                          </p:cTn>
                        </p:par>
                        <p:par>
                          <p:cTn id="90" nodeType="afterEffect" fill="hold">
                            <p:stCondLst>
                              <p:cond delay="1000"/>
                            </p:stCondLst>
                            <p:childTnLst>
                              <p:par>
                                <p:cTn id="9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92" dur="1000" fill="hold"/>
                                        <p:tgtEl>
                                          <p:spTgt spid="28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bg"/>
          <p:cNvPicPr/>
          <p:nvPr/>
        </p:nvPicPr>
        <p:blipFill>
          <a:blip r:embed="rId1"/>
          <a:stretch/>
        </p:blipFill>
        <p:spPr>
          <a:xfrm>
            <a:off x="-46080" y="-11160"/>
            <a:ext cx="12250800" cy="6918480"/>
          </a:xfrm>
          <a:prstGeom prst="rect">
            <a:avLst/>
          </a:prstGeom>
          <a:ln w="0">
            <a:noFill/>
          </a:ln>
        </p:spPr>
      </p:pic>
      <p:sp>
        <p:nvSpPr>
          <p:cNvPr id="293"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4" name="Picture 4" descr="board"/>
          <p:cNvPicPr/>
          <p:nvPr/>
        </p:nvPicPr>
        <p:blipFill>
          <a:blip r:embed="rId2"/>
          <a:stretch/>
        </p:blipFill>
        <p:spPr>
          <a:xfrm>
            <a:off x="-44280" y="0"/>
            <a:ext cx="12228480" cy="6886440"/>
          </a:xfrm>
          <a:prstGeom prst="rect">
            <a:avLst/>
          </a:prstGeom>
          <a:ln w="0">
            <a:noFill/>
          </a:ln>
        </p:spPr>
      </p:pic>
      <p:sp>
        <p:nvSpPr>
          <p:cNvPr id="295"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三部分</a:t>
            </a:r>
            <a:endParaRPr b="0" lang="en-US" sz="2600" spc="-1" strike="noStrike">
              <a:solidFill>
                <a:srgbClr val="000000"/>
              </a:solidFill>
              <a:latin typeface="Calibri"/>
            </a:endParaRPr>
          </a:p>
        </p:txBody>
      </p:sp>
      <p:pic>
        <p:nvPicPr>
          <p:cNvPr id="296" name="Picture 6" descr="3"/>
          <p:cNvPicPr/>
          <p:nvPr/>
        </p:nvPicPr>
        <p:blipFill>
          <a:blip r:embed="rId3"/>
          <a:stretch/>
        </p:blipFill>
        <p:spPr>
          <a:xfrm>
            <a:off x="1938240" y="6273720"/>
            <a:ext cx="4603680" cy="490680"/>
          </a:xfrm>
          <a:prstGeom prst="rect">
            <a:avLst/>
          </a:prstGeom>
          <a:ln w="0">
            <a:noFill/>
          </a:ln>
        </p:spPr>
      </p:pic>
      <p:pic>
        <p:nvPicPr>
          <p:cNvPr id="29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98" name="铅笔" descr="qianbi"/>
          <p:cNvPicPr/>
          <p:nvPr/>
        </p:nvPicPr>
        <p:blipFill>
          <a:blip r:embed="rId5"/>
          <a:stretch/>
        </p:blipFill>
        <p:spPr>
          <a:xfrm>
            <a:off x="88920" y="6105600"/>
            <a:ext cx="847800" cy="720720"/>
          </a:xfrm>
          <a:prstGeom prst="rect">
            <a:avLst/>
          </a:prstGeom>
          <a:ln w="0">
            <a:noFill/>
          </a:ln>
        </p:spPr>
      </p:pic>
      <p:pic>
        <p:nvPicPr>
          <p:cNvPr id="299" name="Picture 9" descr="jindu-lan"/>
          <p:cNvPicPr/>
          <p:nvPr/>
        </p:nvPicPr>
        <p:blipFill>
          <a:blip r:embed="rId6"/>
          <a:stretch/>
        </p:blipFill>
        <p:spPr>
          <a:xfrm>
            <a:off x="5981760" y="6369120"/>
            <a:ext cx="264960" cy="303120"/>
          </a:xfrm>
          <a:prstGeom prst="rect">
            <a:avLst/>
          </a:prstGeom>
          <a:ln w="0">
            <a:noFill/>
          </a:ln>
        </p:spPr>
      </p:pic>
      <p:pic>
        <p:nvPicPr>
          <p:cNvPr id="300"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01"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02"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03"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304" name="Picture 44" descr=""/>
          <p:cNvPicPr/>
          <p:nvPr/>
        </p:nvPicPr>
        <p:blipFill>
          <a:blip r:embed="rId10"/>
          <a:stretch/>
        </p:blipFill>
        <p:spPr>
          <a:xfrm>
            <a:off x="8729640" y="4726080"/>
            <a:ext cx="2163960" cy="1220760"/>
          </a:xfrm>
          <a:prstGeom prst="rect">
            <a:avLst/>
          </a:prstGeom>
          <a:ln w="0">
            <a:noFill/>
          </a:ln>
        </p:spPr>
      </p:pic>
      <p:pic>
        <p:nvPicPr>
          <p:cNvPr id="305" name="Picture 45" descr=""/>
          <p:cNvPicPr/>
          <p:nvPr/>
        </p:nvPicPr>
        <p:blipFill>
          <a:blip r:embed="rId11"/>
          <a:stretch/>
        </p:blipFill>
        <p:spPr>
          <a:xfrm>
            <a:off x="660240" y="1806480"/>
            <a:ext cx="4427640" cy="2606760"/>
          </a:xfrm>
          <a:prstGeom prst="rect">
            <a:avLst/>
          </a:prstGeom>
          <a:ln w="0">
            <a:noFill/>
          </a:ln>
        </p:spPr>
      </p:pic>
      <p:pic>
        <p:nvPicPr>
          <p:cNvPr id="306"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307"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308"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98" dur="1000" fill="hold"/>
                                        <p:tgtEl>
                                          <p:spTgt spid="297"/>
                                        </p:tgtEl>
                                      </p:cBhvr>
                                    </p:animMotion>
                                  </p:childTnLst>
                                </p:cTn>
                              </p:par>
                            </p:childTnLst>
                          </p:cTn>
                        </p:par>
                        <p:par>
                          <p:cTn id="99" nodeType="afterEffect" fill="hold">
                            <p:stCondLst>
                              <p:cond delay="1000"/>
                            </p:stCondLst>
                            <p:childTnLst>
                              <p:par>
                                <p:cTn id="10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01" dur="1000" fill="hold"/>
                                        <p:tgtEl>
                                          <p:spTgt spid="3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bg"/>
          <p:cNvPicPr/>
          <p:nvPr/>
        </p:nvPicPr>
        <p:blipFill>
          <a:blip r:embed="rId1"/>
          <a:stretch/>
        </p:blipFill>
        <p:spPr>
          <a:xfrm>
            <a:off x="-46080" y="-11160"/>
            <a:ext cx="12250800" cy="6918480"/>
          </a:xfrm>
          <a:prstGeom prst="rect">
            <a:avLst/>
          </a:prstGeom>
          <a:ln w="0">
            <a:noFill/>
          </a:ln>
        </p:spPr>
      </p:pic>
      <p:sp>
        <p:nvSpPr>
          <p:cNvPr id="31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11" name="Picture 4" descr="board"/>
          <p:cNvPicPr/>
          <p:nvPr/>
        </p:nvPicPr>
        <p:blipFill>
          <a:blip r:embed="rId2"/>
          <a:stretch/>
        </p:blipFill>
        <p:spPr>
          <a:xfrm>
            <a:off x="-44280" y="0"/>
            <a:ext cx="12228480" cy="6886440"/>
          </a:xfrm>
          <a:prstGeom prst="rect">
            <a:avLst/>
          </a:prstGeom>
          <a:ln w="0">
            <a:noFill/>
          </a:ln>
        </p:spPr>
      </p:pic>
      <p:sp>
        <p:nvSpPr>
          <p:cNvPr id="312"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四部分</a:t>
            </a:r>
            <a:endParaRPr b="0" lang="en-US" sz="2600" spc="-1" strike="noStrike">
              <a:solidFill>
                <a:srgbClr val="000000"/>
              </a:solidFill>
              <a:latin typeface="Calibri"/>
            </a:endParaRPr>
          </a:p>
        </p:txBody>
      </p:sp>
      <p:pic>
        <p:nvPicPr>
          <p:cNvPr id="313" name="Picture 6" descr="3"/>
          <p:cNvPicPr/>
          <p:nvPr/>
        </p:nvPicPr>
        <p:blipFill>
          <a:blip r:embed="rId3"/>
          <a:stretch/>
        </p:blipFill>
        <p:spPr>
          <a:xfrm>
            <a:off x="1938240" y="6273720"/>
            <a:ext cx="4603680" cy="490680"/>
          </a:xfrm>
          <a:prstGeom prst="rect">
            <a:avLst/>
          </a:prstGeom>
          <a:ln w="0">
            <a:noFill/>
          </a:ln>
        </p:spPr>
      </p:pic>
      <p:pic>
        <p:nvPicPr>
          <p:cNvPr id="31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15" name="铅笔" descr="qianbi"/>
          <p:cNvPicPr/>
          <p:nvPr/>
        </p:nvPicPr>
        <p:blipFill>
          <a:blip r:embed="rId5"/>
          <a:stretch/>
        </p:blipFill>
        <p:spPr>
          <a:xfrm>
            <a:off x="88920" y="6105600"/>
            <a:ext cx="847800" cy="720720"/>
          </a:xfrm>
          <a:prstGeom prst="rect">
            <a:avLst/>
          </a:prstGeom>
          <a:ln w="0">
            <a:noFill/>
          </a:ln>
        </p:spPr>
      </p:pic>
      <p:pic>
        <p:nvPicPr>
          <p:cNvPr id="316" name="Picture 9" descr="jindu-lan"/>
          <p:cNvPicPr/>
          <p:nvPr/>
        </p:nvPicPr>
        <p:blipFill>
          <a:blip r:embed="rId6"/>
          <a:stretch/>
        </p:blipFill>
        <p:spPr>
          <a:xfrm>
            <a:off x="5981760" y="6369120"/>
            <a:ext cx="264960" cy="303120"/>
          </a:xfrm>
          <a:prstGeom prst="rect">
            <a:avLst/>
          </a:prstGeom>
          <a:ln w="0">
            <a:noFill/>
          </a:ln>
        </p:spPr>
      </p:pic>
      <p:pic>
        <p:nvPicPr>
          <p:cNvPr id="31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18"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19"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20"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321" name="Picture 44" descr=""/>
          <p:cNvPicPr/>
          <p:nvPr/>
        </p:nvPicPr>
        <p:blipFill>
          <a:blip r:embed="rId10"/>
          <a:stretch/>
        </p:blipFill>
        <p:spPr>
          <a:xfrm>
            <a:off x="8715240" y="4695840"/>
            <a:ext cx="2140200" cy="1219320"/>
          </a:xfrm>
          <a:prstGeom prst="rect">
            <a:avLst/>
          </a:prstGeom>
          <a:ln w="0">
            <a:noFill/>
          </a:ln>
        </p:spPr>
      </p:pic>
      <p:pic>
        <p:nvPicPr>
          <p:cNvPr id="322" name="Picture 45" descr=""/>
          <p:cNvPicPr/>
          <p:nvPr/>
        </p:nvPicPr>
        <p:blipFill>
          <a:blip r:embed="rId11"/>
          <a:stretch/>
        </p:blipFill>
        <p:spPr>
          <a:xfrm>
            <a:off x="666720" y="1806480"/>
            <a:ext cx="4413240" cy="2606760"/>
          </a:xfrm>
          <a:prstGeom prst="rect">
            <a:avLst/>
          </a:prstGeom>
          <a:ln w="0">
            <a:noFill/>
          </a:ln>
        </p:spPr>
      </p:pic>
      <p:pic>
        <p:nvPicPr>
          <p:cNvPr id="323"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324"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325"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07" dur="1000" fill="hold"/>
                                        <p:tgtEl>
                                          <p:spTgt spid="314"/>
                                        </p:tgtEl>
                                      </p:cBhvr>
                                    </p:animMotion>
                                  </p:childTnLst>
                                </p:cTn>
                              </p:par>
                            </p:childTnLst>
                          </p:cTn>
                        </p:par>
                        <p:par>
                          <p:cTn id="108" nodeType="afterEffect" fill="hold">
                            <p:stCondLst>
                              <p:cond delay="1000"/>
                            </p:stCondLst>
                            <p:childTnLst>
                              <p:par>
                                <p:cTn id="10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10" dur="1000" fill="hold"/>
                                        <p:tgtEl>
                                          <p:spTgt spid="3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bg"/>
          <p:cNvPicPr/>
          <p:nvPr/>
        </p:nvPicPr>
        <p:blipFill>
          <a:blip r:embed="rId1"/>
          <a:stretch/>
        </p:blipFill>
        <p:spPr>
          <a:xfrm>
            <a:off x="-46080" y="-11160"/>
            <a:ext cx="12250800" cy="6918480"/>
          </a:xfrm>
          <a:prstGeom prst="rect">
            <a:avLst/>
          </a:prstGeom>
          <a:ln w="0">
            <a:noFill/>
          </a:ln>
        </p:spPr>
      </p:pic>
      <p:pic>
        <p:nvPicPr>
          <p:cNvPr id="327" name="Picture 3" descr="board"/>
          <p:cNvPicPr/>
          <p:nvPr/>
        </p:nvPicPr>
        <p:blipFill>
          <a:blip r:embed="rId2"/>
          <a:stretch/>
        </p:blipFill>
        <p:spPr>
          <a:xfrm>
            <a:off x="-44280" y="0"/>
            <a:ext cx="12228480" cy="6886440"/>
          </a:xfrm>
          <a:prstGeom prst="rect">
            <a:avLst/>
          </a:prstGeom>
          <a:ln w="0">
            <a:noFill/>
          </a:ln>
        </p:spPr>
      </p:pic>
      <p:sp>
        <p:nvSpPr>
          <p:cNvPr id="328" name="Text Box 14">
            <a:hlinkClick r:id="rId3" action="ppaction://hlinksldjump"/>
          </p:cNvPr>
          <p:cNvSpPr/>
          <p:nvPr/>
        </p:nvSpPr>
        <p:spPr>
          <a:xfrm>
            <a:off x="2521080" y="24382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流程</a:t>
            </a:r>
            <a:endParaRPr b="0" lang="en-US" sz="2600" spc="-1" strike="noStrike">
              <a:solidFill>
                <a:srgbClr val="000000"/>
              </a:solidFill>
              <a:latin typeface="Calibri"/>
            </a:endParaRPr>
          </a:p>
        </p:txBody>
      </p:sp>
      <p:pic>
        <p:nvPicPr>
          <p:cNvPr id="329" name="图片 2" descr="gray-point"/>
          <p:cNvPicPr/>
          <p:nvPr/>
        </p:nvPicPr>
        <p:blipFill>
          <a:blip r:embed="rId4"/>
          <a:stretch/>
        </p:blipFill>
        <p:spPr>
          <a:xfrm>
            <a:off x="1557360" y="2470320"/>
            <a:ext cx="517680" cy="431640"/>
          </a:xfrm>
          <a:prstGeom prst="rect">
            <a:avLst/>
          </a:prstGeom>
          <a:ln w="0">
            <a:noFill/>
          </a:ln>
        </p:spPr>
      </p:pic>
      <p:sp>
        <p:nvSpPr>
          <p:cNvPr id="330"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331" name="Picture 7" descr="2"/>
          <p:cNvPicPr/>
          <p:nvPr/>
        </p:nvPicPr>
        <p:blipFill>
          <a:blip r:embed="rId5"/>
          <a:stretch/>
        </p:blipFill>
        <p:spPr>
          <a:xfrm>
            <a:off x="1938240" y="6273720"/>
            <a:ext cx="4603680" cy="490680"/>
          </a:xfrm>
          <a:prstGeom prst="rect">
            <a:avLst/>
          </a:prstGeom>
          <a:ln w="0">
            <a:noFill/>
          </a:ln>
        </p:spPr>
      </p:pic>
      <p:pic>
        <p:nvPicPr>
          <p:cNvPr id="332"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333" name="铅笔" descr="qianbi"/>
          <p:cNvPicPr/>
          <p:nvPr/>
        </p:nvPicPr>
        <p:blipFill>
          <a:blip r:embed="rId7"/>
          <a:stretch/>
        </p:blipFill>
        <p:spPr>
          <a:xfrm>
            <a:off x="88920" y="6105600"/>
            <a:ext cx="847800" cy="720720"/>
          </a:xfrm>
          <a:prstGeom prst="rect">
            <a:avLst/>
          </a:prstGeom>
          <a:ln w="0">
            <a:noFill/>
          </a:ln>
        </p:spPr>
      </p:pic>
      <p:pic>
        <p:nvPicPr>
          <p:cNvPr id="334" name="Picture 10" descr="jindu-hui"/>
          <p:cNvPicPr/>
          <p:nvPr/>
        </p:nvPicPr>
        <p:blipFill>
          <a:blip r:embed="rId8"/>
          <a:stretch/>
        </p:blipFill>
        <p:spPr>
          <a:xfrm>
            <a:off x="5981760" y="6369120"/>
            <a:ext cx="264960" cy="304560"/>
          </a:xfrm>
          <a:prstGeom prst="rect">
            <a:avLst/>
          </a:prstGeom>
          <a:ln w="0">
            <a:noFill/>
          </a:ln>
        </p:spPr>
      </p:pic>
      <p:pic>
        <p:nvPicPr>
          <p:cNvPr id="335"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336" name="Picture 12" descr="cloud1"/>
          <p:cNvPicPr/>
          <p:nvPr/>
        </p:nvPicPr>
        <p:blipFill>
          <a:blip r:embed="rId10"/>
          <a:stretch/>
        </p:blipFill>
        <p:spPr>
          <a:xfrm>
            <a:off x="163440" y="133200"/>
            <a:ext cx="4510080" cy="1960560"/>
          </a:xfrm>
          <a:prstGeom prst="rect">
            <a:avLst/>
          </a:prstGeom>
          <a:ln w="0">
            <a:noFill/>
          </a:ln>
        </p:spPr>
      </p:pic>
      <p:pic>
        <p:nvPicPr>
          <p:cNvPr id="337" name="Picture 13" descr="cloud1"/>
          <p:cNvPicPr/>
          <p:nvPr/>
        </p:nvPicPr>
        <p:blipFill>
          <a:blip r:embed="rId11"/>
          <a:stretch/>
        </p:blipFill>
        <p:spPr>
          <a:xfrm>
            <a:off x="833400" y="-49320"/>
            <a:ext cx="3144960" cy="1363680"/>
          </a:xfrm>
          <a:prstGeom prst="rect">
            <a:avLst/>
          </a:prstGeom>
          <a:ln w="0">
            <a:noFill/>
          </a:ln>
        </p:spPr>
      </p:pic>
      <p:sp>
        <p:nvSpPr>
          <p:cNvPr id="338" name="Text Box 14"/>
          <p:cNvSpPr/>
          <p:nvPr/>
        </p:nvSpPr>
        <p:spPr>
          <a:xfrm>
            <a:off x="1747440" y="76824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流程与方法</a:t>
            </a:r>
            <a:endParaRPr b="0" lang="en-US" sz="2600" spc="-1" strike="noStrike">
              <a:solidFill>
                <a:srgbClr val="000000"/>
              </a:solidFill>
              <a:latin typeface="Calibri"/>
            </a:endParaRPr>
          </a:p>
        </p:txBody>
      </p:sp>
      <p:grpSp>
        <p:nvGrpSpPr>
          <p:cNvPr id="339" name="Group 15"/>
          <p:cNvGrpSpPr/>
          <p:nvPr/>
        </p:nvGrpSpPr>
        <p:grpSpPr>
          <a:xfrm>
            <a:off x="673200" y="790560"/>
            <a:ext cx="517320" cy="438120"/>
            <a:chOff x="673200" y="790560"/>
            <a:chExt cx="517320" cy="438120"/>
          </a:xfrm>
        </p:grpSpPr>
        <p:pic>
          <p:nvPicPr>
            <p:cNvPr id="340" name="图片 2" descr=""/>
            <p:cNvPicPr/>
            <p:nvPr/>
          </p:nvPicPr>
          <p:blipFill>
            <a:blip r:embed="rId12"/>
            <a:stretch/>
          </p:blipFill>
          <p:spPr>
            <a:xfrm>
              <a:off x="673200" y="795240"/>
              <a:ext cx="517320" cy="433440"/>
            </a:xfrm>
            <a:prstGeom prst="rect">
              <a:avLst/>
            </a:prstGeom>
            <a:ln w="0">
              <a:noFill/>
            </a:ln>
          </p:spPr>
        </p:pic>
        <p:sp>
          <p:nvSpPr>
            <p:cNvPr id="341"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grpSp>
      <p:pic>
        <p:nvPicPr>
          <p:cNvPr id="342"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343"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344" name="Text Box 14">
            <a:hlinkClick r:id="rId15" action="ppaction://hlinksldjump"/>
          </p:cNvPr>
          <p:cNvSpPr/>
          <p:nvPr/>
        </p:nvSpPr>
        <p:spPr>
          <a:xfrm>
            <a:off x="2521080" y="3187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方法</a:t>
            </a:r>
            <a:endParaRPr b="0" lang="en-US" sz="2600" spc="-1" strike="noStrike">
              <a:solidFill>
                <a:srgbClr val="000000"/>
              </a:solidFill>
              <a:latin typeface="Calibri"/>
            </a:endParaRPr>
          </a:p>
        </p:txBody>
      </p:sp>
      <p:pic>
        <p:nvPicPr>
          <p:cNvPr id="345" name="图片 2" descr="gray-point"/>
          <p:cNvPicPr/>
          <p:nvPr/>
        </p:nvPicPr>
        <p:blipFill>
          <a:blip r:embed="rId16"/>
          <a:stretch/>
        </p:blipFill>
        <p:spPr>
          <a:xfrm>
            <a:off x="1557360" y="3219480"/>
            <a:ext cx="517680" cy="431640"/>
          </a:xfrm>
          <a:prstGeom prst="rect">
            <a:avLst/>
          </a:prstGeom>
          <a:ln w="0">
            <a:noFill/>
          </a:ln>
        </p:spPr>
      </p:pic>
      <p:sp>
        <p:nvSpPr>
          <p:cNvPr id="346"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347" name="Text Box 14">
            <a:hlinkClick r:id="rId17" action="ppaction://hlinksldjump"/>
          </p:cNvPr>
          <p:cNvSpPr/>
          <p:nvPr/>
        </p:nvSpPr>
        <p:spPr>
          <a:xfrm>
            <a:off x="2422080" y="3936960"/>
            <a:ext cx="775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思考板</a:t>
            </a:r>
            <a:endParaRPr b="0" lang="en-US" sz="2600" spc="-1" strike="noStrike">
              <a:solidFill>
                <a:srgbClr val="000000"/>
              </a:solidFill>
              <a:latin typeface="Calibri"/>
            </a:endParaRPr>
          </a:p>
        </p:txBody>
      </p:sp>
      <p:pic>
        <p:nvPicPr>
          <p:cNvPr id="348" name="图片 2" descr="gray-point"/>
          <p:cNvPicPr/>
          <p:nvPr/>
        </p:nvPicPr>
        <p:blipFill>
          <a:blip r:embed="rId18"/>
          <a:stretch/>
        </p:blipFill>
        <p:spPr>
          <a:xfrm>
            <a:off x="1557360" y="3968640"/>
            <a:ext cx="517680" cy="432000"/>
          </a:xfrm>
          <a:prstGeom prst="rect">
            <a:avLst/>
          </a:prstGeom>
          <a:ln w="0">
            <a:noFill/>
          </a:ln>
        </p:spPr>
      </p:pic>
      <p:sp>
        <p:nvSpPr>
          <p:cNvPr id="349"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350" name="Text Box 14">
            <a:hlinkClick r:id="rId19" action="ppaction://hlinksldjump"/>
          </p:cNvPr>
          <p:cNvSpPr/>
          <p:nvPr/>
        </p:nvSpPr>
        <p:spPr>
          <a:xfrm>
            <a:off x="2125080" y="468648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提高工作效率</a:t>
            </a:r>
            <a:endParaRPr b="0" lang="en-US" sz="2600" spc="-1" strike="noStrike">
              <a:solidFill>
                <a:srgbClr val="000000"/>
              </a:solidFill>
              <a:latin typeface="Calibri"/>
            </a:endParaRPr>
          </a:p>
        </p:txBody>
      </p:sp>
      <p:pic>
        <p:nvPicPr>
          <p:cNvPr id="351" name="图片 2" descr="gray-point"/>
          <p:cNvPicPr/>
          <p:nvPr/>
        </p:nvPicPr>
        <p:blipFill>
          <a:blip r:embed="rId20"/>
          <a:stretch/>
        </p:blipFill>
        <p:spPr>
          <a:xfrm>
            <a:off x="1557360" y="4718160"/>
            <a:ext cx="517680" cy="431640"/>
          </a:xfrm>
          <a:prstGeom prst="rect">
            <a:avLst/>
          </a:prstGeom>
          <a:ln w="0">
            <a:noFill/>
          </a:ln>
        </p:spPr>
      </p:pic>
      <p:sp>
        <p:nvSpPr>
          <p:cNvPr id="352" name="TextBox 3"/>
          <p:cNvSpPr/>
          <p:nvPr/>
        </p:nvSpPr>
        <p:spPr>
          <a:xfrm>
            <a:off x="1582560" y="471168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pic>
        <p:nvPicPr>
          <p:cNvPr id="353" name="Picture 29" descr="tb-xiuxi">
            <a:hlinkClick r:id="rId21" action="ppaction://hlinksldjump"/>
          </p:cNvPr>
          <p:cNvPicPr/>
          <p:nvPr/>
        </p:nvPicPr>
        <p:blipFill>
          <a:blip r:embed="rId22"/>
          <a:stretch/>
        </p:blipFill>
        <p:spPr>
          <a:xfrm>
            <a:off x="9499680" y="6383160"/>
            <a:ext cx="615960" cy="524160"/>
          </a:xfrm>
          <a:prstGeom prst="rect">
            <a:avLst/>
          </a:prstGeom>
          <a:ln w="0">
            <a:noFill/>
          </a:ln>
        </p:spPr>
      </p:pic>
      <p:pic>
        <p:nvPicPr>
          <p:cNvPr id="354" name="Picture 30" descr="jindu-lan">
            <a:hlinkClick r:id="rId23" action="ppaction://hlinksldjump"/>
          </p:cNvPr>
          <p:cNvPicPr/>
          <p:nvPr/>
        </p:nvPicPr>
        <p:blipFill>
          <a:blip r:embed="rId24"/>
          <a:stretch/>
        </p:blipFill>
        <p:spPr>
          <a:xfrm>
            <a:off x="4106880" y="6370560"/>
            <a:ext cx="264960" cy="301680"/>
          </a:xfrm>
          <a:prstGeom prst="rect">
            <a:avLst/>
          </a:prstGeom>
          <a:ln w="0">
            <a:noFill/>
          </a:ln>
        </p:spPr>
      </p:pic>
      <p:pic>
        <p:nvPicPr>
          <p:cNvPr id="355" name="Picture 31" descr="jindu-lan">
            <a:hlinkClick r:id="rId25" action="ppaction://hlinksldjump"/>
          </p:cNvPr>
          <p:cNvPicPr/>
          <p:nvPr/>
        </p:nvPicPr>
        <p:blipFill>
          <a:blip r:embed="rId2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16" dur="1000" fill="hold"/>
                                        <p:tgtEl>
                                          <p:spTgt spid="332"/>
                                        </p:tgtEl>
                                      </p:cBhvr>
                                    </p:animMotion>
                                  </p:childTnLst>
                                </p:cTn>
                              </p:par>
                            </p:childTnLst>
                          </p:cTn>
                        </p:par>
                        <p:par>
                          <p:cTn id="117" nodeType="afterEffect" fill="hold">
                            <p:stCondLst>
                              <p:cond delay="1000"/>
                            </p:stCondLst>
                            <p:childTnLst>
                              <p:par>
                                <p:cTn id="11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19" dur="1000" fill="hold"/>
                                        <p:tgtEl>
                                          <p:spTgt spid="3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bg"/>
          <p:cNvPicPr/>
          <p:nvPr/>
        </p:nvPicPr>
        <p:blipFill>
          <a:blip r:embed="rId1"/>
          <a:stretch/>
        </p:blipFill>
        <p:spPr>
          <a:xfrm>
            <a:off x="-46080" y="-11160"/>
            <a:ext cx="12250800" cy="6918480"/>
          </a:xfrm>
          <a:prstGeom prst="rect">
            <a:avLst/>
          </a:prstGeom>
          <a:ln w="0">
            <a:noFill/>
          </a:ln>
        </p:spPr>
      </p:pic>
      <p:sp>
        <p:nvSpPr>
          <p:cNvPr id="357"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58" name="Picture 4" descr="board"/>
          <p:cNvPicPr/>
          <p:nvPr/>
        </p:nvPicPr>
        <p:blipFill>
          <a:blip r:embed="rId2"/>
          <a:stretch/>
        </p:blipFill>
        <p:spPr>
          <a:xfrm>
            <a:off x="-44280" y="0"/>
            <a:ext cx="12228480" cy="6886440"/>
          </a:xfrm>
          <a:prstGeom prst="rect">
            <a:avLst/>
          </a:prstGeom>
          <a:ln w="0">
            <a:noFill/>
          </a:ln>
        </p:spPr>
      </p:pic>
      <p:sp>
        <p:nvSpPr>
          <p:cNvPr id="359"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流程</a:t>
            </a:r>
            <a:endParaRPr b="0" lang="en-US" sz="2600" spc="-1" strike="noStrike">
              <a:solidFill>
                <a:srgbClr val="000000"/>
              </a:solidFill>
              <a:latin typeface="Calibri"/>
            </a:endParaRPr>
          </a:p>
        </p:txBody>
      </p:sp>
      <p:pic>
        <p:nvPicPr>
          <p:cNvPr id="360" name="Picture 6" descr="3"/>
          <p:cNvPicPr/>
          <p:nvPr/>
        </p:nvPicPr>
        <p:blipFill>
          <a:blip r:embed="rId3"/>
          <a:stretch/>
        </p:blipFill>
        <p:spPr>
          <a:xfrm>
            <a:off x="1938240" y="6273720"/>
            <a:ext cx="4603680" cy="490680"/>
          </a:xfrm>
          <a:prstGeom prst="rect">
            <a:avLst/>
          </a:prstGeom>
          <a:ln w="0">
            <a:noFill/>
          </a:ln>
        </p:spPr>
      </p:pic>
      <p:pic>
        <p:nvPicPr>
          <p:cNvPr id="361"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62" name="铅笔" descr="qianbi"/>
          <p:cNvPicPr/>
          <p:nvPr/>
        </p:nvPicPr>
        <p:blipFill>
          <a:blip r:embed="rId5"/>
          <a:stretch/>
        </p:blipFill>
        <p:spPr>
          <a:xfrm>
            <a:off x="88920" y="6105600"/>
            <a:ext cx="847800" cy="720720"/>
          </a:xfrm>
          <a:prstGeom prst="rect">
            <a:avLst/>
          </a:prstGeom>
          <a:ln w="0">
            <a:noFill/>
          </a:ln>
        </p:spPr>
      </p:pic>
      <p:pic>
        <p:nvPicPr>
          <p:cNvPr id="363" name="Picture 9" descr="jindu-lan"/>
          <p:cNvPicPr/>
          <p:nvPr/>
        </p:nvPicPr>
        <p:blipFill>
          <a:blip r:embed="rId6"/>
          <a:stretch/>
        </p:blipFill>
        <p:spPr>
          <a:xfrm>
            <a:off x="5981760" y="6369120"/>
            <a:ext cx="264960" cy="303120"/>
          </a:xfrm>
          <a:prstGeom prst="rect">
            <a:avLst/>
          </a:prstGeom>
          <a:ln w="0">
            <a:noFill/>
          </a:ln>
        </p:spPr>
      </p:pic>
      <p:pic>
        <p:nvPicPr>
          <p:cNvPr id="364"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65"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66"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367" name="Picture 13" descr=""/>
          <p:cNvPicPr/>
          <p:nvPr/>
        </p:nvPicPr>
        <p:blipFill>
          <a:blip r:embed="rId10"/>
          <a:stretch/>
        </p:blipFill>
        <p:spPr>
          <a:xfrm>
            <a:off x="2170080" y="1020600"/>
            <a:ext cx="6946920" cy="4913640"/>
          </a:xfrm>
          <a:prstGeom prst="rect">
            <a:avLst/>
          </a:prstGeom>
          <a:ln w="0">
            <a:noFill/>
          </a:ln>
        </p:spPr>
      </p:pic>
      <p:pic>
        <p:nvPicPr>
          <p:cNvPr id="368" name="Picture 14"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369" name="Picture 1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370" name="Picture 1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25" dur="1000" fill="hold"/>
                                        <p:tgtEl>
                                          <p:spTgt spid="361"/>
                                        </p:tgtEl>
                                      </p:cBhvr>
                                    </p:animMotion>
                                  </p:childTnLst>
                                </p:cTn>
                              </p:par>
                            </p:childTnLst>
                          </p:cTn>
                        </p:par>
                        <p:par>
                          <p:cTn id="126" nodeType="afterEffect" fill="hold">
                            <p:stCondLst>
                              <p:cond delay="1000"/>
                            </p:stCondLst>
                            <p:childTnLst>
                              <p:par>
                                <p:cTn id="12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28" dur="1000" fill="hold"/>
                                        <p:tgtEl>
                                          <p:spTgt spid="3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bg"/>
          <p:cNvPicPr/>
          <p:nvPr/>
        </p:nvPicPr>
        <p:blipFill>
          <a:blip r:embed="rId1"/>
          <a:stretch/>
        </p:blipFill>
        <p:spPr>
          <a:xfrm>
            <a:off x="-46080" y="-11160"/>
            <a:ext cx="12250800" cy="6918480"/>
          </a:xfrm>
          <a:prstGeom prst="rect">
            <a:avLst/>
          </a:prstGeom>
          <a:ln w="0">
            <a:noFill/>
          </a:ln>
        </p:spPr>
      </p:pic>
      <p:sp>
        <p:nvSpPr>
          <p:cNvPr id="37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73" name="Picture 4" descr="board"/>
          <p:cNvPicPr/>
          <p:nvPr/>
        </p:nvPicPr>
        <p:blipFill>
          <a:blip r:embed="rId2"/>
          <a:stretch/>
        </p:blipFill>
        <p:spPr>
          <a:xfrm>
            <a:off x="-44280" y="0"/>
            <a:ext cx="12228480" cy="6886440"/>
          </a:xfrm>
          <a:prstGeom prst="rect">
            <a:avLst/>
          </a:prstGeom>
          <a:ln w="0">
            <a:noFill/>
          </a:ln>
        </p:spPr>
      </p:pic>
      <p:sp>
        <p:nvSpPr>
          <p:cNvPr id="374" name="Text Box 14"/>
          <p:cNvSpPr/>
          <p:nvPr/>
        </p:nvSpPr>
        <p:spPr>
          <a:xfrm>
            <a:off x="803160" y="0"/>
            <a:ext cx="3319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目录</a:t>
            </a:r>
            <a:endParaRPr b="0" lang="en-US" sz="2600" spc="-1" strike="noStrike">
              <a:solidFill>
                <a:srgbClr val="000000"/>
              </a:solidFill>
              <a:latin typeface="Calibri"/>
            </a:endParaRPr>
          </a:p>
        </p:txBody>
      </p:sp>
      <p:pic>
        <p:nvPicPr>
          <p:cNvPr id="375" name="Picture 6" descr="3"/>
          <p:cNvPicPr/>
          <p:nvPr/>
        </p:nvPicPr>
        <p:blipFill>
          <a:blip r:embed="rId3"/>
          <a:stretch/>
        </p:blipFill>
        <p:spPr>
          <a:xfrm>
            <a:off x="1938240" y="6273720"/>
            <a:ext cx="4603680" cy="490680"/>
          </a:xfrm>
          <a:prstGeom prst="rect">
            <a:avLst/>
          </a:prstGeom>
          <a:ln w="0">
            <a:noFill/>
          </a:ln>
        </p:spPr>
      </p:pic>
      <p:pic>
        <p:nvPicPr>
          <p:cNvPr id="376"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77" name="铅笔" descr="qianbi"/>
          <p:cNvPicPr/>
          <p:nvPr/>
        </p:nvPicPr>
        <p:blipFill>
          <a:blip r:embed="rId5"/>
          <a:stretch/>
        </p:blipFill>
        <p:spPr>
          <a:xfrm>
            <a:off x="88920" y="6105600"/>
            <a:ext cx="847800" cy="720720"/>
          </a:xfrm>
          <a:prstGeom prst="rect">
            <a:avLst/>
          </a:prstGeom>
          <a:ln w="0">
            <a:noFill/>
          </a:ln>
        </p:spPr>
      </p:pic>
      <p:pic>
        <p:nvPicPr>
          <p:cNvPr id="378" name="Picture 9" descr="jindu-lan"/>
          <p:cNvPicPr/>
          <p:nvPr/>
        </p:nvPicPr>
        <p:blipFill>
          <a:blip r:embed="rId6"/>
          <a:stretch/>
        </p:blipFill>
        <p:spPr>
          <a:xfrm>
            <a:off x="5981760" y="6369120"/>
            <a:ext cx="264960" cy="303120"/>
          </a:xfrm>
          <a:prstGeom prst="rect">
            <a:avLst/>
          </a:prstGeom>
          <a:ln w="0">
            <a:noFill/>
          </a:ln>
        </p:spPr>
      </p:pic>
      <p:pic>
        <p:nvPicPr>
          <p:cNvPr id="379"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80"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81"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82" name=""/>
          <p:cNvGraphicFramePr/>
          <p:nvPr/>
        </p:nvGraphicFramePr>
        <p:xfrm>
          <a:off x="1751040" y="1228680"/>
          <a:ext cx="8481960" cy="4213440"/>
        </p:xfrm>
        <a:graphic>
          <a:graphicData uri="http://schemas.openxmlformats.org/drawingml/2006/table">
            <a:tbl>
              <a:tblPr/>
              <a:tblGrid>
                <a:gridCol w="2827440"/>
                <a:gridCol w="2825640"/>
                <a:gridCol w="2828880"/>
              </a:tblGrid>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7</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r>
              <a:tr h="7034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8</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r>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9</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5</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308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0</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6</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5</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7</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2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6</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8</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bl>
          </a:graphicData>
        </a:graphic>
      </p:graphicFrame>
      <p:pic>
        <p:nvPicPr>
          <p:cNvPr id="383" name="Picture 75"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384" name="Picture 76"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385" name="Picture 77"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34" dur="1000" fill="hold"/>
                                        <p:tgtEl>
                                          <p:spTgt spid="376"/>
                                        </p:tgtEl>
                                      </p:cBhvr>
                                    </p:animMotion>
                                  </p:childTnLst>
                                </p:cTn>
                              </p:par>
                            </p:childTnLst>
                          </p:cTn>
                        </p:par>
                        <p:par>
                          <p:cTn id="135" nodeType="afterEffect" fill="hold">
                            <p:stCondLst>
                              <p:cond delay="1000"/>
                            </p:stCondLst>
                            <p:childTnLst>
                              <p:par>
                                <p:cTn id="13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37" dur="1000" fill="hold"/>
                                        <p:tgtEl>
                                          <p:spTgt spid="3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bg"/>
          <p:cNvPicPr/>
          <p:nvPr/>
        </p:nvPicPr>
        <p:blipFill>
          <a:blip r:embed="rId1"/>
          <a:stretch/>
        </p:blipFill>
        <p:spPr>
          <a:xfrm>
            <a:off x="-46080" y="-11160"/>
            <a:ext cx="12250800" cy="6918480"/>
          </a:xfrm>
          <a:prstGeom prst="rect">
            <a:avLst/>
          </a:prstGeom>
          <a:ln w="0">
            <a:noFill/>
          </a:ln>
        </p:spPr>
      </p:pic>
      <p:sp>
        <p:nvSpPr>
          <p:cNvPr id="387"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88" name="Picture 4" descr="board"/>
          <p:cNvPicPr/>
          <p:nvPr/>
        </p:nvPicPr>
        <p:blipFill>
          <a:blip r:embed="rId2"/>
          <a:stretch/>
        </p:blipFill>
        <p:spPr>
          <a:xfrm>
            <a:off x="-44280" y="0"/>
            <a:ext cx="12228480" cy="6886440"/>
          </a:xfrm>
          <a:prstGeom prst="rect">
            <a:avLst/>
          </a:prstGeom>
          <a:ln w="0">
            <a:noFill/>
          </a:ln>
        </p:spPr>
      </p:pic>
      <p:sp>
        <p:nvSpPr>
          <p:cNvPr id="389" name="Text Box 14"/>
          <p:cNvSpPr/>
          <p:nvPr/>
        </p:nvSpPr>
        <p:spPr>
          <a:xfrm>
            <a:off x="586800" y="0"/>
            <a:ext cx="2513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a:t>
            </a:r>
            <a:r>
              <a:rPr b="0" lang="zh-CN" sz="2600" spc="-1" strike="noStrike">
                <a:solidFill>
                  <a:srgbClr val="ffffff"/>
                </a:solidFill>
                <a:latin typeface="造字工房悦黑体验版常规体"/>
                <a:ea typeface="造字工房悦黑体验版常规体"/>
              </a:rPr>
              <a:t>1</a:t>
            </a:r>
            <a:endParaRPr b="0" lang="en-US" sz="2600" spc="-1" strike="noStrike">
              <a:solidFill>
                <a:srgbClr val="000000"/>
              </a:solidFill>
              <a:latin typeface="Calibri"/>
            </a:endParaRPr>
          </a:p>
        </p:txBody>
      </p:sp>
      <p:pic>
        <p:nvPicPr>
          <p:cNvPr id="390" name="Picture 6" descr="3"/>
          <p:cNvPicPr/>
          <p:nvPr/>
        </p:nvPicPr>
        <p:blipFill>
          <a:blip r:embed="rId3"/>
          <a:stretch/>
        </p:blipFill>
        <p:spPr>
          <a:xfrm>
            <a:off x="1938240" y="6273720"/>
            <a:ext cx="4603680" cy="490680"/>
          </a:xfrm>
          <a:prstGeom prst="rect">
            <a:avLst/>
          </a:prstGeom>
          <a:ln w="0">
            <a:noFill/>
          </a:ln>
        </p:spPr>
      </p:pic>
      <p:pic>
        <p:nvPicPr>
          <p:cNvPr id="391"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92" name="铅笔" descr="qianbi"/>
          <p:cNvPicPr/>
          <p:nvPr/>
        </p:nvPicPr>
        <p:blipFill>
          <a:blip r:embed="rId5"/>
          <a:stretch/>
        </p:blipFill>
        <p:spPr>
          <a:xfrm>
            <a:off x="88920" y="6105600"/>
            <a:ext cx="847800" cy="720720"/>
          </a:xfrm>
          <a:prstGeom prst="rect">
            <a:avLst/>
          </a:prstGeom>
          <a:ln w="0">
            <a:noFill/>
          </a:ln>
        </p:spPr>
      </p:pic>
      <p:pic>
        <p:nvPicPr>
          <p:cNvPr id="393" name="Picture 9" descr="jindu-lan"/>
          <p:cNvPicPr/>
          <p:nvPr/>
        </p:nvPicPr>
        <p:blipFill>
          <a:blip r:embed="rId6"/>
          <a:stretch/>
        </p:blipFill>
        <p:spPr>
          <a:xfrm>
            <a:off x="5981760" y="6369120"/>
            <a:ext cx="264960" cy="303120"/>
          </a:xfrm>
          <a:prstGeom prst="rect">
            <a:avLst/>
          </a:prstGeom>
          <a:ln w="0">
            <a:noFill/>
          </a:ln>
        </p:spPr>
      </p:pic>
      <p:pic>
        <p:nvPicPr>
          <p:cNvPr id="394"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95"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96"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97" name=""/>
          <p:cNvGraphicFramePr/>
          <p:nvPr/>
        </p:nvGraphicFramePr>
        <p:xfrm>
          <a:off x="1749600" y="1228680"/>
          <a:ext cx="8534160" cy="4529160"/>
        </p:xfrm>
        <a:graphic>
          <a:graphicData uri="http://schemas.openxmlformats.org/drawingml/2006/table">
            <a:tbl>
              <a:tblPr/>
              <a:tblGrid>
                <a:gridCol w="2933640"/>
                <a:gridCol w="5600520"/>
              </a:tblGrid>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3827520">
                <a:tc gridSpan="2">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造字工房悦黑体验版常规体"/>
                        </a:rPr>
                        <a:t>方法说明</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39000"/>
                      </a:srgbClr>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398" name="Picture 27"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399" name="Picture 28"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00" name="Picture 29"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43" dur="1000" fill="hold"/>
                                        <p:tgtEl>
                                          <p:spTgt spid="391"/>
                                        </p:tgtEl>
                                      </p:cBhvr>
                                    </p:animMotion>
                                  </p:childTnLst>
                                </p:cTn>
                              </p:par>
                            </p:childTnLst>
                          </p:cTn>
                        </p:par>
                        <p:par>
                          <p:cTn id="144" nodeType="afterEffect" fill="hold">
                            <p:stCondLst>
                              <p:cond delay="1000"/>
                            </p:stCondLst>
                            <p:childTnLst>
                              <p:par>
                                <p:cTn id="14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46" dur="1000" fill="hold"/>
                                        <p:tgtEl>
                                          <p:spTgt spid="3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bg"/>
          <p:cNvPicPr/>
          <p:nvPr/>
        </p:nvPicPr>
        <p:blipFill>
          <a:blip r:embed="rId1"/>
          <a:stretch/>
        </p:blipFill>
        <p:spPr>
          <a:xfrm>
            <a:off x="-46080" y="-11160"/>
            <a:ext cx="12250800" cy="6918480"/>
          </a:xfrm>
          <a:prstGeom prst="rect">
            <a:avLst/>
          </a:prstGeom>
          <a:ln w="0">
            <a:noFill/>
          </a:ln>
        </p:spPr>
      </p:pic>
      <p:sp>
        <p:nvSpPr>
          <p:cNvPr id="40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03" name="Picture 4" descr="board"/>
          <p:cNvPicPr/>
          <p:nvPr/>
        </p:nvPicPr>
        <p:blipFill>
          <a:blip r:embed="rId2"/>
          <a:stretch/>
        </p:blipFill>
        <p:spPr>
          <a:xfrm>
            <a:off x="-44280" y="0"/>
            <a:ext cx="12228480" cy="6886440"/>
          </a:xfrm>
          <a:prstGeom prst="rect">
            <a:avLst/>
          </a:prstGeom>
          <a:ln w="0">
            <a:noFill/>
          </a:ln>
        </p:spPr>
      </p:pic>
      <p:pic>
        <p:nvPicPr>
          <p:cNvPr id="404" name="Picture 5" descr="3"/>
          <p:cNvPicPr/>
          <p:nvPr/>
        </p:nvPicPr>
        <p:blipFill>
          <a:blip r:embed="rId3"/>
          <a:stretch/>
        </p:blipFill>
        <p:spPr>
          <a:xfrm>
            <a:off x="1938240" y="6273720"/>
            <a:ext cx="4603680" cy="490680"/>
          </a:xfrm>
          <a:prstGeom prst="rect">
            <a:avLst/>
          </a:prstGeom>
          <a:ln w="0">
            <a:noFill/>
          </a:ln>
        </p:spPr>
      </p:pic>
      <p:pic>
        <p:nvPicPr>
          <p:cNvPr id="405"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06" name="铅笔" descr="qianbi"/>
          <p:cNvPicPr/>
          <p:nvPr/>
        </p:nvPicPr>
        <p:blipFill>
          <a:blip r:embed="rId5"/>
          <a:stretch/>
        </p:blipFill>
        <p:spPr>
          <a:xfrm>
            <a:off x="88920" y="6105600"/>
            <a:ext cx="847800" cy="720720"/>
          </a:xfrm>
          <a:prstGeom prst="rect">
            <a:avLst/>
          </a:prstGeom>
          <a:ln w="0">
            <a:noFill/>
          </a:ln>
        </p:spPr>
      </p:pic>
      <p:pic>
        <p:nvPicPr>
          <p:cNvPr id="407" name="Picture 8" descr="jindu-lan"/>
          <p:cNvPicPr/>
          <p:nvPr/>
        </p:nvPicPr>
        <p:blipFill>
          <a:blip r:embed="rId6"/>
          <a:stretch/>
        </p:blipFill>
        <p:spPr>
          <a:xfrm>
            <a:off x="5981760" y="6369120"/>
            <a:ext cx="264960" cy="303120"/>
          </a:xfrm>
          <a:prstGeom prst="rect">
            <a:avLst/>
          </a:prstGeom>
          <a:ln w="0">
            <a:noFill/>
          </a:ln>
        </p:spPr>
      </p:pic>
      <p:pic>
        <p:nvPicPr>
          <p:cNvPr id="408"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409"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410"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411"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endParaRPr b="0" lang="en-US" sz="2600" spc="-1" strike="noStrike">
              <a:solidFill>
                <a:srgbClr val="000000"/>
              </a:solidFill>
              <a:latin typeface="Calibri"/>
            </a:endParaRPr>
          </a:p>
        </p:txBody>
      </p:sp>
      <p:sp>
        <p:nvSpPr>
          <p:cNvPr id="412" name="Text Box 14">
            <a:hlinkClick r:id="rId10" action="ppaction://hlinksldjump"/>
          </p:cNvPr>
          <p:cNvSpPr/>
          <p:nvPr/>
        </p:nvSpPr>
        <p:spPr>
          <a:xfrm>
            <a:off x="1902960" y="1225440"/>
            <a:ext cx="577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对比</a:t>
            </a:r>
            <a:endParaRPr b="0" lang="en-US" sz="2600" spc="-1" strike="noStrike">
              <a:solidFill>
                <a:srgbClr val="000000"/>
              </a:solidFill>
              <a:latin typeface="Calibri"/>
            </a:endParaRPr>
          </a:p>
        </p:txBody>
      </p:sp>
      <p:pic>
        <p:nvPicPr>
          <p:cNvPr id="413" name="图片 2" descr="red-point"/>
          <p:cNvPicPr/>
          <p:nvPr/>
        </p:nvPicPr>
        <p:blipFill>
          <a:blip r:embed="rId11"/>
          <a:stretch/>
        </p:blipFill>
        <p:spPr>
          <a:xfrm>
            <a:off x="1143000" y="1257480"/>
            <a:ext cx="517680" cy="431640"/>
          </a:xfrm>
          <a:prstGeom prst="rect">
            <a:avLst/>
          </a:prstGeom>
          <a:ln w="0">
            <a:noFill/>
          </a:ln>
        </p:spPr>
      </p:pic>
      <p:sp>
        <p:nvSpPr>
          <p:cNvPr id="414" name="TextBox 3"/>
          <p:cNvSpPr/>
          <p:nvPr/>
        </p:nvSpPr>
        <p:spPr>
          <a:xfrm>
            <a:off x="1168560" y="12510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415" name="Text Box 14">
            <a:hlinkClick r:id="rId12" action="ppaction://hlinksldjump"/>
          </p:cNvPr>
          <p:cNvSpPr/>
          <p:nvPr/>
        </p:nvSpPr>
        <p:spPr>
          <a:xfrm>
            <a:off x="1902960" y="1927080"/>
            <a:ext cx="577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分析</a:t>
            </a:r>
            <a:endParaRPr b="0" lang="en-US" sz="2600" spc="-1" strike="noStrike">
              <a:solidFill>
                <a:srgbClr val="000000"/>
              </a:solidFill>
              <a:latin typeface="Calibri"/>
            </a:endParaRPr>
          </a:p>
        </p:txBody>
      </p:sp>
      <p:pic>
        <p:nvPicPr>
          <p:cNvPr id="416" name="图片 2" descr="red-point"/>
          <p:cNvPicPr/>
          <p:nvPr/>
        </p:nvPicPr>
        <p:blipFill>
          <a:blip r:embed="rId13"/>
          <a:stretch/>
        </p:blipFill>
        <p:spPr>
          <a:xfrm>
            <a:off x="1143000" y="1959120"/>
            <a:ext cx="517680" cy="431640"/>
          </a:xfrm>
          <a:prstGeom prst="rect">
            <a:avLst/>
          </a:prstGeom>
          <a:ln w="0">
            <a:noFill/>
          </a:ln>
        </p:spPr>
      </p:pic>
      <p:sp>
        <p:nvSpPr>
          <p:cNvPr id="417" name="TextBox 3"/>
          <p:cNvSpPr/>
          <p:nvPr/>
        </p:nvSpPr>
        <p:spPr>
          <a:xfrm>
            <a:off x="1168560" y="1952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418" name="Text Box 14">
            <a:hlinkClick r:id="rId14" action="ppaction://hlinksldjump"/>
          </p:cNvPr>
          <p:cNvSpPr/>
          <p:nvPr/>
        </p:nvSpPr>
        <p:spPr>
          <a:xfrm>
            <a:off x="1902960" y="2660760"/>
            <a:ext cx="577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总结</a:t>
            </a:r>
            <a:endParaRPr b="0" lang="en-US" sz="2600" spc="-1" strike="noStrike">
              <a:solidFill>
                <a:srgbClr val="000000"/>
              </a:solidFill>
              <a:latin typeface="Calibri"/>
            </a:endParaRPr>
          </a:p>
        </p:txBody>
      </p:sp>
      <p:pic>
        <p:nvPicPr>
          <p:cNvPr id="419" name="图片 2" descr="red-point"/>
          <p:cNvPicPr/>
          <p:nvPr/>
        </p:nvPicPr>
        <p:blipFill>
          <a:blip r:embed="rId15"/>
          <a:stretch/>
        </p:blipFill>
        <p:spPr>
          <a:xfrm>
            <a:off x="1143000" y="2692440"/>
            <a:ext cx="517680" cy="431640"/>
          </a:xfrm>
          <a:prstGeom prst="rect">
            <a:avLst/>
          </a:prstGeom>
          <a:ln w="0">
            <a:noFill/>
          </a:ln>
        </p:spPr>
      </p:pic>
      <p:sp>
        <p:nvSpPr>
          <p:cNvPr id="420" name="TextBox 3"/>
          <p:cNvSpPr/>
          <p:nvPr/>
        </p:nvSpPr>
        <p:spPr>
          <a:xfrm>
            <a:off x="1168560" y="26859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421" name="Text Box 14">
            <a:hlinkClick r:id="rId16" action="ppaction://hlinksldjump"/>
          </p:cNvPr>
          <p:cNvSpPr/>
          <p:nvPr/>
        </p:nvSpPr>
        <p:spPr>
          <a:xfrm>
            <a:off x="1902960" y="3394080"/>
            <a:ext cx="577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步骤</a:t>
            </a:r>
            <a:endParaRPr b="0" lang="en-US" sz="2600" spc="-1" strike="noStrike">
              <a:solidFill>
                <a:srgbClr val="000000"/>
              </a:solidFill>
              <a:latin typeface="Calibri"/>
            </a:endParaRPr>
          </a:p>
        </p:txBody>
      </p:sp>
      <p:pic>
        <p:nvPicPr>
          <p:cNvPr id="422" name="图片 2" descr="red-point"/>
          <p:cNvPicPr/>
          <p:nvPr/>
        </p:nvPicPr>
        <p:blipFill>
          <a:blip r:embed="rId17"/>
          <a:stretch/>
        </p:blipFill>
        <p:spPr>
          <a:xfrm>
            <a:off x="1143000" y="3425760"/>
            <a:ext cx="517680" cy="432000"/>
          </a:xfrm>
          <a:prstGeom prst="rect">
            <a:avLst/>
          </a:prstGeom>
          <a:ln w="0">
            <a:noFill/>
          </a:ln>
        </p:spPr>
      </p:pic>
      <p:sp>
        <p:nvSpPr>
          <p:cNvPr id="423" name="TextBox 3"/>
          <p:cNvSpPr/>
          <p:nvPr/>
        </p:nvSpPr>
        <p:spPr>
          <a:xfrm>
            <a:off x="1168560" y="3419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424" name="Text Box 14">
            <a:hlinkClick r:id="rId18" action="ppaction://hlinksldjump"/>
          </p:cNvPr>
          <p:cNvSpPr/>
          <p:nvPr/>
        </p:nvSpPr>
        <p:spPr>
          <a:xfrm>
            <a:off x="1704960" y="407988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集思广益</a:t>
            </a:r>
            <a:endParaRPr b="0" lang="en-US" sz="2600" spc="-1" strike="noStrike">
              <a:solidFill>
                <a:srgbClr val="000000"/>
              </a:solidFill>
              <a:latin typeface="Calibri"/>
            </a:endParaRPr>
          </a:p>
        </p:txBody>
      </p:sp>
      <p:pic>
        <p:nvPicPr>
          <p:cNvPr id="425" name="图片 2" descr="red-point"/>
          <p:cNvPicPr/>
          <p:nvPr/>
        </p:nvPicPr>
        <p:blipFill>
          <a:blip r:embed="rId19"/>
          <a:stretch/>
        </p:blipFill>
        <p:spPr>
          <a:xfrm>
            <a:off x="1143000" y="4111560"/>
            <a:ext cx="517680" cy="432000"/>
          </a:xfrm>
          <a:prstGeom prst="rect">
            <a:avLst/>
          </a:prstGeom>
          <a:ln w="0">
            <a:noFill/>
          </a:ln>
        </p:spPr>
      </p:pic>
      <p:sp>
        <p:nvSpPr>
          <p:cNvPr id="426" name="TextBox 3"/>
          <p:cNvSpPr/>
          <p:nvPr/>
        </p:nvSpPr>
        <p:spPr>
          <a:xfrm>
            <a:off x="1168560" y="4105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pic>
        <p:nvPicPr>
          <p:cNvPr id="427" name="Picture 28" descr="tb-xiuxi">
            <a:hlinkClick r:id="rId20" action="ppaction://hlinksldjump"/>
          </p:cNvPr>
          <p:cNvPicPr/>
          <p:nvPr/>
        </p:nvPicPr>
        <p:blipFill>
          <a:blip r:embed="rId21"/>
          <a:stretch/>
        </p:blipFill>
        <p:spPr>
          <a:xfrm>
            <a:off x="9499680" y="6383160"/>
            <a:ext cx="615960" cy="524160"/>
          </a:xfrm>
          <a:prstGeom prst="rect">
            <a:avLst/>
          </a:prstGeom>
          <a:ln w="0">
            <a:noFill/>
          </a:ln>
        </p:spPr>
      </p:pic>
      <p:pic>
        <p:nvPicPr>
          <p:cNvPr id="428" name="Picture 29" descr="jindu-lan">
            <a:hlinkClick r:id="rId22" action="ppaction://hlinksldjump"/>
          </p:cNvPr>
          <p:cNvPicPr/>
          <p:nvPr/>
        </p:nvPicPr>
        <p:blipFill>
          <a:blip r:embed="rId23"/>
          <a:stretch/>
        </p:blipFill>
        <p:spPr>
          <a:xfrm>
            <a:off x="4106880" y="6370560"/>
            <a:ext cx="264960" cy="301680"/>
          </a:xfrm>
          <a:prstGeom prst="rect">
            <a:avLst/>
          </a:prstGeom>
          <a:ln w="0">
            <a:noFill/>
          </a:ln>
        </p:spPr>
      </p:pic>
      <p:pic>
        <p:nvPicPr>
          <p:cNvPr id="429" name="Picture 30" descr="jindu-lan">
            <a:hlinkClick r:id="rId24" action="ppaction://hlinksldjump"/>
          </p:cNvPr>
          <p:cNvPicPr/>
          <p:nvPr/>
        </p:nvPicPr>
        <p:blipFill>
          <a:blip r:embed="rId2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52" dur="1000" fill="hold"/>
                                        <p:tgtEl>
                                          <p:spTgt spid="405"/>
                                        </p:tgtEl>
                                      </p:cBhvr>
                                    </p:animMotion>
                                  </p:childTnLst>
                                </p:cTn>
                              </p:par>
                            </p:childTnLst>
                          </p:cTn>
                        </p:par>
                        <p:par>
                          <p:cTn id="153" nodeType="afterEffect" fill="hold">
                            <p:stCondLst>
                              <p:cond delay="1000"/>
                            </p:stCondLst>
                            <p:childTnLst>
                              <p:par>
                                <p:cTn id="15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55" dur="1000" fill="hold"/>
                                        <p:tgtEl>
                                          <p:spTgt spid="4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bg"/>
          <p:cNvPicPr/>
          <p:nvPr/>
        </p:nvPicPr>
        <p:blipFill>
          <a:blip r:embed="rId1"/>
          <a:stretch/>
        </p:blipFill>
        <p:spPr>
          <a:xfrm>
            <a:off x="-46080" y="-11160"/>
            <a:ext cx="12250800" cy="6918480"/>
          </a:xfrm>
          <a:prstGeom prst="rect">
            <a:avLst/>
          </a:prstGeom>
          <a:ln w="0">
            <a:noFill/>
          </a:ln>
        </p:spPr>
      </p:pic>
      <p:sp>
        <p:nvSpPr>
          <p:cNvPr id="43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32" name="Picture 4" descr="board"/>
          <p:cNvPicPr/>
          <p:nvPr/>
        </p:nvPicPr>
        <p:blipFill>
          <a:blip r:embed="rId2"/>
          <a:stretch/>
        </p:blipFill>
        <p:spPr>
          <a:xfrm>
            <a:off x="-44280" y="0"/>
            <a:ext cx="12228480" cy="6886440"/>
          </a:xfrm>
          <a:prstGeom prst="rect">
            <a:avLst/>
          </a:prstGeom>
          <a:ln w="0">
            <a:noFill/>
          </a:ln>
        </p:spPr>
      </p:pic>
      <p:pic>
        <p:nvPicPr>
          <p:cNvPr id="433" name="Picture 5" descr="3"/>
          <p:cNvPicPr/>
          <p:nvPr/>
        </p:nvPicPr>
        <p:blipFill>
          <a:blip r:embed="rId3"/>
          <a:stretch/>
        </p:blipFill>
        <p:spPr>
          <a:xfrm>
            <a:off x="1938240" y="6273720"/>
            <a:ext cx="4603680" cy="490680"/>
          </a:xfrm>
          <a:prstGeom prst="rect">
            <a:avLst/>
          </a:prstGeom>
          <a:ln w="0">
            <a:noFill/>
          </a:ln>
        </p:spPr>
      </p:pic>
      <p:pic>
        <p:nvPicPr>
          <p:cNvPr id="43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35" name="铅笔" descr="qianbi"/>
          <p:cNvPicPr/>
          <p:nvPr/>
        </p:nvPicPr>
        <p:blipFill>
          <a:blip r:embed="rId5"/>
          <a:stretch/>
        </p:blipFill>
        <p:spPr>
          <a:xfrm>
            <a:off x="88920" y="6105600"/>
            <a:ext cx="847800" cy="720720"/>
          </a:xfrm>
          <a:prstGeom prst="rect">
            <a:avLst/>
          </a:prstGeom>
          <a:ln w="0">
            <a:noFill/>
          </a:ln>
        </p:spPr>
      </p:pic>
      <p:pic>
        <p:nvPicPr>
          <p:cNvPr id="436" name="Picture 8" descr="jindu-lan">
            <a:hlinkClick r:id="rId6" action="ppaction://hlinksldjump"/>
          </p:cNvPr>
          <p:cNvPicPr/>
          <p:nvPr/>
        </p:nvPicPr>
        <p:blipFill>
          <a:blip r:embed="rId7"/>
          <a:stretch/>
        </p:blipFill>
        <p:spPr>
          <a:xfrm>
            <a:off x="5981760" y="6369120"/>
            <a:ext cx="264960" cy="303120"/>
          </a:xfrm>
          <a:prstGeom prst="rect">
            <a:avLst/>
          </a:prstGeom>
          <a:ln w="0">
            <a:noFill/>
          </a:ln>
        </p:spPr>
      </p:pic>
      <p:pic>
        <p:nvPicPr>
          <p:cNvPr id="437" name="下一页" descr="jiantou">
            <a:hlinkClick r:id="" action="ppaction://hlinkshowjump?jump=previousslide"/>
          </p:cNvPr>
          <p:cNvPicPr/>
          <p:nvPr/>
        </p:nvPicPr>
        <p:blipFill>
          <a:blip r:embed="rId8"/>
          <a:stretch/>
        </p:blipFill>
        <p:spPr>
          <a:xfrm>
            <a:off x="20520" y="2973240"/>
            <a:ext cx="397080" cy="660600"/>
          </a:xfrm>
          <a:prstGeom prst="rect">
            <a:avLst/>
          </a:prstGeom>
          <a:ln w="0">
            <a:noFill/>
          </a:ln>
        </p:spPr>
      </p:pic>
      <p:pic>
        <p:nvPicPr>
          <p:cNvPr id="438" name="Picture 10" descr="tb-houtui">
            <a:hlinkClick r:id="" action="ppaction://hlinkshowjump?jump=previousslide"/>
          </p:cNvPr>
          <p:cNvPicPr/>
          <p:nvPr/>
        </p:nvPicPr>
        <p:blipFill>
          <a:blip r:embed="rId9"/>
          <a:stretch/>
        </p:blipFill>
        <p:spPr>
          <a:xfrm>
            <a:off x="10401480" y="6383160"/>
            <a:ext cx="615600" cy="524160"/>
          </a:xfrm>
          <a:prstGeom prst="rect">
            <a:avLst/>
          </a:prstGeom>
          <a:ln w="0">
            <a:noFill/>
          </a:ln>
        </p:spPr>
      </p:pic>
      <p:pic>
        <p:nvPicPr>
          <p:cNvPr id="439" name="Picture 11" descr="tb-tuichu">
            <a:hlinkClick r:id="" action="ppaction://hlinkshowjump?jump=endshow"/>
          </p:cNvPr>
          <p:cNvPicPr/>
          <p:nvPr/>
        </p:nvPicPr>
        <p:blipFill>
          <a:blip r:embed="rId10"/>
          <a:stretch/>
        </p:blipFill>
        <p:spPr>
          <a:xfrm>
            <a:off x="11320560" y="6383160"/>
            <a:ext cx="615960" cy="524160"/>
          </a:xfrm>
          <a:prstGeom prst="rect">
            <a:avLst/>
          </a:prstGeom>
          <a:ln w="0">
            <a:noFill/>
          </a:ln>
        </p:spPr>
      </p:pic>
      <p:sp>
        <p:nvSpPr>
          <p:cNvPr id="440"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对比</a:t>
            </a:r>
            <a:endParaRPr b="0" lang="en-US" sz="2600" spc="-1" strike="noStrike">
              <a:solidFill>
                <a:srgbClr val="000000"/>
              </a:solidFill>
              <a:latin typeface="Calibri"/>
            </a:endParaRPr>
          </a:p>
        </p:txBody>
      </p:sp>
      <p:pic>
        <p:nvPicPr>
          <p:cNvPr id="441" name="Picture 13" descr=""/>
          <p:cNvPicPr/>
          <p:nvPr/>
        </p:nvPicPr>
        <p:blipFill>
          <a:blip r:embed="rId11"/>
          <a:stretch/>
        </p:blipFill>
        <p:spPr>
          <a:xfrm>
            <a:off x="2162160" y="1133640"/>
            <a:ext cx="7815240" cy="4667040"/>
          </a:xfrm>
          <a:prstGeom prst="rect">
            <a:avLst/>
          </a:prstGeom>
          <a:ln w="0">
            <a:noFill/>
          </a:ln>
        </p:spPr>
      </p:pic>
      <p:pic>
        <p:nvPicPr>
          <p:cNvPr id="442" name="Picture 14"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443" name="Picture 15"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444" name="Picture 16"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61" dur="1000" fill="hold"/>
                                        <p:tgtEl>
                                          <p:spTgt spid="434"/>
                                        </p:tgtEl>
                                      </p:cBhvr>
                                    </p:animMotion>
                                  </p:childTnLst>
                                </p:cTn>
                              </p:par>
                            </p:childTnLst>
                          </p:cTn>
                        </p:par>
                        <p:par>
                          <p:cTn id="162" nodeType="afterEffect" fill="hold">
                            <p:stCondLst>
                              <p:cond delay="1000"/>
                            </p:stCondLst>
                            <p:childTnLst>
                              <p:par>
                                <p:cTn id="16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64" dur="1000" fill="hold"/>
                                        <p:tgtEl>
                                          <p:spTgt spid="4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bg"/>
          <p:cNvPicPr/>
          <p:nvPr/>
        </p:nvPicPr>
        <p:blipFill>
          <a:blip r:embed="rId1"/>
          <a:stretch/>
        </p:blipFill>
        <p:spPr>
          <a:xfrm>
            <a:off x="-46080" y="-11160"/>
            <a:ext cx="12250800" cy="6918480"/>
          </a:xfrm>
          <a:prstGeom prst="rect">
            <a:avLst/>
          </a:prstGeom>
          <a:ln w="0">
            <a:noFill/>
          </a:ln>
        </p:spPr>
      </p:pic>
      <p:sp>
        <p:nvSpPr>
          <p:cNvPr id="44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47" name="Picture 4" descr="board"/>
          <p:cNvPicPr/>
          <p:nvPr/>
        </p:nvPicPr>
        <p:blipFill>
          <a:blip r:embed="rId2"/>
          <a:stretch/>
        </p:blipFill>
        <p:spPr>
          <a:xfrm>
            <a:off x="-44280" y="0"/>
            <a:ext cx="12228480" cy="6886440"/>
          </a:xfrm>
          <a:prstGeom prst="rect">
            <a:avLst/>
          </a:prstGeom>
          <a:ln w="0">
            <a:noFill/>
          </a:ln>
        </p:spPr>
      </p:pic>
      <p:pic>
        <p:nvPicPr>
          <p:cNvPr id="448" name="Picture 5" descr="3"/>
          <p:cNvPicPr/>
          <p:nvPr/>
        </p:nvPicPr>
        <p:blipFill>
          <a:blip r:embed="rId3"/>
          <a:stretch/>
        </p:blipFill>
        <p:spPr>
          <a:xfrm>
            <a:off x="1938240" y="6273720"/>
            <a:ext cx="4603680" cy="490680"/>
          </a:xfrm>
          <a:prstGeom prst="rect">
            <a:avLst/>
          </a:prstGeom>
          <a:ln w="0">
            <a:noFill/>
          </a:ln>
        </p:spPr>
      </p:pic>
      <p:pic>
        <p:nvPicPr>
          <p:cNvPr id="44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50" name="铅笔" descr="qianbi"/>
          <p:cNvPicPr/>
          <p:nvPr/>
        </p:nvPicPr>
        <p:blipFill>
          <a:blip r:embed="rId5"/>
          <a:stretch/>
        </p:blipFill>
        <p:spPr>
          <a:xfrm>
            <a:off x="88920" y="6105600"/>
            <a:ext cx="847800" cy="720720"/>
          </a:xfrm>
          <a:prstGeom prst="rect">
            <a:avLst/>
          </a:prstGeom>
          <a:ln w="0">
            <a:noFill/>
          </a:ln>
        </p:spPr>
      </p:pic>
      <p:pic>
        <p:nvPicPr>
          <p:cNvPr id="451"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52"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53"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54"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析</a:t>
            </a:r>
            <a:endParaRPr b="0" lang="en-US" sz="2600" spc="-1" strike="noStrike">
              <a:solidFill>
                <a:srgbClr val="000000"/>
              </a:solidFill>
              <a:latin typeface="Calibri"/>
            </a:endParaRPr>
          </a:p>
        </p:txBody>
      </p:sp>
      <p:pic>
        <p:nvPicPr>
          <p:cNvPr id="455" name="Picture 12" descr=""/>
          <p:cNvPicPr/>
          <p:nvPr/>
        </p:nvPicPr>
        <p:blipFill>
          <a:blip r:embed="rId9"/>
          <a:stretch/>
        </p:blipFill>
        <p:spPr>
          <a:xfrm>
            <a:off x="2013120" y="1058760"/>
            <a:ext cx="7994520" cy="4334040"/>
          </a:xfrm>
          <a:prstGeom prst="rect">
            <a:avLst/>
          </a:prstGeom>
          <a:ln w="0">
            <a:noFill/>
          </a:ln>
        </p:spPr>
      </p:pic>
      <p:pic>
        <p:nvPicPr>
          <p:cNvPr id="456"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57"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58"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59"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70" dur="1000" fill="hold"/>
                                        <p:tgtEl>
                                          <p:spTgt spid="449"/>
                                        </p:tgtEl>
                                      </p:cBhvr>
                                    </p:animMotion>
                                  </p:childTnLst>
                                </p:cTn>
                              </p:par>
                            </p:childTnLst>
                          </p:cTn>
                        </p:par>
                        <p:par>
                          <p:cTn id="171" nodeType="afterEffect" fill="hold">
                            <p:stCondLst>
                              <p:cond delay="1000"/>
                            </p:stCondLst>
                            <p:childTnLst>
                              <p:par>
                                <p:cTn id="17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73" dur="1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背景" descr="bg"/>
          <p:cNvPicPr/>
          <p:nvPr/>
        </p:nvPicPr>
        <p:blipFill>
          <a:blip r:embed="rId1"/>
          <a:stretch/>
        </p:blipFill>
        <p:spPr>
          <a:xfrm>
            <a:off x="-46080" y="-11160"/>
            <a:ext cx="12250800" cy="6918480"/>
          </a:xfrm>
          <a:prstGeom prst="rect">
            <a:avLst/>
          </a:prstGeom>
          <a:ln w="0">
            <a:noFill/>
          </a:ln>
        </p:spPr>
      </p:pic>
      <p:pic>
        <p:nvPicPr>
          <p:cNvPr id="55" name="board" descr="board"/>
          <p:cNvPicPr/>
          <p:nvPr/>
        </p:nvPicPr>
        <p:blipFill>
          <a:blip r:embed="rId2"/>
          <a:stretch/>
        </p:blipFill>
        <p:spPr>
          <a:xfrm>
            <a:off x="-44280" y="0"/>
            <a:ext cx="12228480" cy="6886440"/>
          </a:xfrm>
          <a:prstGeom prst="rect">
            <a:avLst/>
          </a:prstGeom>
          <a:ln w="0">
            <a:noFill/>
          </a:ln>
        </p:spPr>
      </p:pic>
      <p:pic>
        <p:nvPicPr>
          <p:cNvPr id="56" name="banner" descr="banner-cloud"/>
          <p:cNvPicPr/>
          <p:nvPr/>
        </p:nvPicPr>
        <p:blipFill>
          <a:blip r:embed="rId3"/>
          <a:stretch/>
        </p:blipFill>
        <p:spPr>
          <a:xfrm>
            <a:off x="-81000" y="-27000"/>
            <a:ext cx="12293640" cy="6918480"/>
          </a:xfrm>
          <a:prstGeom prst="rect">
            <a:avLst/>
          </a:prstGeom>
          <a:ln w="0">
            <a:noFill/>
          </a:ln>
        </p:spPr>
      </p:pic>
      <p:pic>
        <p:nvPicPr>
          <p:cNvPr id="57" name="Picture 5" descr="1"/>
          <p:cNvPicPr/>
          <p:nvPr/>
        </p:nvPicPr>
        <p:blipFill>
          <a:blip r:embed="rId4"/>
          <a:stretch/>
        </p:blipFill>
        <p:spPr>
          <a:xfrm>
            <a:off x="1936800" y="6273720"/>
            <a:ext cx="4606920" cy="490680"/>
          </a:xfrm>
          <a:prstGeom prst="rect">
            <a:avLst/>
          </a:prstGeom>
          <a:ln w="0">
            <a:noFill/>
          </a:ln>
        </p:spPr>
      </p:pic>
      <p:sp>
        <p:nvSpPr>
          <p:cNvPr id="58" name="Text Box 16">
            <a:hlinkClick r:id="rId5" action="ppaction://hlinksldjump"/>
          </p:cNvPr>
          <p:cNvSpPr/>
          <p:nvPr/>
        </p:nvSpPr>
        <p:spPr>
          <a:xfrm>
            <a:off x="2026800" y="34974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流程与方法</a:t>
            </a:r>
            <a:endParaRPr b="0" lang="en-US" sz="2600" spc="-1" strike="noStrike">
              <a:solidFill>
                <a:srgbClr val="000000"/>
              </a:solidFill>
              <a:latin typeface="Calibri"/>
            </a:endParaRPr>
          </a:p>
        </p:txBody>
      </p:sp>
      <p:pic>
        <p:nvPicPr>
          <p:cNvPr id="59" name="图片 28" descr=""/>
          <p:cNvPicPr/>
          <p:nvPr/>
        </p:nvPicPr>
        <p:blipFill>
          <a:blip r:embed="rId6"/>
          <a:stretch/>
        </p:blipFill>
        <p:spPr>
          <a:xfrm>
            <a:off x="1093680" y="3483000"/>
            <a:ext cx="517680" cy="433440"/>
          </a:xfrm>
          <a:prstGeom prst="rect">
            <a:avLst/>
          </a:prstGeom>
          <a:ln w="0">
            <a:noFill/>
          </a:ln>
        </p:spPr>
      </p:pic>
      <p:sp>
        <p:nvSpPr>
          <p:cNvPr id="60" name="TextBox 29"/>
          <p:cNvSpPr/>
          <p:nvPr/>
        </p:nvSpPr>
        <p:spPr>
          <a:xfrm>
            <a:off x="1135080" y="347832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61" name="Text Box 14">
            <a:hlinkClick r:id="rId7" action="ppaction://hlinksldjump"/>
          </p:cNvPr>
          <p:cNvSpPr/>
          <p:nvPr/>
        </p:nvSpPr>
        <p:spPr>
          <a:xfrm>
            <a:off x="1828800" y="17049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概述</a:t>
            </a:r>
            <a:endParaRPr b="0" lang="en-US" sz="2600" spc="-1" strike="noStrike">
              <a:solidFill>
                <a:srgbClr val="000000"/>
              </a:solidFill>
              <a:latin typeface="Calibri"/>
            </a:endParaRPr>
          </a:p>
        </p:txBody>
      </p:sp>
      <p:pic>
        <p:nvPicPr>
          <p:cNvPr id="62" name="图片 2" descr=""/>
          <p:cNvPicPr/>
          <p:nvPr/>
        </p:nvPicPr>
        <p:blipFill>
          <a:blip r:embed="rId8"/>
          <a:stretch/>
        </p:blipFill>
        <p:spPr>
          <a:xfrm>
            <a:off x="1093680" y="1731960"/>
            <a:ext cx="517680" cy="433440"/>
          </a:xfrm>
          <a:prstGeom prst="rect">
            <a:avLst/>
          </a:prstGeom>
          <a:ln w="0">
            <a:noFill/>
          </a:ln>
        </p:spPr>
      </p:pic>
      <p:sp>
        <p:nvSpPr>
          <p:cNvPr id="63" name="TextBox 3"/>
          <p:cNvSpPr/>
          <p:nvPr/>
        </p:nvSpPr>
        <p:spPr>
          <a:xfrm>
            <a:off x="1135080" y="172728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64" name="Text Box 15">
            <a:hlinkClick r:id="rId9" action="ppaction://hlinksldjump"/>
          </p:cNvPr>
          <p:cNvSpPr/>
          <p:nvPr/>
        </p:nvSpPr>
        <p:spPr>
          <a:xfrm>
            <a:off x="1828800" y="25844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内容</a:t>
            </a:r>
            <a:endParaRPr b="0" lang="en-US" sz="2600" spc="-1" strike="noStrike">
              <a:solidFill>
                <a:srgbClr val="000000"/>
              </a:solidFill>
              <a:latin typeface="Calibri"/>
            </a:endParaRPr>
          </a:p>
        </p:txBody>
      </p:sp>
      <p:pic>
        <p:nvPicPr>
          <p:cNvPr id="65" name="图片 25" descr=""/>
          <p:cNvPicPr/>
          <p:nvPr/>
        </p:nvPicPr>
        <p:blipFill>
          <a:blip r:embed="rId10"/>
          <a:stretch/>
        </p:blipFill>
        <p:spPr>
          <a:xfrm>
            <a:off x="1093680" y="2589120"/>
            <a:ext cx="517680" cy="432000"/>
          </a:xfrm>
          <a:prstGeom prst="rect">
            <a:avLst/>
          </a:prstGeom>
          <a:ln w="0">
            <a:noFill/>
          </a:ln>
        </p:spPr>
      </p:pic>
      <p:sp>
        <p:nvSpPr>
          <p:cNvPr id="66" name="TextBox 26"/>
          <p:cNvSpPr/>
          <p:nvPr/>
        </p:nvSpPr>
        <p:spPr>
          <a:xfrm>
            <a:off x="1135080" y="2584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67" name="Text Box 17">
            <a:hlinkClick r:id="rId11" action="ppaction://hlinksldjump"/>
          </p:cNvPr>
          <p:cNvSpPr/>
          <p:nvPr/>
        </p:nvSpPr>
        <p:spPr>
          <a:xfrm>
            <a:off x="1828800" y="44006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制定计划</a:t>
            </a:r>
            <a:endParaRPr b="0" lang="en-US" sz="2600" spc="-1" strike="noStrike">
              <a:solidFill>
                <a:srgbClr val="000000"/>
              </a:solidFill>
              <a:latin typeface="Calibri"/>
            </a:endParaRPr>
          </a:p>
        </p:txBody>
      </p:sp>
      <p:pic>
        <p:nvPicPr>
          <p:cNvPr id="68" name="图片 31" descr=""/>
          <p:cNvPicPr/>
          <p:nvPr/>
        </p:nvPicPr>
        <p:blipFill>
          <a:blip r:embed="rId12"/>
          <a:stretch/>
        </p:blipFill>
        <p:spPr>
          <a:xfrm>
            <a:off x="1093680" y="4405320"/>
            <a:ext cx="517680" cy="431640"/>
          </a:xfrm>
          <a:prstGeom prst="rect">
            <a:avLst/>
          </a:prstGeom>
          <a:ln w="0">
            <a:noFill/>
          </a:ln>
        </p:spPr>
      </p:pic>
      <p:sp>
        <p:nvSpPr>
          <p:cNvPr id="69" name="TextBox 32"/>
          <p:cNvSpPr/>
          <p:nvPr/>
        </p:nvSpPr>
        <p:spPr>
          <a:xfrm>
            <a:off x="1135080" y="4400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70" name="Text Box 19">
            <a:hlinkClick r:id="rId13" action="ppaction://hlinksldjump"/>
          </p:cNvPr>
          <p:cNvSpPr/>
          <p:nvPr/>
        </p:nvSpPr>
        <p:spPr>
          <a:xfrm>
            <a:off x="1828800" y="52293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总结</a:t>
            </a:r>
            <a:endParaRPr b="0" lang="en-US" sz="2600" spc="-1" strike="noStrike">
              <a:solidFill>
                <a:srgbClr val="000000"/>
              </a:solidFill>
              <a:latin typeface="Calibri"/>
            </a:endParaRPr>
          </a:p>
        </p:txBody>
      </p:sp>
      <p:pic>
        <p:nvPicPr>
          <p:cNvPr id="71" name="图片 37" descr=""/>
          <p:cNvPicPr/>
          <p:nvPr/>
        </p:nvPicPr>
        <p:blipFill>
          <a:blip r:embed="rId14"/>
          <a:stretch/>
        </p:blipFill>
        <p:spPr>
          <a:xfrm>
            <a:off x="1093680" y="5234040"/>
            <a:ext cx="517680" cy="431640"/>
          </a:xfrm>
          <a:prstGeom prst="rect">
            <a:avLst/>
          </a:prstGeom>
          <a:ln w="0">
            <a:noFill/>
          </a:ln>
        </p:spPr>
      </p:pic>
      <p:sp>
        <p:nvSpPr>
          <p:cNvPr id="72" name="TextBox 38"/>
          <p:cNvSpPr/>
          <p:nvPr/>
        </p:nvSpPr>
        <p:spPr>
          <a:xfrm>
            <a:off x="1135080" y="52293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6</a:t>
            </a:r>
            <a:endParaRPr b="0" lang="en-US" sz="2000" spc="-1" strike="noStrike">
              <a:solidFill>
                <a:srgbClr val="000000"/>
              </a:solidFill>
              <a:latin typeface="Calibri"/>
            </a:endParaRPr>
          </a:p>
        </p:txBody>
      </p:sp>
      <p:grpSp>
        <p:nvGrpSpPr>
          <p:cNvPr id="73" name="Group 21"/>
          <p:cNvGrpSpPr/>
          <p:nvPr/>
        </p:nvGrpSpPr>
        <p:grpSpPr>
          <a:xfrm>
            <a:off x="4300560" y="1704960"/>
            <a:ext cx="6311160" cy="4068000"/>
            <a:chOff x="4300560" y="1704960"/>
            <a:chExt cx="6311160" cy="4068000"/>
          </a:xfrm>
        </p:grpSpPr>
        <p:grpSp>
          <p:nvGrpSpPr>
            <p:cNvPr id="74" name="Group 22"/>
            <p:cNvGrpSpPr/>
            <p:nvPr/>
          </p:nvGrpSpPr>
          <p:grpSpPr>
            <a:xfrm>
              <a:off x="4300560" y="1704960"/>
              <a:ext cx="6311160" cy="4068000"/>
              <a:chOff x="4300560" y="1704960"/>
              <a:chExt cx="6311160" cy="4068000"/>
            </a:xfrm>
          </p:grpSpPr>
          <p:grpSp>
            <p:nvGrpSpPr>
              <p:cNvPr id="75" name="Group 23"/>
              <p:cNvGrpSpPr/>
              <p:nvPr/>
            </p:nvGrpSpPr>
            <p:grpSpPr>
              <a:xfrm>
                <a:off x="4300560" y="3411720"/>
                <a:ext cx="6311160" cy="545040"/>
                <a:chOff x="4300560" y="3411720"/>
                <a:chExt cx="6311160" cy="545040"/>
              </a:xfrm>
            </p:grpSpPr>
            <p:pic>
              <p:nvPicPr>
                <p:cNvPr id="76" name="图片 2" descr="gray-point"/>
                <p:cNvPicPr/>
                <p:nvPr/>
              </p:nvPicPr>
              <p:blipFill>
                <a:blip r:embed="rId15"/>
                <a:stretch/>
              </p:blipFill>
              <p:spPr>
                <a:xfrm>
                  <a:off x="4300560" y="3455280"/>
                  <a:ext cx="517320" cy="430920"/>
                </a:xfrm>
                <a:prstGeom prst="rect">
                  <a:avLst/>
                </a:prstGeom>
                <a:ln w="0">
                  <a:noFill/>
                </a:ln>
              </p:spPr>
            </p:pic>
            <p:sp>
              <p:nvSpPr>
                <p:cNvPr id="77" name="TextBox 3"/>
                <p:cNvSpPr/>
                <p:nvPr/>
              </p:nvSpPr>
              <p:spPr>
                <a:xfrm>
                  <a:off x="434088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78" name="Text Box 14"/>
                <p:cNvSpPr/>
                <p:nvPr/>
              </p:nvSpPr>
              <p:spPr>
                <a:xfrm>
                  <a:off x="4822560" y="34117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16" action="ppaction://hlinksldjump"/>
                    </a:rPr>
                    <a:t>流程</a:t>
                  </a:r>
                  <a:endParaRPr b="0" lang="en-US" sz="2600" spc="-1" strike="noStrike">
                    <a:solidFill>
                      <a:srgbClr val="000000"/>
                    </a:solidFill>
                    <a:latin typeface="Calibri"/>
                  </a:endParaRPr>
                </a:p>
              </p:txBody>
            </p:sp>
            <p:pic>
              <p:nvPicPr>
                <p:cNvPr id="79" name="图片 2" descr="gray-point"/>
                <p:cNvPicPr/>
                <p:nvPr/>
              </p:nvPicPr>
              <p:blipFill>
                <a:blip r:embed="rId17"/>
                <a:stretch/>
              </p:blipFill>
              <p:spPr>
                <a:xfrm>
                  <a:off x="5513400" y="3455280"/>
                  <a:ext cx="517320" cy="430920"/>
                </a:xfrm>
                <a:prstGeom prst="rect">
                  <a:avLst/>
                </a:prstGeom>
                <a:ln w="0">
                  <a:noFill/>
                </a:ln>
              </p:spPr>
            </p:pic>
            <p:sp>
              <p:nvSpPr>
                <p:cNvPr id="80" name="TextBox 3"/>
                <p:cNvSpPr/>
                <p:nvPr/>
              </p:nvSpPr>
              <p:spPr>
                <a:xfrm>
                  <a:off x="555408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81" name="Text Box 14"/>
                <p:cNvSpPr/>
                <p:nvPr/>
              </p:nvSpPr>
              <p:spPr>
                <a:xfrm>
                  <a:off x="6050520" y="34117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18" action="ppaction://hlinksldjump"/>
                    </a:rPr>
                    <a:t>方法</a:t>
                  </a:r>
                  <a:endParaRPr b="0" lang="en-US" sz="2600" spc="-1" strike="noStrike">
                    <a:solidFill>
                      <a:srgbClr val="000000"/>
                    </a:solidFill>
                    <a:latin typeface="Calibri"/>
                  </a:endParaRPr>
                </a:p>
              </p:txBody>
            </p:sp>
            <p:pic>
              <p:nvPicPr>
                <p:cNvPr id="82" name="图片 2" descr="gray-point"/>
                <p:cNvPicPr/>
                <p:nvPr/>
              </p:nvPicPr>
              <p:blipFill>
                <a:blip r:embed="rId19"/>
                <a:stretch/>
              </p:blipFill>
              <p:spPr>
                <a:xfrm>
                  <a:off x="6803640" y="3455280"/>
                  <a:ext cx="517320" cy="430920"/>
                </a:xfrm>
                <a:prstGeom prst="rect">
                  <a:avLst/>
                </a:prstGeom>
                <a:ln w="0">
                  <a:noFill/>
                </a:ln>
              </p:spPr>
            </p:pic>
            <p:sp>
              <p:nvSpPr>
                <p:cNvPr id="83" name="TextBox 3"/>
                <p:cNvSpPr/>
                <p:nvPr/>
              </p:nvSpPr>
              <p:spPr>
                <a:xfrm>
                  <a:off x="684432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84" name="Text Box 14"/>
                <p:cNvSpPr/>
                <p:nvPr/>
              </p:nvSpPr>
              <p:spPr>
                <a:xfrm>
                  <a:off x="7409160" y="3411720"/>
                  <a:ext cx="775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0" action="ppaction://hlinksldjump"/>
                    </a:rPr>
                    <a:t>思考板</a:t>
                  </a:r>
                  <a:endParaRPr b="0" lang="en-US" sz="2600" spc="-1" strike="noStrike">
                    <a:solidFill>
                      <a:srgbClr val="000000"/>
                    </a:solidFill>
                    <a:latin typeface="Calibri"/>
                  </a:endParaRPr>
                </a:p>
              </p:txBody>
            </p:sp>
            <p:pic>
              <p:nvPicPr>
                <p:cNvPr id="85" name="图片 2" descr="gray-point"/>
                <p:cNvPicPr/>
                <p:nvPr/>
              </p:nvPicPr>
              <p:blipFill>
                <a:blip r:embed="rId21"/>
                <a:stretch/>
              </p:blipFill>
              <p:spPr>
                <a:xfrm>
                  <a:off x="8438760" y="3455280"/>
                  <a:ext cx="517320" cy="430920"/>
                </a:xfrm>
                <a:prstGeom prst="rect">
                  <a:avLst/>
                </a:prstGeom>
                <a:ln w="0">
                  <a:noFill/>
                </a:ln>
              </p:spPr>
            </p:pic>
            <p:sp>
              <p:nvSpPr>
                <p:cNvPr id="86" name="TextBox 3"/>
                <p:cNvSpPr/>
                <p:nvPr/>
              </p:nvSpPr>
              <p:spPr>
                <a:xfrm>
                  <a:off x="847944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87" name="Text Box 14"/>
                <p:cNvSpPr/>
                <p:nvPr/>
              </p:nvSpPr>
              <p:spPr>
                <a:xfrm>
                  <a:off x="9242280" y="341172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2" action="ppaction://hlinksldjump"/>
                    </a:rPr>
                    <a:t>提高效率方法</a:t>
                  </a:r>
                  <a:endParaRPr b="0" lang="en-US" sz="2600" spc="-1" strike="noStrike">
                    <a:solidFill>
                      <a:srgbClr val="000000"/>
                    </a:solidFill>
                    <a:latin typeface="Calibri"/>
                  </a:endParaRPr>
                </a:p>
              </p:txBody>
            </p:sp>
          </p:grpSp>
          <p:grpSp>
            <p:nvGrpSpPr>
              <p:cNvPr id="88" name="Group 36"/>
              <p:cNvGrpSpPr/>
              <p:nvPr/>
            </p:nvGrpSpPr>
            <p:grpSpPr>
              <a:xfrm>
                <a:off x="4300560" y="1704960"/>
                <a:ext cx="6062040" cy="545040"/>
                <a:chOff x="4300560" y="1704960"/>
                <a:chExt cx="6062040" cy="545040"/>
              </a:xfrm>
            </p:grpSpPr>
            <p:pic>
              <p:nvPicPr>
                <p:cNvPr id="89" name="图片 2" descr="gray-point"/>
                <p:cNvPicPr/>
                <p:nvPr/>
              </p:nvPicPr>
              <p:blipFill>
                <a:blip r:embed="rId23"/>
                <a:stretch/>
              </p:blipFill>
              <p:spPr>
                <a:xfrm>
                  <a:off x="4300560" y="1748520"/>
                  <a:ext cx="517320" cy="430920"/>
                </a:xfrm>
                <a:prstGeom prst="rect">
                  <a:avLst/>
                </a:prstGeom>
                <a:ln w="0">
                  <a:noFill/>
                </a:ln>
              </p:spPr>
            </p:pic>
            <p:sp>
              <p:nvSpPr>
                <p:cNvPr id="90" name="TextBox 3"/>
                <p:cNvSpPr/>
                <p:nvPr/>
              </p:nvSpPr>
              <p:spPr>
                <a:xfrm>
                  <a:off x="434088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91" name="Text Box 14"/>
                <p:cNvSpPr/>
                <p:nvPr/>
              </p:nvSpPr>
              <p:spPr>
                <a:xfrm>
                  <a:off x="497052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4" action="ppaction://hlinksldjump"/>
                    </a:rPr>
                    <a:t>工作说明</a:t>
                  </a:r>
                  <a:endParaRPr b="0" lang="en-US" sz="2600" spc="-1" strike="noStrike">
                    <a:solidFill>
                      <a:srgbClr val="000000"/>
                    </a:solidFill>
                    <a:latin typeface="Calibri"/>
                  </a:endParaRPr>
                </a:p>
              </p:txBody>
            </p:sp>
            <p:pic>
              <p:nvPicPr>
                <p:cNvPr id="92" name="图片 2" descr="gray-point"/>
                <p:cNvPicPr/>
                <p:nvPr/>
              </p:nvPicPr>
              <p:blipFill>
                <a:blip r:embed="rId25"/>
                <a:stretch/>
              </p:blipFill>
              <p:spPr>
                <a:xfrm>
                  <a:off x="6470280" y="1748520"/>
                  <a:ext cx="517320" cy="430920"/>
                </a:xfrm>
                <a:prstGeom prst="rect">
                  <a:avLst/>
                </a:prstGeom>
                <a:ln w="0">
                  <a:noFill/>
                </a:ln>
              </p:spPr>
            </p:pic>
            <p:sp>
              <p:nvSpPr>
                <p:cNvPr id="93" name="TextBox 3"/>
                <p:cNvSpPr/>
                <p:nvPr/>
              </p:nvSpPr>
              <p:spPr>
                <a:xfrm>
                  <a:off x="651096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94" name="Text Box 14"/>
                <p:cNvSpPr/>
                <p:nvPr/>
              </p:nvSpPr>
              <p:spPr>
                <a:xfrm>
                  <a:off x="714024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6" action="ppaction://hlinksldjump"/>
                    </a:rPr>
                    <a:t>工作要求</a:t>
                  </a:r>
                  <a:endParaRPr b="0" lang="en-US" sz="2600" spc="-1" strike="noStrike">
                    <a:solidFill>
                      <a:srgbClr val="000000"/>
                    </a:solidFill>
                    <a:latin typeface="Calibri"/>
                  </a:endParaRPr>
                </a:p>
              </p:txBody>
            </p:sp>
            <p:pic>
              <p:nvPicPr>
                <p:cNvPr id="95" name="图片 2" descr="gray-point"/>
                <p:cNvPicPr/>
                <p:nvPr/>
              </p:nvPicPr>
              <p:blipFill>
                <a:blip r:embed="rId27"/>
                <a:stretch/>
              </p:blipFill>
              <p:spPr>
                <a:xfrm>
                  <a:off x="8718120" y="1748520"/>
                  <a:ext cx="517320" cy="430920"/>
                </a:xfrm>
                <a:prstGeom prst="rect">
                  <a:avLst/>
                </a:prstGeom>
                <a:ln w="0">
                  <a:noFill/>
                </a:ln>
              </p:spPr>
            </p:pic>
            <p:sp>
              <p:nvSpPr>
                <p:cNvPr id="96" name="TextBox 3"/>
                <p:cNvSpPr/>
                <p:nvPr/>
              </p:nvSpPr>
              <p:spPr>
                <a:xfrm>
                  <a:off x="875880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97" name="Text Box 14"/>
                <p:cNvSpPr/>
                <p:nvPr/>
              </p:nvSpPr>
              <p:spPr>
                <a:xfrm>
                  <a:off x="938952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8" action="ppaction://hlinksldjump"/>
                    </a:rPr>
                    <a:t>工作目的</a:t>
                  </a:r>
                  <a:endParaRPr b="0" lang="en-US" sz="2600" spc="-1" strike="noStrike">
                    <a:solidFill>
                      <a:srgbClr val="000000"/>
                    </a:solidFill>
                    <a:latin typeface="Calibri"/>
                  </a:endParaRPr>
                </a:p>
              </p:txBody>
            </p:sp>
          </p:grpSp>
          <p:grpSp>
            <p:nvGrpSpPr>
              <p:cNvPr id="98" name="Group 46"/>
              <p:cNvGrpSpPr/>
              <p:nvPr/>
            </p:nvGrpSpPr>
            <p:grpSpPr>
              <a:xfrm>
                <a:off x="4300560" y="2532960"/>
                <a:ext cx="4419720" cy="545040"/>
                <a:chOff x="4300560" y="2532960"/>
                <a:chExt cx="4419720" cy="545040"/>
              </a:xfrm>
            </p:grpSpPr>
            <p:pic>
              <p:nvPicPr>
                <p:cNvPr id="99" name="图片 2" descr="gray-point"/>
                <p:cNvPicPr/>
                <p:nvPr/>
              </p:nvPicPr>
              <p:blipFill>
                <a:blip r:embed="rId29"/>
                <a:stretch/>
              </p:blipFill>
              <p:spPr>
                <a:xfrm>
                  <a:off x="4300560" y="2576520"/>
                  <a:ext cx="517320" cy="430920"/>
                </a:xfrm>
                <a:prstGeom prst="rect">
                  <a:avLst/>
                </a:prstGeom>
                <a:ln w="0">
                  <a:noFill/>
                </a:ln>
              </p:spPr>
            </p:pic>
            <p:sp>
              <p:nvSpPr>
                <p:cNvPr id="100" name="TextBox 3"/>
                <p:cNvSpPr/>
                <p:nvPr/>
              </p:nvSpPr>
              <p:spPr>
                <a:xfrm>
                  <a:off x="4340880" y="2570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01" name="Text Box 14"/>
                <p:cNvSpPr/>
                <p:nvPr/>
              </p:nvSpPr>
              <p:spPr>
                <a:xfrm>
                  <a:off x="5036400" y="253296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0" action="ppaction://hlinksldjump"/>
                    </a:rPr>
                    <a:t>总工作范围</a:t>
                  </a:r>
                  <a:endParaRPr b="0" lang="en-US" sz="2600" spc="-1" strike="noStrike">
                    <a:solidFill>
                      <a:srgbClr val="000000"/>
                    </a:solidFill>
                    <a:latin typeface="Calibri"/>
                  </a:endParaRPr>
                </a:p>
              </p:txBody>
            </p:sp>
            <p:pic>
              <p:nvPicPr>
                <p:cNvPr id="102" name="图片 2" descr="gray-point"/>
                <p:cNvPicPr/>
                <p:nvPr/>
              </p:nvPicPr>
              <p:blipFill>
                <a:blip r:embed="rId31"/>
                <a:stretch/>
              </p:blipFill>
              <p:spPr>
                <a:xfrm>
                  <a:off x="6549120" y="2576520"/>
                  <a:ext cx="517320" cy="430920"/>
                </a:xfrm>
                <a:prstGeom prst="rect">
                  <a:avLst/>
                </a:prstGeom>
                <a:ln w="0">
                  <a:noFill/>
                </a:ln>
              </p:spPr>
            </p:pic>
            <p:sp>
              <p:nvSpPr>
                <p:cNvPr id="103" name="TextBox 3"/>
                <p:cNvSpPr/>
                <p:nvPr/>
              </p:nvSpPr>
              <p:spPr>
                <a:xfrm>
                  <a:off x="6589800" y="2570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04" name="Text Box 14"/>
                <p:cNvSpPr/>
                <p:nvPr/>
              </p:nvSpPr>
              <p:spPr>
                <a:xfrm>
                  <a:off x="7350840" y="253296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2" action="ppaction://hlinksldjump"/>
                    </a:rPr>
                    <a:t>分部工作范围</a:t>
                  </a:r>
                  <a:endParaRPr b="0" lang="en-US" sz="2600" spc="-1" strike="noStrike">
                    <a:solidFill>
                      <a:srgbClr val="000000"/>
                    </a:solidFill>
                    <a:latin typeface="Calibri"/>
                  </a:endParaRPr>
                </a:p>
              </p:txBody>
            </p:sp>
          </p:grpSp>
          <p:grpSp>
            <p:nvGrpSpPr>
              <p:cNvPr id="105" name="Group 53"/>
              <p:cNvGrpSpPr/>
              <p:nvPr/>
            </p:nvGrpSpPr>
            <p:grpSpPr>
              <a:xfrm>
                <a:off x="4300560" y="4325400"/>
                <a:ext cx="4410000" cy="560520"/>
                <a:chOff x="4300560" y="4325400"/>
                <a:chExt cx="4410000" cy="560520"/>
              </a:xfrm>
            </p:grpSpPr>
            <p:pic>
              <p:nvPicPr>
                <p:cNvPr id="106" name="图片 2" descr="gray-point"/>
                <p:cNvPicPr/>
                <p:nvPr/>
              </p:nvPicPr>
              <p:blipFill>
                <a:blip r:embed="rId33"/>
                <a:stretch/>
              </p:blipFill>
              <p:spPr>
                <a:xfrm>
                  <a:off x="4300560" y="4384800"/>
                  <a:ext cx="517320" cy="430560"/>
                </a:xfrm>
                <a:prstGeom prst="rect">
                  <a:avLst/>
                </a:prstGeom>
                <a:ln w="0">
                  <a:noFill/>
                </a:ln>
              </p:spPr>
            </p:pic>
            <p:sp>
              <p:nvSpPr>
                <p:cNvPr id="107" name="TextBox 3"/>
                <p:cNvSpPr/>
                <p:nvPr/>
              </p:nvSpPr>
              <p:spPr>
                <a:xfrm>
                  <a:off x="4340880" y="43790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08" name="Text Box 14"/>
                <p:cNvSpPr/>
                <p:nvPr/>
              </p:nvSpPr>
              <p:spPr>
                <a:xfrm>
                  <a:off x="5004720" y="432540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4" action="ppaction://hlinksldjump"/>
                    </a:rPr>
                    <a:t>时间总分配</a:t>
                  </a:r>
                  <a:endParaRPr b="0" lang="en-US" sz="2600" spc="-1" strike="noStrike">
                    <a:solidFill>
                      <a:srgbClr val="000000"/>
                    </a:solidFill>
                    <a:latin typeface="Calibri"/>
                  </a:endParaRPr>
                </a:p>
              </p:txBody>
            </p:sp>
            <p:pic>
              <p:nvPicPr>
                <p:cNvPr id="109" name="图片 2" descr="gray-point"/>
                <p:cNvPicPr/>
                <p:nvPr/>
              </p:nvPicPr>
              <p:blipFill>
                <a:blip r:embed="rId35"/>
                <a:stretch/>
              </p:blipFill>
              <p:spPr>
                <a:xfrm>
                  <a:off x="6554880" y="4384800"/>
                  <a:ext cx="517320" cy="430560"/>
                </a:xfrm>
                <a:prstGeom prst="rect">
                  <a:avLst/>
                </a:prstGeom>
                <a:ln w="0">
                  <a:noFill/>
                </a:ln>
              </p:spPr>
            </p:pic>
            <p:sp>
              <p:nvSpPr>
                <p:cNvPr id="110" name="TextBox 3"/>
                <p:cNvSpPr/>
                <p:nvPr/>
              </p:nvSpPr>
              <p:spPr>
                <a:xfrm>
                  <a:off x="6595560" y="43790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11" name="Text Box 14"/>
                <p:cNvSpPr/>
                <p:nvPr/>
              </p:nvSpPr>
              <p:spPr>
                <a:xfrm>
                  <a:off x="7341120" y="434088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6" action="ppaction://hlinksldjump"/>
                    </a:rPr>
                    <a:t>分部时间分配</a:t>
                  </a:r>
                  <a:endParaRPr b="0" lang="en-US" sz="2600" spc="-1" strike="noStrike">
                    <a:solidFill>
                      <a:srgbClr val="000000"/>
                    </a:solidFill>
                    <a:latin typeface="Calibri"/>
                  </a:endParaRPr>
                </a:p>
              </p:txBody>
            </p:sp>
          </p:grpSp>
          <p:grpSp>
            <p:nvGrpSpPr>
              <p:cNvPr id="112" name="Group 60"/>
              <p:cNvGrpSpPr/>
              <p:nvPr/>
            </p:nvGrpSpPr>
            <p:grpSpPr>
              <a:xfrm>
                <a:off x="4300560" y="5227920"/>
                <a:ext cx="4391640" cy="545040"/>
                <a:chOff x="4300560" y="5227920"/>
                <a:chExt cx="4391640" cy="545040"/>
              </a:xfrm>
            </p:grpSpPr>
            <p:pic>
              <p:nvPicPr>
                <p:cNvPr id="113" name="图片 2" descr="gray-point"/>
                <p:cNvPicPr/>
                <p:nvPr/>
              </p:nvPicPr>
              <p:blipFill>
                <a:blip r:embed="rId37"/>
                <a:stretch/>
              </p:blipFill>
              <p:spPr>
                <a:xfrm>
                  <a:off x="4300560" y="5271480"/>
                  <a:ext cx="517320" cy="430560"/>
                </a:xfrm>
                <a:prstGeom prst="rect">
                  <a:avLst/>
                </a:prstGeom>
                <a:ln w="0">
                  <a:noFill/>
                </a:ln>
              </p:spPr>
            </p:pic>
            <p:sp>
              <p:nvSpPr>
                <p:cNvPr id="114" name="TextBox 3"/>
                <p:cNvSpPr/>
                <p:nvPr/>
              </p:nvSpPr>
              <p:spPr>
                <a:xfrm>
                  <a:off x="434088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15" name="Text Box 14"/>
                <p:cNvSpPr/>
                <p:nvPr/>
              </p:nvSpPr>
              <p:spPr>
                <a:xfrm>
                  <a:off x="5020560" y="522792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8" action="ppaction://hlinksldjump"/>
                    </a:rPr>
                    <a:t>问题与不足</a:t>
                  </a:r>
                  <a:endParaRPr b="0" lang="en-US" sz="2600" spc="-1" strike="noStrike">
                    <a:solidFill>
                      <a:srgbClr val="000000"/>
                    </a:solidFill>
                    <a:latin typeface="Calibri"/>
                  </a:endParaRPr>
                </a:p>
              </p:txBody>
            </p:sp>
            <p:pic>
              <p:nvPicPr>
                <p:cNvPr id="116" name="图片 2" descr="gray-point"/>
                <p:cNvPicPr/>
                <p:nvPr/>
              </p:nvPicPr>
              <p:blipFill>
                <a:blip r:embed="rId39"/>
                <a:stretch/>
              </p:blipFill>
              <p:spPr>
                <a:xfrm>
                  <a:off x="6739920" y="5271480"/>
                  <a:ext cx="517320" cy="430560"/>
                </a:xfrm>
                <a:prstGeom prst="rect">
                  <a:avLst/>
                </a:prstGeom>
                <a:ln w="0">
                  <a:noFill/>
                </a:ln>
              </p:spPr>
            </p:pic>
            <p:sp>
              <p:nvSpPr>
                <p:cNvPr id="117" name="TextBox 3"/>
                <p:cNvSpPr/>
                <p:nvPr/>
              </p:nvSpPr>
              <p:spPr>
                <a:xfrm>
                  <a:off x="678024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18" name="Text Box 14"/>
                <p:cNvSpPr/>
                <p:nvPr/>
              </p:nvSpPr>
              <p:spPr>
                <a:xfrm>
                  <a:off x="7263000" y="52279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40" action="ppaction://hlinksldjump"/>
                    </a:rPr>
                    <a:t>改进</a:t>
                  </a:r>
                  <a:endParaRPr b="0" lang="en-US" sz="2600" spc="-1" strike="noStrike">
                    <a:solidFill>
                      <a:srgbClr val="000000"/>
                    </a:solidFill>
                    <a:latin typeface="Calibri"/>
                  </a:endParaRPr>
                </a:p>
              </p:txBody>
            </p:sp>
            <p:pic>
              <p:nvPicPr>
                <p:cNvPr id="119" name="图片 2" descr="gray-point"/>
                <p:cNvPicPr/>
                <p:nvPr/>
              </p:nvPicPr>
              <p:blipFill>
                <a:blip r:embed="rId41"/>
                <a:stretch/>
              </p:blipFill>
              <p:spPr>
                <a:xfrm>
                  <a:off x="8174880" y="5271480"/>
                  <a:ext cx="517320" cy="430560"/>
                </a:xfrm>
                <a:prstGeom prst="rect">
                  <a:avLst/>
                </a:prstGeom>
                <a:ln w="0">
                  <a:noFill/>
                </a:ln>
              </p:spPr>
            </p:pic>
            <p:sp>
              <p:nvSpPr>
                <p:cNvPr id="120" name="TextBox 3"/>
                <p:cNvSpPr/>
                <p:nvPr/>
              </p:nvSpPr>
              <p:spPr>
                <a:xfrm>
                  <a:off x="821520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grpSp>
        </p:grpSp>
        <p:sp>
          <p:nvSpPr>
            <p:cNvPr id="121" name="Text Box 14"/>
            <p:cNvSpPr/>
            <p:nvPr/>
          </p:nvSpPr>
          <p:spPr>
            <a:xfrm>
              <a:off x="8737200" y="52279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42" action="ppaction://hlinksldjump"/>
                </a:rPr>
                <a:t>优势</a:t>
              </a:r>
              <a:endParaRPr b="0" lang="en-US" sz="2600" spc="-1" strike="noStrike">
                <a:solidFill>
                  <a:srgbClr val="000000"/>
                </a:solidFill>
                <a:latin typeface="Calibri"/>
              </a:endParaRPr>
            </a:p>
          </p:txBody>
        </p:sp>
      </p:grpSp>
      <p:pic>
        <p:nvPicPr>
          <p:cNvPr id="122" name="下一页" descr="jiantou">
            <a:hlinkClick r:id="" action="ppaction://hlinkshowjump?jump=nextslide"/>
          </p:cNvPr>
          <p:cNvPicPr/>
          <p:nvPr/>
        </p:nvPicPr>
        <p:blipFill>
          <a:blip r:embed="rId43"/>
          <a:stretch/>
        </p:blipFill>
        <p:spPr>
          <a:xfrm>
            <a:off x="11741040" y="2973240"/>
            <a:ext cx="347760" cy="660600"/>
          </a:xfrm>
          <a:prstGeom prst="rect">
            <a:avLst/>
          </a:prstGeom>
          <a:ln w="0">
            <a:noFill/>
          </a:ln>
        </p:spPr>
      </p:pic>
      <p:pic>
        <p:nvPicPr>
          <p:cNvPr id="123" name="铅笔" descr="qianbi"/>
          <p:cNvPicPr/>
          <p:nvPr/>
        </p:nvPicPr>
        <p:blipFill>
          <a:blip r:embed="rId44"/>
          <a:stretch/>
        </p:blipFill>
        <p:spPr>
          <a:xfrm>
            <a:off x="88920" y="6105600"/>
            <a:ext cx="847800" cy="720720"/>
          </a:xfrm>
          <a:prstGeom prst="rect">
            <a:avLst/>
          </a:prstGeom>
          <a:ln w="0">
            <a:noFill/>
          </a:ln>
        </p:spPr>
      </p:pic>
      <p:sp>
        <p:nvSpPr>
          <p:cNvPr id="124" name="大标题"/>
          <p:cNvSpPr/>
          <p:nvPr/>
        </p:nvSpPr>
        <p:spPr>
          <a:xfrm>
            <a:off x="5231520" y="255600"/>
            <a:ext cx="17290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造字工房悦黑体验版常规体"/>
                <a:ea typeface="造字工房悦黑体验版常规体"/>
              </a:rPr>
              <a:t>Menu</a:t>
            </a:r>
            <a:endParaRPr b="0" lang="en-US" sz="4500" spc="-1" strike="noStrike">
              <a:solidFill>
                <a:srgbClr val="000000"/>
              </a:solidFill>
              <a:latin typeface="Calibri"/>
            </a:endParaRPr>
          </a:p>
        </p:txBody>
      </p:sp>
      <p:sp>
        <p:nvSpPr>
          <p:cNvPr id="125" name="menu 副标题"/>
          <p:cNvSpPr/>
          <p:nvPr/>
        </p:nvSpPr>
        <p:spPr>
          <a:xfrm>
            <a:off x="5807160" y="955800"/>
            <a:ext cx="577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2b2b2"/>
                </a:solidFill>
                <a:latin typeface="Calibri"/>
                <a:ea typeface="造字工房悦黑体验版常规体"/>
              </a:rPr>
              <a:t>目录</a:t>
            </a:r>
            <a:endParaRPr b="0" lang="en-US" sz="2600" spc="-1" strike="noStrike">
              <a:solidFill>
                <a:srgbClr val="000000"/>
              </a:solidFill>
              <a:latin typeface="Calibri"/>
            </a:endParaRPr>
          </a:p>
        </p:txBody>
      </p:sp>
      <p:pic>
        <p:nvPicPr>
          <p:cNvPr id="126" name="Picture 74" descr="jindu-lan">
            <a:hlinkClick r:id="rId45" action="ppaction://hlinksldjump"/>
          </p:cNvPr>
          <p:cNvPicPr/>
          <p:nvPr/>
        </p:nvPicPr>
        <p:blipFill>
          <a:blip r:embed="rId46"/>
          <a:stretch/>
        </p:blipFill>
        <p:spPr>
          <a:xfrm>
            <a:off x="2252520" y="6369120"/>
            <a:ext cx="265320" cy="304560"/>
          </a:xfrm>
          <a:prstGeom prst="rect">
            <a:avLst/>
          </a:prstGeom>
          <a:ln w="0">
            <a:noFill/>
          </a:ln>
        </p:spPr>
      </p:pic>
      <p:pic>
        <p:nvPicPr>
          <p:cNvPr id="127" name="Picture 75" descr="jindu-hui"/>
          <p:cNvPicPr/>
          <p:nvPr/>
        </p:nvPicPr>
        <p:blipFill>
          <a:blip r:embed="rId47"/>
          <a:stretch/>
        </p:blipFill>
        <p:spPr>
          <a:xfrm>
            <a:off x="4106880" y="6369120"/>
            <a:ext cx="264960" cy="304560"/>
          </a:xfrm>
          <a:prstGeom prst="rect">
            <a:avLst/>
          </a:prstGeom>
          <a:ln w="0">
            <a:noFill/>
          </a:ln>
        </p:spPr>
      </p:pic>
      <p:pic>
        <p:nvPicPr>
          <p:cNvPr id="128" name="Picture 76" descr="jindu-hui"/>
          <p:cNvPicPr/>
          <p:nvPr/>
        </p:nvPicPr>
        <p:blipFill>
          <a:blip r:embed="rId48"/>
          <a:stretch/>
        </p:blipFill>
        <p:spPr>
          <a:xfrm>
            <a:off x="5981760" y="6369120"/>
            <a:ext cx="264960" cy="304560"/>
          </a:xfrm>
          <a:prstGeom prst="rect">
            <a:avLst/>
          </a:prstGeom>
          <a:ln w="0">
            <a:noFill/>
          </a:ln>
        </p:spPr>
      </p:pic>
      <p:pic>
        <p:nvPicPr>
          <p:cNvPr id="129" name="下一页" descr="jiantou">
            <a:hlinkClick r:id="" action="ppaction://hlinkshowjump?jump=previousslide"/>
          </p:cNvPr>
          <p:cNvPicPr/>
          <p:nvPr/>
        </p:nvPicPr>
        <p:blipFill>
          <a:blip r:embed="rId49"/>
          <a:stretch/>
        </p:blipFill>
        <p:spPr>
          <a:xfrm>
            <a:off x="20520" y="2973240"/>
            <a:ext cx="397080" cy="660600"/>
          </a:xfrm>
          <a:prstGeom prst="rect">
            <a:avLst/>
          </a:prstGeom>
          <a:ln w="0">
            <a:noFill/>
          </a:ln>
        </p:spPr>
      </p:pic>
      <p:pic>
        <p:nvPicPr>
          <p:cNvPr id="130" name="Picture 78" descr="tb-houtui">
            <a:hlinkClick r:id="" action="ppaction://hlinkshowjump?jump=previousslide"/>
          </p:cNvPr>
          <p:cNvPicPr/>
          <p:nvPr/>
        </p:nvPicPr>
        <p:blipFill>
          <a:blip r:embed="rId50"/>
          <a:stretch/>
        </p:blipFill>
        <p:spPr>
          <a:xfrm>
            <a:off x="10401480" y="6383160"/>
            <a:ext cx="615600" cy="524160"/>
          </a:xfrm>
          <a:prstGeom prst="rect">
            <a:avLst/>
          </a:prstGeom>
          <a:ln w="0">
            <a:noFill/>
          </a:ln>
        </p:spPr>
      </p:pic>
      <p:pic>
        <p:nvPicPr>
          <p:cNvPr id="131" name="Picture 79" descr="tb-tuichu">
            <a:hlinkClick r:id="" action="ppaction://hlinkshowjump?jump=endshow"/>
          </p:cNvPr>
          <p:cNvPicPr/>
          <p:nvPr/>
        </p:nvPicPr>
        <p:blipFill>
          <a:blip r:embed="rId51"/>
          <a:stretch/>
        </p:blipFill>
        <p:spPr>
          <a:xfrm>
            <a:off x="11320560" y="6383160"/>
            <a:ext cx="615960" cy="524160"/>
          </a:xfrm>
          <a:prstGeom prst="rect">
            <a:avLst/>
          </a:prstGeom>
          <a:ln w="0">
            <a:noFill/>
          </a:ln>
        </p:spPr>
      </p:pic>
      <p:pic>
        <p:nvPicPr>
          <p:cNvPr id="132" name="Picture 80" descr="tb-xiuxi">
            <a:hlinkClick r:id="rId52" action="ppaction://hlinksldjump"/>
          </p:cNvPr>
          <p:cNvPicPr/>
          <p:nvPr/>
        </p:nvPicPr>
        <p:blipFill>
          <a:blip r:embed="rId53"/>
          <a:stretch/>
        </p:blipFill>
        <p:spPr>
          <a:xfrm>
            <a:off x="9499680" y="6383160"/>
            <a:ext cx="615960" cy="524160"/>
          </a:xfrm>
          <a:prstGeom prst="rect">
            <a:avLst/>
          </a:prstGeom>
          <a:ln w="0">
            <a:noFill/>
          </a:ln>
        </p:spPr>
      </p:pic>
      <p:pic>
        <p:nvPicPr>
          <p:cNvPr id="133" name="Picture 81" descr="tb-yanjing"/>
          <p:cNvPicPr/>
          <p:nvPr/>
        </p:nvPicPr>
        <p:blipFill>
          <a:blip r:embed="rId54"/>
          <a:stretch/>
        </p:blipFill>
        <p:spPr>
          <a:xfrm>
            <a:off x="858204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2" dur="1000" fill="hold"/>
                                        <p:tgtEl>
                                          <p:spTgt spid="122"/>
                                        </p:tgtEl>
                                      </p:cBhvr>
                                    </p:animMotion>
                                  </p:childTnLst>
                                </p:cTn>
                              </p:par>
                            </p:childTnLst>
                          </p:cTn>
                        </p:par>
                        <p:par>
                          <p:cTn id="13" nodeType="afterEffect" fill="hold">
                            <p:stCondLst>
                              <p:cond delay="1000"/>
                            </p:stCondLst>
                            <p:childTnLst>
                              <p:par>
                                <p:cTn id="1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5" dur="1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33"/>
                    </p:tgtEl>
                  </p:cond>
                </p:stCondLst>
                <p:childTnLst>
                  <p:par>
                    <p:cTn id="17" nodeType="clickEffect" fill="hold">
                      <p:stCondLst>
                        <p:cond evt="onClick">
                          <p:tgtEl>
                            <p:spTgt spid="133"/>
                          </p:tgtEl>
                        </p:cond>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bg"/>
          <p:cNvPicPr/>
          <p:nvPr/>
        </p:nvPicPr>
        <p:blipFill>
          <a:blip r:embed="rId1"/>
          <a:stretch/>
        </p:blipFill>
        <p:spPr>
          <a:xfrm>
            <a:off x="-46080" y="-11160"/>
            <a:ext cx="12250800" cy="6918480"/>
          </a:xfrm>
          <a:prstGeom prst="rect">
            <a:avLst/>
          </a:prstGeom>
          <a:ln w="0">
            <a:noFill/>
          </a:ln>
        </p:spPr>
      </p:pic>
      <p:sp>
        <p:nvSpPr>
          <p:cNvPr id="46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62" name="Picture 4" descr="board"/>
          <p:cNvPicPr/>
          <p:nvPr/>
        </p:nvPicPr>
        <p:blipFill>
          <a:blip r:embed="rId2"/>
          <a:stretch/>
        </p:blipFill>
        <p:spPr>
          <a:xfrm>
            <a:off x="-44280" y="0"/>
            <a:ext cx="12228480" cy="6886440"/>
          </a:xfrm>
          <a:prstGeom prst="rect">
            <a:avLst/>
          </a:prstGeom>
          <a:ln w="0">
            <a:noFill/>
          </a:ln>
        </p:spPr>
      </p:pic>
      <p:pic>
        <p:nvPicPr>
          <p:cNvPr id="463" name="Picture 5" descr="3"/>
          <p:cNvPicPr/>
          <p:nvPr/>
        </p:nvPicPr>
        <p:blipFill>
          <a:blip r:embed="rId3"/>
          <a:stretch/>
        </p:blipFill>
        <p:spPr>
          <a:xfrm>
            <a:off x="1938240" y="6273720"/>
            <a:ext cx="4603680" cy="490680"/>
          </a:xfrm>
          <a:prstGeom prst="rect">
            <a:avLst/>
          </a:prstGeom>
          <a:ln w="0">
            <a:noFill/>
          </a:ln>
        </p:spPr>
      </p:pic>
      <p:pic>
        <p:nvPicPr>
          <p:cNvPr id="46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65" name="铅笔" descr="qianbi"/>
          <p:cNvPicPr/>
          <p:nvPr/>
        </p:nvPicPr>
        <p:blipFill>
          <a:blip r:embed="rId5"/>
          <a:stretch/>
        </p:blipFill>
        <p:spPr>
          <a:xfrm>
            <a:off x="88920" y="6105600"/>
            <a:ext cx="847800" cy="720720"/>
          </a:xfrm>
          <a:prstGeom prst="rect">
            <a:avLst/>
          </a:prstGeom>
          <a:ln w="0">
            <a:noFill/>
          </a:ln>
        </p:spPr>
      </p:pic>
      <p:pic>
        <p:nvPicPr>
          <p:cNvPr id="466"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67"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68"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69"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总结</a:t>
            </a:r>
            <a:endParaRPr b="0" lang="en-US" sz="2600" spc="-1" strike="noStrike">
              <a:solidFill>
                <a:srgbClr val="000000"/>
              </a:solidFill>
              <a:latin typeface="Calibri"/>
            </a:endParaRPr>
          </a:p>
        </p:txBody>
      </p:sp>
      <p:pic>
        <p:nvPicPr>
          <p:cNvPr id="470" name="Picture 12" descr=""/>
          <p:cNvPicPr/>
          <p:nvPr/>
        </p:nvPicPr>
        <p:blipFill>
          <a:blip r:embed="rId9"/>
          <a:stretch/>
        </p:blipFill>
        <p:spPr>
          <a:xfrm>
            <a:off x="2873520" y="1397160"/>
            <a:ext cx="6130800" cy="3544560"/>
          </a:xfrm>
          <a:prstGeom prst="rect">
            <a:avLst/>
          </a:prstGeom>
          <a:ln w="0">
            <a:noFill/>
          </a:ln>
        </p:spPr>
      </p:pic>
      <p:pic>
        <p:nvPicPr>
          <p:cNvPr id="471"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72"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73"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74"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79" dur="1000" fill="hold"/>
                                        <p:tgtEl>
                                          <p:spTgt spid="464"/>
                                        </p:tgtEl>
                                      </p:cBhvr>
                                    </p:animMotion>
                                  </p:childTnLst>
                                </p:cTn>
                              </p:par>
                            </p:childTnLst>
                          </p:cTn>
                        </p:par>
                        <p:par>
                          <p:cTn id="180" nodeType="afterEffect" fill="hold">
                            <p:stCondLst>
                              <p:cond delay="1000"/>
                            </p:stCondLst>
                            <p:childTnLst>
                              <p:par>
                                <p:cTn id="18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82" dur="1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bg"/>
          <p:cNvPicPr/>
          <p:nvPr/>
        </p:nvPicPr>
        <p:blipFill>
          <a:blip r:embed="rId1"/>
          <a:stretch/>
        </p:blipFill>
        <p:spPr>
          <a:xfrm>
            <a:off x="-46080" y="-11160"/>
            <a:ext cx="12250800" cy="6918480"/>
          </a:xfrm>
          <a:prstGeom prst="rect">
            <a:avLst/>
          </a:prstGeom>
          <a:ln w="0">
            <a:noFill/>
          </a:ln>
        </p:spPr>
      </p:pic>
      <p:sp>
        <p:nvSpPr>
          <p:cNvPr id="47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77" name="Picture 4" descr="board"/>
          <p:cNvPicPr/>
          <p:nvPr/>
        </p:nvPicPr>
        <p:blipFill>
          <a:blip r:embed="rId2"/>
          <a:stretch/>
        </p:blipFill>
        <p:spPr>
          <a:xfrm>
            <a:off x="-44280" y="0"/>
            <a:ext cx="12228480" cy="6886440"/>
          </a:xfrm>
          <a:prstGeom prst="rect">
            <a:avLst/>
          </a:prstGeom>
          <a:ln w="0">
            <a:noFill/>
          </a:ln>
        </p:spPr>
      </p:pic>
      <p:pic>
        <p:nvPicPr>
          <p:cNvPr id="478" name="Picture 5" descr="3"/>
          <p:cNvPicPr/>
          <p:nvPr/>
        </p:nvPicPr>
        <p:blipFill>
          <a:blip r:embed="rId3"/>
          <a:stretch/>
        </p:blipFill>
        <p:spPr>
          <a:xfrm>
            <a:off x="1938240" y="6273720"/>
            <a:ext cx="4603680" cy="490680"/>
          </a:xfrm>
          <a:prstGeom prst="rect">
            <a:avLst/>
          </a:prstGeom>
          <a:ln w="0">
            <a:noFill/>
          </a:ln>
        </p:spPr>
      </p:pic>
      <p:pic>
        <p:nvPicPr>
          <p:cNvPr id="47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80" name="铅笔" descr="qianbi"/>
          <p:cNvPicPr/>
          <p:nvPr/>
        </p:nvPicPr>
        <p:blipFill>
          <a:blip r:embed="rId5"/>
          <a:stretch/>
        </p:blipFill>
        <p:spPr>
          <a:xfrm>
            <a:off x="88920" y="6105600"/>
            <a:ext cx="847800" cy="720720"/>
          </a:xfrm>
          <a:prstGeom prst="rect">
            <a:avLst/>
          </a:prstGeom>
          <a:ln w="0">
            <a:noFill/>
          </a:ln>
        </p:spPr>
      </p:pic>
      <p:pic>
        <p:nvPicPr>
          <p:cNvPr id="481"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82"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83"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84"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步骤</a:t>
            </a:r>
            <a:endParaRPr b="0" lang="en-US" sz="2600" spc="-1" strike="noStrike">
              <a:solidFill>
                <a:srgbClr val="000000"/>
              </a:solidFill>
              <a:latin typeface="Calibri"/>
            </a:endParaRPr>
          </a:p>
        </p:txBody>
      </p:sp>
      <p:pic>
        <p:nvPicPr>
          <p:cNvPr id="485" name="Picture 12" descr=""/>
          <p:cNvPicPr/>
          <p:nvPr/>
        </p:nvPicPr>
        <p:blipFill>
          <a:blip r:embed="rId9"/>
          <a:stretch/>
        </p:blipFill>
        <p:spPr>
          <a:xfrm>
            <a:off x="2038320" y="1192320"/>
            <a:ext cx="7778880" cy="4529160"/>
          </a:xfrm>
          <a:prstGeom prst="rect">
            <a:avLst/>
          </a:prstGeom>
          <a:ln w="0">
            <a:noFill/>
          </a:ln>
        </p:spPr>
      </p:pic>
      <p:pic>
        <p:nvPicPr>
          <p:cNvPr id="486"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87"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88"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89"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88" dur="1000" fill="hold"/>
                                        <p:tgtEl>
                                          <p:spTgt spid="479"/>
                                        </p:tgtEl>
                                      </p:cBhvr>
                                    </p:animMotion>
                                  </p:childTnLst>
                                </p:cTn>
                              </p:par>
                            </p:childTnLst>
                          </p:cTn>
                        </p:par>
                        <p:par>
                          <p:cTn id="189" nodeType="afterEffect" fill="hold">
                            <p:stCondLst>
                              <p:cond delay="1000"/>
                            </p:stCondLst>
                            <p:childTnLst>
                              <p:par>
                                <p:cTn id="19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91" dur="1000" fill="hold"/>
                                        <p:tgtEl>
                                          <p:spTgt spid="4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bg"/>
          <p:cNvPicPr/>
          <p:nvPr/>
        </p:nvPicPr>
        <p:blipFill>
          <a:blip r:embed="rId1"/>
          <a:stretch/>
        </p:blipFill>
        <p:spPr>
          <a:xfrm>
            <a:off x="-46080" y="-11160"/>
            <a:ext cx="12250800" cy="6918480"/>
          </a:xfrm>
          <a:prstGeom prst="rect">
            <a:avLst/>
          </a:prstGeom>
          <a:ln w="0">
            <a:noFill/>
          </a:ln>
        </p:spPr>
      </p:pic>
      <p:sp>
        <p:nvSpPr>
          <p:cNvPr id="49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92" name="Picture 4" descr="board"/>
          <p:cNvPicPr/>
          <p:nvPr/>
        </p:nvPicPr>
        <p:blipFill>
          <a:blip r:embed="rId2"/>
          <a:stretch/>
        </p:blipFill>
        <p:spPr>
          <a:xfrm>
            <a:off x="-44280" y="0"/>
            <a:ext cx="12228480" cy="6886440"/>
          </a:xfrm>
          <a:prstGeom prst="rect">
            <a:avLst/>
          </a:prstGeom>
          <a:ln w="0">
            <a:noFill/>
          </a:ln>
        </p:spPr>
      </p:pic>
      <p:pic>
        <p:nvPicPr>
          <p:cNvPr id="493" name="Picture 5" descr="3"/>
          <p:cNvPicPr/>
          <p:nvPr/>
        </p:nvPicPr>
        <p:blipFill>
          <a:blip r:embed="rId3"/>
          <a:stretch/>
        </p:blipFill>
        <p:spPr>
          <a:xfrm>
            <a:off x="1938240" y="6273720"/>
            <a:ext cx="4603680" cy="490680"/>
          </a:xfrm>
          <a:prstGeom prst="rect">
            <a:avLst/>
          </a:prstGeom>
          <a:ln w="0">
            <a:noFill/>
          </a:ln>
        </p:spPr>
      </p:pic>
      <p:pic>
        <p:nvPicPr>
          <p:cNvPr id="49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95" name="铅笔" descr="qianbi"/>
          <p:cNvPicPr/>
          <p:nvPr/>
        </p:nvPicPr>
        <p:blipFill>
          <a:blip r:embed="rId5"/>
          <a:stretch/>
        </p:blipFill>
        <p:spPr>
          <a:xfrm>
            <a:off x="88920" y="6105600"/>
            <a:ext cx="847800" cy="720720"/>
          </a:xfrm>
          <a:prstGeom prst="rect">
            <a:avLst/>
          </a:prstGeom>
          <a:ln w="0">
            <a:noFill/>
          </a:ln>
        </p:spPr>
      </p:pic>
      <p:pic>
        <p:nvPicPr>
          <p:cNvPr id="496"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97"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98"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99"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集思广益</a:t>
            </a:r>
            <a:endParaRPr b="0" lang="en-US" sz="2600" spc="-1" strike="noStrike">
              <a:solidFill>
                <a:srgbClr val="000000"/>
              </a:solidFill>
              <a:latin typeface="Calibri"/>
            </a:endParaRPr>
          </a:p>
        </p:txBody>
      </p:sp>
      <p:sp>
        <p:nvSpPr>
          <p:cNvPr id="500" name="AutoShape 12"/>
          <p:cNvSpPr/>
          <p:nvPr/>
        </p:nvSpPr>
        <p:spPr>
          <a:xfrm>
            <a:off x="1238400" y="1227240"/>
            <a:ext cx="2170080" cy="1660320"/>
          </a:xfrm>
          <a:prstGeom prst="wedgeRoundRectCallout">
            <a:avLst>
              <a:gd name="adj1" fmla="val 45157"/>
              <a:gd name="adj2" fmla="val 62509"/>
              <a:gd name="adj3" fmla="val 16667"/>
            </a:avLst>
          </a:prstGeom>
          <a:gradFill rotWithShape="0">
            <a:gsLst>
              <a:gs pos="0">
                <a:srgbClr val="156b13"/>
              </a:gs>
              <a:gs pos="100000">
                <a:srgbClr val="156b13"/>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1</a:t>
            </a:r>
            <a:endParaRPr b="0" lang="en-US" sz="1800" spc="-1" strike="noStrike">
              <a:solidFill>
                <a:srgbClr val="000000"/>
              </a:solidFill>
              <a:latin typeface="Calibri"/>
            </a:endParaRPr>
          </a:p>
        </p:txBody>
      </p:sp>
      <p:sp>
        <p:nvSpPr>
          <p:cNvPr id="501" name="AutoShape 13"/>
          <p:cNvSpPr/>
          <p:nvPr/>
        </p:nvSpPr>
        <p:spPr>
          <a:xfrm>
            <a:off x="3630600" y="878040"/>
            <a:ext cx="2790720" cy="2057400"/>
          </a:xfrm>
          <a:prstGeom prst="wedgeRoundRectCallout">
            <a:avLst>
              <a:gd name="adj1" fmla="val -42305"/>
              <a:gd name="adj2" fmla="val 70240"/>
              <a:gd name="adj3" fmla="val 16667"/>
            </a:avLst>
          </a:prstGeom>
          <a:gradFill rotWithShape="0">
            <a:gsLst>
              <a:gs pos="0">
                <a:srgbClr val="156b13"/>
              </a:gs>
              <a:gs pos="100000">
                <a:srgbClr val="156b13"/>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2</a:t>
            </a:r>
            <a:endParaRPr b="0" lang="en-US" sz="1800" spc="-1" strike="noStrike">
              <a:solidFill>
                <a:srgbClr val="000000"/>
              </a:solidFill>
              <a:latin typeface="Calibri"/>
            </a:endParaRPr>
          </a:p>
        </p:txBody>
      </p:sp>
      <p:sp>
        <p:nvSpPr>
          <p:cNvPr id="502" name="AutoShape 14"/>
          <p:cNvSpPr/>
          <p:nvPr/>
        </p:nvSpPr>
        <p:spPr>
          <a:xfrm>
            <a:off x="6669000" y="798480"/>
            <a:ext cx="3038400" cy="1627200"/>
          </a:xfrm>
          <a:prstGeom prst="wedgeRoundRectCallout">
            <a:avLst>
              <a:gd name="adj1" fmla="val -46171"/>
              <a:gd name="adj2" fmla="val 82291"/>
              <a:gd name="adj3" fmla="val 16667"/>
            </a:avLst>
          </a:prstGeom>
          <a:gradFill rotWithShape="0">
            <a:gsLst>
              <a:gs pos="0">
                <a:srgbClr val="5e9eff"/>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6</a:t>
            </a:r>
            <a:endParaRPr b="0" lang="en-US" sz="1800" spc="-1" strike="noStrike">
              <a:solidFill>
                <a:srgbClr val="000000"/>
              </a:solidFill>
              <a:latin typeface="Calibri"/>
            </a:endParaRPr>
          </a:p>
        </p:txBody>
      </p:sp>
      <p:sp>
        <p:nvSpPr>
          <p:cNvPr id="503" name="AutoShape 15"/>
          <p:cNvSpPr/>
          <p:nvPr/>
        </p:nvSpPr>
        <p:spPr>
          <a:xfrm>
            <a:off x="8940960" y="2806560"/>
            <a:ext cx="2473200" cy="1946520"/>
          </a:xfrm>
          <a:prstGeom prst="wedgeRoundRectCallout">
            <a:avLst>
              <a:gd name="adj1" fmla="val -84842"/>
              <a:gd name="adj2" fmla="val -15240"/>
              <a:gd name="adj3" fmla="val 16667"/>
            </a:avLst>
          </a:prstGeom>
          <a:gradFill rotWithShape="0">
            <a:gsLst>
              <a:gs pos="0">
                <a:srgbClr val="ffebfa"/>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5</a:t>
            </a:r>
            <a:endParaRPr b="0" lang="en-US" sz="1800" spc="-1" strike="noStrike">
              <a:solidFill>
                <a:srgbClr val="000000"/>
              </a:solidFill>
              <a:latin typeface="Calibri"/>
            </a:endParaRPr>
          </a:p>
        </p:txBody>
      </p:sp>
      <p:sp>
        <p:nvSpPr>
          <p:cNvPr id="504" name="AutoShape 16"/>
          <p:cNvSpPr/>
          <p:nvPr/>
        </p:nvSpPr>
        <p:spPr>
          <a:xfrm>
            <a:off x="4092480" y="3781440"/>
            <a:ext cx="2473560" cy="1322280"/>
          </a:xfrm>
          <a:prstGeom prst="wedgeRoundRectCallout">
            <a:avLst>
              <a:gd name="adj1" fmla="val 24166"/>
              <a:gd name="adj2" fmla="val -80370"/>
              <a:gd name="adj3" fmla="val 16667"/>
            </a:avLst>
          </a:prstGeom>
          <a:gradFill rotWithShape="0">
            <a:gsLst>
              <a:gs pos="0">
                <a:srgbClr val="ffebfa"/>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4</a:t>
            </a:r>
            <a:endParaRPr b="0" lang="en-US" sz="1800" spc="-1" strike="noStrike">
              <a:solidFill>
                <a:srgbClr val="000000"/>
              </a:solidFill>
              <a:latin typeface="Calibri"/>
            </a:endParaRPr>
          </a:p>
        </p:txBody>
      </p:sp>
      <p:sp>
        <p:nvSpPr>
          <p:cNvPr id="505" name="AutoShape 17"/>
          <p:cNvSpPr/>
          <p:nvPr/>
        </p:nvSpPr>
        <p:spPr>
          <a:xfrm>
            <a:off x="7632720" y="4881600"/>
            <a:ext cx="2473200" cy="1324080"/>
          </a:xfrm>
          <a:prstGeom prst="wedgeRoundRectCallout">
            <a:avLst>
              <a:gd name="adj1" fmla="val -40319"/>
              <a:gd name="adj2" fmla="val -146685"/>
              <a:gd name="adj3" fmla="val 16667"/>
            </a:avLst>
          </a:prstGeom>
          <a:gradFill rotWithShape="0">
            <a:gsLst>
              <a:gs pos="0">
                <a:srgbClr val="fee7f2"/>
              </a:gs>
              <a:gs pos="100000">
                <a:srgbClr val="fbeac7"/>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7</a:t>
            </a:r>
            <a:endParaRPr b="0" lang="en-US" sz="1800" spc="-1" strike="noStrike">
              <a:solidFill>
                <a:srgbClr val="000000"/>
              </a:solidFill>
              <a:latin typeface="Calibri"/>
            </a:endParaRPr>
          </a:p>
        </p:txBody>
      </p:sp>
      <p:sp>
        <p:nvSpPr>
          <p:cNvPr id="506" name="AutoShape 18"/>
          <p:cNvSpPr/>
          <p:nvPr/>
        </p:nvSpPr>
        <p:spPr>
          <a:xfrm>
            <a:off x="1333440" y="4290840"/>
            <a:ext cx="2473560" cy="1322640"/>
          </a:xfrm>
          <a:prstGeom prst="wedgeRoundRectCallout">
            <a:avLst>
              <a:gd name="adj1" fmla="val 95120"/>
              <a:gd name="adj2" fmla="val -123652"/>
              <a:gd name="adj3" fmla="val 16667"/>
            </a:avLst>
          </a:prstGeom>
          <a:gradFill rotWithShape="0">
            <a:gsLst>
              <a:gs pos="0">
                <a:srgbClr val="fee7f2"/>
              </a:gs>
              <a:gs pos="100000">
                <a:srgbClr val="fbeac7"/>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3</a:t>
            </a:r>
            <a:endParaRPr b="0" lang="en-US" sz="1800" spc="-1" strike="noStrike">
              <a:solidFill>
                <a:srgbClr val="000000"/>
              </a:solidFill>
              <a:latin typeface="Calibri"/>
            </a:endParaRPr>
          </a:p>
        </p:txBody>
      </p:sp>
      <p:pic>
        <p:nvPicPr>
          <p:cNvPr id="507" name="Picture 19"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08" name="Picture 20"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09" name="Picture 21"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10" name="Picture 22"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97" dur="1000" fill="hold"/>
                                        <p:tgtEl>
                                          <p:spTgt spid="494"/>
                                        </p:tgtEl>
                                      </p:cBhvr>
                                    </p:animMotion>
                                  </p:childTnLst>
                                </p:cTn>
                              </p:par>
                            </p:childTnLst>
                          </p:cTn>
                        </p:par>
                        <p:par>
                          <p:cTn id="198" nodeType="afterEffect" fill="hold">
                            <p:stCondLst>
                              <p:cond delay="1000"/>
                            </p:stCondLst>
                            <p:childTnLst>
                              <p:par>
                                <p:cTn id="19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00" dur="1000" fill="hold"/>
                                        <p:tgtEl>
                                          <p:spTgt spid="4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bg"/>
          <p:cNvPicPr/>
          <p:nvPr/>
        </p:nvPicPr>
        <p:blipFill>
          <a:blip r:embed="rId1"/>
          <a:stretch/>
        </p:blipFill>
        <p:spPr>
          <a:xfrm>
            <a:off x="-46080" y="-11160"/>
            <a:ext cx="12250800" cy="6918480"/>
          </a:xfrm>
          <a:prstGeom prst="rect">
            <a:avLst/>
          </a:prstGeom>
          <a:ln w="0">
            <a:noFill/>
          </a:ln>
        </p:spPr>
      </p:pic>
      <p:sp>
        <p:nvSpPr>
          <p:cNvPr id="51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13" name="Picture 4" descr="board"/>
          <p:cNvPicPr/>
          <p:nvPr/>
        </p:nvPicPr>
        <p:blipFill>
          <a:blip r:embed="rId2"/>
          <a:stretch/>
        </p:blipFill>
        <p:spPr>
          <a:xfrm>
            <a:off x="-44280" y="0"/>
            <a:ext cx="12228480" cy="6886440"/>
          </a:xfrm>
          <a:prstGeom prst="rect">
            <a:avLst/>
          </a:prstGeom>
          <a:ln w="0">
            <a:noFill/>
          </a:ln>
        </p:spPr>
      </p:pic>
      <p:pic>
        <p:nvPicPr>
          <p:cNvPr id="514" name="Picture 5" descr="3"/>
          <p:cNvPicPr/>
          <p:nvPr/>
        </p:nvPicPr>
        <p:blipFill>
          <a:blip r:embed="rId3"/>
          <a:stretch/>
        </p:blipFill>
        <p:spPr>
          <a:xfrm>
            <a:off x="1938240" y="6273720"/>
            <a:ext cx="4603680" cy="490680"/>
          </a:xfrm>
          <a:prstGeom prst="rect">
            <a:avLst/>
          </a:prstGeom>
          <a:ln w="0">
            <a:noFill/>
          </a:ln>
        </p:spPr>
      </p:pic>
      <p:pic>
        <p:nvPicPr>
          <p:cNvPr id="515"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16" name="铅笔" descr="qianbi"/>
          <p:cNvPicPr/>
          <p:nvPr/>
        </p:nvPicPr>
        <p:blipFill>
          <a:blip r:embed="rId5"/>
          <a:stretch/>
        </p:blipFill>
        <p:spPr>
          <a:xfrm>
            <a:off x="88920" y="6105600"/>
            <a:ext cx="847800" cy="720720"/>
          </a:xfrm>
          <a:prstGeom prst="rect">
            <a:avLst/>
          </a:prstGeom>
          <a:ln w="0">
            <a:noFill/>
          </a:ln>
        </p:spPr>
      </p:pic>
      <p:pic>
        <p:nvPicPr>
          <p:cNvPr id="517" name="Picture 8" descr="jindu-lan"/>
          <p:cNvPicPr/>
          <p:nvPr/>
        </p:nvPicPr>
        <p:blipFill>
          <a:blip r:embed="rId6"/>
          <a:stretch/>
        </p:blipFill>
        <p:spPr>
          <a:xfrm>
            <a:off x="5981760" y="6369120"/>
            <a:ext cx="264960" cy="303120"/>
          </a:xfrm>
          <a:prstGeom prst="rect">
            <a:avLst/>
          </a:prstGeom>
          <a:ln w="0">
            <a:noFill/>
          </a:ln>
        </p:spPr>
      </p:pic>
      <p:pic>
        <p:nvPicPr>
          <p:cNvPr id="518"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519"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520"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521" name="Text Box 14"/>
          <p:cNvSpPr/>
          <p:nvPr/>
        </p:nvSpPr>
        <p:spPr>
          <a:xfrm>
            <a:off x="885240" y="0"/>
            <a:ext cx="303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endParaRPr b="0" lang="en-US" sz="2600" spc="-1" strike="noStrike">
              <a:solidFill>
                <a:srgbClr val="000000"/>
              </a:solidFill>
              <a:latin typeface="Calibri"/>
            </a:endParaRPr>
          </a:p>
        </p:txBody>
      </p:sp>
      <p:sp>
        <p:nvSpPr>
          <p:cNvPr id="522" name="Text Box 14">
            <a:hlinkClick r:id="rId10" action="ppaction://hlinksldjump"/>
          </p:cNvPr>
          <p:cNvSpPr/>
          <p:nvPr/>
        </p:nvSpPr>
        <p:spPr>
          <a:xfrm>
            <a:off x="1704960" y="122544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良好心态</a:t>
            </a:r>
            <a:endParaRPr b="0" lang="en-US" sz="2600" spc="-1" strike="noStrike">
              <a:solidFill>
                <a:srgbClr val="000000"/>
              </a:solidFill>
              <a:latin typeface="Calibri"/>
            </a:endParaRPr>
          </a:p>
        </p:txBody>
      </p:sp>
      <p:pic>
        <p:nvPicPr>
          <p:cNvPr id="523" name="图片 2" descr="red-point"/>
          <p:cNvPicPr/>
          <p:nvPr/>
        </p:nvPicPr>
        <p:blipFill>
          <a:blip r:embed="rId11"/>
          <a:stretch/>
        </p:blipFill>
        <p:spPr>
          <a:xfrm>
            <a:off x="1143000" y="1257480"/>
            <a:ext cx="517680" cy="431640"/>
          </a:xfrm>
          <a:prstGeom prst="rect">
            <a:avLst/>
          </a:prstGeom>
          <a:ln w="0">
            <a:noFill/>
          </a:ln>
        </p:spPr>
      </p:pic>
      <p:sp>
        <p:nvSpPr>
          <p:cNvPr id="524" name="TextBox 3"/>
          <p:cNvSpPr/>
          <p:nvPr/>
        </p:nvSpPr>
        <p:spPr>
          <a:xfrm>
            <a:off x="1168560" y="12510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525" name="Text Box 14">
            <a:hlinkClick r:id="rId12" action="ppaction://hlinksldjump"/>
          </p:cNvPr>
          <p:cNvSpPr/>
          <p:nvPr/>
        </p:nvSpPr>
        <p:spPr>
          <a:xfrm>
            <a:off x="1704960" y="192708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良好沟通</a:t>
            </a:r>
            <a:endParaRPr b="0" lang="en-US" sz="2600" spc="-1" strike="noStrike">
              <a:solidFill>
                <a:srgbClr val="000000"/>
              </a:solidFill>
              <a:latin typeface="Calibri"/>
            </a:endParaRPr>
          </a:p>
        </p:txBody>
      </p:sp>
      <p:pic>
        <p:nvPicPr>
          <p:cNvPr id="526" name="图片 2" descr="red-point"/>
          <p:cNvPicPr/>
          <p:nvPr/>
        </p:nvPicPr>
        <p:blipFill>
          <a:blip r:embed="rId13"/>
          <a:stretch/>
        </p:blipFill>
        <p:spPr>
          <a:xfrm>
            <a:off x="1143000" y="1959120"/>
            <a:ext cx="517680" cy="431640"/>
          </a:xfrm>
          <a:prstGeom prst="rect">
            <a:avLst/>
          </a:prstGeom>
          <a:ln w="0">
            <a:noFill/>
          </a:ln>
        </p:spPr>
      </p:pic>
      <p:sp>
        <p:nvSpPr>
          <p:cNvPr id="527" name="TextBox 3"/>
          <p:cNvSpPr/>
          <p:nvPr/>
        </p:nvSpPr>
        <p:spPr>
          <a:xfrm>
            <a:off x="1168560" y="1952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528" name="Text Box 14">
            <a:hlinkClick r:id="rId14" action="ppaction://hlinksldjump"/>
          </p:cNvPr>
          <p:cNvSpPr/>
          <p:nvPr/>
        </p:nvSpPr>
        <p:spPr>
          <a:xfrm>
            <a:off x="1704960" y="266076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有效工作</a:t>
            </a:r>
            <a:endParaRPr b="0" lang="en-US" sz="2600" spc="-1" strike="noStrike">
              <a:solidFill>
                <a:srgbClr val="000000"/>
              </a:solidFill>
              <a:latin typeface="Calibri"/>
            </a:endParaRPr>
          </a:p>
        </p:txBody>
      </p:sp>
      <p:pic>
        <p:nvPicPr>
          <p:cNvPr id="529" name="图片 2" descr="red-point"/>
          <p:cNvPicPr/>
          <p:nvPr/>
        </p:nvPicPr>
        <p:blipFill>
          <a:blip r:embed="rId15"/>
          <a:stretch/>
        </p:blipFill>
        <p:spPr>
          <a:xfrm>
            <a:off x="1143000" y="2692440"/>
            <a:ext cx="517680" cy="431640"/>
          </a:xfrm>
          <a:prstGeom prst="rect">
            <a:avLst/>
          </a:prstGeom>
          <a:ln w="0">
            <a:noFill/>
          </a:ln>
        </p:spPr>
      </p:pic>
      <p:sp>
        <p:nvSpPr>
          <p:cNvPr id="530" name="TextBox 3"/>
          <p:cNvSpPr/>
          <p:nvPr/>
        </p:nvSpPr>
        <p:spPr>
          <a:xfrm>
            <a:off x="1168560" y="26859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531" name="Text Box 14">
            <a:hlinkClick r:id="rId16" action="ppaction://hlinksldjump"/>
          </p:cNvPr>
          <p:cNvSpPr/>
          <p:nvPr/>
        </p:nvSpPr>
        <p:spPr>
          <a:xfrm>
            <a:off x="1704960" y="339408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专注效率</a:t>
            </a:r>
            <a:endParaRPr b="0" lang="en-US" sz="2600" spc="-1" strike="noStrike">
              <a:solidFill>
                <a:srgbClr val="000000"/>
              </a:solidFill>
              <a:latin typeface="Calibri"/>
            </a:endParaRPr>
          </a:p>
        </p:txBody>
      </p:sp>
      <p:pic>
        <p:nvPicPr>
          <p:cNvPr id="532" name="图片 2" descr="red-point"/>
          <p:cNvPicPr/>
          <p:nvPr/>
        </p:nvPicPr>
        <p:blipFill>
          <a:blip r:embed="rId17"/>
          <a:stretch/>
        </p:blipFill>
        <p:spPr>
          <a:xfrm>
            <a:off x="1143000" y="3425760"/>
            <a:ext cx="517680" cy="432000"/>
          </a:xfrm>
          <a:prstGeom prst="rect">
            <a:avLst/>
          </a:prstGeom>
          <a:ln w="0">
            <a:noFill/>
          </a:ln>
        </p:spPr>
      </p:pic>
      <p:sp>
        <p:nvSpPr>
          <p:cNvPr id="533" name="TextBox 3"/>
          <p:cNvSpPr/>
          <p:nvPr/>
        </p:nvSpPr>
        <p:spPr>
          <a:xfrm>
            <a:off x="1168560" y="3419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534" name="Text Box 14">
            <a:hlinkClick r:id="rId18" action="ppaction://hlinksldjump"/>
          </p:cNvPr>
          <p:cNvSpPr/>
          <p:nvPr/>
        </p:nvSpPr>
        <p:spPr>
          <a:xfrm>
            <a:off x="1704960" y="407988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劳逸结合</a:t>
            </a:r>
            <a:endParaRPr b="0" lang="en-US" sz="2600" spc="-1" strike="noStrike">
              <a:solidFill>
                <a:srgbClr val="000000"/>
              </a:solidFill>
              <a:latin typeface="Calibri"/>
            </a:endParaRPr>
          </a:p>
        </p:txBody>
      </p:sp>
      <p:pic>
        <p:nvPicPr>
          <p:cNvPr id="535" name="图片 2" descr="red-point"/>
          <p:cNvPicPr/>
          <p:nvPr/>
        </p:nvPicPr>
        <p:blipFill>
          <a:blip r:embed="rId19"/>
          <a:stretch/>
        </p:blipFill>
        <p:spPr>
          <a:xfrm>
            <a:off x="1143000" y="4111560"/>
            <a:ext cx="517680" cy="432000"/>
          </a:xfrm>
          <a:prstGeom prst="rect">
            <a:avLst/>
          </a:prstGeom>
          <a:ln w="0">
            <a:noFill/>
          </a:ln>
        </p:spPr>
      </p:pic>
      <p:sp>
        <p:nvSpPr>
          <p:cNvPr id="536" name="TextBox 3"/>
          <p:cNvSpPr/>
          <p:nvPr/>
        </p:nvSpPr>
        <p:spPr>
          <a:xfrm>
            <a:off x="1168560" y="4105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pic>
        <p:nvPicPr>
          <p:cNvPr id="537" name="Picture 28" descr="tb-xiuxi">
            <a:hlinkClick r:id="rId20" action="ppaction://hlinksldjump"/>
          </p:cNvPr>
          <p:cNvPicPr/>
          <p:nvPr/>
        </p:nvPicPr>
        <p:blipFill>
          <a:blip r:embed="rId21"/>
          <a:stretch/>
        </p:blipFill>
        <p:spPr>
          <a:xfrm>
            <a:off x="9499680" y="6383160"/>
            <a:ext cx="615960" cy="524160"/>
          </a:xfrm>
          <a:prstGeom prst="rect">
            <a:avLst/>
          </a:prstGeom>
          <a:ln w="0">
            <a:noFill/>
          </a:ln>
        </p:spPr>
      </p:pic>
      <p:pic>
        <p:nvPicPr>
          <p:cNvPr id="538" name="Picture 29" descr="jindu-lan">
            <a:hlinkClick r:id="rId22" action="ppaction://hlinksldjump"/>
          </p:cNvPr>
          <p:cNvPicPr/>
          <p:nvPr/>
        </p:nvPicPr>
        <p:blipFill>
          <a:blip r:embed="rId23"/>
          <a:stretch/>
        </p:blipFill>
        <p:spPr>
          <a:xfrm>
            <a:off x="4106880" y="6370560"/>
            <a:ext cx="264960" cy="301680"/>
          </a:xfrm>
          <a:prstGeom prst="rect">
            <a:avLst/>
          </a:prstGeom>
          <a:ln w="0">
            <a:noFill/>
          </a:ln>
        </p:spPr>
      </p:pic>
      <p:pic>
        <p:nvPicPr>
          <p:cNvPr id="539" name="Picture 30" descr="jindu-lan">
            <a:hlinkClick r:id="rId24" action="ppaction://hlinksldjump"/>
          </p:cNvPr>
          <p:cNvPicPr/>
          <p:nvPr/>
        </p:nvPicPr>
        <p:blipFill>
          <a:blip r:embed="rId2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06" dur="1000" fill="hold"/>
                                        <p:tgtEl>
                                          <p:spTgt spid="515"/>
                                        </p:tgtEl>
                                      </p:cBhvr>
                                    </p:animMotion>
                                  </p:childTnLst>
                                </p:cTn>
                              </p:par>
                            </p:childTnLst>
                          </p:cTn>
                        </p:par>
                        <p:par>
                          <p:cTn id="207" nodeType="afterEffect" fill="hold">
                            <p:stCondLst>
                              <p:cond delay="1000"/>
                            </p:stCondLst>
                            <p:childTnLst>
                              <p:par>
                                <p:cTn id="20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09" dur="1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2" descr="bg"/>
          <p:cNvPicPr/>
          <p:nvPr/>
        </p:nvPicPr>
        <p:blipFill>
          <a:blip r:embed="rId1"/>
          <a:stretch/>
        </p:blipFill>
        <p:spPr>
          <a:xfrm>
            <a:off x="-46080" y="-11160"/>
            <a:ext cx="12250800" cy="6918480"/>
          </a:xfrm>
          <a:prstGeom prst="rect">
            <a:avLst/>
          </a:prstGeom>
          <a:ln w="0">
            <a:noFill/>
          </a:ln>
        </p:spPr>
      </p:pic>
      <p:sp>
        <p:nvSpPr>
          <p:cNvPr id="54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42" name="Picture 4" descr="board"/>
          <p:cNvPicPr/>
          <p:nvPr/>
        </p:nvPicPr>
        <p:blipFill>
          <a:blip r:embed="rId2"/>
          <a:stretch/>
        </p:blipFill>
        <p:spPr>
          <a:xfrm>
            <a:off x="-44280" y="0"/>
            <a:ext cx="12228480" cy="6886440"/>
          </a:xfrm>
          <a:prstGeom prst="rect">
            <a:avLst/>
          </a:prstGeom>
          <a:ln w="0">
            <a:noFill/>
          </a:ln>
        </p:spPr>
      </p:pic>
      <p:pic>
        <p:nvPicPr>
          <p:cNvPr id="543" name="Picture 5" descr="3"/>
          <p:cNvPicPr/>
          <p:nvPr/>
        </p:nvPicPr>
        <p:blipFill>
          <a:blip r:embed="rId3"/>
          <a:stretch/>
        </p:blipFill>
        <p:spPr>
          <a:xfrm>
            <a:off x="1938240" y="6273720"/>
            <a:ext cx="4603680" cy="490680"/>
          </a:xfrm>
          <a:prstGeom prst="rect">
            <a:avLst/>
          </a:prstGeom>
          <a:ln w="0">
            <a:noFill/>
          </a:ln>
        </p:spPr>
      </p:pic>
      <p:pic>
        <p:nvPicPr>
          <p:cNvPr id="54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45" name="铅笔" descr="qianbi"/>
          <p:cNvPicPr/>
          <p:nvPr/>
        </p:nvPicPr>
        <p:blipFill>
          <a:blip r:embed="rId5"/>
          <a:stretch/>
        </p:blipFill>
        <p:spPr>
          <a:xfrm>
            <a:off x="88920" y="6105600"/>
            <a:ext cx="847800" cy="720720"/>
          </a:xfrm>
          <a:prstGeom prst="rect">
            <a:avLst/>
          </a:prstGeom>
          <a:ln w="0">
            <a:noFill/>
          </a:ln>
        </p:spPr>
      </p:pic>
      <p:pic>
        <p:nvPicPr>
          <p:cNvPr id="546" name="Picture 8" descr="jindu-lan">
            <a:hlinkClick r:id="rId6" action="ppaction://hlinksldjump"/>
          </p:cNvPr>
          <p:cNvPicPr/>
          <p:nvPr/>
        </p:nvPicPr>
        <p:blipFill>
          <a:blip r:embed="rId7"/>
          <a:stretch/>
        </p:blipFill>
        <p:spPr>
          <a:xfrm>
            <a:off x="5981760" y="6369120"/>
            <a:ext cx="264960" cy="303120"/>
          </a:xfrm>
          <a:prstGeom prst="rect">
            <a:avLst/>
          </a:prstGeom>
          <a:ln w="0">
            <a:noFill/>
          </a:ln>
        </p:spPr>
      </p:pic>
      <p:pic>
        <p:nvPicPr>
          <p:cNvPr id="547" name="下一页" descr="jiantou">
            <a:hlinkClick r:id="" action="ppaction://hlinkshowjump?jump=previousslide"/>
          </p:cNvPr>
          <p:cNvPicPr/>
          <p:nvPr/>
        </p:nvPicPr>
        <p:blipFill>
          <a:blip r:embed="rId8"/>
          <a:stretch/>
        </p:blipFill>
        <p:spPr>
          <a:xfrm>
            <a:off x="20520" y="2973240"/>
            <a:ext cx="397080" cy="660600"/>
          </a:xfrm>
          <a:prstGeom prst="rect">
            <a:avLst/>
          </a:prstGeom>
          <a:ln w="0">
            <a:noFill/>
          </a:ln>
        </p:spPr>
      </p:pic>
      <p:pic>
        <p:nvPicPr>
          <p:cNvPr id="548" name="Picture 10" descr="tb-houtui">
            <a:hlinkClick r:id="" action="ppaction://hlinkshowjump?jump=previousslide"/>
          </p:cNvPr>
          <p:cNvPicPr/>
          <p:nvPr/>
        </p:nvPicPr>
        <p:blipFill>
          <a:blip r:embed="rId9"/>
          <a:stretch/>
        </p:blipFill>
        <p:spPr>
          <a:xfrm>
            <a:off x="10401480" y="6383160"/>
            <a:ext cx="615600" cy="524160"/>
          </a:xfrm>
          <a:prstGeom prst="rect">
            <a:avLst/>
          </a:prstGeom>
          <a:ln w="0">
            <a:noFill/>
          </a:ln>
        </p:spPr>
      </p:pic>
      <p:pic>
        <p:nvPicPr>
          <p:cNvPr id="549" name="Picture 11" descr="tb-tuichu">
            <a:hlinkClick r:id="" action="ppaction://hlinkshowjump?jump=endshow"/>
          </p:cNvPr>
          <p:cNvPicPr/>
          <p:nvPr/>
        </p:nvPicPr>
        <p:blipFill>
          <a:blip r:embed="rId10"/>
          <a:stretch/>
        </p:blipFill>
        <p:spPr>
          <a:xfrm>
            <a:off x="11320560" y="6383160"/>
            <a:ext cx="615960" cy="524160"/>
          </a:xfrm>
          <a:prstGeom prst="rect">
            <a:avLst/>
          </a:prstGeom>
          <a:ln w="0">
            <a:noFill/>
          </a:ln>
        </p:spPr>
      </p:pic>
      <p:sp>
        <p:nvSpPr>
          <p:cNvPr id="550"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良好心态</a:t>
            </a:r>
            <a:endParaRPr b="0" lang="en-US" sz="2600" spc="-1" strike="noStrike">
              <a:solidFill>
                <a:srgbClr val="000000"/>
              </a:solidFill>
              <a:latin typeface="Calibri"/>
            </a:endParaRPr>
          </a:p>
        </p:txBody>
      </p:sp>
      <p:sp>
        <p:nvSpPr>
          <p:cNvPr id="551" name="Text Box 13"/>
          <p:cNvSpPr/>
          <p:nvPr/>
        </p:nvSpPr>
        <p:spPr>
          <a:xfrm>
            <a:off x="1301760" y="1324080"/>
            <a:ext cx="9553680" cy="48459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一个开心快乐积极向上的心情</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面带微笑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带着不求回报的心态帮助一些你力所能及的人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多和现实生活中另人尊敬崇拜的人接触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冲动是魔鬼</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遇事三思而后行</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凡事顺其自然</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事后注意总结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每天给自己一点时间发发呆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做好当下的事情，减少不必要的忧虑</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换位思考</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天下没有解决不了的事情，相信水道渠成！</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要生气或发怒时，让大脑静几分钟。</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信念坚定 </a:t>
            </a:r>
            <a:endParaRPr b="0" lang="en-US" sz="2600" spc="-1" strike="noStrike">
              <a:solidFill>
                <a:srgbClr val="000000"/>
              </a:solidFill>
              <a:latin typeface="Calibri"/>
            </a:endParaRPr>
          </a:p>
        </p:txBody>
      </p:sp>
      <p:pic>
        <p:nvPicPr>
          <p:cNvPr id="552" name="Picture 14"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553" name="Picture 1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554" name="Picture 1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15" dur="1000" fill="hold"/>
                                        <p:tgtEl>
                                          <p:spTgt spid="544"/>
                                        </p:tgtEl>
                                      </p:cBhvr>
                                    </p:animMotion>
                                  </p:childTnLst>
                                </p:cTn>
                              </p:par>
                            </p:childTnLst>
                          </p:cTn>
                        </p:par>
                        <p:par>
                          <p:cTn id="216" nodeType="afterEffect" fill="hold">
                            <p:stCondLst>
                              <p:cond delay="1000"/>
                            </p:stCondLst>
                            <p:childTnLst>
                              <p:par>
                                <p:cTn id="21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18" dur="1000" fill="hold"/>
                                        <p:tgtEl>
                                          <p:spTgt spid="5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bg"/>
          <p:cNvPicPr/>
          <p:nvPr/>
        </p:nvPicPr>
        <p:blipFill>
          <a:blip r:embed="rId1"/>
          <a:stretch/>
        </p:blipFill>
        <p:spPr>
          <a:xfrm>
            <a:off x="-46080" y="-11160"/>
            <a:ext cx="12250800" cy="6918480"/>
          </a:xfrm>
          <a:prstGeom prst="rect">
            <a:avLst/>
          </a:prstGeom>
          <a:ln w="0">
            <a:noFill/>
          </a:ln>
        </p:spPr>
      </p:pic>
      <p:sp>
        <p:nvSpPr>
          <p:cNvPr id="55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57" name="Picture 4" descr="board"/>
          <p:cNvPicPr/>
          <p:nvPr/>
        </p:nvPicPr>
        <p:blipFill>
          <a:blip r:embed="rId2"/>
          <a:stretch/>
        </p:blipFill>
        <p:spPr>
          <a:xfrm>
            <a:off x="-44280" y="0"/>
            <a:ext cx="12228480" cy="6886440"/>
          </a:xfrm>
          <a:prstGeom prst="rect">
            <a:avLst/>
          </a:prstGeom>
          <a:ln w="0">
            <a:noFill/>
          </a:ln>
        </p:spPr>
      </p:pic>
      <p:pic>
        <p:nvPicPr>
          <p:cNvPr id="558" name="Picture 5" descr="3"/>
          <p:cNvPicPr/>
          <p:nvPr/>
        </p:nvPicPr>
        <p:blipFill>
          <a:blip r:embed="rId3"/>
          <a:stretch/>
        </p:blipFill>
        <p:spPr>
          <a:xfrm>
            <a:off x="1938240" y="6273720"/>
            <a:ext cx="4603680" cy="490680"/>
          </a:xfrm>
          <a:prstGeom prst="rect">
            <a:avLst/>
          </a:prstGeom>
          <a:ln w="0">
            <a:noFill/>
          </a:ln>
        </p:spPr>
      </p:pic>
      <p:pic>
        <p:nvPicPr>
          <p:cNvPr id="55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60" name="铅笔" descr="qianbi"/>
          <p:cNvPicPr/>
          <p:nvPr/>
        </p:nvPicPr>
        <p:blipFill>
          <a:blip r:embed="rId5"/>
          <a:stretch/>
        </p:blipFill>
        <p:spPr>
          <a:xfrm>
            <a:off x="88920" y="6105600"/>
            <a:ext cx="847800" cy="720720"/>
          </a:xfrm>
          <a:prstGeom prst="rect">
            <a:avLst/>
          </a:prstGeom>
          <a:ln w="0">
            <a:noFill/>
          </a:ln>
        </p:spPr>
      </p:pic>
      <p:pic>
        <p:nvPicPr>
          <p:cNvPr id="561"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62"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63"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64"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良好沟通</a:t>
            </a:r>
            <a:endParaRPr b="0" lang="en-US" sz="2600" spc="-1" strike="noStrike">
              <a:solidFill>
                <a:srgbClr val="000000"/>
              </a:solidFill>
              <a:latin typeface="Calibri"/>
            </a:endParaRPr>
          </a:p>
        </p:txBody>
      </p:sp>
      <p:sp>
        <p:nvSpPr>
          <p:cNvPr id="565" name="Text Box 12"/>
          <p:cNvSpPr/>
          <p:nvPr/>
        </p:nvSpPr>
        <p:spPr>
          <a:xfrm>
            <a:off x="1301760" y="1324080"/>
            <a:ext cx="95536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必须知道说什么，就是要明确沟通的目的。如果目的不明确，就意味着你自己也不知道说什么，自然也不可能让别人明白，自然也就达不到沟通的目的。</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什么时候说，就是要掌握好沟通的时间。要想很好地达到沟通效果，必须掌握好沟通的时间，把握好沟通的火候。</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对谁说，就是要明确沟通的对象。虽然你说得很好，但你选错了对象，自然也达不到沟通的目的。</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怎么说，就是要掌握沟通的方法。沟通是要用对方听得懂的语言——包括文字、语调及肢体语言，而你要学的就是透过对这些沟通语言的观察来有效地使用它们进行沟通</a:t>
            </a:r>
            <a:endParaRPr b="0" lang="en-US" sz="2600" spc="-1" strike="noStrike">
              <a:solidFill>
                <a:srgbClr val="000000"/>
              </a:solidFill>
              <a:latin typeface="Calibri"/>
            </a:endParaRPr>
          </a:p>
        </p:txBody>
      </p:sp>
      <p:pic>
        <p:nvPicPr>
          <p:cNvPr id="566"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67"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68"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69"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24" dur="1000" fill="hold"/>
                                        <p:tgtEl>
                                          <p:spTgt spid="559"/>
                                        </p:tgtEl>
                                      </p:cBhvr>
                                    </p:animMotion>
                                  </p:childTnLst>
                                </p:cTn>
                              </p:par>
                            </p:childTnLst>
                          </p:cTn>
                        </p:par>
                        <p:par>
                          <p:cTn id="225" nodeType="afterEffect" fill="hold">
                            <p:stCondLst>
                              <p:cond delay="1000"/>
                            </p:stCondLst>
                            <p:childTnLst>
                              <p:par>
                                <p:cTn id="22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27" dur="1000" fill="hold"/>
                                        <p:tgtEl>
                                          <p:spTgt spid="5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2" descr="bg"/>
          <p:cNvPicPr/>
          <p:nvPr/>
        </p:nvPicPr>
        <p:blipFill>
          <a:blip r:embed="rId1"/>
          <a:stretch/>
        </p:blipFill>
        <p:spPr>
          <a:xfrm>
            <a:off x="-46080" y="-11160"/>
            <a:ext cx="12250800" cy="6918480"/>
          </a:xfrm>
          <a:prstGeom prst="rect">
            <a:avLst/>
          </a:prstGeom>
          <a:ln w="0">
            <a:noFill/>
          </a:ln>
        </p:spPr>
      </p:pic>
      <p:sp>
        <p:nvSpPr>
          <p:cNvPr id="57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72" name="Picture 4" descr="board"/>
          <p:cNvPicPr/>
          <p:nvPr/>
        </p:nvPicPr>
        <p:blipFill>
          <a:blip r:embed="rId2"/>
          <a:stretch/>
        </p:blipFill>
        <p:spPr>
          <a:xfrm>
            <a:off x="-44280" y="0"/>
            <a:ext cx="12228480" cy="6886440"/>
          </a:xfrm>
          <a:prstGeom prst="rect">
            <a:avLst/>
          </a:prstGeom>
          <a:ln w="0">
            <a:noFill/>
          </a:ln>
        </p:spPr>
      </p:pic>
      <p:pic>
        <p:nvPicPr>
          <p:cNvPr id="573" name="Picture 5" descr="3"/>
          <p:cNvPicPr/>
          <p:nvPr/>
        </p:nvPicPr>
        <p:blipFill>
          <a:blip r:embed="rId3"/>
          <a:stretch/>
        </p:blipFill>
        <p:spPr>
          <a:xfrm>
            <a:off x="1938240" y="6273720"/>
            <a:ext cx="4603680" cy="490680"/>
          </a:xfrm>
          <a:prstGeom prst="rect">
            <a:avLst/>
          </a:prstGeom>
          <a:ln w="0">
            <a:noFill/>
          </a:ln>
        </p:spPr>
      </p:pic>
      <p:pic>
        <p:nvPicPr>
          <p:cNvPr id="57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75" name="铅笔" descr="qianbi"/>
          <p:cNvPicPr/>
          <p:nvPr/>
        </p:nvPicPr>
        <p:blipFill>
          <a:blip r:embed="rId5"/>
          <a:stretch/>
        </p:blipFill>
        <p:spPr>
          <a:xfrm>
            <a:off x="88920" y="6105600"/>
            <a:ext cx="847800" cy="720720"/>
          </a:xfrm>
          <a:prstGeom prst="rect">
            <a:avLst/>
          </a:prstGeom>
          <a:ln w="0">
            <a:noFill/>
          </a:ln>
        </p:spPr>
      </p:pic>
      <p:pic>
        <p:nvPicPr>
          <p:cNvPr id="576"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77"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78"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79"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有效工作</a:t>
            </a:r>
            <a:endParaRPr b="0" lang="en-US" sz="2600" spc="-1" strike="noStrike">
              <a:solidFill>
                <a:srgbClr val="000000"/>
              </a:solidFill>
              <a:latin typeface="Calibri"/>
            </a:endParaRPr>
          </a:p>
        </p:txBody>
      </p:sp>
      <p:sp>
        <p:nvSpPr>
          <p:cNvPr id="580" name="Text Box 12"/>
          <p:cNvSpPr/>
          <p:nvPr/>
        </p:nvSpPr>
        <p:spPr>
          <a:xfrm>
            <a:off x="1301760" y="1324080"/>
            <a:ext cx="9553680" cy="38955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办公桌面的干净，资料和其他物品摆放整齐有序</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一个快乐，乐观的心态</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制定好月周的目标和每天的目标和具体的计划，理清事物的轻重缓急</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养成迅速行动的好习惯，但要注意好事物的正确时机，不要拖拉，重复，空谈，等靠望</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做事前要不断明确自己的目标，做好周密的计划（流程，方法，细节，应急方案等）和充分的准备（多多刻意练习）</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一旦行动，要专心和专注，要有耐心，细心和小心</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把握好每步的方法和力度，注意重点和细节</a:t>
            </a:r>
            <a:endParaRPr b="0" lang="en-US" sz="2600" spc="-1" strike="noStrike">
              <a:solidFill>
                <a:srgbClr val="000000"/>
              </a:solidFill>
              <a:latin typeface="Calibri"/>
            </a:endParaRPr>
          </a:p>
        </p:txBody>
      </p:sp>
      <p:pic>
        <p:nvPicPr>
          <p:cNvPr id="581"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82"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83"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84"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33" dur="1000" fill="hold"/>
                                        <p:tgtEl>
                                          <p:spTgt spid="574"/>
                                        </p:tgtEl>
                                      </p:cBhvr>
                                    </p:animMotion>
                                  </p:childTnLst>
                                </p:cTn>
                              </p:par>
                            </p:childTnLst>
                          </p:cTn>
                        </p:par>
                        <p:par>
                          <p:cTn id="234" nodeType="afterEffect" fill="hold">
                            <p:stCondLst>
                              <p:cond delay="1000"/>
                            </p:stCondLst>
                            <p:childTnLst>
                              <p:par>
                                <p:cTn id="23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36" dur="1000" fill="hold"/>
                                        <p:tgtEl>
                                          <p:spTgt spid="5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bg"/>
          <p:cNvPicPr/>
          <p:nvPr/>
        </p:nvPicPr>
        <p:blipFill>
          <a:blip r:embed="rId1"/>
          <a:stretch/>
        </p:blipFill>
        <p:spPr>
          <a:xfrm>
            <a:off x="-46080" y="-11160"/>
            <a:ext cx="12250800" cy="6918480"/>
          </a:xfrm>
          <a:prstGeom prst="rect">
            <a:avLst/>
          </a:prstGeom>
          <a:ln w="0">
            <a:noFill/>
          </a:ln>
        </p:spPr>
      </p:pic>
      <p:sp>
        <p:nvSpPr>
          <p:cNvPr id="58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87" name="Picture 4" descr="board"/>
          <p:cNvPicPr/>
          <p:nvPr/>
        </p:nvPicPr>
        <p:blipFill>
          <a:blip r:embed="rId2"/>
          <a:stretch/>
        </p:blipFill>
        <p:spPr>
          <a:xfrm>
            <a:off x="-44280" y="0"/>
            <a:ext cx="12228480" cy="6886440"/>
          </a:xfrm>
          <a:prstGeom prst="rect">
            <a:avLst/>
          </a:prstGeom>
          <a:ln w="0">
            <a:noFill/>
          </a:ln>
        </p:spPr>
      </p:pic>
      <p:pic>
        <p:nvPicPr>
          <p:cNvPr id="588" name="Picture 5" descr="3"/>
          <p:cNvPicPr/>
          <p:nvPr/>
        </p:nvPicPr>
        <p:blipFill>
          <a:blip r:embed="rId3"/>
          <a:stretch/>
        </p:blipFill>
        <p:spPr>
          <a:xfrm>
            <a:off x="1938240" y="6273720"/>
            <a:ext cx="4603680" cy="490680"/>
          </a:xfrm>
          <a:prstGeom prst="rect">
            <a:avLst/>
          </a:prstGeom>
          <a:ln w="0">
            <a:noFill/>
          </a:ln>
        </p:spPr>
      </p:pic>
      <p:pic>
        <p:nvPicPr>
          <p:cNvPr id="58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90" name="铅笔" descr="qianbi"/>
          <p:cNvPicPr/>
          <p:nvPr/>
        </p:nvPicPr>
        <p:blipFill>
          <a:blip r:embed="rId5"/>
          <a:stretch/>
        </p:blipFill>
        <p:spPr>
          <a:xfrm>
            <a:off x="88920" y="6105600"/>
            <a:ext cx="847800" cy="720720"/>
          </a:xfrm>
          <a:prstGeom prst="rect">
            <a:avLst/>
          </a:prstGeom>
          <a:ln w="0">
            <a:noFill/>
          </a:ln>
        </p:spPr>
      </p:pic>
      <p:pic>
        <p:nvPicPr>
          <p:cNvPr id="591"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92"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93"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94"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有效工作</a:t>
            </a:r>
            <a:endParaRPr b="0" lang="en-US" sz="2600" spc="-1" strike="noStrike">
              <a:solidFill>
                <a:srgbClr val="000000"/>
              </a:solidFill>
              <a:latin typeface="Calibri"/>
            </a:endParaRPr>
          </a:p>
        </p:txBody>
      </p:sp>
      <p:sp>
        <p:nvSpPr>
          <p:cNvPr id="595" name="Text Box 12"/>
          <p:cNvSpPr/>
          <p:nvPr/>
        </p:nvSpPr>
        <p:spPr>
          <a:xfrm>
            <a:off x="1301760" y="1324080"/>
            <a:ext cx="95536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遇到困难，要坚强，镇定，充满信心不气馁，不逃避，积极主动的寻找突破口与方法</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在行动要善于审时度势，学会灵活变通，以目标结果意识为导向，不断调整目标和修正方法</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对工作的进展不断的持续的关注，直到落实到事件的结果</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事后进行反思和总结，避免下次犯同样错误。</a:t>
            </a:r>
            <a:endParaRPr b="0" lang="en-US" sz="2600" spc="-1" strike="noStrike">
              <a:solidFill>
                <a:srgbClr val="000000"/>
              </a:solidFill>
              <a:latin typeface="Calibri"/>
            </a:endParaRPr>
          </a:p>
        </p:txBody>
      </p:sp>
      <p:pic>
        <p:nvPicPr>
          <p:cNvPr id="596"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97"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98"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99"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42" dur="1000" fill="hold"/>
                                        <p:tgtEl>
                                          <p:spTgt spid="589"/>
                                        </p:tgtEl>
                                      </p:cBhvr>
                                    </p:animMotion>
                                  </p:childTnLst>
                                </p:cTn>
                              </p:par>
                            </p:childTnLst>
                          </p:cTn>
                        </p:par>
                        <p:par>
                          <p:cTn id="243" nodeType="afterEffect" fill="hold">
                            <p:stCondLst>
                              <p:cond delay="1000"/>
                            </p:stCondLst>
                            <p:childTnLst>
                              <p:par>
                                <p:cTn id="24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45" dur="1000" fill="hold"/>
                                        <p:tgtEl>
                                          <p:spTgt spid="5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bg"/>
          <p:cNvPicPr/>
          <p:nvPr/>
        </p:nvPicPr>
        <p:blipFill>
          <a:blip r:embed="rId1"/>
          <a:stretch/>
        </p:blipFill>
        <p:spPr>
          <a:xfrm>
            <a:off x="-46080" y="-11160"/>
            <a:ext cx="12250800" cy="6918480"/>
          </a:xfrm>
          <a:prstGeom prst="rect">
            <a:avLst/>
          </a:prstGeom>
          <a:ln w="0">
            <a:noFill/>
          </a:ln>
        </p:spPr>
      </p:pic>
      <p:sp>
        <p:nvSpPr>
          <p:cNvPr id="60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02" name="Picture 4" descr="board"/>
          <p:cNvPicPr/>
          <p:nvPr/>
        </p:nvPicPr>
        <p:blipFill>
          <a:blip r:embed="rId2"/>
          <a:stretch/>
        </p:blipFill>
        <p:spPr>
          <a:xfrm>
            <a:off x="-44280" y="0"/>
            <a:ext cx="12228480" cy="6886440"/>
          </a:xfrm>
          <a:prstGeom prst="rect">
            <a:avLst/>
          </a:prstGeom>
          <a:ln w="0">
            <a:noFill/>
          </a:ln>
        </p:spPr>
      </p:pic>
      <p:pic>
        <p:nvPicPr>
          <p:cNvPr id="603" name="Picture 5" descr="3"/>
          <p:cNvPicPr/>
          <p:nvPr/>
        </p:nvPicPr>
        <p:blipFill>
          <a:blip r:embed="rId3"/>
          <a:stretch/>
        </p:blipFill>
        <p:spPr>
          <a:xfrm>
            <a:off x="1938240" y="6273720"/>
            <a:ext cx="4603680" cy="490680"/>
          </a:xfrm>
          <a:prstGeom prst="rect">
            <a:avLst/>
          </a:prstGeom>
          <a:ln w="0">
            <a:noFill/>
          </a:ln>
        </p:spPr>
      </p:pic>
      <p:pic>
        <p:nvPicPr>
          <p:cNvPr id="60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05" name="铅笔" descr="qianbi"/>
          <p:cNvPicPr/>
          <p:nvPr/>
        </p:nvPicPr>
        <p:blipFill>
          <a:blip r:embed="rId5"/>
          <a:stretch/>
        </p:blipFill>
        <p:spPr>
          <a:xfrm>
            <a:off x="88920" y="6105600"/>
            <a:ext cx="847800" cy="720720"/>
          </a:xfrm>
          <a:prstGeom prst="rect">
            <a:avLst/>
          </a:prstGeom>
          <a:ln w="0">
            <a:noFill/>
          </a:ln>
        </p:spPr>
      </p:pic>
      <p:pic>
        <p:nvPicPr>
          <p:cNvPr id="606"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607"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608"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609"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专注效率</a:t>
            </a:r>
            <a:endParaRPr b="0" lang="en-US" sz="2600" spc="-1" strike="noStrike">
              <a:solidFill>
                <a:srgbClr val="000000"/>
              </a:solidFill>
              <a:latin typeface="Calibri"/>
            </a:endParaRPr>
          </a:p>
        </p:txBody>
      </p:sp>
      <p:sp>
        <p:nvSpPr>
          <p:cNvPr id="610" name="Text Box 12"/>
          <p:cNvSpPr/>
          <p:nvPr/>
        </p:nvSpPr>
        <p:spPr>
          <a:xfrm>
            <a:off x="1301760" y="1324080"/>
            <a:ext cx="9553680" cy="24699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把所有工作划分成事务型和思考型两类</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每天定时完成日常工作</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列出工作计划，并且用明显的方式提示你完成的进度</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不要犹豫和等待，立即行动</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安排好随时可进行的备用任务，以不浪费你的时间</a:t>
            </a:r>
            <a:endParaRPr b="0" lang="en-US" sz="2600" spc="-1" strike="noStrike">
              <a:solidFill>
                <a:srgbClr val="000000"/>
              </a:solidFill>
              <a:latin typeface="Calibri"/>
            </a:endParaRPr>
          </a:p>
        </p:txBody>
      </p:sp>
      <p:pic>
        <p:nvPicPr>
          <p:cNvPr id="611"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12"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13"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14"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51" dur="1000" fill="hold"/>
                                        <p:tgtEl>
                                          <p:spTgt spid="604"/>
                                        </p:tgtEl>
                                      </p:cBhvr>
                                    </p:animMotion>
                                  </p:childTnLst>
                                </p:cTn>
                              </p:par>
                            </p:childTnLst>
                          </p:cTn>
                        </p:par>
                        <p:par>
                          <p:cTn id="252" nodeType="afterEffect" fill="hold">
                            <p:stCondLst>
                              <p:cond delay="1000"/>
                            </p:stCondLst>
                            <p:childTnLst>
                              <p:par>
                                <p:cTn id="25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54" dur="1000" fill="hold"/>
                                        <p:tgtEl>
                                          <p:spTgt spid="6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2" descr="bg"/>
          <p:cNvPicPr/>
          <p:nvPr/>
        </p:nvPicPr>
        <p:blipFill>
          <a:blip r:embed="rId1"/>
          <a:stretch/>
        </p:blipFill>
        <p:spPr>
          <a:xfrm>
            <a:off x="-46080" y="-11160"/>
            <a:ext cx="12250800" cy="6918480"/>
          </a:xfrm>
          <a:prstGeom prst="rect">
            <a:avLst/>
          </a:prstGeom>
          <a:ln w="0">
            <a:noFill/>
          </a:ln>
        </p:spPr>
      </p:pic>
      <p:sp>
        <p:nvSpPr>
          <p:cNvPr id="61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17" name="Picture 4" descr="board"/>
          <p:cNvPicPr/>
          <p:nvPr/>
        </p:nvPicPr>
        <p:blipFill>
          <a:blip r:embed="rId2"/>
          <a:stretch/>
        </p:blipFill>
        <p:spPr>
          <a:xfrm>
            <a:off x="-44280" y="0"/>
            <a:ext cx="12228480" cy="6886440"/>
          </a:xfrm>
          <a:prstGeom prst="rect">
            <a:avLst/>
          </a:prstGeom>
          <a:ln w="0">
            <a:noFill/>
          </a:ln>
        </p:spPr>
      </p:pic>
      <p:pic>
        <p:nvPicPr>
          <p:cNvPr id="618" name="Picture 5" descr="3"/>
          <p:cNvPicPr/>
          <p:nvPr/>
        </p:nvPicPr>
        <p:blipFill>
          <a:blip r:embed="rId3"/>
          <a:stretch/>
        </p:blipFill>
        <p:spPr>
          <a:xfrm>
            <a:off x="1938240" y="6273720"/>
            <a:ext cx="4603680" cy="490680"/>
          </a:xfrm>
          <a:prstGeom prst="rect">
            <a:avLst/>
          </a:prstGeom>
          <a:ln w="0">
            <a:noFill/>
          </a:ln>
        </p:spPr>
      </p:pic>
      <p:pic>
        <p:nvPicPr>
          <p:cNvPr id="61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20" name="铅笔" descr="qianbi"/>
          <p:cNvPicPr/>
          <p:nvPr/>
        </p:nvPicPr>
        <p:blipFill>
          <a:blip r:embed="rId5"/>
          <a:stretch/>
        </p:blipFill>
        <p:spPr>
          <a:xfrm>
            <a:off x="88920" y="6105600"/>
            <a:ext cx="847800" cy="720720"/>
          </a:xfrm>
          <a:prstGeom prst="rect">
            <a:avLst/>
          </a:prstGeom>
          <a:ln w="0">
            <a:noFill/>
          </a:ln>
        </p:spPr>
      </p:pic>
      <p:pic>
        <p:nvPicPr>
          <p:cNvPr id="621"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622"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623"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624"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劳逸结合</a:t>
            </a:r>
            <a:endParaRPr b="0" lang="en-US" sz="2600" spc="-1" strike="noStrike">
              <a:solidFill>
                <a:srgbClr val="000000"/>
              </a:solidFill>
              <a:latin typeface="Calibri"/>
            </a:endParaRPr>
          </a:p>
        </p:txBody>
      </p:sp>
      <p:sp>
        <p:nvSpPr>
          <p:cNvPr id="625" name="Text Box 12"/>
          <p:cNvSpPr/>
          <p:nvPr/>
        </p:nvSpPr>
        <p:spPr>
          <a:xfrm>
            <a:off x="1301760" y="866880"/>
            <a:ext cx="9553680" cy="53211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晨起一杯水，身体水平衡 </a:t>
            </a:r>
            <a:r>
              <a:rPr b="0" lang="zh-CN" sz="2600" spc="-1" strike="noStrike">
                <a:solidFill>
                  <a:srgbClr val="000000"/>
                </a:solidFill>
                <a:latin typeface="Calibri"/>
                <a:ea typeface="造字工房悦黑体验版常规体"/>
              </a:rPr>
              <a:t>WATER</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右侧卧、睡如弓，睡眠品质好 </a:t>
            </a:r>
            <a:r>
              <a:rPr b="0" lang="zh-CN" sz="2600" spc="-1" strike="noStrike">
                <a:solidFill>
                  <a:srgbClr val="000000"/>
                </a:solidFill>
                <a:latin typeface="Calibri"/>
                <a:ea typeface="造字工房悦黑体验版常规体"/>
              </a:rPr>
              <a:t>SLEEP</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只吃七分饱，身体自然好 </a:t>
            </a:r>
            <a:r>
              <a:rPr b="0" lang="zh-CN" sz="2600" spc="-1" strike="noStrike">
                <a:solidFill>
                  <a:srgbClr val="000000"/>
                </a:solidFill>
                <a:latin typeface="Calibri"/>
                <a:ea typeface="造字工房悦黑体验版常规体"/>
              </a:rPr>
              <a:t>APPETIT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生命在运动中蓬勃 </a:t>
            </a:r>
            <a:r>
              <a:rPr b="0" lang="zh-CN" sz="2600" spc="-1" strike="noStrike">
                <a:solidFill>
                  <a:srgbClr val="000000"/>
                </a:solidFill>
                <a:latin typeface="Calibri"/>
                <a:ea typeface="造字工房悦黑体验版常规体"/>
              </a:rPr>
              <a:t>EXERCIS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音乐舒畅身心，读书增加智慧</a:t>
            </a:r>
            <a:r>
              <a:rPr b="0" lang="zh-CN" sz="2600" spc="-1" strike="noStrike">
                <a:solidFill>
                  <a:srgbClr val="000000"/>
                </a:solidFill>
                <a:latin typeface="Calibri"/>
                <a:ea typeface="造字工房悦黑体验版常规体"/>
              </a:rPr>
              <a:t>MUSIC/LITERATUR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常吃豆，可长寿 </a:t>
            </a:r>
            <a:r>
              <a:rPr b="0" lang="zh-CN" sz="2600" spc="-1" strike="noStrike">
                <a:solidFill>
                  <a:srgbClr val="000000"/>
                </a:solidFill>
                <a:latin typeface="Calibri"/>
                <a:ea typeface="造字工房悦黑体验版常规体"/>
              </a:rPr>
              <a:t>BEAN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跟烟、酒说再见 </a:t>
            </a:r>
            <a:r>
              <a:rPr b="0" lang="zh-CN" sz="2600" spc="-1" strike="noStrike">
                <a:solidFill>
                  <a:srgbClr val="000000"/>
                </a:solidFill>
                <a:latin typeface="Calibri"/>
                <a:ea typeface="造字工房悦黑体验版常规体"/>
              </a:rPr>
              <a:t>VICE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爱与性完美和谐 </a:t>
            </a:r>
            <a:r>
              <a:rPr b="0" lang="zh-CN" sz="2600" spc="-1" strike="noStrike">
                <a:solidFill>
                  <a:srgbClr val="000000"/>
                </a:solidFill>
                <a:latin typeface="Calibri"/>
                <a:ea typeface="造字工房悦黑体验版常规体"/>
              </a:rPr>
              <a:t>LOVE/SEX</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摆脱孤独寂寞就健康 </a:t>
            </a:r>
            <a:r>
              <a:rPr b="0" lang="zh-CN" sz="2600" spc="-1" strike="noStrike">
                <a:solidFill>
                  <a:srgbClr val="000000"/>
                </a:solidFill>
                <a:latin typeface="Calibri"/>
                <a:ea typeface="造字工房悦黑体验版常规体"/>
              </a:rPr>
              <a:t>LONELINES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勤用脑，防衰老 </a:t>
            </a:r>
            <a:r>
              <a:rPr b="0" lang="zh-CN" sz="2600" spc="-1" strike="noStrike">
                <a:solidFill>
                  <a:srgbClr val="000000"/>
                </a:solidFill>
                <a:latin typeface="Calibri"/>
                <a:ea typeface="造字工房悦黑体验版常规体"/>
              </a:rPr>
              <a:t>MIND</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多喝茶，可减肥、防癌、保青春 </a:t>
            </a:r>
            <a:r>
              <a:rPr b="0" lang="zh-CN" sz="2600" spc="-1" strike="noStrike">
                <a:solidFill>
                  <a:srgbClr val="000000"/>
                </a:solidFill>
                <a:latin typeface="Calibri"/>
                <a:ea typeface="造字工房悦黑体验版常规体"/>
              </a:rPr>
              <a:t>TEA</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用笑容面对人生 </a:t>
            </a:r>
            <a:r>
              <a:rPr b="0" lang="zh-CN" sz="2600" spc="-1" strike="noStrike">
                <a:solidFill>
                  <a:srgbClr val="000000"/>
                </a:solidFill>
                <a:latin typeface="Calibri"/>
                <a:ea typeface="造字工房悦黑体验版常规体"/>
              </a:rPr>
              <a:t>SMILE</a:t>
            </a:r>
            <a:endParaRPr b="0" lang="en-US" sz="2600" spc="-1" strike="noStrike">
              <a:solidFill>
                <a:srgbClr val="000000"/>
              </a:solidFill>
              <a:latin typeface="Calibri"/>
            </a:endParaRPr>
          </a:p>
        </p:txBody>
      </p:sp>
      <p:pic>
        <p:nvPicPr>
          <p:cNvPr id="626"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27"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28"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29"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0" dur="1000" fill="hold"/>
                                        <p:tgtEl>
                                          <p:spTgt spid="619"/>
                                        </p:tgtEl>
                                      </p:cBhvr>
                                    </p:animMotion>
                                  </p:childTnLst>
                                </p:cTn>
                              </p:par>
                            </p:childTnLst>
                          </p:cTn>
                        </p:par>
                        <p:par>
                          <p:cTn id="261" nodeType="afterEffect" fill="hold">
                            <p:stCondLst>
                              <p:cond delay="1000"/>
                            </p:stCondLst>
                            <p:childTnLst>
                              <p:par>
                                <p:cTn id="26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63" dur="1000" fill="hold"/>
                                        <p:tgtEl>
                                          <p:spTgt spid="6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g"/>
          <p:cNvPicPr/>
          <p:nvPr/>
        </p:nvPicPr>
        <p:blipFill>
          <a:blip r:embed="rId1"/>
          <a:stretch/>
        </p:blipFill>
        <p:spPr>
          <a:xfrm>
            <a:off x="-46080" y="-11160"/>
            <a:ext cx="12250800" cy="6918480"/>
          </a:xfrm>
          <a:prstGeom prst="rect">
            <a:avLst/>
          </a:prstGeom>
          <a:ln w="0">
            <a:noFill/>
          </a:ln>
        </p:spPr>
      </p:pic>
      <p:pic>
        <p:nvPicPr>
          <p:cNvPr id="135" name="Picture 3" descr="board"/>
          <p:cNvPicPr/>
          <p:nvPr/>
        </p:nvPicPr>
        <p:blipFill>
          <a:blip r:embed="rId2"/>
          <a:stretch/>
        </p:blipFill>
        <p:spPr>
          <a:xfrm>
            <a:off x="-44280" y="0"/>
            <a:ext cx="12228480" cy="6886440"/>
          </a:xfrm>
          <a:prstGeom prst="rect">
            <a:avLst/>
          </a:prstGeom>
          <a:ln w="0">
            <a:noFill/>
          </a:ln>
        </p:spPr>
      </p:pic>
      <p:sp>
        <p:nvSpPr>
          <p:cNvPr id="136" name="Text Box 14">
            <a:hlinkClick r:id="rId3" action="ppaction://hlinksldjump"/>
          </p:cNvPr>
          <p:cNvSpPr/>
          <p:nvPr/>
        </p:nvSpPr>
        <p:spPr>
          <a:xfrm>
            <a:off x="2323080" y="24382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说明</a:t>
            </a:r>
            <a:endParaRPr b="0" lang="en-US" sz="2600" spc="-1" strike="noStrike">
              <a:solidFill>
                <a:srgbClr val="000000"/>
              </a:solidFill>
              <a:latin typeface="Calibri"/>
            </a:endParaRPr>
          </a:p>
        </p:txBody>
      </p:sp>
      <p:pic>
        <p:nvPicPr>
          <p:cNvPr id="137" name="图片 2" descr="gray-point"/>
          <p:cNvPicPr/>
          <p:nvPr/>
        </p:nvPicPr>
        <p:blipFill>
          <a:blip r:embed="rId4"/>
          <a:stretch/>
        </p:blipFill>
        <p:spPr>
          <a:xfrm>
            <a:off x="1557360" y="2470320"/>
            <a:ext cx="517680" cy="431640"/>
          </a:xfrm>
          <a:prstGeom prst="rect">
            <a:avLst/>
          </a:prstGeom>
          <a:ln w="0">
            <a:noFill/>
          </a:ln>
        </p:spPr>
      </p:pic>
      <p:sp>
        <p:nvSpPr>
          <p:cNvPr id="138"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139" name="Picture 7" descr="2"/>
          <p:cNvPicPr/>
          <p:nvPr/>
        </p:nvPicPr>
        <p:blipFill>
          <a:blip r:embed="rId5"/>
          <a:stretch/>
        </p:blipFill>
        <p:spPr>
          <a:xfrm>
            <a:off x="1938240" y="6273720"/>
            <a:ext cx="4603680" cy="490680"/>
          </a:xfrm>
          <a:prstGeom prst="rect">
            <a:avLst/>
          </a:prstGeom>
          <a:ln w="0">
            <a:noFill/>
          </a:ln>
        </p:spPr>
      </p:pic>
      <p:pic>
        <p:nvPicPr>
          <p:cNvPr id="140"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141" name="铅笔" descr="qianbi"/>
          <p:cNvPicPr/>
          <p:nvPr/>
        </p:nvPicPr>
        <p:blipFill>
          <a:blip r:embed="rId7"/>
          <a:stretch/>
        </p:blipFill>
        <p:spPr>
          <a:xfrm>
            <a:off x="88920" y="6105600"/>
            <a:ext cx="847800" cy="720720"/>
          </a:xfrm>
          <a:prstGeom prst="rect">
            <a:avLst/>
          </a:prstGeom>
          <a:ln w="0">
            <a:noFill/>
          </a:ln>
        </p:spPr>
      </p:pic>
      <p:pic>
        <p:nvPicPr>
          <p:cNvPr id="142" name="Picture 10" descr="jindu-lan"/>
          <p:cNvPicPr/>
          <p:nvPr/>
        </p:nvPicPr>
        <p:blipFill>
          <a:blip r:embed="rId8"/>
          <a:stretch/>
        </p:blipFill>
        <p:spPr>
          <a:xfrm>
            <a:off x="4106880" y="6370560"/>
            <a:ext cx="264960" cy="301680"/>
          </a:xfrm>
          <a:prstGeom prst="rect">
            <a:avLst/>
          </a:prstGeom>
          <a:ln w="0">
            <a:noFill/>
          </a:ln>
        </p:spPr>
      </p:pic>
      <p:pic>
        <p:nvPicPr>
          <p:cNvPr id="143" name="Picture 11" descr="jindu-hui"/>
          <p:cNvPicPr/>
          <p:nvPr/>
        </p:nvPicPr>
        <p:blipFill>
          <a:blip r:embed="rId9"/>
          <a:stretch/>
        </p:blipFill>
        <p:spPr>
          <a:xfrm>
            <a:off x="5981760" y="6369120"/>
            <a:ext cx="264960" cy="304560"/>
          </a:xfrm>
          <a:prstGeom prst="rect">
            <a:avLst/>
          </a:prstGeom>
          <a:ln w="0">
            <a:noFill/>
          </a:ln>
        </p:spPr>
      </p:pic>
      <p:pic>
        <p:nvPicPr>
          <p:cNvPr id="144" name="下一页" descr="jiantou">
            <a:hlinkClick r:id="" action="ppaction://hlinkshowjump?jump=previousslide"/>
          </p:cNvPr>
          <p:cNvPicPr/>
          <p:nvPr/>
        </p:nvPicPr>
        <p:blipFill>
          <a:blip r:embed="rId10"/>
          <a:stretch/>
        </p:blipFill>
        <p:spPr>
          <a:xfrm>
            <a:off x="20520" y="2973240"/>
            <a:ext cx="397080" cy="660600"/>
          </a:xfrm>
          <a:prstGeom prst="rect">
            <a:avLst/>
          </a:prstGeom>
          <a:ln w="0">
            <a:noFill/>
          </a:ln>
        </p:spPr>
      </p:pic>
      <p:pic>
        <p:nvPicPr>
          <p:cNvPr id="145" name="Picture 13" descr="cloud1"/>
          <p:cNvPicPr/>
          <p:nvPr/>
        </p:nvPicPr>
        <p:blipFill>
          <a:blip r:embed="rId11"/>
          <a:stretch/>
        </p:blipFill>
        <p:spPr>
          <a:xfrm>
            <a:off x="163440" y="133200"/>
            <a:ext cx="4510080" cy="1960560"/>
          </a:xfrm>
          <a:prstGeom prst="rect">
            <a:avLst/>
          </a:prstGeom>
          <a:ln w="0">
            <a:noFill/>
          </a:ln>
        </p:spPr>
      </p:pic>
      <p:pic>
        <p:nvPicPr>
          <p:cNvPr id="146" name="Picture 14" descr="cloud1"/>
          <p:cNvPicPr/>
          <p:nvPr/>
        </p:nvPicPr>
        <p:blipFill>
          <a:blip r:embed="rId12"/>
          <a:stretch/>
        </p:blipFill>
        <p:spPr>
          <a:xfrm>
            <a:off x="833400" y="-49320"/>
            <a:ext cx="3144960" cy="1363680"/>
          </a:xfrm>
          <a:prstGeom prst="rect">
            <a:avLst/>
          </a:prstGeom>
          <a:ln w="0">
            <a:noFill/>
          </a:ln>
        </p:spPr>
      </p:pic>
      <p:sp>
        <p:nvSpPr>
          <p:cNvPr id="147"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概述</a:t>
            </a:r>
            <a:endParaRPr b="0" lang="en-US" sz="2600" spc="-1" strike="noStrike">
              <a:solidFill>
                <a:srgbClr val="000000"/>
              </a:solidFill>
              <a:latin typeface="Calibri"/>
            </a:endParaRPr>
          </a:p>
        </p:txBody>
      </p:sp>
      <p:grpSp>
        <p:nvGrpSpPr>
          <p:cNvPr id="148" name="Group 16"/>
          <p:cNvGrpSpPr/>
          <p:nvPr/>
        </p:nvGrpSpPr>
        <p:grpSpPr>
          <a:xfrm>
            <a:off x="673200" y="790560"/>
            <a:ext cx="517320" cy="438120"/>
            <a:chOff x="673200" y="790560"/>
            <a:chExt cx="517320" cy="438120"/>
          </a:xfrm>
        </p:grpSpPr>
        <p:pic>
          <p:nvPicPr>
            <p:cNvPr id="149" name="图片 2" descr=""/>
            <p:cNvPicPr/>
            <p:nvPr/>
          </p:nvPicPr>
          <p:blipFill>
            <a:blip r:embed="rId13"/>
            <a:stretch/>
          </p:blipFill>
          <p:spPr>
            <a:xfrm>
              <a:off x="673200" y="795240"/>
              <a:ext cx="517320" cy="433440"/>
            </a:xfrm>
            <a:prstGeom prst="rect">
              <a:avLst/>
            </a:prstGeom>
            <a:ln w="0">
              <a:noFill/>
            </a:ln>
          </p:spPr>
        </p:pic>
        <p:sp>
          <p:nvSpPr>
            <p:cNvPr id="150"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grpSp>
      <p:pic>
        <p:nvPicPr>
          <p:cNvPr id="151" name="Picture 19" descr="tb-houtui">
            <a:hlinkClick r:id="" action="ppaction://hlinkshowjump?jump=previousslide"/>
          </p:cNvPr>
          <p:cNvPicPr/>
          <p:nvPr/>
        </p:nvPicPr>
        <p:blipFill>
          <a:blip r:embed="rId14"/>
          <a:stretch/>
        </p:blipFill>
        <p:spPr>
          <a:xfrm>
            <a:off x="10401480" y="6383160"/>
            <a:ext cx="615600" cy="524160"/>
          </a:xfrm>
          <a:prstGeom prst="rect">
            <a:avLst/>
          </a:prstGeom>
          <a:ln w="0">
            <a:noFill/>
          </a:ln>
        </p:spPr>
      </p:pic>
      <p:pic>
        <p:nvPicPr>
          <p:cNvPr id="152" name="Picture 20" descr="tb-tuichu">
            <a:hlinkClick r:id="" action="ppaction://hlinkshowjump?jump=endshow"/>
          </p:cNvPr>
          <p:cNvPicPr/>
          <p:nvPr/>
        </p:nvPicPr>
        <p:blipFill>
          <a:blip r:embed="rId15"/>
          <a:stretch/>
        </p:blipFill>
        <p:spPr>
          <a:xfrm>
            <a:off x="11320560" y="6383160"/>
            <a:ext cx="615960" cy="524160"/>
          </a:xfrm>
          <a:prstGeom prst="rect">
            <a:avLst/>
          </a:prstGeom>
          <a:ln w="0">
            <a:noFill/>
          </a:ln>
        </p:spPr>
      </p:pic>
      <p:pic>
        <p:nvPicPr>
          <p:cNvPr id="153" name="Picture 21" descr="tb-xiuxi">
            <a:hlinkClick r:id="rId16" action="ppaction://hlinksldjump"/>
          </p:cNvPr>
          <p:cNvPicPr/>
          <p:nvPr/>
        </p:nvPicPr>
        <p:blipFill>
          <a:blip r:embed="rId17"/>
          <a:stretch/>
        </p:blipFill>
        <p:spPr>
          <a:xfrm>
            <a:off x="9499680" y="6383160"/>
            <a:ext cx="615960" cy="524160"/>
          </a:xfrm>
          <a:prstGeom prst="rect">
            <a:avLst/>
          </a:prstGeom>
          <a:ln w="0">
            <a:noFill/>
          </a:ln>
        </p:spPr>
      </p:pic>
      <p:sp>
        <p:nvSpPr>
          <p:cNvPr id="154" name="Text Box 14">
            <a:hlinkClick r:id="rId18" action="ppaction://hlinksldjump"/>
          </p:cNvPr>
          <p:cNvSpPr/>
          <p:nvPr/>
        </p:nvSpPr>
        <p:spPr>
          <a:xfrm>
            <a:off x="2323080" y="318780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要求</a:t>
            </a:r>
            <a:endParaRPr b="0" lang="en-US" sz="2600" spc="-1" strike="noStrike">
              <a:solidFill>
                <a:srgbClr val="000000"/>
              </a:solidFill>
              <a:latin typeface="Calibri"/>
            </a:endParaRPr>
          </a:p>
        </p:txBody>
      </p:sp>
      <p:pic>
        <p:nvPicPr>
          <p:cNvPr id="155" name="图片 2" descr="gray-point"/>
          <p:cNvPicPr/>
          <p:nvPr/>
        </p:nvPicPr>
        <p:blipFill>
          <a:blip r:embed="rId19"/>
          <a:stretch/>
        </p:blipFill>
        <p:spPr>
          <a:xfrm>
            <a:off x="1557360" y="3219480"/>
            <a:ext cx="517680" cy="431640"/>
          </a:xfrm>
          <a:prstGeom prst="rect">
            <a:avLst/>
          </a:prstGeom>
          <a:ln w="0">
            <a:noFill/>
          </a:ln>
        </p:spPr>
      </p:pic>
      <p:sp>
        <p:nvSpPr>
          <p:cNvPr id="156"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57" name="Text Box 14">
            <a:hlinkClick r:id="rId20" action="ppaction://hlinksldjump"/>
          </p:cNvPr>
          <p:cNvSpPr/>
          <p:nvPr/>
        </p:nvSpPr>
        <p:spPr>
          <a:xfrm>
            <a:off x="2323080" y="39369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目的</a:t>
            </a:r>
            <a:endParaRPr b="0" lang="en-US" sz="2600" spc="-1" strike="noStrike">
              <a:solidFill>
                <a:srgbClr val="000000"/>
              </a:solidFill>
              <a:latin typeface="Calibri"/>
            </a:endParaRPr>
          </a:p>
        </p:txBody>
      </p:sp>
      <p:pic>
        <p:nvPicPr>
          <p:cNvPr id="158" name="图片 2" descr="gray-point"/>
          <p:cNvPicPr/>
          <p:nvPr/>
        </p:nvPicPr>
        <p:blipFill>
          <a:blip r:embed="rId21"/>
          <a:stretch/>
        </p:blipFill>
        <p:spPr>
          <a:xfrm>
            <a:off x="1557360" y="3968640"/>
            <a:ext cx="517680" cy="432000"/>
          </a:xfrm>
          <a:prstGeom prst="rect">
            <a:avLst/>
          </a:prstGeom>
          <a:ln w="0">
            <a:noFill/>
          </a:ln>
        </p:spPr>
      </p:pic>
      <p:sp>
        <p:nvSpPr>
          <p:cNvPr id="159"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160" name="Picture 28" descr="jindu-lan">
            <a:hlinkClick r:id="rId22" action="ppaction://hlinksldjump"/>
          </p:cNvPr>
          <p:cNvPicPr/>
          <p:nvPr/>
        </p:nvPicPr>
        <p:blipFill>
          <a:blip r:embed="rId23"/>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 dur="1000" fill="hold"/>
                                        <p:tgtEl>
                                          <p:spTgt spid="140"/>
                                        </p:tgtEl>
                                      </p:cBhvr>
                                    </p:animMotion>
                                  </p:childTnLst>
                                </p:cTn>
                              </p:par>
                            </p:childTnLst>
                          </p:cTn>
                        </p:par>
                        <p:par>
                          <p:cTn id="27" nodeType="afterEffect" fill="hold">
                            <p:stCondLst>
                              <p:cond delay="1000"/>
                            </p:stCondLst>
                            <p:childTnLst>
                              <p:par>
                                <p:cTn id="2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 dur="1000" fill="hold"/>
                                        <p:tgtEl>
                                          <p:spTgt spid="1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bg"/>
          <p:cNvPicPr/>
          <p:nvPr/>
        </p:nvPicPr>
        <p:blipFill>
          <a:blip r:embed="rId1"/>
          <a:stretch/>
        </p:blipFill>
        <p:spPr>
          <a:xfrm>
            <a:off x="-46080" y="-11160"/>
            <a:ext cx="12250800" cy="6918480"/>
          </a:xfrm>
          <a:prstGeom prst="rect">
            <a:avLst/>
          </a:prstGeom>
          <a:ln w="0">
            <a:noFill/>
          </a:ln>
        </p:spPr>
      </p:pic>
      <p:pic>
        <p:nvPicPr>
          <p:cNvPr id="631" name="Picture 3" descr="board"/>
          <p:cNvPicPr/>
          <p:nvPr/>
        </p:nvPicPr>
        <p:blipFill>
          <a:blip r:embed="rId2"/>
          <a:stretch/>
        </p:blipFill>
        <p:spPr>
          <a:xfrm>
            <a:off x="-44280" y="0"/>
            <a:ext cx="12228480" cy="6886440"/>
          </a:xfrm>
          <a:prstGeom prst="rect">
            <a:avLst/>
          </a:prstGeom>
          <a:ln w="0">
            <a:noFill/>
          </a:ln>
        </p:spPr>
      </p:pic>
      <p:sp>
        <p:nvSpPr>
          <p:cNvPr id="632"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时间总分配</a:t>
            </a:r>
            <a:endParaRPr b="0" lang="en-US" sz="2600" spc="-1" strike="noStrike">
              <a:solidFill>
                <a:srgbClr val="000000"/>
              </a:solidFill>
              <a:latin typeface="Calibri"/>
            </a:endParaRPr>
          </a:p>
        </p:txBody>
      </p:sp>
      <p:pic>
        <p:nvPicPr>
          <p:cNvPr id="633" name="图片 2" descr="gray-point"/>
          <p:cNvPicPr/>
          <p:nvPr/>
        </p:nvPicPr>
        <p:blipFill>
          <a:blip r:embed="rId4"/>
          <a:stretch/>
        </p:blipFill>
        <p:spPr>
          <a:xfrm>
            <a:off x="1557360" y="2470320"/>
            <a:ext cx="517680" cy="431640"/>
          </a:xfrm>
          <a:prstGeom prst="rect">
            <a:avLst/>
          </a:prstGeom>
          <a:ln w="0">
            <a:noFill/>
          </a:ln>
        </p:spPr>
      </p:pic>
      <p:sp>
        <p:nvSpPr>
          <p:cNvPr id="634"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635" name="Picture 7" descr="2"/>
          <p:cNvPicPr/>
          <p:nvPr/>
        </p:nvPicPr>
        <p:blipFill>
          <a:blip r:embed="rId5"/>
          <a:stretch/>
        </p:blipFill>
        <p:spPr>
          <a:xfrm>
            <a:off x="1938240" y="6273720"/>
            <a:ext cx="4603680" cy="490680"/>
          </a:xfrm>
          <a:prstGeom prst="rect">
            <a:avLst/>
          </a:prstGeom>
          <a:ln w="0">
            <a:noFill/>
          </a:ln>
        </p:spPr>
      </p:pic>
      <p:pic>
        <p:nvPicPr>
          <p:cNvPr id="636"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637" name="铅笔" descr="qianbi"/>
          <p:cNvPicPr/>
          <p:nvPr/>
        </p:nvPicPr>
        <p:blipFill>
          <a:blip r:embed="rId7"/>
          <a:stretch/>
        </p:blipFill>
        <p:spPr>
          <a:xfrm>
            <a:off x="88920" y="6105600"/>
            <a:ext cx="847800" cy="720720"/>
          </a:xfrm>
          <a:prstGeom prst="rect">
            <a:avLst/>
          </a:prstGeom>
          <a:ln w="0">
            <a:noFill/>
          </a:ln>
        </p:spPr>
      </p:pic>
      <p:pic>
        <p:nvPicPr>
          <p:cNvPr id="638" name="Picture 10" descr="jindu-hui"/>
          <p:cNvPicPr/>
          <p:nvPr/>
        </p:nvPicPr>
        <p:blipFill>
          <a:blip r:embed="rId8"/>
          <a:stretch/>
        </p:blipFill>
        <p:spPr>
          <a:xfrm>
            <a:off x="5981760" y="6369120"/>
            <a:ext cx="264960" cy="304560"/>
          </a:xfrm>
          <a:prstGeom prst="rect">
            <a:avLst/>
          </a:prstGeom>
          <a:ln w="0">
            <a:noFill/>
          </a:ln>
        </p:spPr>
      </p:pic>
      <p:pic>
        <p:nvPicPr>
          <p:cNvPr id="639"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640" name="Picture 12" descr="cloud1"/>
          <p:cNvPicPr/>
          <p:nvPr/>
        </p:nvPicPr>
        <p:blipFill>
          <a:blip r:embed="rId10"/>
          <a:stretch/>
        </p:blipFill>
        <p:spPr>
          <a:xfrm>
            <a:off x="163440" y="133200"/>
            <a:ext cx="4510080" cy="1960560"/>
          </a:xfrm>
          <a:prstGeom prst="rect">
            <a:avLst/>
          </a:prstGeom>
          <a:ln w="0">
            <a:noFill/>
          </a:ln>
        </p:spPr>
      </p:pic>
      <p:pic>
        <p:nvPicPr>
          <p:cNvPr id="641" name="Picture 13" descr="cloud1"/>
          <p:cNvPicPr/>
          <p:nvPr/>
        </p:nvPicPr>
        <p:blipFill>
          <a:blip r:embed="rId11"/>
          <a:stretch/>
        </p:blipFill>
        <p:spPr>
          <a:xfrm>
            <a:off x="833400" y="-49320"/>
            <a:ext cx="3144960" cy="1363680"/>
          </a:xfrm>
          <a:prstGeom prst="rect">
            <a:avLst/>
          </a:prstGeom>
          <a:ln w="0">
            <a:noFill/>
          </a:ln>
        </p:spPr>
      </p:pic>
      <p:sp>
        <p:nvSpPr>
          <p:cNvPr id="642"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制定计划</a:t>
            </a:r>
            <a:endParaRPr b="0" lang="en-US" sz="2600" spc="-1" strike="noStrike">
              <a:solidFill>
                <a:srgbClr val="000000"/>
              </a:solidFill>
              <a:latin typeface="Calibri"/>
            </a:endParaRPr>
          </a:p>
        </p:txBody>
      </p:sp>
      <p:grpSp>
        <p:nvGrpSpPr>
          <p:cNvPr id="643" name="Group 15"/>
          <p:cNvGrpSpPr/>
          <p:nvPr/>
        </p:nvGrpSpPr>
        <p:grpSpPr>
          <a:xfrm>
            <a:off x="673200" y="790560"/>
            <a:ext cx="517320" cy="438120"/>
            <a:chOff x="673200" y="790560"/>
            <a:chExt cx="517320" cy="438120"/>
          </a:xfrm>
        </p:grpSpPr>
        <p:pic>
          <p:nvPicPr>
            <p:cNvPr id="644" name="图片 2" descr=""/>
            <p:cNvPicPr/>
            <p:nvPr/>
          </p:nvPicPr>
          <p:blipFill>
            <a:blip r:embed="rId12"/>
            <a:stretch/>
          </p:blipFill>
          <p:spPr>
            <a:xfrm>
              <a:off x="673200" y="795240"/>
              <a:ext cx="517320" cy="433440"/>
            </a:xfrm>
            <a:prstGeom prst="rect">
              <a:avLst/>
            </a:prstGeom>
            <a:ln w="0">
              <a:noFill/>
            </a:ln>
          </p:spPr>
        </p:pic>
        <p:sp>
          <p:nvSpPr>
            <p:cNvPr id="645"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grpSp>
      <p:pic>
        <p:nvPicPr>
          <p:cNvPr id="646"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647"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648" name="Text Box 14">
            <a:hlinkClick r:id="rId15" action="ppaction://hlinksldjump"/>
          </p:cNvPr>
          <p:cNvSpPr/>
          <p:nvPr/>
        </p:nvSpPr>
        <p:spPr>
          <a:xfrm>
            <a:off x="2125080" y="318780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分部时间分配</a:t>
            </a:r>
            <a:endParaRPr b="0" lang="en-US" sz="2600" spc="-1" strike="noStrike">
              <a:solidFill>
                <a:srgbClr val="000000"/>
              </a:solidFill>
              <a:latin typeface="Calibri"/>
            </a:endParaRPr>
          </a:p>
        </p:txBody>
      </p:sp>
      <p:pic>
        <p:nvPicPr>
          <p:cNvPr id="649" name="图片 2" descr="gray-point"/>
          <p:cNvPicPr/>
          <p:nvPr/>
        </p:nvPicPr>
        <p:blipFill>
          <a:blip r:embed="rId16"/>
          <a:stretch/>
        </p:blipFill>
        <p:spPr>
          <a:xfrm>
            <a:off x="1557360" y="3219480"/>
            <a:ext cx="517680" cy="431640"/>
          </a:xfrm>
          <a:prstGeom prst="rect">
            <a:avLst/>
          </a:prstGeom>
          <a:ln w="0">
            <a:noFill/>
          </a:ln>
        </p:spPr>
      </p:pic>
      <p:sp>
        <p:nvSpPr>
          <p:cNvPr id="650"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pic>
        <p:nvPicPr>
          <p:cNvPr id="651" name="Picture 23" descr="tb-xiuxi">
            <a:hlinkClick r:id="rId17" action="ppaction://hlinksldjump"/>
          </p:cNvPr>
          <p:cNvPicPr/>
          <p:nvPr/>
        </p:nvPicPr>
        <p:blipFill>
          <a:blip r:embed="rId18"/>
          <a:stretch/>
        </p:blipFill>
        <p:spPr>
          <a:xfrm>
            <a:off x="9499680" y="6383160"/>
            <a:ext cx="615960" cy="524160"/>
          </a:xfrm>
          <a:prstGeom prst="rect">
            <a:avLst/>
          </a:prstGeom>
          <a:ln w="0">
            <a:noFill/>
          </a:ln>
        </p:spPr>
      </p:pic>
      <p:pic>
        <p:nvPicPr>
          <p:cNvPr id="652" name="Picture 24" descr="jindu-lan">
            <a:hlinkClick r:id="rId19" action="ppaction://hlinksldjump"/>
          </p:cNvPr>
          <p:cNvPicPr/>
          <p:nvPr/>
        </p:nvPicPr>
        <p:blipFill>
          <a:blip r:embed="rId20"/>
          <a:stretch/>
        </p:blipFill>
        <p:spPr>
          <a:xfrm>
            <a:off x="4106880" y="6370560"/>
            <a:ext cx="264960" cy="301680"/>
          </a:xfrm>
          <a:prstGeom prst="rect">
            <a:avLst/>
          </a:prstGeom>
          <a:ln w="0">
            <a:noFill/>
          </a:ln>
        </p:spPr>
      </p:pic>
      <p:pic>
        <p:nvPicPr>
          <p:cNvPr id="653" name="Picture 25" descr="jindu-lan">
            <a:hlinkClick r:id="rId21" action="ppaction://hlinksldjump"/>
          </p:cNvPr>
          <p:cNvPicPr/>
          <p:nvPr/>
        </p:nvPicPr>
        <p:blipFill>
          <a:blip r:embed="rId22"/>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9" dur="1000" fill="hold"/>
                                        <p:tgtEl>
                                          <p:spTgt spid="636"/>
                                        </p:tgtEl>
                                      </p:cBhvr>
                                    </p:animMotion>
                                  </p:childTnLst>
                                </p:cTn>
                              </p:par>
                            </p:childTnLst>
                          </p:cTn>
                        </p:par>
                        <p:par>
                          <p:cTn id="270" nodeType="afterEffect" fill="hold">
                            <p:stCondLst>
                              <p:cond delay="1000"/>
                            </p:stCondLst>
                            <p:childTnLst>
                              <p:par>
                                <p:cTn id="27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72" dur="1000" fill="hold"/>
                                        <p:tgtEl>
                                          <p:spTgt spid="6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2" descr="bg"/>
          <p:cNvPicPr/>
          <p:nvPr/>
        </p:nvPicPr>
        <p:blipFill>
          <a:blip r:embed="rId1"/>
          <a:stretch/>
        </p:blipFill>
        <p:spPr>
          <a:xfrm>
            <a:off x="-46080" y="-11160"/>
            <a:ext cx="12250800" cy="6918480"/>
          </a:xfrm>
          <a:prstGeom prst="rect">
            <a:avLst/>
          </a:prstGeom>
          <a:ln w="0">
            <a:noFill/>
          </a:ln>
        </p:spPr>
      </p:pic>
      <p:sp>
        <p:nvSpPr>
          <p:cNvPr id="65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56" name="Picture 4" descr="board"/>
          <p:cNvPicPr/>
          <p:nvPr/>
        </p:nvPicPr>
        <p:blipFill>
          <a:blip r:embed="rId2"/>
          <a:stretch/>
        </p:blipFill>
        <p:spPr>
          <a:xfrm>
            <a:off x="-44280" y="0"/>
            <a:ext cx="12228480" cy="6886440"/>
          </a:xfrm>
          <a:prstGeom prst="rect">
            <a:avLst/>
          </a:prstGeom>
          <a:ln w="0">
            <a:noFill/>
          </a:ln>
        </p:spPr>
      </p:pic>
      <p:pic>
        <p:nvPicPr>
          <p:cNvPr id="657" name="Picture 5" descr="3"/>
          <p:cNvPicPr/>
          <p:nvPr/>
        </p:nvPicPr>
        <p:blipFill>
          <a:blip r:embed="rId3"/>
          <a:stretch/>
        </p:blipFill>
        <p:spPr>
          <a:xfrm>
            <a:off x="1938240" y="6273720"/>
            <a:ext cx="4603680" cy="490680"/>
          </a:xfrm>
          <a:prstGeom prst="rect">
            <a:avLst/>
          </a:prstGeom>
          <a:ln w="0">
            <a:noFill/>
          </a:ln>
        </p:spPr>
      </p:pic>
      <p:pic>
        <p:nvPicPr>
          <p:cNvPr id="65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59" name="铅笔" descr="qianbi"/>
          <p:cNvPicPr/>
          <p:nvPr/>
        </p:nvPicPr>
        <p:blipFill>
          <a:blip r:embed="rId5"/>
          <a:stretch/>
        </p:blipFill>
        <p:spPr>
          <a:xfrm>
            <a:off x="88920" y="6105600"/>
            <a:ext cx="847800" cy="720720"/>
          </a:xfrm>
          <a:prstGeom prst="rect">
            <a:avLst/>
          </a:prstGeom>
          <a:ln w="0">
            <a:noFill/>
          </a:ln>
        </p:spPr>
      </p:pic>
      <p:pic>
        <p:nvPicPr>
          <p:cNvPr id="660" name="Picture 8" descr="jindu-lan"/>
          <p:cNvPicPr/>
          <p:nvPr/>
        </p:nvPicPr>
        <p:blipFill>
          <a:blip r:embed="rId6"/>
          <a:stretch/>
        </p:blipFill>
        <p:spPr>
          <a:xfrm>
            <a:off x="5981760" y="6369120"/>
            <a:ext cx="264960" cy="303120"/>
          </a:xfrm>
          <a:prstGeom prst="rect">
            <a:avLst/>
          </a:prstGeom>
          <a:ln w="0">
            <a:noFill/>
          </a:ln>
        </p:spPr>
      </p:pic>
      <p:pic>
        <p:nvPicPr>
          <p:cNvPr id="66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66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66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664"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时间总分配</a:t>
            </a:r>
            <a:endParaRPr b="0" lang="en-US" sz="2600" spc="-1" strike="noStrike">
              <a:solidFill>
                <a:srgbClr val="000000"/>
              </a:solidFill>
              <a:latin typeface="Calibri"/>
            </a:endParaRPr>
          </a:p>
        </p:txBody>
      </p:sp>
      <p:pic>
        <p:nvPicPr>
          <p:cNvPr id="665" name="Picture 13" descr=""/>
          <p:cNvPicPr/>
          <p:nvPr/>
        </p:nvPicPr>
        <p:blipFill>
          <a:blip r:embed="rId10"/>
          <a:stretch/>
        </p:blipFill>
        <p:spPr>
          <a:xfrm>
            <a:off x="1101600" y="2554200"/>
            <a:ext cx="4826160" cy="2868840"/>
          </a:xfrm>
          <a:prstGeom prst="rect">
            <a:avLst/>
          </a:prstGeom>
          <a:ln w="0">
            <a:noFill/>
          </a:ln>
        </p:spPr>
      </p:pic>
      <p:graphicFrame>
        <p:nvGraphicFramePr>
          <p:cNvPr id="666"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667"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668" name="Picture 92"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669" name="Picture 93"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670" name="Picture 94"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78" dur="1000" fill="hold"/>
                                        <p:tgtEl>
                                          <p:spTgt spid="658"/>
                                        </p:tgtEl>
                                      </p:cBhvr>
                                    </p:animMotion>
                                  </p:childTnLst>
                                </p:cTn>
                              </p:par>
                            </p:childTnLst>
                          </p:cTn>
                        </p:par>
                        <p:par>
                          <p:cTn id="279" nodeType="afterEffect" fill="hold">
                            <p:stCondLst>
                              <p:cond delay="1000"/>
                            </p:stCondLst>
                            <p:childTnLst>
                              <p:par>
                                <p:cTn id="28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81" dur="1000" fill="hold"/>
                                        <p:tgtEl>
                                          <p:spTgt spid="6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2" descr="bg"/>
          <p:cNvPicPr/>
          <p:nvPr/>
        </p:nvPicPr>
        <p:blipFill>
          <a:blip r:embed="rId1"/>
          <a:stretch/>
        </p:blipFill>
        <p:spPr>
          <a:xfrm>
            <a:off x="-46080" y="-11160"/>
            <a:ext cx="12250800" cy="6918480"/>
          </a:xfrm>
          <a:prstGeom prst="rect">
            <a:avLst/>
          </a:prstGeom>
          <a:ln w="0">
            <a:noFill/>
          </a:ln>
        </p:spPr>
      </p:pic>
      <p:sp>
        <p:nvSpPr>
          <p:cNvPr id="67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73" name="Picture 4" descr="board"/>
          <p:cNvPicPr/>
          <p:nvPr/>
        </p:nvPicPr>
        <p:blipFill>
          <a:blip r:embed="rId2"/>
          <a:stretch/>
        </p:blipFill>
        <p:spPr>
          <a:xfrm>
            <a:off x="-44280" y="0"/>
            <a:ext cx="12228480" cy="6886440"/>
          </a:xfrm>
          <a:prstGeom prst="rect">
            <a:avLst/>
          </a:prstGeom>
          <a:ln w="0">
            <a:noFill/>
          </a:ln>
        </p:spPr>
      </p:pic>
      <p:pic>
        <p:nvPicPr>
          <p:cNvPr id="674" name="Picture 5" descr="3"/>
          <p:cNvPicPr/>
          <p:nvPr/>
        </p:nvPicPr>
        <p:blipFill>
          <a:blip r:embed="rId3"/>
          <a:stretch/>
        </p:blipFill>
        <p:spPr>
          <a:xfrm>
            <a:off x="1938240" y="6273720"/>
            <a:ext cx="4603680" cy="490680"/>
          </a:xfrm>
          <a:prstGeom prst="rect">
            <a:avLst/>
          </a:prstGeom>
          <a:ln w="0">
            <a:noFill/>
          </a:ln>
        </p:spPr>
      </p:pic>
      <p:pic>
        <p:nvPicPr>
          <p:cNvPr id="675"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76" name="铅笔" descr="qianbi"/>
          <p:cNvPicPr/>
          <p:nvPr/>
        </p:nvPicPr>
        <p:blipFill>
          <a:blip r:embed="rId5"/>
          <a:stretch/>
        </p:blipFill>
        <p:spPr>
          <a:xfrm>
            <a:off x="88920" y="6105600"/>
            <a:ext cx="847800" cy="720720"/>
          </a:xfrm>
          <a:prstGeom prst="rect">
            <a:avLst/>
          </a:prstGeom>
          <a:ln w="0">
            <a:noFill/>
          </a:ln>
        </p:spPr>
      </p:pic>
      <p:pic>
        <p:nvPicPr>
          <p:cNvPr id="677" name="Picture 8" descr="jindu-lan"/>
          <p:cNvPicPr/>
          <p:nvPr/>
        </p:nvPicPr>
        <p:blipFill>
          <a:blip r:embed="rId6"/>
          <a:stretch/>
        </p:blipFill>
        <p:spPr>
          <a:xfrm>
            <a:off x="5981760" y="6369120"/>
            <a:ext cx="264960" cy="303120"/>
          </a:xfrm>
          <a:prstGeom prst="rect">
            <a:avLst/>
          </a:prstGeom>
          <a:ln w="0">
            <a:noFill/>
          </a:ln>
        </p:spPr>
      </p:pic>
      <p:pic>
        <p:nvPicPr>
          <p:cNvPr id="678"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679"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680"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681" name="Picture 12" descr=""/>
          <p:cNvPicPr/>
          <p:nvPr/>
        </p:nvPicPr>
        <p:blipFill>
          <a:blip r:embed="rId10"/>
          <a:stretch/>
        </p:blipFill>
        <p:spPr>
          <a:xfrm>
            <a:off x="4292640" y="4248000"/>
            <a:ext cx="2028960" cy="1219320"/>
          </a:xfrm>
          <a:prstGeom prst="rect">
            <a:avLst/>
          </a:prstGeom>
          <a:ln w="0">
            <a:noFill/>
          </a:ln>
        </p:spPr>
      </p:pic>
      <p:pic>
        <p:nvPicPr>
          <p:cNvPr id="682" name="Picture 13" descr=""/>
          <p:cNvPicPr/>
          <p:nvPr/>
        </p:nvPicPr>
        <p:blipFill>
          <a:blip r:embed="rId11"/>
          <a:stretch/>
        </p:blipFill>
        <p:spPr>
          <a:xfrm>
            <a:off x="646200" y="1747800"/>
            <a:ext cx="4489200" cy="2658960"/>
          </a:xfrm>
          <a:prstGeom prst="rect">
            <a:avLst/>
          </a:prstGeom>
          <a:ln w="0">
            <a:noFill/>
          </a:ln>
        </p:spPr>
      </p:pic>
      <p:sp>
        <p:nvSpPr>
          <p:cNvPr id="683"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684"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685"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686"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687"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688"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87" dur="1000" fill="hold"/>
                                        <p:tgtEl>
                                          <p:spTgt spid="675"/>
                                        </p:tgtEl>
                                      </p:cBhvr>
                                    </p:animMotion>
                                  </p:childTnLst>
                                </p:cTn>
                              </p:par>
                            </p:childTnLst>
                          </p:cTn>
                        </p:par>
                        <p:par>
                          <p:cTn id="288" nodeType="afterEffect" fill="hold">
                            <p:stCondLst>
                              <p:cond delay="1000"/>
                            </p:stCondLst>
                            <p:childTnLst>
                              <p:par>
                                <p:cTn id="28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0" dur="1000" fill="hold"/>
                                        <p:tgtEl>
                                          <p:spTgt spid="6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Picture 2" descr="bg"/>
          <p:cNvPicPr/>
          <p:nvPr/>
        </p:nvPicPr>
        <p:blipFill>
          <a:blip r:embed="rId1"/>
          <a:stretch/>
        </p:blipFill>
        <p:spPr>
          <a:xfrm>
            <a:off x="-46080" y="-11160"/>
            <a:ext cx="12250800" cy="6918480"/>
          </a:xfrm>
          <a:prstGeom prst="rect">
            <a:avLst/>
          </a:prstGeom>
          <a:ln w="0">
            <a:noFill/>
          </a:ln>
        </p:spPr>
      </p:pic>
      <p:sp>
        <p:nvSpPr>
          <p:cNvPr id="69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91" name="Picture 4" descr="board"/>
          <p:cNvPicPr/>
          <p:nvPr/>
        </p:nvPicPr>
        <p:blipFill>
          <a:blip r:embed="rId2"/>
          <a:stretch/>
        </p:blipFill>
        <p:spPr>
          <a:xfrm>
            <a:off x="-44280" y="0"/>
            <a:ext cx="12228480" cy="6886440"/>
          </a:xfrm>
          <a:prstGeom prst="rect">
            <a:avLst/>
          </a:prstGeom>
          <a:ln w="0">
            <a:noFill/>
          </a:ln>
        </p:spPr>
      </p:pic>
      <p:pic>
        <p:nvPicPr>
          <p:cNvPr id="692" name="Picture 5" descr="3"/>
          <p:cNvPicPr/>
          <p:nvPr/>
        </p:nvPicPr>
        <p:blipFill>
          <a:blip r:embed="rId3"/>
          <a:stretch/>
        </p:blipFill>
        <p:spPr>
          <a:xfrm>
            <a:off x="1938240" y="6273720"/>
            <a:ext cx="4603680" cy="490680"/>
          </a:xfrm>
          <a:prstGeom prst="rect">
            <a:avLst/>
          </a:prstGeom>
          <a:ln w="0">
            <a:noFill/>
          </a:ln>
        </p:spPr>
      </p:pic>
      <p:pic>
        <p:nvPicPr>
          <p:cNvPr id="69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94" name="铅笔" descr="qianbi"/>
          <p:cNvPicPr/>
          <p:nvPr/>
        </p:nvPicPr>
        <p:blipFill>
          <a:blip r:embed="rId5"/>
          <a:stretch/>
        </p:blipFill>
        <p:spPr>
          <a:xfrm>
            <a:off x="88920" y="6105600"/>
            <a:ext cx="847800" cy="720720"/>
          </a:xfrm>
          <a:prstGeom prst="rect">
            <a:avLst/>
          </a:prstGeom>
          <a:ln w="0">
            <a:noFill/>
          </a:ln>
        </p:spPr>
      </p:pic>
      <p:pic>
        <p:nvPicPr>
          <p:cNvPr id="695" name="Picture 8" descr="jindu-lan"/>
          <p:cNvPicPr/>
          <p:nvPr/>
        </p:nvPicPr>
        <p:blipFill>
          <a:blip r:embed="rId6"/>
          <a:stretch/>
        </p:blipFill>
        <p:spPr>
          <a:xfrm>
            <a:off x="5981760" y="6369120"/>
            <a:ext cx="264960" cy="303120"/>
          </a:xfrm>
          <a:prstGeom prst="rect">
            <a:avLst/>
          </a:prstGeom>
          <a:ln w="0">
            <a:noFill/>
          </a:ln>
        </p:spPr>
      </p:pic>
      <p:pic>
        <p:nvPicPr>
          <p:cNvPr id="69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697"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698"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699" name="Picture 12" descr=""/>
          <p:cNvPicPr/>
          <p:nvPr/>
        </p:nvPicPr>
        <p:blipFill>
          <a:blip r:embed="rId10"/>
          <a:stretch/>
        </p:blipFill>
        <p:spPr>
          <a:xfrm>
            <a:off x="4151160" y="4245120"/>
            <a:ext cx="2168640" cy="1241280"/>
          </a:xfrm>
          <a:prstGeom prst="rect">
            <a:avLst/>
          </a:prstGeom>
          <a:ln w="0">
            <a:noFill/>
          </a:ln>
        </p:spPr>
      </p:pic>
      <p:pic>
        <p:nvPicPr>
          <p:cNvPr id="700" name="Picture 13" descr=""/>
          <p:cNvPicPr/>
          <p:nvPr/>
        </p:nvPicPr>
        <p:blipFill>
          <a:blip r:embed="rId11"/>
          <a:stretch/>
        </p:blipFill>
        <p:spPr>
          <a:xfrm>
            <a:off x="671400" y="1771560"/>
            <a:ext cx="4405320" cy="2613240"/>
          </a:xfrm>
          <a:prstGeom prst="rect">
            <a:avLst/>
          </a:prstGeom>
          <a:ln w="0">
            <a:noFill/>
          </a:ln>
        </p:spPr>
      </p:pic>
      <p:sp>
        <p:nvSpPr>
          <p:cNvPr id="701"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02"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03"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04"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05"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06"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96" dur="1000" fill="hold"/>
                                        <p:tgtEl>
                                          <p:spTgt spid="693"/>
                                        </p:tgtEl>
                                      </p:cBhvr>
                                    </p:animMotion>
                                  </p:childTnLst>
                                </p:cTn>
                              </p:par>
                            </p:childTnLst>
                          </p:cTn>
                        </p:par>
                        <p:par>
                          <p:cTn id="297" nodeType="afterEffect" fill="hold">
                            <p:stCondLst>
                              <p:cond delay="1000"/>
                            </p:stCondLst>
                            <p:childTnLst>
                              <p:par>
                                <p:cTn id="29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9" dur="1000" fill="hold"/>
                                        <p:tgtEl>
                                          <p:spTgt spid="6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Picture 2" descr="bg"/>
          <p:cNvPicPr/>
          <p:nvPr/>
        </p:nvPicPr>
        <p:blipFill>
          <a:blip r:embed="rId1"/>
          <a:stretch/>
        </p:blipFill>
        <p:spPr>
          <a:xfrm>
            <a:off x="-46080" y="-11160"/>
            <a:ext cx="12250800" cy="6918480"/>
          </a:xfrm>
          <a:prstGeom prst="rect">
            <a:avLst/>
          </a:prstGeom>
          <a:ln w="0">
            <a:noFill/>
          </a:ln>
        </p:spPr>
      </p:pic>
      <p:sp>
        <p:nvSpPr>
          <p:cNvPr id="708"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09" name="Picture 4" descr="board"/>
          <p:cNvPicPr/>
          <p:nvPr/>
        </p:nvPicPr>
        <p:blipFill>
          <a:blip r:embed="rId2"/>
          <a:stretch/>
        </p:blipFill>
        <p:spPr>
          <a:xfrm>
            <a:off x="-44280" y="0"/>
            <a:ext cx="12228480" cy="6886440"/>
          </a:xfrm>
          <a:prstGeom prst="rect">
            <a:avLst/>
          </a:prstGeom>
          <a:ln w="0">
            <a:noFill/>
          </a:ln>
        </p:spPr>
      </p:pic>
      <p:pic>
        <p:nvPicPr>
          <p:cNvPr id="710" name="Picture 5" descr="3"/>
          <p:cNvPicPr/>
          <p:nvPr/>
        </p:nvPicPr>
        <p:blipFill>
          <a:blip r:embed="rId3"/>
          <a:stretch/>
        </p:blipFill>
        <p:spPr>
          <a:xfrm>
            <a:off x="1938240" y="6273720"/>
            <a:ext cx="4603680" cy="490680"/>
          </a:xfrm>
          <a:prstGeom prst="rect">
            <a:avLst/>
          </a:prstGeom>
          <a:ln w="0">
            <a:noFill/>
          </a:ln>
        </p:spPr>
      </p:pic>
      <p:pic>
        <p:nvPicPr>
          <p:cNvPr id="711"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12" name="铅笔" descr="qianbi"/>
          <p:cNvPicPr/>
          <p:nvPr/>
        </p:nvPicPr>
        <p:blipFill>
          <a:blip r:embed="rId5"/>
          <a:stretch/>
        </p:blipFill>
        <p:spPr>
          <a:xfrm>
            <a:off x="88920" y="6105600"/>
            <a:ext cx="847800" cy="720720"/>
          </a:xfrm>
          <a:prstGeom prst="rect">
            <a:avLst/>
          </a:prstGeom>
          <a:ln w="0">
            <a:noFill/>
          </a:ln>
        </p:spPr>
      </p:pic>
      <p:pic>
        <p:nvPicPr>
          <p:cNvPr id="713" name="Picture 8" descr="jindu-lan"/>
          <p:cNvPicPr/>
          <p:nvPr/>
        </p:nvPicPr>
        <p:blipFill>
          <a:blip r:embed="rId6"/>
          <a:stretch/>
        </p:blipFill>
        <p:spPr>
          <a:xfrm>
            <a:off x="5981760" y="6369120"/>
            <a:ext cx="264960" cy="303120"/>
          </a:xfrm>
          <a:prstGeom prst="rect">
            <a:avLst/>
          </a:prstGeom>
          <a:ln w="0">
            <a:noFill/>
          </a:ln>
        </p:spPr>
      </p:pic>
      <p:pic>
        <p:nvPicPr>
          <p:cNvPr id="714"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15"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16"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17" name="Picture 12" descr=""/>
          <p:cNvPicPr/>
          <p:nvPr/>
        </p:nvPicPr>
        <p:blipFill>
          <a:blip r:embed="rId10"/>
          <a:stretch/>
        </p:blipFill>
        <p:spPr>
          <a:xfrm>
            <a:off x="4168800" y="4280040"/>
            <a:ext cx="2163600" cy="1218960"/>
          </a:xfrm>
          <a:prstGeom prst="rect">
            <a:avLst/>
          </a:prstGeom>
          <a:ln w="0">
            <a:noFill/>
          </a:ln>
        </p:spPr>
      </p:pic>
      <p:pic>
        <p:nvPicPr>
          <p:cNvPr id="718" name="Picture 13" descr=""/>
          <p:cNvPicPr/>
          <p:nvPr/>
        </p:nvPicPr>
        <p:blipFill>
          <a:blip r:embed="rId11"/>
          <a:stretch/>
        </p:blipFill>
        <p:spPr>
          <a:xfrm>
            <a:off x="660240" y="1806480"/>
            <a:ext cx="4427640" cy="2606760"/>
          </a:xfrm>
          <a:prstGeom prst="rect">
            <a:avLst/>
          </a:prstGeom>
          <a:ln w="0">
            <a:noFill/>
          </a:ln>
        </p:spPr>
      </p:pic>
      <p:sp>
        <p:nvSpPr>
          <p:cNvPr id="719"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20"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21"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22"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23"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24"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05" dur="1000" fill="hold"/>
                                        <p:tgtEl>
                                          <p:spTgt spid="711"/>
                                        </p:tgtEl>
                                      </p:cBhvr>
                                    </p:animMotion>
                                  </p:childTnLst>
                                </p:cTn>
                              </p:par>
                            </p:childTnLst>
                          </p:cTn>
                        </p:par>
                        <p:par>
                          <p:cTn id="306" nodeType="afterEffect" fill="hold">
                            <p:stCondLst>
                              <p:cond delay="1000"/>
                            </p:stCondLst>
                            <p:childTnLst>
                              <p:par>
                                <p:cTn id="30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08" dur="1000" fill="hold"/>
                                        <p:tgtEl>
                                          <p:spTgt spid="7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2" descr="bg"/>
          <p:cNvPicPr/>
          <p:nvPr/>
        </p:nvPicPr>
        <p:blipFill>
          <a:blip r:embed="rId1"/>
          <a:stretch/>
        </p:blipFill>
        <p:spPr>
          <a:xfrm>
            <a:off x="-46080" y="-11160"/>
            <a:ext cx="12250800" cy="6918480"/>
          </a:xfrm>
          <a:prstGeom prst="rect">
            <a:avLst/>
          </a:prstGeom>
          <a:ln w="0">
            <a:noFill/>
          </a:ln>
        </p:spPr>
      </p:pic>
      <p:sp>
        <p:nvSpPr>
          <p:cNvPr id="72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27" name="Picture 4" descr="board"/>
          <p:cNvPicPr/>
          <p:nvPr/>
        </p:nvPicPr>
        <p:blipFill>
          <a:blip r:embed="rId2"/>
          <a:stretch/>
        </p:blipFill>
        <p:spPr>
          <a:xfrm>
            <a:off x="-44280" y="0"/>
            <a:ext cx="12228480" cy="6886440"/>
          </a:xfrm>
          <a:prstGeom prst="rect">
            <a:avLst/>
          </a:prstGeom>
          <a:ln w="0">
            <a:noFill/>
          </a:ln>
        </p:spPr>
      </p:pic>
      <p:pic>
        <p:nvPicPr>
          <p:cNvPr id="728" name="Picture 5" descr="3"/>
          <p:cNvPicPr/>
          <p:nvPr/>
        </p:nvPicPr>
        <p:blipFill>
          <a:blip r:embed="rId3"/>
          <a:stretch/>
        </p:blipFill>
        <p:spPr>
          <a:xfrm>
            <a:off x="1938240" y="6273720"/>
            <a:ext cx="4603680" cy="490680"/>
          </a:xfrm>
          <a:prstGeom prst="rect">
            <a:avLst/>
          </a:prstGeom>
          <a:ln w="0">
            <a:noFill/>
          </a:ln>
        </p:spPr>
      </p:pic>
      <p:pic>
        <p:nvPicPr>
          <p:cNvPr id="72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30" name="铅笔" descr="qianbi"/>
          <p:cNvPicPr/>
          <p:nvPr/>
        </p:nvPicPr>
        <p:blipFill>
          <a:blip r:embed="rId5"/>
          <a:stretch/>
        </p:blipFill>
        <p:spPr>
          <a:xfrm>
            <a:off x="88920" y="6105600"/>
            <a:ext cx="847800" cy="720720"/>
          </a:xfrm>
          <a:prstGeom prst="rect">
            <a:avLst/>
          </a:prstGeom>
          <a:ln w="0">
            <a:noFill/>
          </a:ln>
        </p:spPr>
      </p:pic>
      <p:pic>
        <p:nvPicPr>
          <p:cNvPr id="731" name="Picture 8" descr="jindu-lan"/>
          <p:cNvPicPr/>
          <p:nvPr/>
        </p:nvPicPr>
        <p:blipFill>
          <a:blip r:embed="rId6"/>
          <a:stretch/>
        </p:blipFill>
        <p:spPr>
          <a:xfrm>
            <a:off x="5981760" y="6369120"/>
            <a:ext cx="264960" cy="303120"/>
          </a:xfrm>
          <a:prstGeom prst="rect">
            <a:avLst/>
          </a:prstGeom>
          <a:ln w="0">
            <a:noFill/>
          </a:ln>
        </p:spPr>
      </p:pic>
      <p:pic>
        <p:nvPicPr>
          <p:cNvPr id="73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33"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34"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35" name="Picture 12" descr=""/>
          <p:cNvPicPr/>
          <p:nvPr/>
        </p:nvPicPr>
        <p:blipFill>
          <a:blip r:embed="rId10"/>
          <a:stretch/>
        </p:blipFill>
        <p:spPr>
          <a:xfrm>
            <a:off x="4202280" y="4280040"/>
            <a:ext cx="2138040" cy="1218960"/>
          </a:xfrm>
          <a:prstGeom prst="rect">
            <a:avLst/>
          </a:prstGeom>
          <a:ln w="0">
            <a:noFill/>
          </a:ln>
        </p:spPr>
      </p:pic>
      <p:pic>
        <p:nvPicPr>
          <p:cNvPr id="736" name="Picture 13" descr=""/>
          <p:cNvPicPr/>
          <p:nvPr/>
        </p:nvPicPr>
        <p:blipFill>
          <a:blip r:embed="rId11"/>
          <a:stretch/>
        </p:blipFill>
        <p:spPr>
          <a:xfrm>
            <a:off x="666720" y="1806480"/>
            <a:ext cx="4413240" cy="2606760"/>
          </a:xfrm>
          <a:prstGeom prst="rect">
            <a:avLst/>
          </a:prstGeom>
          <a:ln w="0">
            <a:noFill/>
          </a:ln>
        </p:spPr>
      </p:pic>
      <p:sp>
        <p:nvSpPr>
          <p:cNvPr id="737"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38"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39"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40"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41"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42"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14" dur="1000" fill="hold"/>
                                        <p:tgtEl>
                                          <p:spTgt spid="729"/>
                                        </p:tgtEl>
                                      </p:cBhvr>
                                    </p:animMotion>
                                  </p:childTnLst>
                                </p:cTn>
                              </p:par>
                            </p:childTnLst>
                          </p:cTn>
                        </p:par>
                        <p:par>
                          <p:cTn id="315" nodeType="afterEffect" fill="hold">
                            <p:stCondLst>
                              <p:cond delay="1000"/>
                            </p:stCondLst>
                            <p:childTnLst>
                              <p:par>
                                <p:cTn id="31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17" dur="1000" fill="hold"/>
                                        <p:tgtEl>
                                          <p:spTgt spid="7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2" descr="bg"/>
          <p:cNvPicPr/>
          <p:nvPr/>
        </p:nvPicPr>
        <p:blipFill>
          <a:blip r:embed="rId1"/>
          <a:stretch/>
        </p:blipFill>
        <p:spPr>
          <a:xfrm>
            <a:off x="-46080" y="-11160"/>
            <a:ext cx="12250800" cy="6918480"/>
          </a:xfrm>
          <a:prstGeom prst="rect">
            <a:avLst/>
          </a:prstGeom>
          <a:ln w="0">
            <a:noFill/>
          </a:ln>
        </p:spPr>
      </p:pic>
      <p:pic>
        <p:nvPicPr>
          <p:cNvPr id="744" name="Picture 3" descr="board"/>
          <p:cNvPicPr/>
          <p:nvPr/>
        </p:nvPicPr>
        <p:blipFill>
          <a:blip r:embed="rId2"/>
          <a:stretch/>
        </p:blipFill>
        <p:spPr>
          <a:xfrm>
            <a:off x="-44280" y="0"/>
            <a:ext cx="12228480" cy="6886440"/>
          </a:xfrm>
          <a:prstGeom prst="rect">
            <a:avLst/>
          </a:prstGeom>
          <a:ln w="0">
            <a:noFill/>
          </a:ln>
        </p:spPr>
      </p:pic>
      <p:sp>
        <p:nvSpPr>
          <p:cNvPr id="745"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问题与不足</a:t>
            </a:r>
            <a:endParaRPr b="0" lang="en-US" sz="2600" spc="-1" strike="noStrike">
              <a:solidFill>
                <a:srgbClr val="000000"/>
              </a:solidFill>
              <a:latin typeface="Calibri"/>
            </a:endParaRPr>
          </a:p>
        </p:txBody>
      </p:sp>
      <p:pic>
        <p:nvPicPr>
          <p:cNvPr id="746" name="图片 2" descr="gray-point"/>
          <p:cNvPicPr/>
          <p:nvPr/>
        </p:nvPicPr>
        <p:blipFill>
          <a:blip r:embed="rId4"/>
          <a:stretch/>
        </p:blipFill>
        <p:spPr>
          <a:xfrm>
            <a:off x="1557360" y="2470320"/>
            <a:ext cx="517680" cy="431640"/>
          </a:xfrm>
          <a:prstGeom prst="rect">
            <a:avLst/>
          </a:prstGeom>
          <a:ln w="0">
            <a:noFill/>
          </a:ln>
        </p:spPr>
      </p:pic>
      <p:sp>
        <p:nvSpPr>
          <p:cNvPr id="747"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748" name="Picture 7" descr="2"/>
          <p:cNvPicPr/>
          <p:nvPr/>
        </p:nvPicPr>
        <p:blipFill>
          <a:blip r:embed="rId5"/>
          <a:stretch/>
        </p:blipFill>
        <p:spPr>
          <a:xfrm>
            <a:off x="1938240" y="6273720"/>
            <a:ext cx="4603680" cy="490680"/>
          </a:xfrm>
          <a:prstGeom prst="rect">
            <a:avLst/>
          </a:prstGeom>
          <a:ln w="0">
            <a:noFill/>
          </a:ln>
        </p:spPr>
      </p:pic>
      <p:pic>
        <p:nvPicPr>
          <p:cNvPr id="749"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750" name="铅笔" descr="qianbi"/>
          <p:cNvPicPr/>
          <p:nvPr/>
        </p:nvPicPr>
        <p:blipFill>
          <a:blip r:embed="rId7"/>
          <a:stretch/>
        </p:blipFill>
        <p:spPr>
          <a:xfrm>
            <a:off x="88920" y="6105600"/>
            <a:ext cx="847800" cy="720720"/>
          </a:xfrm>
          <a:prstGeom prst="rect">
            <a:avLst/>
          </a:prstGeom>
          <a:ln w="0">
            <a:noFill/>
          </a:ln>
        </p:spPr>
      </p:pic>
      <p:pic>
        <p:nvPicPr>
          <p:cNvPr id="751" name="Picture 10" descr="jindu-hui"/>
          <p:cNvPicPr/>
          <p:nvPr/>
        </p:nvPicPr>
        <p:blipFill>
          <a:blip r:embed="rId8"/>
          <a:stretch/>
        </p:blipFill>
        <p:spPr>
          <a:xfrm>
            <a:off x="5981760" y="6369120"/>
            <a:ext cx="264960" cy="304560"/>
          </a:xfrm>
          <a:prstGeom prst="rect">
            <a:avLst/>
          </a:prstGeom>
          <a:ln w="0">
            <a:noFill/>
          </a:ln>
        </p:spPr>
      </p:pic>
      <p:pic>
        <p:nvPicPr>
          <p:cNvPr id="752"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753" name="Picture 12" descr="cloud1"/>
          <p:cNvPicPr/>
          <p:nvPr/>
        </p:nvPicPr>
        <p:blipFill>
          <a:blip r:embed="rId10"/>
          <a:stretch/>
        </p:blipFill>
        <p:spPr>
          <a:xfrm>
            <a:off x="163440" y="133200"/>
            <a:ext cx="4510080" cy="1960560"/>
          </a:xfrm>
          <a:prstGeom prst="rect">
            <a:avLst/>
          </a:prstGeom>
          <a:ln w="0">
            <a:noFill/>
          </a:ln>
        </p:spPr>
      </p:pic>
      <p:pic>
        <p:nvPicPr>
          <p:cNvPr id="754" name="Picture 13" descr="cloud1"/>
          <p:cNvPicPr/>
          <p:nvPr/>
        </p:nvPicPr>
        <p:blipFill>
          <a:blip r:embed="rId11"/>
          <a:stretch/>
        </p:blipFill>
        <p:spPr>
          <a:xfrm>
            <a:off x="833400" y="-49320"/>
            <a:ext cx="3144960" cy="1363680"/>
          </a:xfrm>
          <a:prstGeom prst="rect">
            <a:avLst/>
          </a:prstGeom>
          <a:ln w="0">
            <a:noFill/>
          </a:ln>
        </p:spPr>
      </p:pic>
      <p:sp>
        <p:nvSpPr>
          <p:cNvPr id="755"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总结</a:t>
            </a:r>
            <a:endParaRPr b="0" lang="en-US" sz="2600" spc="-1" strike="noStrike">
              <a:solidFill>
                <a:srgbClr val="000000"/>
              </a:solidFill>
              <a:latin typeface="Calibri"/>
            </a:endParaRPr>
          </a:p>
        </p:txBody>
      </p:sp>
      <p:grpSp>
        <p:nvGrpSpPr>
          <p:cNvPr id="756" name="Group 15"/>
          <p:cNvGrpSpPr/>
          <p:nvPr/>
        </p:nvGrpSpPr>
        <p:grpSpPr>
          <a:xfrm>
            <a:off x="673200" y="790560"/>
            <a:ext cx="517320" cy="438120"/>
            <a:chOff x="673200" y="790560"/>
            <a:chExt cx="517320" cy="438120"/>
          </a:xfrm>
        </p:grpSpPr>
        <p:pic>
          <p:nvPicPr>
            <p:cNvPr id="757" name="图片 2" descr=""/>
            <p:cNvPicPr/>
            <p:nvPr/>
          </p:nvPicPr>
          <p:blipFill>
            <a:blip r:embed="rId12"/>
            <a:stretch/>
          </p:blipFill>
          <p:spPr>
            <a:xfrm>
              <a:off x="673200" y="795240"/>
              <a:ext cx="517320" cy="433440"/>
            </a:xfrm>
            <a:prstGeom prst="rect">
              <a:avLst/>
            </a:prstGeom>
            <a:ln w="0">
              <a:noFill/>
            </a:ln>
          </p:spPr>
        </p:pic>
        <p:sp>
          <p:nvSpPr>
            <p:cNvPr id="758"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grpSp>
      <p:pic>
        <p:nvPicPr>
          <p:cNvPr id="759"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760"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761" name="Text Box 14">
            <a:hlinkClick r:id="rId15" action="ppaction://hlinksldjump"/>
          </p:cNvPr>
          <p:cNvSpPr/>
          <p:nvPr/>
        </p:nvSpPr>
        <p:spPr>
          <a:xfrm>
            <a:off x="2521080" y="3187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改进</a:t>
            </a:r>
            <a:endParaRPr b="0" lang="en-US" sz="2600" spc="-1" strike="noStrike">
              <a:solidFill>
                <a:srgbClr val="000000"/>
              </a:solidFill>
              <a:latin typeface="Calibri"/>
            </a:endParaRPr>
          </a:p>
        </p:txBody>
      </p:sp>
      <p:pic>
        <p:nvPicPr>
          <p:cNvPr id="762" name="图片 2" descr="gray-point"/>
          <p:cNvPicPr/>
          <p:nvPr/>
        </p:nvPicPr>
        <p:blipFill>
          <a:blip r:embed="rId16"/>
          <a:stretch/>
        </p:blipFill>
        <p:spPr>
          <a:xfrm>
            <a:off x="1557360" y="3219480"/>
            <a:ext cx="517680" cy="431640"/>
          </a:xfrm>
          <a:prstGeom prst="rect">
            <a:avLst/>
          </a:prstGeom>
          <a:ln w="0">
            <a:noFill/>
          </a:ln>
        </p:spPr>
      </p:pic>
      <p:sp>
        <p:nvSpPr>
          <p:cNvPr id="763"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764" name="Text Box 14">
            <a:hlinkClick r:id="rId17" action="ppaction://hlinksldjump"/>
          </p:cNvPr>
          <p:cNvSpPr/>
          <p:nvPr/>
        </p:nvSpPr>
        <p:spPr>
          <a:xfrm>
            <a:off x="2521080" y="393696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优势</a:t>
            </a:r>
            <a:endParaRPr b="0" lang="en-US" sz="2600" spc="-1" strike="noStrike">
              <a:solidFill>
                <a:srgbClr val="000000"/>
              </a:solidFill>
              <a:latin typeface="Calibri"/>
            </a:endParaRPr>
          </a:p>
        </p:txBody>
      </p:sp>
      <p:pic>
        <p:nvPicPr>
          <p:cNvPr id="765" name="图片 2" descr="gray-point"/>
          <p:cNvPicPr/>
          <p:nvPr/>
        </p:nvPicPr>
        <p:blipFill>
          <a:blip r:embed="rId18"/>
          <a:stretch/>
        </p:blipFill>
        <p:spPr>
          <a:xfrm>
            <a:off x="1557360" y="3968640"/>
            <a:ext cx="517680" cy="432000"/>
          </a:xfrm>
          <a:prstGeom prst="rect">
            <a:avLst/>
          </a:prstGeom>
          <a:ln w="0">
            <a:noFill/>
          </a:ln>
        </p:spPr>
      </p:pic>
      <p:sp>
        <p:nvSpPr>
          <p:cNvPr id="766"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767" name="Picture 26" descr="tb-xiuxi">
            <a:hlinkClick r:id="rId19" action="ppaction://hlinksldjump"/>
          </p:cNvPr>
          <p:cNvPicPr/>
          <p:nvPr/>
        </p:nvPicPr>
        <p:blipFill>
          <a:blip r:embed="rId20"/>
          <a:stretch/>
        </p:blipFill>
        <p:spPr>
          <a:xfrm>
            <a:off x="9499680" y="6383160"/>
            <a:ext cx="615960" cy="524160"/>
          </a:xfrm>
          <a:prstGeom prst="rect">
            <a:avLst/>
          </a:prstGeom>
          <a:ln w="0">
            <a:noFill/>
          </a:ln>
        </p:spPr>
      </p:pic>
      <p:pic>
        <p:nvPicPr>
          <p:cNvPr id="768" name="Picture 27" descr="jindu-lan">
            <a:hlinkClick r:id="rId21" action="ppaction://hlinksldjump"/>
          </p:cNvPr>
          <p:cNvPicPr/>
          <p:nvPr/>
        </p:nvPicPr>
        <p:blipFill>
          <a:blip r:embed="rId22"/>
          <a:stretch/>
        </p:blipFill>
        <p:spPr>
          <a:xfrm>
            <a:off x="4106880" y="6370560"/>
            <a:ext cx="264960" cy="301680"/>
          </a:xfrm>
          <a:prstGeom prst="rect">
            <a:avLst/>
          </a:prstGeom>
          <a:ln w="0">
            <a:noFill/>
          </a:ln>
        </p:spPr>
      </p:pic>
      <p:pic>
        <p:nvPicPr>
          <p:cNvPr id="769" name="Picture 28" descr="jindu-lan">
            <a:hlinkClick r:id="rId23" action="ppaction://hlinksldjump"/>
          </p:cNvPr>
          <p:cNvPicPr/>
          <p:nvPr/>
        </p:nvPicPr>
        <p:blipFill>
          <a:blip r:embed="rId24"/>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23" dur="1000" fill="hold"/>
                                        <p:tgtEl>
                                          <p:spTgt spid="749"/>
                                        </p:tgtEl>
                                      </p:cBhvr>
                                    </p:animMotion>
                                  </p:childTnLst>
                                </p:cTn>
                              </p:par>
                            </p:childTnLst>
                          </p:cTn>
                        </p:par>
                        <p:par>
                          <p:cTn id="324" nodeType="afterEffect" fill="hold">
                            <p:stCondLst>
                              <p:cond delay="1000"/>
                            </p:stCondLst>
                            <p:childTnLst>
                              <p:par>
                                <p:cTn id="32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26" dur="1000" fill="hold"/>
                                        <p:tgtEl>
                                          <p:spTgt spid="7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Picture 2" descr="bg"/>
          <p:cNvPicPr/>
          <p:nvPr/>
        </p:nvPicPr>
        <p:blipFill>
          <a:blip r:embed="rId1"/>
          <a:stretch/>
        </p:blipFill>
        <p:spPr>
          <a:xfrm>
            <a:off x="-46080" y="-11160"/>
            <a:ext cx="12250800" cy="6918480"/>
          </a:xfrm>
          <a:prstGeom prst="rect">
            <a:avLst/>
          </a:prstGeom>
          <a:ln w="0">
            <a:noFill/>
          </a:ln>
        </p:spPr>
      </p:pic>
      <p:sp>
        <p:nvSpPr>
          <p:cNvPr id="77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72" name="Picture 4" descr="board"/>
          <p:cNvPicPr/>
          <p:nvPr/>
        </p:nvPicPr>
        <p:blipFill>
          <a:blip r:embed="rId2"/>
          <a:stretch/>
        </p:blipFill>
        <p:spPr>
          <a:xfrm>
            <a:off x="-44280" y="0"/>
            <a:ext cx="12228480" cy="6886440"/>
          </a:xfrm>
          <a:prstGeom prst="rect">
            <a:avLst/>
          </a:prstGeom>
          <a:ln w="0">
            <a:noFill/>
          </a:ln>
        </p:spPr>
      </p:pic>
      <p:pic>
        <p:nvPicPr>
          <p:cNvPr id="773" name="Picture 5" descr="3"/>
          <p:cNvPicPr/>
          <p:nvPr/>
        </p:nvPicPr>
        <p:blipFill>
          <a:blip r:embed="rId3"/>
          <a:stretch/>
        </p:blipFill>
        <p:spPr>
          <a:xfrm>
            <a:off x="1938240" y="6273720"/>
            <a:ext cx="4603680" cy="490680"/>
          </a:xfrm>
          <a:prstGeom prst="rect">
            <a:avLst/>
          </a:prstGeom>
          <a:ln w="0">
            <a:noFill/>
          </a:ln>
        </p:spPr>
      </p:pic>
      <p:pic>
        <p:nvPicPr>
          <p:cNvPr id="77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75" name="铅笔" descr="qianbi"/>
          <p:cNvPicPr/>
          <p:nvPr/>
        </p:nvPicPr>
        <p:blipFill>
          <a:blip r:embed="rId5"/>
          <a:stretch/>
        </p:blipFill>
        <p:spPr>
          <a:xfrm>
            <a:off x="88920" y="6105600"/>
            <a:ext cx="847800" cy="720720"/>
          </a:xfrm>
          <a:prstGeom prst="rect">
            <a:avLst/>
          </a:prstGeom>
          <a:ln w="0">
            <a:noFill/>
          </a:ln>
        </p:spPr>
      </p:pic>
      <p:pic>
        <p:nvPicPr>
          <p:cNvPr id="776" name="Picture 8" descr="jindu-lan"/>
          <p:cNvPicPr/>
          <p:nvPr/>
        </p:nvPicPr>
        <p:blipFill>
          <a:blip r:embed="rId6"/>
          <a:stretch/>
        </p:blipFill>
        <p:spPr>
          <a:xfrm>
            <a:off x="5981760" y="6369120"/>
            <a:ext cx="264960" cy="303120"/>
          </a:xfrm>
          <a:prstGeom prst="rect">
            <a:avLst/>
          </a:prstGeom>
          <a:ln w="0">
            <a:noFill/>
          </a:ln>
        </p:spPr>
      </p:pic>
      <p:pic>
        <p:nvPicPr>
          <p:cNvPr id="77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78"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79"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780"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问题与不足</a:t>
            </a:r>
            <a:endParaRPr b="0" lang="en-US" sz="2600" spc="-1" strike="noStrike">
              <a:solidFill>
                <a:srgbClr val="000000"/>
              </a:solidFill>
              <a:latin typeface="Calibri"/>
            </a:endParaRPr>
          </a:p>
        </p:txBody>
      </p:sp>
      <p:graphicFrame>
        <p:nvGraphicFramePr>
          <p:cNvPr id="781"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问题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问题说明</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782"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783"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784"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32" dur="1000" fill="hold"/>
                                        <p:tgtEl>
                                          <p:spTgt spid="774"/>
                                        </p:tgtEl>
                                      </p:cBhvr>
                                    </p:animMotion>
                                  </p:childTnLst>
                                </p:cTn>
                              </p:par>
                            </p:childTnLst>
                          </p:cTn>
                        </p:par>
                        <p:par>
                          <p:cTn id="333" nodeType="afterEffect" fill="hold">
                            <p:stCondLst>
                              <p:cond delay="1000"/>
                            </p:stCondLst>
                            <p:childTnLst>
                              <p:par>
                                <p:cTn id="33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35" dur="1000" fill="hold"/>
                                        <p:tgtEl>
                                          <p:spTgt spid="7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2" descr="bg"/>
          <p:cNvPicPr/>
          <p:nvPr/>
        </p:nvPicPr>
        <p:blipFill>
          <a:blip r:embed="rId1"/>
          <a:stretch/>
        </p:blipFill>
        <p:spPr>
          <a:xfrm>
            <a:off x="-46080" y="-11160"/>
            <a:ext cx="12250800" cy="6918480"/>
          </a:xfrm>
          <a:prstGeom prst="rect">
            <a:avLst/>
          </a:prstGeom>
          <a:ln w="0">
            <a:noFill/>
          </a:ln>
        </p:spPr>
      </p:pic>
      <p:sp>
        <p:nvSpPr>
          <p:cNvPr id="78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87" name="Picture 4" descr="board"/>
          <p:cNvPicPr/>
          <p:nvPr/>
        </p:nvPicPr>
        <p:blipFill>
          <a:blip r:embed="rId2"/>
          <a:stretch/>
        </p:blipFill>
        <p:spPr>
          <a:xfrm>
            <a:off x="-44280" y="0"/>
            <a:ext cx="12228480" cy="6886440"/>
          </a:xfrm>
          <a:prstGeom prst="rect">
            <a:avLst/>
          </a:prstGeom>
          <a:ln w="0">
            <a:noFill/>
          </a:ln>
        </p:spPr>
      </p:pic>
      <p:pic>
        <p:nvPicPr>
          <p:cNvPr id="788" name="Picture 5" descr="3"/>
          <p:cNvPicPr/>
          <p:nvPr/>
        </p:nvPicPr>
        <p:blipFill>
          <a:blip r:embed="rId3"/>
          <a:stretch/>
        </p:blipFill>
        <p:spPr>
          <a:xfrm>
            <a:off x="1938240" y="6273720"/>
            <a:ext cx="4603680" cy="490680"/>
          </a:xfrm>
          <a:prstGeom prst="rect">
            <a:avLst/>
          </a:prstGeom>
          <a:ln w="0">
            <a:noFill/>
          </a:ln>
        </p:spPr>
      </p:pic>
      <p:pic>
        <p:nvPicPr>
          <p:cNvPr id="78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90" name="铅笔" descr="qianbi"/>
          <p:cNvPicPr/>
          <p:nvPr/>
        </p:nvPicPr>
        <p:blipFill>
          <a:blip r:embed="rId5"/>
          <a:stretch/>
        </p:blipFill>
        <p:spPr>
          <a:xfrm>
            <a:off x="88920" y="6105600"/>
            <a:ext cx="847800" cy="720720"/>
          </a:xfrm>
          <a:prstGeom prst="rect">
            <a:avLst/>
          </a:prstGeom>
          <a:ln w="0">
            <a:noFill/>
          </a:ln>
        </p:spPr>
      </p:pic>
      <p:pic>
        <p:nvPicPr>
          <p:cNvPr id="791" name="Picture 8" descr="jindu-lan"/>
          <p:cNvPicPr/>
          <p:nvPr/>
        </p:nvPicPr>
        <p:blipFill>
          <a:blip r:embed="rId6"/>
          <a:stretch/>
        </p:blipFill>
        <p:spPr>
          <a:xfrm>
            <a:off x="5981760" y="6369120"/>
            <a:ext cx="264960" cy="303120"/>
          </a:xfrm>
          <a:prstGeom prst="rect">
            <a:avLst/>
          </a:prstGeom>
          <a:ln w="0">
            <a:noFill/>
          </a:ln>
        </p:spPr>
      </p:pic>
      <p:pic>
        <p:nvPicPr>
          <p:cNvPr id="79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93"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94"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795" name="Text Box 14"/>
          <p:cNvSpPr/>
          <p:nvPr/>
        </p:nvSpPr>
        <p:spPr>
          <a:xfrm>
            <a:off x="423000" y="0"/>
            <a:ext cx="1651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改进</a:t>
            </a:r>
            <a:endParaRPr b="0" lang="en-US" sz="2600" spc="-1" strike="noStrike">
              <a:solidFill>
                <a:srgbClr val="000000"/>
              </a:solidFill>
              <a:latin typeface="Calibri"/>
            </a:endParaRPr>
          </a:p>
        </p:txBody>
      </p:sp>
      <p:graphicFrame>
        <p:nvGraphicFramePr>
          <p:cNvPr id="796"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改进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改进说明</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797"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798"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799"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41" dur="1000" fill="hold"/>
                                        <p:tgtEl>
                                          <p:spTgt spid="789"/>
                                        </p:tgtEl>
                                      </p:cBhvr>
                                    </p:animMotion>
                                  </p:childTnLst>
                                </p:cTn>
                              </p:par>
                            </p:childTnLst>
                          </p:cTn>
                        </p:par>
                        <p:par>
                          <p:cTn id="342" nodeType="afterEffect" fill="hold">
                            <p:stCondLst>
                              <p:cond delay="1000"/>
                            </p:stCondLst>
                            <p:childTnLst>
                              <p:par>
                                <p:cTn id="34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44" dur="1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Picture 2" descr="bg"/>
          <p:cNvPicPr/>
          <p:nvPr/>
        </p:nvPicPr>
        <p:blipFill>
          <a:blip r:embed="rId1"/>
          <a:stretch/>
        </p:blipFill>
        <p:spPr>
          <a:xfrm>
            <a:off x="-46080" y="-11160"/>
            <a:ext cx="12250800" cy="6918480"/>
          </a:xfrm>
          <a:prstGeom prst="rect">
            <a:avLst/>
          </a:prstGeom>
          <a:ln w="0">
            <a:noFill/>
          </a:ln>
        </p:spPr>
      </p:pic>
      <p:sp>
        <p:nvSpPr>
          <p:cNvPr id="80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802" name="Picture 4" descr="board"/>
          <p:cNvPicPr/>
          <p:nvPr/>
        </p:nvPicPr>
        <p:blipFill>
          <a:blip r:embed="rId2"/>
          <a:stretch/>
        </p:blipFill>
        <p:spPr>
          <a:xfrm>
            <a:off x="-44280" y="0"/>
            <a:ext cx="12228480" cy="6886440"/>
          </a:xfrm>
          <a:prstGeom prst="rect">
            <a:avLst/>
          </a:prstGeom>
          <a:ln w="0">
            <a:noFill/>
          </a:ln>
        </p:spPr>
      </p:pic>
      <p:pic>
        <p:nvPicPr>
          <p:cNvPr id="803" name="Picture 5" descr="3"/>
          <p:cNvPicPr/>
          <p:nvPr/>
        </p:nvPicPr>
        <p:blipFill>
          <a:blip r:embed="rId3"/>
          <a:stretch/>
        </p:blipFill>
        <p:spPr>
          <a:xfrm>
            <a:off x="1938240" y="6273720"/>
            <a:ext cx="4603680" cy="490680"/>
          </a:xfrm>
          <a:prstGeom prst="rect">
            <a:avLst/>
          </a:prstGeom>
          <a:ln w="0">
            <a:noFill/>
          </a:ln>
        </p:spPr>
      </p:pic>
      <p:pic>
        <p:nvPicPr>
          <p:cNvPr id="80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805" name="铅笔" descr="qianbi"/>
          <p:cNvPicPr/>
          <p:nvPr/>
        </p:nvPicPr>
        <p:blipFill>
          <a:blip r:embed="rId5"/>
          <a:stretch/>
        </p:blipFill>
        <p:spPr>
          <a:xfrm>
            <a:off x="88920" y="6105600"/>
            <a:ext cx="847800" cy="720720"/>
          </a:xfrm>
          <a:prstGeom prst="rect">
            <a:avLst/>
          </a:prstGeom>
          <a:ln w="0">
            <a:noFill/>
          </a:ln>
        </p:spPr>
      </p:pic>
      <p:pic>
        <p:nvPicPr>
          <p:cNvPr id="806" name="Picture 8" descr="jindu-lan"/>
          <p:cNvPicPr/>
          <p:nvPr/>
        </p:nvPicPr>
        <p:blipFill>
          <a:blip r:embed="rId6"/>
          <a:stretch/>
        </p:blipFill>
        <p:spPr>
          <a:xfrm>
            <a:off x="5981760" y="6369120"/>
            <a:ext cx="264960" cy="303120"/>
          </a:xfrm>
          <a:prstGeom prst="rect">
            <a:avLst/>
          </a:prstGeom>
          <a:ln w="0">
            <a:noFill/>
          </a:ln>
        </p:spPr>
      </p:pic>
      <p:pic>
        <p:nvPicPr>
          <p:cNvPr id="80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808"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809"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810" name="Text Box 14"/>
          <p:cNvSpPr/>
          <p:nvPr/>
        </p:nvSpPr>
        <p:spPr>
          <a:xfrm>
            <a:off x="423000" y="0"/>
            <a:ext cx="1651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优势</a:t>
            </a:r>
            <a:endParaRPr b="0" lang="en-US" sz="2600" spc="-1" strike="noStrike">
              <a:solidFill>
                <a:srgbClr val="000000"/>
              </a:solidFill>
              <a:latin typeface="Calibri"/>
            </a:endParaRPr>
          </a:p>
        </p:txBody>
      </p:sp>
      <p:graphicFrame>
        <p:nvGraphicFramePr>
          <p:cNvPr id="811"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优势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优势深化</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812"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813"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814"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0" dur="1000" fill="hold"/>
                                        <p:tgtEl>
                                          <p:spTgt spid="804"/>
                                        </p:tgtEl>
                                      </p:cBhvr>
                                    </p:animMotion>
                                  </p:childTnLst>
                                </p:cTn>
                              </p:par>
                            </p:childTnLst>
                          </p:cTn>
                        </p:par>
                        <p:par>
                          <p:cTn id="351" nodeType="afterEffect" fill="hold">
                            <p:stCondLst>
                              <p:cond delay="1000"/>
                            </p:stCondLst>
                            <p:childTnLst>
                              <p:par>
                                <p:cTn id="35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53" dur="1000" fill="hold"/>
                                        <p:tgtEl>
                                          <p:spTgt spid="8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bg"/>
          <p:cNvPicPr/>
          <p:nvPr/>
        </p:nvPicPr>
        <p:blipFill>
          <a:blip r:embed="rId1"/>
          <a:stretch/>
        </p:blipFill>
        <p:spPr>
          <a:xfrm>
            <a:off x="-46080" y="-11160"/>
            <a:ext cx="12250800" cy="6918480"/>
          </a:xfrm>
          <a:prstGeom prst="rect">
            <a:avLst/>
          </a:prstGeom>
          <a:ln w="0">
            <a:noFill/>
          </a:ln>
        </p:spPr>
      </p:pic>
      <p:sp>
        <p:nvSpPr>
          <p:cNvPr id="16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63" name="Picture 4" descr="board"/>
          <p:cNvPicPr/>
          <p:nvPr/>
        </p:nvPicPr>
        <p:blipFill>
          <a:blip r:embed="rId2"/>
          <a:stretch/>
        </p:blipFill>
        <p:spPr>
          <a:xfrm>
            <a:off x="-44280" y="0"/>
            <a:ext cx="12228480" cy="6886440"/>
          </a:xfrm>
          <a:prstGeom prst="rect">
            <a:avLst/>
          </a:prstGeom>
          <a:ln w="0">
            <a:noFill/>
          </a:ln>
        </p:spPr>
      </p:pic>
      <p:sp>
        <p:nvSpPr>
          <p:cNvPr id="164"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说明</a:t>
            </a:r>
            <a:endParaRPr b="0" lang="en-US" sz="2600" spc="-1" strike="noStrike">
              <a:solidFill>
                <a:srgbClr val="000000"/>
              </a:solidFill>
              <a:latin typeface="Calibri"/>
            </a:endParaRPr>
          </a:p>
        </p:txBody>
      </p:sp>
      <p:graphicFrame>
        <p:nvGraphicFramePr>
          <p:cNvPr id="165"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工作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截止时间</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发布人</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备注</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66" name="Picture 37" descr="3"/>
          <p:cNvPicPr/>
          <p:nvPr/>
        </p:nvPicPr>
        <p:blipFill>
          <a:blip r:embed="rId3"/>
          <a:stretch/>
        </p:blipFill>
        <p:spPr>
          <a:xfrm>
            <a:off x="1938240" y="6273720"/>
            <a:ext cx="4603680" cy="490680"/>
          </a:xfrm>
          <a:prstGeom prst="rect">
            <a:avLst/>
          </a:prstGeom>
          <a:ln w="0">
            <a:noFill/>
          </a:ln>
        </p:spPr>
      </p:pic>
      <p:pic>
        <p:nvPicPr>
          <p:cNvPr id="16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68" name="铅笔" descr="qianbi"/>
          <p:cNvPicPr/>
          <p:nvPr/>
        </p:nvPicPr>
        <p:blipFill>
          <a:blip r:embed="rId5"/>
          <a:stretch/>
        </p:blipFill>
        <p:spPr>
          <a:xfrm>
            <a:off x="88920" y="6105600"/>
            <a:ext cx="847800" cy="720720"/>
          </a:xfrm>
          <a:prstGeom prst="rect">
            <a:avLst/>
          </a:prstGeom>
          <a:ln w="0">
            <a:noFill/>
          </a:ln>
        </p:spPr>
      </p:pic>
      <p:pic>
        <p:nvPicPr>
          <p:cNvPr id="169" name="Picture 40" descr="jindu-lan">
            <a:hlinkClick r:id="rId6" action="ppaction://hlinksldjump"/>
          </p:cNvPr>
          <p:cNvPicPr/>
          <p:nvPr/>
        </p:nvPicPr>
        <p:blipFill>
          <a:blip r:embed="rId7"/>
          <a:stretch/>
        </p:blipFill>
        <p:spPr>
          <a:xfrm>
            <a:off x="4106880" y="6370560"/>
            <a:ext cx="264960" cy="301680"/>
          </a:xfrm>
          <a:prstGeom prst="rect">
            <a:avLst/>
          </a:prstGeom>
          <a:ln w="0">
            <a:noFill/>
          </a:ln>
        </p:spPr>
      </p:pic>
      <p:pic>
        <p:nvPicPr>
          <p:cNvPr id="170" name="Picture 41" descr="jindu-lan"/>
          <p:cNvPicPr/>
          <p:nvPr/>
        </p:nvPicPr>
        <p:blipFill>
          <a:blip r:embed="rId8"/>
          <a:stretch/>
        </p:blipFill>
        <p:spPr>
          <a:xfrm>
            <a:off x="5981760" y="6369120"/>
            <a:ext cx="264960" cy="303120"/>
          </a:xfrm>
          <a:prstGeom prst="rect">
            <a:avLst/>
          </a:prstGeom>
          <a:ln w="0">
            <a:noFill/>
          </a:ln>
        </p:spPr>
      </p:pic>
      <p:pic>
        <p:nvPicPr>
          <p:cNvPr id="171"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172" name="Picture 43" descr="tb-houtui">
            <a:hlinkClick r:id="" action="ppaction://hlinkshowjump?jump=previousslide"/>
          </p:cNvPr>
          <p:cNvPicPr/>
          <p:nvPr/>
        </p:nvPicPr>
        <p:blipFill>
          <a:blip r:embed="rId10"/>
          <a:stretch/>
        </p:blipFill>
        <p:spPr>
          <a:xfrm>
            <a:off x="10401480" y="6383160"/>
            <a:ext cx="615600" cy="524160"/>
          </a:xfrm>
          <a:prstGeom prst="rect">
            <a:avLst/>
          </a:prstGeom>
          <a:ln w="0">
            <a:noFill/>
          </a:ln>
        </p:spPr>
      </p:pic>
      <p:pic>
        <p:nvPicPr>
          <p:cNvPr id="173" name="Picture 44" descr="tb-tuichu">
            <a:hlinkClick r:id="" action="ppaction://hlinkshowjump?jump=endshow"/>
          </p:cNvPr>
          <p:cNvPicPr/>
          <p:nvPr/>
        </p:nvPicPr>
        <p:blipFill>
          <a:blip r:embed="rId11"/>
          <a:stretch/>
        </p:blipFill>
        <p:spPr>
          <a:xfrm>
            <a:off x="11320560" y="6383160"/>
            <a:ext cx="615960" cy="524160"/>
          </a:xfrm>
          <a:prstGeom prst="rect">
            <a:avLst/>
          </a:prstGeom>
          <a:ln w="0">
            <a:noFill/>
          </a:ln>
        </p:spPr>
      </p:pic>
      <p:pic>
        <p:nvPicPr>
          <p:cNvPr id="174" name="Picture 45"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175"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 dur="1000" fill="hold"/>
                                        <p:tgtEl>
                                          <p:spTgt spid="167"/>
                                        </p:tgtEl>
                                      </p:cBhvr>
                                    </p:animMotion>
                                  </p:childTnLst>
                                </p:cTn>
                              </p:par>
                            </p:childTnLst>
                          </p:cTn>
                        </p:par>
                        <p:par>
                          <p:cTn id="36" nodeType="afterEffect" fill="hold">
                            <p:stCondLst>
                              <p:cond delay="1000"/>
                            </p:stCondLst>
                            <p:childTnLst>
                              <p:par>
                                <p:cTn id="3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8" dur="1000" fill="hold"/>
                                        <p:tgtEl>
                                          <p:spTgt spid="1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5" name="Picture 2" descr="bg"/>
          <p:cNvPicPr/>
          <p:nvPr/>
        </p:nvPicPr>
        <p:blipFill>
          <a:blip r:embed="rId1"/>
          <a:stretch/>
        </p:blipFill>
        <p:spPr>
          <a:xfrm>
            <a:off x="-46080" y="-11160"/>
            <a:ext cx="12250800" cy="6918480"/>
          </a:xfrm>
          <a:prstGeom prst="rect">
            <a:avLst/>
          </a:prstGeom>
          <a:ln w="0">
            <a:noFill/>
          </a:ln>
        </p:spPr>
      </p:pic>
      <p:pic>
        <p:nvPicPr>
          <p:cNvPr id="816" name="Picture 3" descr="board"/>
          <p:cNvPicPr/>
          <p:nvPr/>
        </p:nvPicPr>
        <p:blipFill>
          <a:blip r:embed="rId2"/>
          <a:stretch/>
        </p:blipFill>
        <p:spPr>
          <a:xfrm>
            <a:off x="-44280" y="0"/>
            <a:ext cx="12228480" cy="6886440"/>
          </a:xfrm>
          <a:prstGeom prst="rect">
            <a:avLst/>
          </a:prstGeom>
          <a:ln w="0">
            <a:noFill/>
          </a:ln>
        </p:spPr>
      </p:pic>
      <p:sp>
        <p:nvSpPr>
          <p:cNvPr id="817" name="Text Box 14">
            <a:hlinkClick r:id="rId3" action="ppaction://hlinksldjump"/>
          </p:cNvPr>
          <p:cNvSpPr/>
          <p:nvPr/>
        </p:nvSpPr>
        <p:spPr>
          <a:xfrm>
            <a:off x="1907280" y="2438280"/>
            <a:ext cx="1805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颈部保健“米字操”</a:t>
            </a:r>
            <a:endParaRPr b="0" lang="en-US" sz="2600" spc="-1" strike="noStrike">
              <a:solidFill>
                <a:srgbClr val="000000"/>
              </a:solidFill>
              <a:latin typeface="Calibri"/>
            </a:endParaRPr>
          </a:p>
        </p:txBody>
      </p:sp>
      <p:pic>
        <p:nvPicPr>
          <p:cNvPr id="818" name="图片 2" descr="gray-point"/>
          <p:cNvPicPr/>
          <p:nvPr/>
        </p:nvPicPr>
        <p:blipFill>
          <a:blip r:embed="rId4"/>
          <a:stretch/>
        </p:blipFill>
        <p:spPr>
          <a:xfrm>
            <a:off x="1557360" y="2470320"/>
            <a:ext cx="517680" cy="431640"/>
          </a:xfrm>
          <a:prstGeom prst="rect">
            <a:avLst/>
          </a:prstGeom>
          <a:ln w="0">
            <a:noFill/>
          </a:ln>
        </p:spPr>
      </p:pic>
      <p:sp>
        <p:nvSpPr>
          <p:cNvPr id="819"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820" name="Picture 7" descr="2"/>
          <p:cNvPicPr/>
          <p:nvPr/>
        </p:nvPicPr>
        <p:blipFill>
          <a:blip r:embed="rId5"/>
          <a:stretch/>
        </p:blipFill>
        <p:spPr>
          <a:xfrm>
            <a:off x="1938240" y="6273720"/>
            <a:ext cx="4603680" cy="490680"/>
          </a:xfrm>
          <a:prstGeom prst="rect">
            <a:avLst/>
          </a:prstGeom>
          <a:ln w="0">
            <a:noFill/>
          </a:ln>
        </p:spPr>
      </p:pic>
      <p:pic>
        <p:nvPicPr>
          <p:cNvPr id="821"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822" name="铅笔" descr="qianbi"/>
          <p:cNvPicPr/>
          <p:nvPr/>
        </p:nvPicPr>
        <p:blipFill>
          <a:blip r:embed="rId7"/>
          <a:stretch/>
        </p:blipFill>
        <p:spPr>
          <a:xfrm>
            <a:off x="88920" y="6105600"/>
            <a:ext cx="847800" cy="720720"/>
          </a:xfrm>
          <a:prstGeom prst="rect">
            <a:avLst/>
          </a:prstGeom>
          <a:ln w="0">
            <a:noFill/>
          </a:ln>
        </p:spPr>
      </p:pic>
      <p:pic>
        <p:nvPicPr>
          <p:cNvPr id="823" name="Picture 10" descr="jindu-hui"/>
          <p:cNvPicPr/>
          <p:nvPr/>
        </p:nvPicPr>
        <p:blipFill>
          <a:blip r:embed="rId8"/>
          <a:stretch/>
        </p:blipFill>
        <p:spPr>
          <a:xfrm>
            <a:off x="5981760" y="6369120"/>
            <a:ext cx="264960" cy="304560"/>
          </a:xfrm>
          <a:prstGeom prst="rect">
            <a:avLst/>
          </a:prstGeom>
          <a:ln w="0">
            <a:noFill/>
          </a:ln>
        </p:spPr>
      </p:pic>
      <p:pic>
        <p:nvPicPr>
          <p:cNvPr id="824"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825" name="Picture 12" descr="cloud1"/>
          <p:cNvPicPr/>
          <p:nvPr/>
        </p:nvPicPr>
        <p:blipFill>
          <a:blip r:embed="rId10"/>
          <a:stretch/>
        </p:blipFill>
        <p:spPr>
          <a:xfrm>
            <a:off x="163440" y="133200"/>
            <a:ext cx="4510080" cy="1960560"/>
          </a:xfrm>
          <a:prstGeom prst="rect">
            <a:avLst/>
          </a:prstGeom>
          <a:ln w="0">
            <a:noFill/>
          </a:ln>
        </p:spPr>
      </p:pic>
      <p:pic>
        <p:nvPicPr>
          <p:cNvPr id="826" name="Picture 13" descr="cloud1"/>
          <p:cNvPicPr/>
          <p:nvPr/>
        </p:nvPicPr>
        <p:blipFill>
          <a:blip r:embed="rId11"/>
          <a:stretch/>
        </p:blipFill>
        <p:spPr>
          <a:xfrm>
            <a:off x="833400" y="-49320"/>
            <a:ext cx="3144960" cy="1363680"/>
          </a:xfrm>
          <a:prstGeom prst="rect">
            <a:avLst/>
          </a:prstGeom>
          <a:ln w="0">
            <a:noFill/>
          </a:ln>
        </p:spPr>
      </p:pic>
      <p:sp>
        <p:nvSpPr>
          <p:cNvPr id="827" name="Text Box 14"/>
          <p:cNvSpPr/>
          <p:nvPr/>
        </p:nvSpPr>
        <p:spPr>
          <a:xfrm>
            <a:off x="1416960" y="76824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休息</a:t>
            </a:r>
            <a:endParaRPr b="0" lang="en-US" sz="2600" spc="-1" strike="noStrike">
              <a:solidFill>
                <a:srgbClr val="000000"/>
              </a:solidFill>
              <a:latin typeface="Calibri"/>
            </a:endParaRPr>
          </a:p>
        </p:txBody>
      </p:sp>
      <p:grpSp>
        <p:nvGrpSpPr>
          <p:cNvPr id="828" name="Group 15"/>
          <p:cNvGrpSpPr/>
          <p:nvPr/>
        </p:nvGrpSpPr>
        <p:grpSpPr>
          <a:xfrm>
            <a:off x="673200" y="790560"/>
            <a:ext cx="517320" cy="438120"/>
            <a:chOff x="673200" y="790560"/>
            <a:chExt cx="517320" cy="438120"/>
          </a:xfrm>
        </p:grpSpPr>
        <p:pic>
          <p:nvPicPr>
            <p:cNvPr id="829" name="图片 2" descr=""/>
            <p:cNvPicPr/>
            <p:nvPr/>
          </p:nvPicPr>
          <p:blipFill>
            <a:blip r:embed="rId12"/>
            <a:stretch/>
          </p:blipFill>
          <p:spPr>
            <a:xfrm>
              <a:off x="673200" y="795240"/>
              <a:ext cx="517320" cy="433440"/>
            </a:xfrm>
            <a:prstGeom prst="rect">
              <a:avLst/>
            </a:prstGeom>
            <a:ln w="0">
              <a:noFill/>
            </a:ln>
          </p:spPr>
        </p:pic>
        <p:sp>
          <p:nvSpPr>
            <p:cNvPr id="830"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7</a:t>
              </a:r>
              <a:endParaRPr b="0" lang="en-US" sz="2000" spc="-1" strike="noStrike">
                <a:solidFill>
                  <a:srgbClr val="000000"/>
                </a:solidFill>
                <a:latin typeface="Calibri"/>
              </a:endParaRPr>
            </a:p>
          </p:txBody>
        </p:sp>
      </p:grpSp>
      <p:pic>
        <p:nvPicPr>
          <p:cNvPr id="831"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832"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833" name="Text Box 14"/>
          <p:cNvSpPr/>
          <p:nvPr/>
        </p:nvSpPr>
        <p:spPr>
          <a:xfrm>
            <a:off x="2026080" y="31878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活动眼球保健操</a:t>
            </a:r>
            <a:endParaRPr b="0" lang="en-US" sz="2600" spc="-1" strike="noStrike">
              <a:solidFill>
                <a:srgbClr val="000000"/>
              </a:solidFill>
              <a:latin typeface="Calibri"/>
            </a:endParaRPr>
          </a:p>
        </p:txBody>
      </p:sp>
      <p:pic>
        <p:nvPicPr>
          <p:cNvPr id="834" name="图片 2" descr="gray-point"/>
          <p:cNvPicPr/>
          <p:nvPr/>
        </p:nvPicPr>
        <p:blipFill>
          <a:blip r:embed="rId15"/>
          <a:stretch/>
        </p:blipFill>
        <p:spPr>
          <a:xfrm>
            <a:off x="1557360" y="3219480"/>
            <a:ext cx="517680" cy="431640"/>
          </a:xfrm>
          <a:prstGeom prst="rect">
            <a:avLst/>
          </a:prstGeom>
          <a:ln w="0">
            <a:noFill/>
          </a:ln>
        </p:spPr>
      </p:pic>
      <p:sp>
        <p:nvSpPr>
          <p:cNvPr id="835"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836" name="Text Box 14"/>
          <p:cNvSpPr/>
          <p:nvPr/>
        </p:nvSpPr>
        <p:spPr>
          <a:xfrm>
            <a:off x="2224080" y="393696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近视保健操</a:t>
            </a:r>
            <a:endParaRPr b="0" lang="en-US" sz="2600" spc="-1" strike="noStrike">
              <a:solidFill>
                <a:srgbClr val="000000"/>
              </a:solidFill>
              <a:latin typeface="Calibri"/>
            </a:endParaRPr>
          </a:p>
        </p:txBody>
      </p:sp>
      <p:pic>
        <p:nvPicPr>
          <p:cNvPr id="837" name="图片 2" descr="gray-point"/>
          <p:cNvPicPr/>
          <p:nvPr/>
        </p:nvPicPr>
        <p:blipFill>
          <a:blip r:embed="rId16"/>
          <a:stretch/>
        </p:blipFill>
        <p:spPr>
          <a:xfrm>
            <a:off x="1557360" y="3968640"/>
            <a:ext cx="517680" cy="432000"/>
          </a:xfrm>
          <a:prstGeom prst="rect">
            <a:avLst/>
          </a:prstGeom>
          <a:ln w="0">
            <a:noFill/>
          </a:ln>
        </p:spPr>
      </p:pic>
      <p:sp>
        <p:nvSpPr>
          <p:cNvPr id="838"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839" name="Picture 26" descr="tb-xiuxi"/>
          <p:cNvPicPr/>
          <p:nvPr/>
        </p:nvPicPr>
        <p:blipFill>
          <a:blip r:embed="rId17"/>
          <a:stretch/>
        </p:blipFill>
        <p:spPr>
          <a:xfrm>
            <a:off x="9499680" y="6383160"/>
            <a:ext cx="615960" cy="524160"/>
          </a:xfrm>
          <a:prstGeom prst="rect">
            <a:avLst/>
          </a:prstGeom>
          <a:ln w="0">
            <a:noFill/>
          </a:ln>
        </p:spPr>
      </p:pic>
      <p:pic>
        <p:nvPicPr>
          <p:cNvPr id="840" name="Picture 27" descr="jindu-lan"/>
          <p:cNvPicPr/>
          <p:nvPr/>
        </p:nvPicPr>
        <p:blipFill>
          <a:blip r:embed="rId18"/>
          <a:stretch/>
        </p:blipFill>
        <p:spPr>
          <a:xfrm>
            <a:off x="4106880" y="6370560"/>
            <a:ext cx="264960" cy="301680"/>
          </a:xfrm>
          <a:prstGeom prst="rect">
            <a:avLst/>
          </a:prstGeom>
          <a:ln w="0">
            <a:noFill/>
          </a:ln>
        </p:spPr>
      </p:pic>
      <p:pic>
        <p:nvPicPr>
          <p:cNvPr id="841" name="Picture 28" descr="jindu-lan"/>
          <p:cNvPicPr/>
          <p:nvPr/>
        </p:nvPicPr>
        <p:blipFill>
          <a:blip r:embed="rId19"/>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9" dur="1000" fill="hold"/>
                                        <p:tgtEl>
                                          <p:spTgt spid="821"/>
                                        </p:tgtEl>
                                      </p:cBhvr>
                                    </p:animMotion>
                                  </p:childTnLst>
                                </p:cTn>
                              </p:par>
                            </p:childTnLst>
                          </p:cTn>
                        </p:par>
                        <p:par>
                          <p:cTn id="360" nodeType="afterEffect" fill="hold">
                            <p:stCondLst>
                              <p:cond delay="1000"/>
                            </p:stCondLst>
                            <p:childTnLst>
                              <p:par>
                                <p:cTn id="36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62" dur="1000" fill="hold"/>
                                        <p:tgtEl>
                                          <p:spTgt spid="8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2" descr="bg"/>
          <p:cNvPicPr/>
          <p:nvPr/>
        </p:nvPicPr>
        <p:blipFill>
          <a:blip r:embed="rId1"/>
          <a:stretch/>
        </p:blipFill>
        <p:spPr>
          <a:xfrm>
            <a:off x="-46080" y="-11160"/>
            <a:ext cx="12250800" cy="6918480"/>
          </a:xfrm>
          <a:prstGeom prst="rect">
            <a:avLst/>
          </a:prstGeom>
          <a:ln w="0">
            <a:noFill/>
          </a:ln>
        </p:spPr>
      </p:pic>
      <p:pic>
        <p:nvPicPr>
          <p:cNvPr id="843" name="Picture 3" descr="F:\wps ppt work\imgs\tb-houtui.pngtb-houtui">
            <a:hlinkClick r:id="" action="ppaction://hlinkshowjump?jump=previousslide"/>
          </p:cNvPr>
          <p:cNvPicPr/>
          <p:nvPr/>
        </p:nvPicPr>
        <p:blipFill>
          <a:blip r:embed="rId2"/>
          <a:stretch/>
        </p:blipFill>
        <p:spPr>
          <a:xfrm>
            <a:off x="10401480" y="6383160"/>
            <a:ext cx="615600" cy="524160"/>
          </a:xfrm>
          <a:prstGeom prst="rect">
            <a:avLst/>
          </a:prstGeom>
          <a:ln w="0">
            <a:noFill/>
          </a:ln>
        </p:spPr>
      </p:pic>
      <p:pic>
        <p:nvPicPr>
          <p:cNvPr id="844" name="Picture 4" descr="F:\wps ppt work\imgs\tb-tuichu.pngtb-tuichu">
            <a:hlinkClick r:id="" action="ppaction://hlinkshowjump?jump=endshow"/>
          </p:cNvPr>
          <p:cNvPicPr/>
          <p:nvPr/>
        </p:nvPicPr>
        <p:blipFill>
          <a:blip r:embed="rId3"/>
          <a:stretch/>
        </p:blipFill>
        <p:spPr>
          <a:xfrm>
            <a:off x="11320560" y="6383160"/>
            <a:ext cx="615960" cy="524160"/>
          </a:xfrm>
          <a:prstGeom prst="rect">
            <a:avLst/>
          </a:prstGeom>
          <a:ln w="0">
            <a:noFill/>
          </a:ln>
        </p:spPr>
      </p:pic>
      <p:pic>
        <p:nvPicPr>
          <p:cNvPr id="845" name="Picture 5" descr="green-point"/>
          <p:cNvPicPr/>
          <p:nvPr/>
        </p:nvPicPr>
        <p:blipFill>
          <a:blip r:embed="rId4"/>
          <a:stretch/>
        </p:blipFill>
        <p:spPr>
          <a:xfrm>
            <a:off x="-509760" y="-336600"/>
            <a:ext cx="397080" cy="331920"/>
          </a:xfrm>
          <a:prstGeom prst="rect">
            <a:avLst/>
          </a:prstGeom>
          <a:ln w="0">
            <a:noFill/>
          </a:ln>
        </p:spPr>
      </p:pic>
      <p:pic>
        <p:nvPicPr>
          <p:cNvPr id="846" name="Picture 6" descr="green-point"/>
          <p:cNvPicPr/>
          <p:nvPr/>
        </p:nvPicPr>
        <p:blipFill>
          <a:blip r:embed="rId5"/>
          <a:stretch/>
        </p:blipFill>
        <p:spPr>
          <a:xfrm>
            <a:off x="12255480" y="-366840"/>
            <a:ext cx="396720" cy="331920"/>
          </a:xfrm>
          <a:prstGeom prst="rect">
            <a:avLst/>
          </a:prstGeom>
          <a:ln w="0">
            <a:noFill/>
          </a:ln>
        </p:spPr>
      </p:pic>
      <p:pic>
        <p:nvPicPr>
          <p:cNvPr id="847" name="Picture 7" descr="green-point"/>
          <p:cNvPicPr/>
          <p:nvPr/>
        </p:nvPicPr>
        <p:blipFill>
          <a:blip r:embed="rId6"/>
          <a:stretch/>
        </p:blipFill>
        <p:spPr>
          <a:xfrm>
            <a:off x="-571680" y="3143160"/>
            <a:ext cx="397080" cy="331920"/>
          </a:xfrm>
          <a:prstGeom prst="rect">
            <a:avLst/>
          </a:prstGeom>
          <a:ln w="0">
            <a:noFill/>
          </a:ln>
        </p:spPr>
      </p:pic>
      <p:pic>
        <p:nvPicPr>
          <p:cNvPr id="848" name="Picture 8" descr="green-point"/>
          <p:cNvPicPr/>
          <p:nvPr/>
        </p:nvPicPr>
        <p:blipFill>
          <a:blip r:embed="rId7"/>
          <a:stretch/>
        </p:blipFill>
        <p:spPr>
          <a:xfrm>
            <a:off x="5951520" y="-487440"/>
            <a:ext cx="395280" cy="331920"/>
          </a:xfrm>
          <a:prstGeom prst="rect">
            <a:avLst/>
          </a:prstGeom>
          <a:ln w="0">
            <a:noFill/>
          </a:ln>
        </p:spPr>
      </p:pic>
      <p:pic>
        <p:nvPicPr>
          <p:cNvPr id="849" name="Picture 9" descr="green-point"/>
          <p:cNvPicPr/>
          <p:nvPr/>
        </p:nvPicPr>
        <p:blipFill>
          <a:blip r:embed="rId8"/>
          <a:stretch/>
        </p:blipFill>
        <p:spPr>
          <a:xfrm>
            <a:off x="12249000" y="-392040"/>
            <a:ext cx="397080" cy="331560"/>
          </a:xfrm>
          <a:prstGeom prst="rect">
            <a:avLst/>
          </a:prstGeom>
          <a:ln w="0">
            <a:noFill/>
          </a:ln>
        </p:spPr>
      </p:pic>
      <p:pic>
        <p:nvPicPr>
          <p:cNvPr id="850" name="Picture 10" descr="green-point"/>
          <p:cNvPicPr/>
          <p:nvPr/>
        </p:nvPicPr>
        <p:blipFill>
          <a:blip r:embed="rId9"/>
          <a:stretch/>
        </p:blipFill>
        <p:spPr>
          <a:xfrm>
            <a:off x="-554040" y="-285840"/>
            <a:ext cx="395280" cy="328680"/>
          </a:xfrm>
          <a:prstGeom prst="rect">
            <a:avLst/>
          </a:prstGeom>
          <a:ln w="0">
            <a:noFill/>
          </a:ln>
        </p:spPr>
      </p:pic>
      <p:sp>
        <p:nvSpPr>
          <p:cNvPr id="851" name="Text Box 11"/>
          <p:cNvSpPr/>
          <p:nvPr/>
        </p:nvSpPr>
        <p:spPr>
          <a:xfrm>
            <a:off x="3835440" y="2646360"/>
            <a:ext cx="426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请跟随绿点轨迹，运动头部，达到活动颈部的目的。</a:t>
            </a:r>
            <a:endParaRPr b="0" lang="en-US" sz="1800" spc="-1" strike="noStrike">
              <a:solidFill>
                <a:srgbClr val="000000"/>
              </a:solidFill>
              <a:latin typeface="Calibri"/>
            </a:endParaRPr>
          </a:p>
        </p:txBody>
      </p:sp>
      <p:pic>
        <p:nvPicPr>
          <p:cNvPr id="852" name="Picture 12" descr="F:\wps ppt work\imgs\tb-xiuxi.pngtb-xiuxi"/>
          <p:cNvPicPr/>
          <p:nvPr/>
        </p:nvPicPr>
        <p:blipFill>
          <a:blip r:embed="rId10"/>
          <a:stretch/>
        </p:blipFill>
        <p:spPr>
          <a:xfrm>
            <a:off x="949968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path" presetID="0">
                                  <p:stCondLst>
                                    <p:cond delay="0"/>
                                  </p:stCondLst>
                                  <p:childTnLst>
                                    <p:animMotion origin="layout" path="M 0 0 L 1.057552 1.065093 E">
                                      <p:cBhvr>
                                        <p:cTn id="368" dur="1000" fill="hold"/>
                                        <p:tgtEl>
                                          <p:spTgt spid="845"/>
                                        </p:tgtEl>
                                      </p:cBhvr>
                                    </p:animMotion>
                                  </p:childTnLst>
                                </p:cTn>
                              </p:par>
                            </p:childTnLst>
                          </p:cTn>
                        </p:par>
                        <p:par>
                          <p:cTn id="369" nodeType="afterEffect" fill="hold">
                            <p:stCondLst>
                              <p:cond delay="1000"/>
                            </p:stCondLst>
                            <p:childTnLst>
                              <p:par>
                                <p:cTn id="370" nodeType="afterEffect" fill="hold" presetClass="path" presetID="0">
                                  <p:stCondLst>
                                    <p:cond delay="0"/>
                                  </p:stCondLst>
                                  <p:childTnLst>
                                    <p:animMotion origin="layout" path="M 0 0 L -1.06224 1.074352 E">
                                      <p:cBhvr>
                                        <p:cTn id="371" dur="1000" fill="hold"/>
                                        <p:tgtEl>
                                          <p:spTgt spid="846"/>
                                        </p:tgtEl>
                                      </p:cBhvr>
                                    </p:animMotion>
                                  </p:childTnLst>
                                </p:cTn>
                              </p:par>
                            </p:childTnLst>
                          </p:cTn>
                        </p:par>
                        <p:par>
                          <p:cTn id="372" nodeType="afterEffect" fill="hold">
                            <p:stCondLst>
                              <p:cond delay="2000"/>
                            </p:stCondLst>
                            <p:childTnLst>
                              <p:par>
                                <p:cTn id="373" nodeType="afterEffect" fill="hold" presetClass="path" presetID="0">
                                  <p:stCondLst>
                                    <p:cond delay="0"/>
                                  </p:stCondLst>
                                  <p:childTnLst>
                                    <p:animMotion origin="layout" path="M 0 0 L 1.079531 0 E">
                                      <p:cBhvr>
                                        <p:cTn id="374" dur="1000" fill="hold"/>
                                        <p:tgtEl>
                                          <p:spTgt spid="847"/>
                                        </p:tgtEl>
                                      </p:cBhvr>
                                    </p:animMotion>
                                  </p:childTnLst>
                                </p:cTn>
                              </p:par>
                            </p:childTnLst>
                          </p:cTn>
                        </p:par>
                        <p:par>
                          <p:cTn id="375" nodeType="afterEffect" fill="hold">
                            <p:stCondLst>
                              <p:cond delay="3000"/>
                            </p:stCondLst>
                            <p:childTnLst>
                              <p:par>
                                <p:cTn id="376" nodeType="afterEffect" fill="hold" presetClass="path" presetID="0">
                                  <p:stCondLst>
                                    <p:cond delay="0"/>
                                  </p:stCondLst>
                                  <p:childTnLst>
                                    <p:animMotion origin="layout" path="M 0 0 L 0 1.119444 E">
                                      <p:cBhvr>
                                        <p:cTn id="377" dur="1000" fill="hold"/>
                                        <p:tgtEl>
                                          <p:spTgt spid="848"/>
                                        </p:tgtEl>
                                      </p:cBhvr>
                                    </p:animMotion>
                                  </p:childTnLst>
                                </p:cTn>
                              </p:par>
                            </p:childTnLst>
                          </p:cTn>
                        </p:par>
                        <p:par>
                          <p:cTn id="378" nodeType="afterEffect" fill="hold">
                            <p:stCondLst>
                              <p:cond delay="4000"/>
                            </p:stCondLst>
                            <p:childTnLst>
                              <p:par>
                                <p:cTn id="379" nodeType="afterEffect" fill="hold" presetClass="path" presetID="0">
                                  <p:stCondLst>
                                    <p:cond delay="0"/>
                                  </p:stCondLst>
                                  <p:childTnLst>
                                    <p:animMotion origin="layout" path="M 0 0 L -1.06224 1.074352 E">
                                      <p:cBhvr>
                                        <p:cTn id="380" dur="1000" fill="hold"/>
                                        <p:tgtEl>
                                          <p:spTgt spid="849"/>
                                        </p:tgtEl>
                                      </p:cBhvr>
                                    </p:animMotion>
                                  </p:childTnLst>
                                </p:cTn>
                              </p:par>
                            </p:childTnLst>
                          </p:cTn>
                        </p:par>
                        <p:par>
                          <p:cTn id="381" nodeType="afterEffect" fill="hold">
                            <p:stCondLst>
                              <p:cond delay="5000"/>
                            </p:stCondLst>
                            <p:childTnLst>
                              <p:par>
                                <p:cTn id="382" nodeType="afterEffect" fill="hold" presetClass="path" presetID="0">
                                  <p:stCondLst>
                                    <p:cond delay="0"/>
                                  </p:stCondLst>
                                  <p:childTnLst>
                                    <p:animMotion origin="layout" path="M 0 0 L 1.057552 1.065093 E">
                                      <p:cBhvr>
                                        <p:cTn id="383" dur="1000" fill="hold"/>
                                        <p:tgtEl>
                                          <p:spTgt spid="8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2" descr="bg"/>
          <p:cNvPicPr/>
          <p:nvPr/>
        </p:nvPicPr>
        <p:blipFill>
          <a:blip r:embed="rId1"/>
          <a:stretch/>
        </p:blipFill>
        <p:spPr>
          <a:xfrm>
            <a:off x="-46080" y="-11160"/>
            <a:ext cx="12250800" cy="6918480"/>
          </a:xfrm>
          <a:prstGeom prst="rect">
            <a:avLst/>
          </a:prstGeom>
          <a:ln w="0">
            <a:noFill/>
          </a:ln>
        </p:spPr>
      </p:pic>
      <p:pic>
        <p:nvPicPr>
          <p:cNvPr id="854" name="Picture 3" descr="F:\wps ppt work\imgs\tb-houtui.pngtb-houtui">
            <a:hlinkClick r:id="" action="ppaction://hlinkshowjump?jump=previousslide"/>
          </p:cNvPr>
          <p:cNvPicPr/>
          <p:nvPr/>
        </p:nvPicPr>
        <p:blipFill>
          <a:blip r:embed="rId2"/>
          <a:stretch/>
        </p:blipFill>
        <p:spPr>
          <a:xfrm>
            <a:off x="10401480" y="6383160"/>
            <a:ext cx="615600" cy="524160"/>
          </a:xfrm>
          <a:prstGeom prst="rect">
            <a:avLst/>
          </a:prstGeom>
          <a:ln w="0">
            <a:noFill/>
          </a:ln>
        </p:spPr>
      </p:pic>
      <p:pic>
        <p:nvPicPr>
          <p:cNvPr id="855" name="Picture 4" descr="F:\wps ppt work\imgs\tb-tuichu.pngtb-tuichu">
            <a:hlinkClick r:id="" action="ppaction://hlinkshowjump?jump=endshow"/>
          </p:cNvPr>
          <p:cNvPicPr/>
          <p:nvPr/>
        </p:nvPicPr>
        <p:blipFill>
          <a:blip r:embed="rId3"/>
          <a:stretch/>
        </p:blipFill>
        <p:spPr>
          <a:xfrm>
            <a:off x="11320560" y="6383160"/>
            <a:ext cx="615960" cy="524160"/>
          </a:xfrm>
          <a:prstGeom prst="rect">
            <a:avLst/>
          </a:prstGeom>
          <a:ln w="0">
            <a:noFill/>
          </a:ln>
        </p:spPr>
      </p:pic>
      <p:pic>
        <p:nvPicPr>
          <p:cNvPr id="856" name="Picture 5" descr="green-point"/>
          <p:cNvPicPr/>
          <p:nvPr/>
        </p:nvPicPr>
        <p:blipFill>
          <a:blip r:embed="rId4"/>
          <a:stretch/>
        </p:blipFill>
        <p:spPr>
          <a:xfrm>
            <a:off x="-885960" y="2492280"/>
            <a:ext cx="397080" cy="331920"/>
          </a:xfrm>
          <a:prstGeom prst="rect">
            <a:avLst/>
          </a:prstGeom>
          <a:ln w="0">
            <a:noFill/>
          </a:ln>
        </p:spPr>
      </p:pic>
      <p:sp>
        <p:nvSpPr>
          <p:cNvPr id="857" name="Text Box 6"/>
          <p:cNvSpPr/>
          <p:nvPr/>
        </p:nvSpPr>
        <p:spPr>
          <a:xfrm>
            <a:off x="3835440" y="2646360"/>
            <a:ext cx="426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请跟随绿点轨迹，运动眼球，达到活动眼球的目的。</a:t>
            </a:r>
            <a:endParaRPr b="0" lang="en-US" sz="1800" spc="-1" strike="noStrike">
              <a:solidFill>
                <a:srgbClr val="000000"/>
              </a:solidFill>
              <a:latin typeface="Calibri"/>
            </a:endParaRPr>
          </a:p>
        </p:txBody>
      </p:sp>
      <p:pic>
        <p:nvPicPr>
          <p:cNvPr id="858" name="Picture 7" descr="green-point"/>
          <p:cNvPicPr/>
          <p:nvPr/>
        </p:nvPicPr>
        <p:blipFill>
          <a:blip r:embed="rId5"/>
          <a:stretch/>
        </p:blipFill>
        <p:spPr>
          <a:xfrm>
            <a:off x="-714240" y="-266760"/>
            <a:ext cx="396720" cy="328680"/>
          </a:xfrm>
          <a:prstGeom prst="rect">
            <a:avLst/>
          </a:prstGeom>
          <a:ln w="0">
            <a:noFill/>
          </a:ln>
        </p:spPr>
      </p:pic>
      <p:pic>
        <p:nvPicPr>
          <p:cNvPr id="859" name="Picture 8" descr="green-point"/>
          <p:cNvPicPr/>
          <p:nvPr/>
        </p:nvPicPr>
        <p:blipFill>
          <a:blip r:embed="rId6"/>
          <a:stretch/>
        </p:blipFill>
        <p:spPr>
          <a:xfrm>
            <a:off x="-771480" y="5711760"/>
            <a:ext cx="396720" cy="331920"/>
          </a:xfrm>
          <a:prstGeom prst="rect">
            <a:avLst/>
          </a:prstGeom>
          <a:ln w="0">
            <a:noFill/>
          </a:ln>
        </p:spPr>
      </p:pic>
      <p:pic>
        <p:nvPicPr>
          <p:cNvPr id="860" name="Picture 9" descr="green-point"/>
          <p:cNvPicPr/>
          <p:nvPr/>
        </p:nvPicPr>
        <p:blipFill>
          <a:blip r:embed="rId7"/>
          <a:stretch/>
        </p:blipFill>
        <p:spPr>
          <a:xfrm>
            <a:off x="2311560" y="-781200"/>
            <a:ext cx="396720" cy="331920"/>
          </a:xfrm>
          <a:prstGeom prst="rect">
            <a:avLst/>
          </a:prstGeom>
          <a:ln w="0">
            <a:noFill/>
          </a:ln>
        </p:spPr>
      </p:pic>
      <p:pic>
        <p:nvPicPr>
          <p:cNvPr id="861" name="Picture 10" descr="green-point"/>
          <p:cNvPicPr/>
          <p:nvPr/>
        </p:nvPicPr>
        <p:blipFill>
          <a:blip r:embed="rId8"/>
          <a:stretch/>
        </p:blipFill>
        <p:spPr>
          <a:xfrm>
            <a:off x="5702400" y="-895320"/>
            <a:ext cx="396720" cy="331920"/>
          </a:xfrm>
          <a:prstGeom prst="rect">
            <a:avLst/>
          </a:prstGeom>
          <a:ln w="0">
            <a:noFill/>
          </a:ln>
        </p:spPr>
      </p:pic>
      <p:pic>
        <p:nvPicPr>
          <p:cNvPr id="862" name="Picture 11" descr="green-point"/>
          <p:cNvPicPr/>
          <p:nvPr/>
        </p:nvPicPr>
        <p:blipFill>
          <a:blip r:embed="rId9"/>
          <a:stretch/>
        </p:blipFill>
        <p:spPr>
          <a:xfrm>
            <a:off x="8769240" y="-819000"/>
            <a:ext cx="397080" cy="331560"/>
          </a:xfrm>
          <a:prstGeom prst="rect">
            <a:avLst/>
          </a:prstGeom>
          <a:ln w="0">
            <a:noFill/>
          </a:ln>
        </p:spPr>
      </p:pic>
      <p:pic>
        <p:nvPicPr>
          <p:cNvPr id="863" name="Picture 12" descr="green-point"/>
          <p:cNvPicPr/>
          <p:nvPr/>
        </p:nvPicPr>
        <p:blipFill>
          <a:blip r:embed="rId10"/>
          <a:stretch/>
        </p:blipFill>
        <p:spPr>
          <a:xfrm>
            <a:off x="12465000" y="-133200"/>
            <a:ext cx="397080" cy="328320"/>
          </a:xfrm>
          <a:prstGeom prst="rect">
            <a:avLst/>
          </a:prstGeom>
          <a:ln w="0">
            <a:noFill/>
          </a:ln>
        </p:spPr>
      </p:pic>
      <p:pic>
        <p:nvPicPr>
          <p:cNvPr id="864" name="Picture 13" descr="green-point"/>
          <p:cNvPicPr/>
          <p:nvPr/>
        </p:nvPicPr>
        <p:blipFill>
          <a:blip r:embed="rId11"/>
          <a:stretch/>
        </p:blipFill>
        <p:spPr>
          <a:xfrm>
            <a:off x="12445920" y="2359080"/>
            <a:ext cx="397080" cy="331560"/>
          </a:xfrm>
          <a:prstGeom prst="rect">
            <a:avLst/>
          </a:prstGeom>
          <a:ln w="0">
            <a:noFill/>
          </a:ln>
        </p:spPr>
      </p:pic>
      <p:pic>
        <p:nvPicPr>
          <p:cNvPr id="865" name="Picture 14" descr="green-point"/>
          <p:cNvPicPr/>
          <p:nvPr/>
        </p:nvPicPr>
        <p:blipFill>
          <a:blip r:embed="rId12"/>
          <a:stretch/>
        </p:blipFill>
        <p:spPr>
          <a:xfrm>
            <a:off x="12560400" y="5197320"/>
            <a:ext cx="396720" cy="331920"/>
          </a:xfrm>
          <a:prstGeom prst="rect">
            <a:avLst/>
          </a:prstGeom>
          <a:ln w="0">
            <a:noFill/>
          </a:ln>
        </p:spPr>
      </p:pic>
      <p:pic>
        <p:nvPicPr>
          <p:cNvPr id="866" name="Picture 15" descr="green-point"/>
          <p:cNvPicPr/>
          <p:nvPr/>
        </p:nvPicPr>
        <p:blipFill>
          <a:blip r:embed="rId13"/>
          <a:stretch/>
        </p:blipFill>
        <p:spPr>
          <a:xfrm>
            <a:off x="9766440" y="7332840"/>
            <a:ext cx="396720" cy="330120"/>
          </a:xfrm>
          <a:prstGeom prst="rect">
            <a:avLst/>
          </a:prstGeom>
          <a:ln w="0">
            <a:noFill/>
          </a:ln>
        </p:spPr>
      </p:pic>
      <p:pic>
        <p:nvPicPr>
          <p:cNvPr id="867" name="Picture 16" descr="green-point"/>
          <p:cNvPicPr/>
          <p:nvPr/>
        </p:nvPicPr>
        <p:blipFill>
          <a:blip r:embed="rId14"/>
          <a:stretch/>
        </p:blipFill>
        <p:spPr>
          <a:xfrm>
            <a:off x="7048440" y="7434360"/>
            <a:ext cx="397080" cy="331560"/>
          </a:xfrm>
          <a:prstGeom prst="rect">
            <a:avLst/>
          </a:prstGeom>
          <a:ln w="0">
            <a:noFill/>
          </a:ln>
        </p:spPr>
      </p:pic>
      <p:pic>
        <p:nvPicPr>
          <p:cNvPr id="868" name="Picture 17" descr="green-point"/>
          <p:cNvPicPr/>
          <p:nvPr/>
        </p:nvPicPr>
        <p:blipFill>
          <a:blip r:embed="rId15"/>
          <a:stretch/>
        </p:blipFill>
        <p:spPr>
          <a:xfrm>
            <a:off x="3289320" y="7408800"/>
            <a:ext cx="396720" cy="331920"/>
          </a:xfrm>
          <a:prstGeom prst="rect">
            <a:avLst/>
          </a:prstGeom>
          <a:ln w="0">
            <a:noFill/>
          </a:ln>
        </p:spPr>
      </p:pic>
      <p:pic>
        <p:nvPicPr>
          <p:cNvPr id="869" name="Picture 18" descr="F:\wps ppt work\imgs\tb-xiuxi.pngtb-xiuxi"/>
          <p:cNvPicPr/>
          <p:nvPr/>
        </p:nvPicPr>
        <p:blipFill>
          <a:blip r:embed="rId16"/>
          <a:stretch/>
        </p:blipFill>
        <p:spPr>
          <a:xfrm>
            <a:off x="949968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afterEffect" fill="hold" presetClass="path" presetID="0">
                                  <p:stCondLst>
                                    <p:cond delay="0"/>
                                  </p:stCondLst>
                                  <p:childTnLst>
                                    <p:animMotion origin="layout" path="M 0.004948 0.028611 C 0.00599 0.028611 0.00842 0.027377 0.011198 0.028611 C 0.013976 0.029846 0.018498 0.034167 0.021615 0.036019 C 0.024731 0.03787 0.026432 0.03787 0.029896 0.039722 C 0.033359 0.041574 0.035799 0.042191 0.042396 0.04713 C 0.048993 0.052068 0.062535 0.064414 0.069479 0.069352 C 0.076424 0.07429 0.077465 0.072438 0.084063 0.076759 C 0.09066 0.08108 0.102812 0.090957 0.109063 0.095278 C 0.115312 0.099599 0.11704 0.099599 0.121563 0.102685 C 0.126085 0.105772 0.132023 0.11071 0.136198 0.113796 C 0.140373 0.116883 0.143142 0.118735 0.146615 0.121204 C 0.150087 0.123673 0.153906 0.125525 0.157031 0.128611 C 0.160156 0.131698 0.16224 0.135401 0.165365 0.139722 C 0.16849 0.144043 0.172656 0.150216 0.175781 0.154537 C 0.178906 0.158858 0.181337 0.161944 0.184115 0.165648 C 0.186892 0.169352 0.18967 0.173071 0.192448 0.176759 C 0.195226 0.180448 0.197656 0.183472 0.200781 0.187778 C 0.203906 0.192083 0.207726 0.198272 0.211198 0.202593 C 0.21467 0.206914 0.217795 0.21 0.221615 0.213704 C 0.225434 0.217407 0.229601 0.221111 0.234115 0.224815 C 0.238628 0.228518 0.241753 0.228519 0.248698 0.235926 C 0.255642 0.243333 0.269531 0.261235 0.275781 0.269259 C 0.282031 0.277284 0.282031 0.278519 0.286198 0.284074 C 0.290365 0.28963 0.29592 0.295802 0.300781 0.302593 C 0.305642 0.309383 0.310851 0.318642 0.315365 0.324815 C 0.319878 0.330988 0.323351 0.334691 0.327865 0.33963 C 0.332378 0.344568 0.337595 0.348873 0.342448 0.354444 C 0.3473 0.360015 0.352474 0.366867 0.356979 0.373056 C 0.361484 0.379244 0.364965 0.386019 0.369479 0.391574 C 0.373993 0.39713 0.379201 0.401451 0.384062 0.406389 C 0.388924 0.411327 0.39309 0.4175 0.398646 0.421204 C 0.404201 0.424907 0.41184 0.425525 0.417396 0.428611 C 0.422951 0.431697 0.421562 0.431697 0.431979 0.439722 C 0.442396 0.447747 0.469132 0.468735 0.479896 0.476759 C 0.49066 0.484784 0.491007 0.483549 0.496563 0.48787 C 0.502118 0.492191 0.508368 0.49713 0.513229 0.502685 C 0.51809 0.508241 0.520868 0.515648 0.525729 0.521204 C 0.53059 0.526759 0.537188 0.531698 0.542396 0.536018 C 0.547604 0.540339 0.552457 0.544043 0.556979 0.54713 C 0.561502 0.550216 0.565703 0.552068 0.569531 0.554537 C 0.573359 0.557006 0.575781 0.558858 0.579948 0.561944 C 0.584114 0.565031 0.590365 0.569969 0.594531 0.573056 C 0.598698 0.576142 0.601128 0.577376 0.604948 0.580463 C 0.608767 0.583549 0.611545 0.584167 0.617448 0.591574 C 0.623351 0.598981 0.634462 0.616883 0.640365 0.624907 C 0.646267 0.632932 0.649045 0.634784 0.652865 0.639722 C 0.656684 0.64466 0.659462 0.649599 0.663281 0.654537 C 0.667101 0.659475 0.671962 0.665031 0.675781 0.669352 C 0.679601 0.673673 0.68342 0.676759 0.686198 0.680463 C 0.688976 0.684167 0.690365 0.688488 0.692448 0.691574 C 0.694531 0.69466 0.696615 0.695895 0.698698 0.698981 C 0.700781 0.702068 0.702865 0.707006 0.704948 0.710093 C 0.707031 0.713179 0.70842 0.714414 0.711198 0.7175 C 0.713976 0.720586 0.71849 0.724907 0.721615 0.728611 C 0.724739 0.732315 0.727517 0.736034 0.729948 0.739722 C 0.732378 0.74341 0.73342 0.747052 0.736198 0.750741 C 0.738976 0.754429 0.742448 0.758148 0.746615 0.761852 C 0.750781 0.765555 0.757378 0.769876 0.761198 0.772963 C 0.765017 0.776049 0.765712 0.777901 0.769531 0.78037 C 0.773351 0.782839 0.780642 0.785309 0.784115 0.787778 C 0.787587 0.790247 0.786198 0.791481 0.790365 0.795185 C 0.794531 0.798889 0.804601 0.806296 0.809115 0.81 C 0.813628 0.813704 0.815017 0.815556 0.817448 0.817407 C 0.819878 0.819259 0.819878 0.818642 0.823698 0.821111 C 0.827517 0.82358 0.835851 0.829753 0.840365 0.832222 C 0.844878 0.834691 0.847309 0.833457 0.850781 0.835926 C 0.854253 0.838395 0.857726 0.843333 0.861198 0.847037 C 0.86467 0.850741 0.867448 0.855062 0.871615 0.858148 C 0.875781 0.861235 0.882378 0.863086 0.886198 0.865556 C 0.890017 0.868025 0.891406 0.871111 0.894531 0.872963 C 0.897656 0.874815 0.901476 0.874815 0.904948 0.876667 C 0.90842 0.878518 0.91224 0.882222 0.915365 0.884074 C 0.91849 0.885926 0.920573 0.885309 0.923698 0.887778 C 0.926823 0.890247 0.931337 0.895185 0.934115 0.898889 C 0.936892 0.902592 0.937934 0.906914 0.940365 0.91 C 0.942795 0.913086 0.94592 0.914321 0.948698 0.917407 C 0.951476 0.920494 0.954601 0.926049 0.957031 0.928519 C 0.959462 0.930988 0.961545 0.929753 0.963281 0.932222 C 0.965017 0.934691 0.965365 0.940247 0.967448 0.943333 C 0.969531 0.94642 0.973351 0.948272 0.975781 0.950741 C 0.978212 0.95321 0.979609 0.955062 0.982031 0.958148 C 0.984453 0.961235 0.987891 0.966173 0.990313 0.969259 C 0.992734 0.972346 0.994132 0.97358 0.996562 0.976667 C 0.998993 0.979753 1.002118 0.985309 1.004896 0.987778 C 1.007674 0.990247 1.010799 0.990247 1.013229 0.991481 C 1.01566 0.992716 1.017396 0.993333 1.019479 0.995185 C 1.021562 0.997037 1.022951 0.998889 1.025729 1.002593 C 1.028507 1.006296 1.032673 1.013704 1.036146 1.017407 C 1.039618 1.021111 1.043785 1.022963 1.046563 1.024815 C 1.04934 1.026667 1.050382 1.026049 1.052812 1.028519 C 1.055243 1.030988 1.058715 1.036543 1.061146 1.03963 C 1.063576 1.042716 1.06809 1.04642 1.067396 1.047037 C 1.066701 1.047654 1.061493 1.045802 1.056979 1.043333 C 1.052465 1.040864 1.044479 1.035309 1.040313 1.032222 C 1.036146 1.029136 1.03684 1.027901 1.031979 1.024815 C 1.027118 1.021728 1.01566 1.016173 1.011146 1.013704 C 1.006632 1.011235 1.007326 1.011852 1.004896 1.01 C 1.002465 1.008148 1.000026 1.005062 0.996562 1.002593 C 0.993099 1.000123 0.987231 0.997654 0.984115 0.995185 C 0.980998 0.992716 0.980642 0.98963 0.977865 0.987778 C 0.975087 0.985926 0.971267 0.986543 0.967448 0.984074 C 0.963628 0.981605 0.958767 0.976049 0.954948 0.972963 C 0.951128 0.969876 0.949045 0.968642 0.944531 0.965556 C 0.940017 0.962469 0.932031 0.956914 0.927865 0.954444 C 0.923698 0.951975 0.922309 0.952592 0.919531 0.950741 C 0.916753 0.948889 0.914323 0.94642 0.911198 0.943333 C 0.908073 0.940247 0.903559 0.934691 0.900781 0.932222 C 0.898003 0.929753 0.896962 0.929753 0.894531 0.928519 C 0.892101 0.927284 0.888976 0.926667 0.886198 0.924815 C 0.88342 0.922963 0.880642 0.919259 0.877865 0.917407 C 0.875087 0.915556 0.872656 0.916173 0.869531 0.913704 C 0.866406 0.911235 0.862934 0.905679 0.859115 0.902593 C 0.855295 0.899506 0.849739 0.897654 0.846615 0.895185 C 0.84349 0.892716 0.842795 0.890864 0.840365 0.887778 C 0.837934 0.884691 0.834462 0.879753 0.832031 0.876667 C 0.829601 0.87358 0.829253 0.87358 0.825781 0.869259 C 0.822309 0.864938 0.815017 0.856296 0.811198 0.850741 C 0.807378 0.845185 0.807031 0.841481 0.802865 0.835926 C 0.798698 0.83037 0.790365 0.822963 0.786198 0.817407 C 0.782031 0.811852 0.780642 0.806296 0.777865 0.802593 C 0.775087 0.798889 0.773351 0.798272 0.769531 0.795185 C 0.765712 0.792099 0.758767 0.78716 0.754948 0.784074 C 0.751128 0.780988 0.749045 0.779753 0.746615 0.776667 C 0.744184 0.77358 0.742448 0.769259 0.740365 0.765556 C 0.738281 0.761852 0.736545 0.758133 0.734115 0.754444 C 0.731684 0.750756 0.728559 0.747114 0.725781 0.743426 C 0.723003 0.739738 0.720226 0.736018 0.717448 0.732315 C 0.71467 0.728611 0.711892 0.724907 0.709115 0.721204 C 0.706337 0.7175 0.703559 0.713796 0.700781 0.710093 C 0.698003 0.706389 0.695226 0.702685 0.692448 0.698981 C 0.68967 0.695278 0.686545 0.690957 0.684115 0.68787 C 0.681684 0.684784 0.68099 0.684784 0.677865 0.680463 C 0.67474 0.676142 0.668837 0.666265 0.665365 0.661944 C 0.661892 0.657623 0.660503 0.658858 0.657031 0.654537 C 0.653559 0.650216 0.648003 0.640957 0.644531 0.636019 C 0.641059 0.63108 0.641059 0.629846 0.636198 0.624907 C 0.631337 0.619969 0.62092 0.611327 0.615365 0.606389 C 0.609809 0.601451 0.608767 0.600216 0.602865 0.595278 C 0.596962 0.590339 0.585156 0.58108 0.579948 0.576759 C 0.57474 0.572438 0.57474 0.571204 0.571615 0.569352 C 0.56849 0.5675 0.565373 0.568117 0.561198 0.565648 C 0.557023 0.563179 0.550043 0.557006 0.546562 0.554537 C 0.543082 0.552068 0.542396 0.552685 0.540313 0.550833 C 0.538229 0.548981 0.536146 0.546512 0.534063 0.543426 C 0.531979 0.540339 0.53059 0.535401 0.527812 0.532315 C 0.525035 0.529228 0.520868 0.527994 0.517396 0.524907 C 0.513924 0.521821 0.510799 0.518117 0.506979 0.513796 C 0.50316 0.509475 0.498993 0.50392 0.494479 0.498981 C 0.489965 0.494043 0.484062 0.488488 0.479896 0.484167 C 0.475729 0.479846 0.472604 0.476759 0.469479 0.473056 C 0.466354 0.469352 0.463924 0.465648 0.461146 0.461944 C 0.458368 0.458241 0.457326 0.455772 0.452812 0.450833 C 0.448299 0.445895 0.438229 0.437253 0.434063 0.432315 C 0.429896 0.427376 0.433715 0.428611 0.427812 0.421204 C 0.42191 0.413796 0.404896 0.395278 0.398646 0.38787 C 0.392396 0.380463 0.394826 0.38233 0.390312 0.376759 C 0.385799 0.371188 0.376424 0.360015 0.371563 0.354444 C 0.366701 0.348873 0.366345 0.348889 0.361146 0.343333 C 0.355946 0.337778 0.345564 0.326667 0.340365 0.321111 C 0.335165 0.315556 0.333073 0.313086 0.329948 0.31 C 0.326823 0.306914 0.325087 0.305679 0.321615 0.302593 C 0.318142 0.299506 0.312934 0.295802 0.309115 0.291481 C 0.305295 0.28716 0.30217 0.281605 0.298698 0.276667 C 0.295226 0.271728 0.291753 0.266173 0.288281 0.261852 C 0.284809 0.257531 0.280642 0.254444 0.277865 0.250741 C 0.275087 0.247037 0.274045 0.243951 0.271615 0.23963 C 0.269184 0.235309 0.266406 0.229753 0.263281 0.224815 C 0.260156 0.219877 0.256337 0.214938 0.252865 0.21 C 0.249392 0.205062 0.246267 0.200123 0.242448 0.195185 C 0.238628 0.190247 0.235156 0.186528 0.229948 0.18037 C 0.22474 0.174213 0.215712 0.163781 0.211198 0.158241 C 0.206684 0.152701 0.206684 0.15392 0.202865 0.14713 C 0.199045 0.140339 0.191753 0.123673 0.188281 0.1175 C 0.184809 0.111327 0.185156 0.113796 0.182031 0.110093 C 0.178906 0.106389 0.17474 0.101451 0.169531 0.095278 C 0.164323 0.089105 0.154948 0.077377 0.150781 0.073056 C 0.146615 0.068735 0.146615 0.071821 0.144531 0.069352 C 0.142448 0.066883 0.140373 0.061327 0.138281 0.058241 C 0.136189 0.055154 0.134766 0.05392 0.131979 0.050833 C 0.129193 0.047747 0.12434 0.043426 0.121563 0.039722 C 0.118785 0.036019 0.11809 0.031698 0.115313 0.028611 C 0.112535 0.025525 0.107674 0.022438 0.104896 0.021204 C 0.102118 0.019969 0.101076 0.022438 0.098646 0.021204 C 0.096215 0.019969 0.093437 0.015648 0.090313 0.013796 C 0.087187 0.011944 0.083368 0.011944 0.079896 0.010093 C 0.076424 0.008241 0.072604 0.005772 0.069479 0.002685 C 0.066354 -0.000401 0.064271 -0.005941 0.061146 -0.008426 C 0.058021 -0.010911 0.054201 -0.010355 0.050729 -0.012222 C 0.047257 -0.01409 0.04309 -0.017778 0.040312 -0.01963 C 0.037535 -0.021481 0.036484 -0.021482 0.034063 -0.023333 C 0.031641 -0.025185 0.028203 -0.028889 0.025781 -0.030741 C 0.023359 -0.032593 0.022309 -0.033827 0.019531 -0.034444 C 0.016753 -0.035062 0.01224 -0.033827 0.009115 -0.034444 C 0.00599 -0.035062 0.003212 -0.037531 0.000781 -0.038148 C -0.001649 -0.038765 -0.006163 -0.039383 -0.005469 -0.038148 C -0.004774 -0.036914 0.001476 -0.032593 0.004948 -0.030741 C 0.00842 -0.028889 0.011892 -0.028889 0.015365 -0.027037 C 0.018837 -0.025185 0.021623 -0.022099 0.025781 -0.01963 C 0.029939 -0.017161 0.035807 -0.015324 0.040312 -0.012222 C 0.044818 -0.00912 0.047951 -0.005355 0.052813 -0.001019 C 0.057674 0.003318 0.064271 0.009475 0.069479 0.013796 C 0.074687 0.018117 0.078507 0.021821 0.084063 0.024907 C 0.089618 0.027994 0.09691 0.028611 0.102812 0.032315 C 0.108715 0.036018 0.113568 0.042191 0.119479 0.04713 C 0.125391 0.052068 0.13237 0.057623 0.138281 0.061944 C 0.144193 0.066265 0.14974 0.068735 0.154948 0.073056 C 0.160156 0.077377 0.160503 0.08108 0.169531 0.08787 C 0.178559 0.09466 0.199392 0.107623 0.209115 0.113796 C 0.218837 0.119969 0.21467 0.113812 0.227865 0.124907 C 0.241059 0.136003 0.268837 0.158781 0.288281 0.18037 C 0.307726 0.20196 0.327873 0.236543 0.344531 0.254444 C 0.361189 0.272346 0.378168 0.279136 0.388229 0.287778 C 0.39829 0.29642 0.398993 0.300741 0.404896 0.306296 C 0.410799 0.311852 0.41809 0.31679 0.423646 0.321111 C 0.429201 0.325432 0.433021 0.327284 0.438229 0.332222 C 0.443437 0.33716 0.44934 0.345185 0.454896 0.350741 C 0.460451 0.356296 0.46566 0.359985 0.471563 0.365556 C 0.477465 0.371126 0.48441 0.377361 0.490312 0.384167 C 0.496215 0.390972 0.502118 0.399599 0.506979 0.406389 C 0.51184 0.413179 0.514618 0.418117 0.519479 0.424907 C 0.52434 0.431697 0.53059 0.439722 0.536146 0.44713 C 0.541701 0.454537 0.547943 0.463179 0.552813 0.469352 C 0.557682 0.475525 0.559453 0.476759 0.565365 0.484167 C 0.571276 0.491574 0.582378 0.506389 0.588281 0.513796 C 0.594184 0.521204 0.59592 0.521821 0.600781 0.528611 C 0.605642 0.535401 0.612587 0.547747 0.617448 0.554537 C 0.622309 0.561327 0.622656 0.559475 0.629948 0.569352 C 0.63724 0.579228 0.653559 0.603302 0.661198 0.613796 C 0.668837 0.62429 0.668142 0.621821 0.675781 0.632315 C 0.68342 0.642809 0.69974 0.666883 0.707031 0.676759 C 0.714323 0.686636 0.713976 0.684167 0.719531 0.691574 C 0.725087 0.698981 0.735156 0.714414 0.740365 0.721204 C 0.745573 0.727994 0.746962 0.729228 0.750781 0.732315 C 0.754601 0.735401 0.759115 0.736651 0.763281 0.739722 C 0.767448 0.742793 0.771615 0.74767 0.775781 0.750741 C 0.779948 0.753812 0.783767 0.755062 0.788281 0.758148 C 0.792795 0.761235 0.798351 0.766173 0.802865 0.769259 C 0.807378 0.772346 0.811198 0.77358 0.815365 0.776667 C 0.819531 0.779753 0.824045 0.783457 0.827865 0.787778 C 0.831684 0.792099 0.835503 0.798272 0.838281 0.802593 C 0.841059 0.806913 0.842448 0.81 0.844531 0.813704 C 0.846614 0.817407 0.848351 0.821728 0.850781 0.824815 C 0.853212 0.827901 0.855642 0.828519 0.859115 0.832222 C 0.862587 0.835926 0.86849 0.843333 0.871615 0.847037 C 0.874739 0.850741 0.874045 0.849506 0.877865 0.854444 C 0.881684 0.859383 0.890712 0.871728 0.894531 0.876667 C 0.898351 0.881605 0.897309 0.881605 0.900781 0.884074 C 0.904253 0.886543 0.911545 0.889012 0.915365 0.891481 C 0.919184 0.893951 0.92092 0.89642 0.923698 0.898889 C 0.926476 0.901358 0.929601 0.903827 0.932031 0.906296 C 0.934462 0.908765 0.935503 0.91 0.938281 0.913704 C 0.941059 0.917407 0.94592 0.924815 0.948698 0.928519 C 0.951476 0.932222 0.952865 0.933457 0.954948 0.935926 C 0.957031 0.938395 0.958767 0.940864 0.961198 0.943333 C 0.963628 0.945802 0.967101 0.947654 0.969531 0.950741 C 0.971962 0.953827 0.97197 0.956296 0.975781 0.961852 C 0.979592 0.967407 0.987891 0.978519 0.992396 0.984074 C 0.996901 0.98963 0.999687 0.991481 1.002813 0.995185 C 1.005937 0.998889 1.008368 1.00321 1.011146 1.006296 C 1.013924 1.009383 1.016701 1.010617 1.019479 1.013704 C 1.022257 1.01679 1.025382 1.021728 1.027812 1.024815 C 1.030243 1.027901 1.031979 1.03037 1.034063 1.032222 C 1.036146 1.034074 1.037882 1.033457 1.040313 1.035926 C 1.042743 1.038395 1.044479 1.042716 1.048646 1.047037 C 1.052812 1.051358 1.060104 1.055679 1.065313 1.061852 C 1.070521 1.068025 1.074687 1.077901 1.079896 1.084074 C 1.085104 1.090247 1.091007 1.095185 1.096563 1.098889 C 1.102118 1.102592 1.107674 1.10321 1.113229 1.106296 C 1.118785 1.109383 1.125382 1.114321 1.129896 1.117407 C 1.13441 1.120494 1.13684 1.12233 1.140313 1.124815 C 1.143785 1.127299 1.147951 1.131065 1.150729 1.132315 C 1.153507 1.133565 1.157326 1.132932 1.156979 1.132315 C 1.156632 1.131697 1.151076 1.129228 1.148646 1.128611 C 1.146215 1.127994 1.144479 1.129861 1.142396 1.128611 C 1.140313 1.127361 1.138229 1.122978 1.136146 1.121111 C 1.134063 1.119244 1.132674 1.119259 1.129896 1.117407 C 1.127118 1.115556 1.122604 1.111852 1.119479 1.11 C 1.116354 1.108148 1.113924 1.107531 1.111146 1.106296 C 1.108368 1.105062 1.105243 1.104444 1.102813 1.102593 C 1.100382 1.100741 1.098993 1.097037 1.096563 1.095185 C 1.094132 1.093333 1.09066 1.093333 1.088229 1.091481 C 1.085799 1.08963 1.08441 1.086543 1.081979 1.084074 C 1.079548 1.081605 1.075729 1.079753 1.073646 1.076667 C 1.071563 1.07358 1.071562 1.069259 1.069479 1.065556 C 1.067396 1.061852 1.064271 1.058148 1.061146 1.054444 C 1.058021 1.050741 1.054201 1.047654 1.050729 1.043333 C 1.047257 1.039012 1.044479 1.033457 1.040313 1.028519 C 1.036146 1.02358 1.03059 1.018025 1.025729 1.013704 C 1.020868 1.009383 1.016354 1.006296 1.011146 1.002593 C 1.005937 0.998889 0.999679 0.995802 0.994479 0.991481 C 0.98928 0.98716 0.985147 0.980988 0.979948 0.976667 C 0.974748 0.972346 0.968489 0.969259 0.963281 0.965556 C 0.958073 0.961852 0.953559 0.957531 0.948698 0.954444 C 0.943837 0.951358 0.938281 0.949506 0.934115 0.947037 C 0.929948 0.944568 0.927864 0.942716 0.923698 0.93963 C 0.919531 0.936543 0.916753 0.935926 0.909115 0.928519 C 0.901476 0.921111 0.885503 0.90321 0.877865 0.895185 C 0.870226 0.88716 0.868142 0.885926 0.863281 0.88037 C 0.85842 0.874815 0.853212 0.867407 0.848698 0.861852 C 0.844184 0.856296 0.840365 0.851975 0.836198 0.847037 C 0.832031 0.842099 0.826823 0.835926 0.823698 0.832222 C 0.820573 0.828519 0.819878 0.827284 0.817448 0.824815 C 0.815017 0.822346 0.811892 0.819876 0.809115 0.817407 C 0.806337 0.814938 0.804253 0.814938 0.800781 0.81 C 0.797309 0.805062 0.791753 0.793333 0.788281 0.787778 C 0.784809 0.782222 0.782378 0.779753 0.779948 0.776667 C 0.777517 0.77358 0.778906 0.775417 0.773698 0.769259 C 0.76849 0.763102 0.754601 0.746497 0.748698 0.739722 C 0.742795 0.732948 0.744531 0.736018 0.738281 0.728611 C 0.732031 0.721204 0.717101 0.703302 0.711198 0.695278 C 0.705295 0.687253 0.708073 0.686018 0.702865 0.680463 C 0.697656 0.674907 0.685156 0.6675 0.679948 0.661944 C 0.67474 0.656389 0.675434 0.653302 0.671615 0.64713 C 0.667795 0.640957 0.661198 0.630463 0.657031 0.624907 C 0.652865 0.619352 0.652865 0.620586 0.646615 0.613796 C 0.640365 0.607006 0.626128 0.592191 0.619531 0.584167 C 0.612934 0.576142 0.613281 0.574907 0.607031 0.565648 C 0.600781 0.556389 0.588976 0.537253 0.582031 0.528611 C 0.575087 0.519969 0.570929 0.5175 0.565365 0.513796 C 0.5598 0.510093 0.556293 0.511327 0.548646 0.506389 C 0.540998 0.501451 0.527118 0.489722 0.519479 0.484167 C 0.51184 0.478611 0.507674 0.476759 0.502813 0.473056 C 0.497951 0.469352 0.494826 0.465031 0.490312 0.461944 C 0.485799 0.458858 0.48059 0.458241 0.475729 0.454537 C 0.470868 0.450833 0.466007 0.443426 0.461146 0.439722 C 0.456285 0.436019 0.452118 0.435401 0.446562 0.432315 C 0.441007 0.429228 0.433715 0.424907 0.427812 0.421204 C 0.42191 0.4175 0.416701 0.413796 0.411146 0.410093 C 0.40559 0.406389 0.39934 0.403302 0.394479 0.398981 C 0.389618 0.39466 0.38684 0.388488 0.381979 0.384167 C 0.377118 0.379846 0.37329 0.378626 0.365312 0.373056 C 0.357335 0.367485 0.342092 0.356312 0.334115 0.350741 C 0.326137 0.34517 0.330295 0.348272 0.317448 0.33963 C 0.304601 0.330988 0.27092 0.308148 0.257031 0.298889 C 0.243142 0.28963 0.241059 0.289012 0.234115 0.284074 C 0.22717 0.279136 0.221615 0.274197 0.215365 0.269259 C 0.209115 0.264321 0.201823 0.258148 0.196615 0.254444 C 0.191406 0.250741 0.187587 0.249506 0.184115 0.247037 C 0.180642 0.244568 0.179253 0.242099 0.175781 0.23963 C 0.172309 0.23716 0.166753 0.235309 0.163281 0.232222 C 0.159809 0.229136 0.158073 0.224815 0.154948 0.221111 C 0.151823 0.217407 0.147309 0.213086 0.144531 0.21 C 0.141753 0.206914 0.141068 0.206296 0.138281 0.202593 C 0.135495 0.198889 0.131641 0.193318 0.127813 0.187778 C 0.123984 0.182238 0.119479 0.174892 0.115313 0.169352 C 0.111146 0.163812 0.109062 0.162562 0.102812 0.154537 C 0.096562 0.146512 0.084062 0.128611 0.077813 0.121204 C 0.071562 0.113796 0.071215 0.114414 0.065312 0.110093 C 0.05941 0.105772 0.047604 0.099599 0.042396 0.095278 C 0.037188 0.090957 0.037873 0.08787 0.034063 0.084167 C 0.030252 0.080463 0.022995 0.076142 0.019531 0.073056 C 0.016068 0.069969 0.015365 0.0675 0.013281 0.065648 C 0.011198 0.063796 0.008767 0.064414 0.007031 0.061944 C 0.005295 0.059475 0.004948 0.054537 0.002865 0.050833 C 0.000781 0.04713 -0.002344 0.042809 -0.005469 0.039722 C -0.008594 0.036636 -0.013108 0.034167 -0.015885 0.032315 C -0.018663 0.030463 -0.021094 0.029228 -0.022135 0.028611 E">
                                      <p:cBhvr>
                                        <p:cTn id="389" dur="2000" fill="hold"/>
                                        <p:tgtEl>
                                          <p:spTgt spid="858"/>
                                        </p:tgtEl>
                                      </p:cBhvr>
                                    </p:animMotion>
                                  </p:childTnLst>
                                </p:cTn>
                              </p:par>
                            </p:childTnLst>
                          </p:cTn>
                        </p:par>
                        <p:par>
                          <p:cTn id="390" nodeType="afterEffect" fill="hold">
                            <p:stCondLst>
                              <p:cond delay="2000"/>
                            </p:stCondLst>
                            <p:childTnLst>
                              <p:par>
                                <p:cTn id="391" nodeType="afterEffect" fill="hold" presetClass="path" presetID="0">
                                  <p:stCondLst>
                                    <p:cond delay="0"/>
                                  </p:stCondLst>
                                  <p:childTnLst>
                                    <p:animMotion origin="layout" path="M 0.00651 0.025833 C 0.007899 0.025833 0.012066 0.025833 0.014844 0.025833 C 0.017622 0.025833 0.019358 0.025216 0.023177 0.025833 C 0.026997 0.026451 0.032908 0.02892 0.03776 0.029537 C 0.042613 0.030154 0.04362 0.029537 0.052292 0.029537 C 0.060964 0.029537 0.080417 0.029537 0.089792 0.029537 C 0.099167 0.029537 0.099167 0.029537 0.108542 0.029537 C 0.117917 0.029537 0.1377 0.029537 0.146042 0.029537 C 0.154384 0.029537 0.153724 0.029537 0.158594 0.029537 C 0.163464 0.029537 0.171094 0.029537 0.17526 0.029537 C 0.179427 0.029537 0.17908 0.029537 0.183594 0.029537 C 0.188108 0.029537 0.197483 0.029537 0.202344 0.029537 C 0.207205 0.029537 0.209635 0.029537 0.21276 0.029537 C 0.215885 0.029537 0.215191 0.029537 0.221094 0.029537 C 0.226997 0.029537 0.240885 0.029537 0.248177 0.029537 C 0.255469 0.029537 0.258941 0.029537 0.264844 0.029537 C 0.270746 0.029537 0.277344 0.029537 0.283594 0.029537 C 0.289844 0.029537 0.295747 0.029537 0.302344 0.029537 C 0.308941 0.029537 0.31658 0.029537 0.323177 0.029537 C 0.329774 0.029537 0.335677 0.029537 0.341927 0.029537 C 0.348177 0.029537 0.354089 0.029537 0.360677 0.029537 C 0.367266 0.029537 0.374175 0.02892 0.381458 0.029537 C 0.388741 0.030154 0.397083 0.032006 0.404375 0.033241 C 0.411667 0.034475 0.418611 0.036327 0.425208 0.036944 C 0.431806 0.037562 0.432847 0.036327 0.443958 0.036944 C 0.455069 0.037562 0.480417 0.040031 0.491875 0.040648 C 0.503333 0.041265 0.506111 0.040648 0.512708 0.040648 C 0.519306 0.040648 0.524861 0.040648 0.531458 0.040648 C 0.538056 0.040648 0.546042 0.040648 0.552292 0.040648 C 0.558542 0.040648 0.563047 0.040648 0.568958 0.040648 C 0.57487 0.040648 0.581502 0.040648 0.58776 0.040648 C 0.594019 0.040648 0.600955 0.040648 0.60651 0.040648 C 0.612066 0.040648 0.616233 0.040648 0.621094 0.040648 C 0.625955 0.040648 0.630469 0.040648 0.635677 0.040648 C 0.640885 0.040648 0.647135 0.040648 0.652344 0.040648 C 0.657552 0.040648 0.662066 0.040648 0.666927 0.040648 C 0.671788 0.040648 0.674219 0.040648 0.68151 0.040648 C 0.688802 0.040648 0.703733 0.040648 0.710677 0.040648 C 0.717621 0.040648 0.71901 0.040648 0.723177 0.040648 C 0.727344 0.040648 0.73151 0.040648 0.735677 0.040648 C 0.739844 0.040648 0.744358 0.040648 0.748177 0.040648 C 0.751996 0.040648 0.755121 0.040648 0.758594 0.040648 C 0.762066 0.040648 0.765885 0.040648 0.76901 0.040648 C 0.772135 0.040648 0.774913 0.040648 0.777344 0.040648 C 0.779774 0.040648 0.78151 0.040648 0.783594 0.040648 C 0.785677 0.040648 0.78776 0.040648 0.789844 0.040648 C 0.791927 0.040648 0.793663 0.040648 0.796094 0.040648 C 0.798524 0.040648 0.797483 0.040648 0.804427 0.040648 C 0.811371 0.040648 0.830469 0.040648 0.83776 0.040648 C 0.845052 0.040648 0.844705 0.040648 0.848177 0.040648 C 0.851649 0.040648 0.854774 0.040648 0.858594 0.040648 C 0.862413 0.040648 0.866233 0.040648 0.871094 0.040648 C 0.875955 0.040648 0.882899 0.040648 0.88776 0.040648 C 0.892621 0.040648 0.896094 0.040031 0.90026 0.040648 C 0.904427 0.041265 0.908594 0.043117 0.91276 0.044352 C 0.916927 0.045586 0.921441 0.047438 0.92526 0.048056 C 0.92908 0.048673 0.931858 0.048056 0.935677 0.048056 C 0.939496 0.048056 0.944358 0.048056 0.948177 0.048056 C 0.951996 0.048056 0.953385 0.048056 0.958594 0.048056 C 0.963802 0.048056 0.974566 0.048056 0.979427 0.048056 C 0.984288 0.048056 0.984983 0.048056 0.98776 0.048056 C 0.990538 0.048056 0.993672 0.048056 0.996094 0.048056 C 0.998516 0.048056 0.99987 0.048056 1.002292 0.048056 C 1.004713 0.048056 1.008194 0.048056 1.010625 0.048056 C 1.013056 0.048056 1.014444 0.048056 1.016875 0.048056 C 1.019306 0.048056 1.022778 0.048056 1.025208 0.048056 C 1.027639 0.048056 1.029028 0.048056 1.031458 0.048056 C 1.033889 0.048056 1.036667 0.048056 1.039792 0.048056 C 1.042917 0.048056 1.047431 0.048056 1.050208 0.048056 C 1.052986 0.048056 1.054028 0.048056 1.056458 0.048056 C 1.058889 0.048056 1.062361 0.048056 1.064792 0.048056 C 1.067222 0.048056 1.068611 0.048056 1.071042 0.048056 C 1.073472 0.048056 1.076597 0.048056 1.079375 0.048056 C 1.082153 0.048056 1.085278 0.048056 1.087708 0.048056 C 1.090139 0.048056 1.091875 0.048056 1.093958 0.048056 C 1.096042 0.048056 1.097431 0.047438 1.100208 0.048056 C 1.102986 0.048673 1.1075 0.051142 1.110625 0.051759 C 1.11375 0.052376 1.115486 0.050525 1.118958 0.051759 C 1.122431 0.052994 1.1325 0.057932 1.131458 0.059167 C 1.130417 0.060401 1.117569 0.059167 1.112708 0.059167 C 1.107847 0.059167 1.107847 0.059167 1.102292 0.059167 C 1.096736 0.059167 1.084931 0.059167 1.079375 0.059167 C 1.073819 0.059167 1.073819 0.059167 1.068958 0.059167 C 1.064097 0.059167 1.055417 0.058549 1.050208 0.059167 C 1.045 0.059784 1.042569 0.062253 1.037708 0.06287 C 1.032847 0.063488 1.025208 0.06287 1.021042 0.06287 C 1.016875 0.06287 1.017908 0.06287 1.012708 0.06287 C 1.007509 0.06287 0.995391 0.06287 0.989844 0.06287 C 0.984297 0.06287 0.982899 0.06287 0.979427 0.06287 C 0.975955 0.06287 0.973871 0.06287 0.96901 0.06287 C 0.964149 0.06287 0.955121 0.061636 0.95026 0.06287 C 0.945399 0.064105 0.943663 0.068426 0.939844 0.070278 C 0.936024 0.07213 0.93151 0.072747 0.927344 0.073981 C 0.923177 0.075216 0.91901 0.076451 0.914844 0.077685 C 0.910677 0.07892 0.906163 0.080772 0.902344 0.081389 C 0.898524 0.082006 0.896094 0.080154 0.891927 0.081389 C 0.88776 0.082623 0.882205 0.086944 0.877344 0.088796 C 0.872483 0.090648 0.867621 0.091883 0.86276 0.0925 C 0.857899 0.093117 0.853038 0.091883 0.848177 0.0925 C 0.843316 0.093117 0.838802 0.094969 0.833594 0.096204 C 0.828385 0.097438 0.824566 0.098056 0.816927 0.099907 C 0.809288 0.101759 0.794705 0.105463 0.78776 0.107315 C 0.780816 0.109167 0.779774 0.109784 0.77526 0.111019 C 0.770746 0.112253 0.765885 0.113488 0.760677 0.114722 C 0.755469 0.115957 0.749219 0.116574 0.74401 0.118426 C 0.738802 0.120278 0.734635 0.123981 0.729427 0.125833 C 0.724219 0.127685 0.718663 0.128302 0.71276 0.129537 C 0.706858 0.130772 0.700608 0.132623 0.69401 0.133241 C 0.687413 0.133858 0.679774 0.133241 0.673177 0.133241 C 0.66658 0.133241 0.660677 0.133241 0.654427 0.133241 C 0.648177 0.133241 0.64158 0.133241 0.635677 0.133241 C 0.629774 0.133241 0.624566 0.133241 0.61901 0.133241 C 0.613455 0.133241 0.612075 0.133241 0.602344 0.133241 C 0.592613 0.133241 0.571398 0.133241 0.560625 0.133241 C 0.549852 0.133241 0.550903 0.133241 0.537708 0.133241 C 0.524514 0.133241 0.497431 0.133241 0.481458 0.133241 C 0.465486 0.133241 0.460625 0.133241 0.441875 0.133241 C 0.423125 0.133241 0.387005 0.133241 0.368958 0.133241 C 0.350911 0.133241 0.346779 0.133241 0.333594 0.133241 C 0.320408 0.133241 0.299566 0.133241 0.289844 0.133241 C 0.280122 0.133241 0.280122 0.133241 0.27526 0.133241 C 0.270399 0.133241 0.265538 0.133241 0.260677 0.133241 C 0.255816 0.133241 0.250608 0.133241 0.246094 0.133241 C 0.24158 0.133241 0.237413 0.133241 0.233594 0.133241 C 0.229774 0.133241 0.226302 0.133241 0.223177 0.133241 C 0.220052 0.133241 0.217969 0.133241 0.214844 0.133241 C 0.211719 0.133241 0.207899 0.133241 0.204427 0.133241 C 0.200955 0.133241 0.197483 0.133241 0.19401 0.133241 C 0.190538 0.133241 0.187066 0.133241 0.183594 0.133241 C 0.180122 0.133241 0.178733 0.133241 0.173177 0.133241 C 0.167622 0.133241 0.156172 0.133241 0.15026 0.133241 C 0.144349 0.133241 0.142231 0.133241 0.137708 0.133241 C 0.133186 0.133241 0.127292 0.133241 0.123125 0.133241 C 0.118958 0.133241 0.116528 0.133241 0.112708 0.133241 C 0.108889 0.133241 0.104028 0.133241 0.100208 0.133241 C 0.096389 0.133241 0.093264 0.133241 0.089792 0.133241 C 0.086319 0.133241 0.083194 0.133858 0.079375 0.133241 C 0.075556 0.132623 0.070347 0.130772 0.066875 0.129537 C 0.063403 0.128302 0.061319 0.126451 0.058542 0.125833 C 0.055764 0.125216 0.052986 0.125833 0.050208 0.125833 C 0.047431 0.125833 0.044297 0.125833 0.041875 0.125833 C 0.039453 0.125833 0.038793 0.125833 0.035677 0.125833 C 0.032561 0.125833 0.026302 0.125833 0.023177 0.125833 C 0.020052 0.125833 0.020399 0.125833 0.016927 0.125833 C 0.013455 0.125833 0.005816 0.125833 0.002344 0.125833 C -0.001128 0.125833 -0.007031 0.128302 -0.003906 0.125833 C -0.000781 0.123364 0.014149 0.114105 0.021094 0.111019 C 0.028038 0.107932 0.031519 0.108549 0.03776 0.107315 C 0.044002 0.10608 0.051953 0.104228 0.058542 0.103611 C 0.06513 0.102994 0.071389 0.103611 0.077292 0.103611 C 0.083194 0.103611 0.087708 0.103611 0.093958 0.103611 C 0.100208 0.103611 0.107847 0.103611 0.114792 0.103611 C 0.121736 0.103611 0.128672 0.103611 0.135625 0.103611 C 0.142578 0.103611 0.149904 0.103611 0.15651 0.103611 C 0.163116 0.103611 0.169358 0.103611 0.17526 0.103611 C 0.181163 0.103611 0.186024 0.103611 0.191927 0.103611 C 0.19783 0.103611 0.19783 0.103611 0.210677 0.103611 C 0.223524 0.103611 0.255469 0.103611 0.26901 0.103611 C 0.282552 0.103611 0.284983 0.103611 0.291927 0.103611 C 0.298872 0.103611 0.304427 0.103611 0.310677 0.103611 C 0.316927 0.103611 0.32283 0.103611 0.329427 0.103611 C 0.336024 0.103611 0.343325 0.103611 0.35026 0.103611 C 0.357196 0.103611 0.364106 0.103611 0.371042 0.103611 C 0.377977 0.103611 0.384583 0.103611 0.391875 0.103611 C 0.399167 0.103611 0.407153 0.103611 0.414792 0.103611 C 0.422431 0.103611 0.430069 0.103611 0.437708 0.103611 C 0.445347 0.103611 0.452986 0.103611 0.460625 0.103611 C 0.468264 0.103611 0.475208 0.102376 0.483542 0.103611 C 0.491875 0.104846 0.498472 0.107932 0.510625 0.111019 C 0.522778 0.114105 0.545686 0.119043 0.556458 0.12213 C 0.567231 0.125216 0.564835 0.127068 0.57526 0.129537 C 0.585686 0.132006 0.608941 0.13571 0.61901 0.136944 C 0.62908 0.138179 0.629774 0.136944 0.635677 0.136944 C 0.64158 0.136944 0.64783 0.136944 0.654427 0.136944 C 0.661024 0.136944 0.668663 0.136944 0.67526 0.136944 C 0.681858 0.136944 0.688108 0.136944 0.69401 0.136944 C 0.699913 0.136944 0.704774 0.136944 0.710677 0.136944 C 0.71658 0.136944 0.723177 0.136327 0.729427 0.136944 C 0.735677 0.137562 0.742274 0.139414 0.748177 0.140648 C 0.75408 0.141883 0.759288 0.143735 0.764844 0.144352 C 0.770399 0.144969 0.776302 0.144352 0.78151 0.144352 C 0.786719 0.144352 0.791233 0.144352 0.796094 0.144352 C 0.800955 0.144352 0.805469 0.144352 0.810677 0.144352 C 0.815885 0.144352 0.821788 0.144352 0.827344 0.144352 C 0.832899 0.144352 0.833246 0.144969 0.84401 0.144352 C 0.854774 0.143735 0.880816 0.1425 0.891927 0.140648 C 0.903038 0.138796 0.903733 0.13571 0.910677 0.133241 C 0.917621 0.130772 0.926649 0.127685 0.933594 0.125833 C 0.940538 0.123981 0.945746 0.122747 0.952344 0.12213 C 0.958941 0.121512 0.965538 0.123364 0.973177 0.12213 C 0.980816 0.120895 0.990547 0.116574 0.998177 0.114722 C 1.005807 0.11287 1.01237 0.111636 1.018958 0.111019 C 1.025547 0.110401 1.031458 0.111019 1.037708 0.111019 C 1.043958 0.111019 1.050208 0.111019 1.056458 0.111019 C 1.062708 0.111019 1.069306 0.111019 1.075208 0.111019 C 1.081111 0.111019 1.081111 0.111019 1.091875 0.111019 C 1.102639 0.111019 1.129722 0.111636 1.139792 0.111019 C 1.149861 0.110401 1.148819 0.108549 1.152292 0.107315 C 1.155764 0.10608 1.157847 0.104228 1.160625 0.103611 C 1.163403 0.102994 1.166528 0.103611 1.168958 0.103611 C 1.171389 0.103611 1.173125 0.103611 1.175208 0.103611 C 1.177292 0.103611 1.179375 0.103611 1.181458 0.103611 C 1.183542 0.103611 1.188056 0.103611 1.187708 0.103611 C 1.187361 0.103611 1.184931 0.103611 1.179375 0.103611 C 1.173819 0.103611 1.160972 0.103611 1.154375 0.103611 C 1.147778 0.103611 1.148125 0.103611 1.139792 0.103611 C 1.131458 0.103611 1.11375 0.103611 1.104375 0.103611 C 1.095 0.103611 1.093958 0.103611 1.083542 0.103611 C 1.073125 0.103611 1.051944 0.104228 1.041875 0.103611 C 1.031806 0.102994 1.033533 0.100525 1.023125 0.099907 C 1.012717 0.09929 0.990182 0.099907 0.979427 0.099907 C 0.968672 0.099907 0.964844 0.099907 0.958594 0.099907 C 0.952344 0.099907 0.949913 0.099907 0.941927 0.099907 C 0.933941 0.099907 0.91901 0.099907 0.910677 0.099907 C 0.902344 0.099907 0.897483 0.099907 0.891927 0.099907 C 0.886371 0.099907 0.882205 0.099907 0.877344 0.099907 C 0.872483 0.099907 0.868316 0.099907 0.86276 0.099907 C 0.857205 0.099907 0.850608 0.099907 0.84401 0.099907 C 0.837413 0.099907 0.830121 0.099907 0.823177 0.099907 C 0.816233 0.099907 0.809983 0.099907 0.802344 0.099907 C 0.794705 0.099907 0.78533 0.099907 0.777344 0.099907 C 0.769358 0.099907 0.761371 0.099907 0.754427 0.099907 C 0.747483 0.099907 0.741927 0.099907 0.735677 0.099907 C 0.729427 0.099907 0.726302 0.099907 0.716927 0.099907 C 0.707552 0.099907 0.688455 0.099907 0.679427 0.099907 C 0.670399 0.099907 0.672135 0.099907 0.66276 0.099907 C 0.653385 0.099907 0.633246 0.099907 0.623177 0.099907 C 0.613108 0.099907 0.609288 0.099907 0.602344 0.099907 C 0.595399 0.099907 0.592283 0.099907 0.58151 0.099907 C 0.570738 0.099907 0.549175 0.099907 0.537708 0.099907 C 0.526241 0.099907 0.524514 0.099907 0.512708 0.099907 C 0.500903 0.099907 0.477639 0.099907 0.466875 0.099907 C 0.456111 0.099907 0.454375 0.099907 0.448125 0.099907 C 0.441875 0.099907 0.43875 0.100525 0.429375 0.099907 C 0.42 0.09929 0.400903 0.098055 0.391875 0.096204 C 0.382847 0.094352 0.384227 0.090648 0.375208 0.088796 C 0.366189 0.086944 0.347474 0.086327 0.33776 0.085093 C 0.328047 0.083858 0.323524 0.082006 0.316927 0.081389 C 0.31033 0.080772 0.30408 0.081389 0.298177 0.081389 C 0.292274 0.081389 0.287066 0.081389 0.28151 0.081389 C 0.275955 0.081389 0.270399 0.080772 0.264844 0.081389 C 0.259288 0.082006 0.253038 0.083241 0.248177 0.085093 C 0.243316 0.086944 0.239496 0.091265 0.235677 0.0925 C 0.231858 0.093735 0.228733 0.0925 0.22526 0.0925 C 0.221788 0.0925 0.218316 0.0925 0.214844 0.0925 C 0.211372 0.0925 0.207205 0.091883 0.204427 0.0925 C 0.201649 0.093117 0.202691 0.094969 0.198177 0.096204 C 0.193663 0.097438 0.182552 0.098673 0.177344 0.099907 C 0.172135 0.101142 0.170399 0.102994 0.166927 0.103611 C 0.163455 0.104228 0.159635 0.103611 0.15651 0.103611 C 0.153385 0.103611 0.151311 0.103611 0.148177 0.103611 C 0.145043 0.103611 0.141189 0.103611 0.137708 0.103611 C 0.134227 0.103611 0.130764 0.103611 0.127292 0.103611 C 0.123819 0.103611 0.121042 0.103611 0.116875 0.103611 C 0.112708 0.103611 0.107153 0.104228 0.102292 0.103611 C 0.097431 0.102994 0.092222 0.101759 0.087708 0.099907 C 0.083194 0.098056 0.080069 0.094352 0.075208 0.0925 C 0.070347 0.090648 0.065477 0.089414 0.058542 0.088796 C 0.051606 0.088179 0.040182 0.090031 0.033594 0.088796 C 0.027005 0.087562 0.022483 0.082623 0.01901 0.081389 C 0.015538 0.080154 0.015191 0.081389 0.01276 0.081389 C 0.01033 0.081389 0.006858 0.081389 0.004427 0.081389 C 0.001997 0.081389 0.00026 0.081389 -0.001823 0.081389 C -0.003906 0.081389 -0.007031 0.081389 -0.008073 0.081389 E">
                                      <p:cBhvr>
                                        <p:cTn id="392" dur="2000" fill="hold"/>
                                        <p:tgtEl>
                                          <p:spTgt spid="856"/>
                                        </p:tgtEl>
                                      </p:cBhvr>
                                    </p:animMotion>
                                  </p:childTnLst>
                                </p:cTn>
                              </p:par>
                            </p:childTnLst>
                          </p:cTn>
                        </p:par>
                        <p:par>
                          <p:cTn id="393" nodeType="afterEffect" fill="hold">
                            <p:stCondLst>
                              <p:cond delay="4000"/>
                            </p:stCondLst>
                            <p:childTnLst>
                              <p:par>
                                <p:cTn id="394" nodeType="afterEffect" fill="hold" presetClass="path" presetID="0">
                                  <p:stCondLst>
                                    <p:cond delay="0"/>
                                  </p:stCondLst>
                                  <p:childTnLst>
                                    <p:animMotion origin="layout" path="M 0.013802 0.097037 C 0.016233 0.094568 0.023872 0.086544 0.028386 0.082223 C 0.0329 0.077902 0.036728 0.074198 0.040886 0.071112 C 0.045044 0.068025 0.049176 0.066791 0.053334 0.063704 C 0.057492 0.060618 0.062014 0.056297 0.065834 0.052593 C 0.069653 0.048889 0.072084 0.044568 0.07625 0.041482 C 0.080417 0.038395 0.08632 0.037161 0.090834 0.034075 C 0.095348 0.030988 0.099514 0.02605 0.103334 0.022963 C 0.107153 0.019877 0.110973 0.017408 0.11375 0.015556 C 0.116528 0.013704 0.117223 0.014321 0.12 0.011852 C 0.122778 0.009383 0.127292 0.003828 0.130417 0.000741 C 0.133542 -0.002345 0.135973 -0.004814 0.13875 -0.006666 C 0.141528 -0.008518 0.140478 -0.004197 0.147084 -0.01037 C 0.15369 -0.016543 0.170738 -0.036296 0.178386 -0.043703 C 0.186033 -0.051111 0.188455 -0.051111 0.192969 -0.054814 C 0.197483 -0.058518 0.200608 -0.06162 0.205469 -0.065925 C 0.21033 -0.070231 0.216927 -0.076342 0.222136 -0.080648 C 0.227344 -0.084953 0.231858 -0.088055 0.236719 -0.091759 C 0.24158 -0.095463 0.246789 -0.098549 0.251302 -0.10287 C 0.255816 -0.107191 0.259289 -0.113364 0.263802 -0.117685 C 0.268316 -0.122006 0.274219 -0.125092 0.278386 -0.128796 C 0.282552 -0.1325 0.285677 -0.136821 0.288802 -0.139907 C 0.291927 -0.142993 0.294705 -0.144845 0.297136 -0.147314 C 0.299566 -0.149784 0.300608 -0.152253 0.303386 -0.154722 C 0.306164 -0.157191 0.311025 -0.15966 0.313802 -0.162129 C 0.31658 -0.164598 0.317622 -0.16645 0.320052 -0.169537 C 0.322483 -0.172623 0.325955 -0.177561 0.328386 -0.180648 C 0.330816 -0.183734 0.332552 -0.184969 0.334636 -0.188055 C 0.336719 -0.191142 0.338802 -0.195463 0.340886 -0.199166 C 0.342969 -0.20287 0.343325 -0.204722 0.347136 -0.210277 C 0.350946 -0.215833 0.359245 -0.226327 0.36375 -0.2325 C 0.368255 -0.238672 0.371389 -0.243611 0.374167 -0.247314 C 0.376945 -0.251018 0.377639 -0.251635 0.380417 -0.254722 C 0.383195 -0.257808 0.387361 -0.261512 0.390834 -0.265833 C 0.394306 -0.270154 0.398473 -0.276944 0.40125 -0.280648 C 0.404028 -0.284351 0.404375 -0.284969 0.4075 -0.288055 C 0.410625 -0.291142 0.416875 -0.29608 0.42 -0.299166 C 0.423125 -0.302253 0.421736 -0.301635 0.42625 -0.306574 C 0.430764 -0.311512 0.441528 -0.32324 0.447084 -0.328796 C 0.452639 -0.334351 0.455764 -0.336821 0.459584 -0.339907 C 0.463403 -0.342993 0.466181 -0.344228 0.47 -0.347314 C 0.47382 -0.350401 0.478334 -0.354722 0.4825 -0.358425 C 0.486667 -0.362129 0.491181 -0.36645 0.495 -0.369537 C 0.49882 -0.372623 0.501945 -0.374475 0.505417 -0.376944 C 0.508889 -0.379413 0.512014 -0.381882 0.515834 -0.384351 C 0.519653 -0.386821 0.524514 -0.38929 0.528334 -0.391759 C 0.532153 -0.394228 0.534931 -0.39608 0.53875 -0.399166 C 0.54257 -0.402253 0.547431 -0.407808 0.55125 -0.410277 C 0.55507 -0.412746 0.55645 -0.411512 0.561667 -0.413981 C 0.566884 -0.41645 0.577683 -0.422623 0.582552 -0.425092 C 0.587422 -0.427561 0.587413 -0.426944 0.590886 -0.428796 C 0.594358 -0.430648 0.599913 -0.434352 0.603386 -0.436203 C 0.606858 -0.438055 0.608247 -0.438055 0.611719 -0.439907 C 0.615191 -0.441759 0.6204 -0.445447 0.624219 -0.447314 C 0.628038 -0.449182 0.631163 -0.449243 0.634636 -0.451111 C 0.638108 -0.452978 0.641233 -0.455432 0.645052 -0.458518 C 0.648872 -0.461605 0.65408 -0.46716 0.657552 -0.469629 C 0.661025 -0.472098 0.662413 -0.470864 0.665886 -0.473333 C 0.669358 -0.475803 0.674566 -0.481358 0.678386 -0.484444 C 0.682205 -0.487531 0.68533 -0.49 0.688802 -0.491851 C 0.692275 -0.493703 0.694705 -0.493703 0.699219 -0.495555 C 0.703733 -0.497407 0.711719 -0.501111 0.715886 -0.502963 C 0.720052 -0.504814 0.721788 -0.506049 0.724219 -0.506666 C 0.72665 -0.507284 0.727691 -0.506666 0.730469 -0.506666 C 0.733247 -0.506666 0.737066 -0.505432 0.740886 -0.506666 C 0.744705 -0.507901 0.749913 -0.512222 0.753386 -0.514075 C 0.756858 -0.515925 0.758941 -0.51716 0.761719 -0.517777 C 0.764497 -0.518395 0.767275 -0.51716 0.770052 -0.517777 C 0.77283 -0.518395 0.775608 -0.520247 0.778386 -0.521481 C 0.781163 -0.522716 0.783594 -0.52395 0.786719 -0.525186 C 0.789844 -0.526419 0.792275 -0.527038 0.797136 -0.528888 C 0.801997 -0.53074 0.811025 -0.533209 0.815886 -0.536296 C 0.820747 -0.539382 0.823525 -0.544321 0.826302 -0.547407 C 0.82908 -0.550493 0.829775 -0.552345 0.832552 -0.554814 C 0.83533 -0.557284 0.839844 -0.559135 0.842969 -0.562222 C 0.846094 -0.565308 0.848872 -0.570247 0.851302 -0.573333 C 0.853733 -0.576419 0.855122 -0.578888 0.857552 -0.58074 C 0.859983 -0.582592 0.863455 -0.582592 0.865886 -0.584444 C 0.868316 -0.586296 0.869705 -0.590001 0.872136 -0.591851 C 0.874566 -0.593703 0.877691 -0.594321 0.880469 -0.595555 C 0.883247 -0.59679 0.884983 -0.59679 0.888802 -0.599259 C 0.892622 -0.601728 0.899913 -0.606667 0.903386 -0.610371 C 0.906858 -0.614074 0.907205 -0.618395 0.909636 -0.621481 C 0.912066 -0.624567 0.915538 -0.626419 0.917969 -0.628888 C 0.9204 -0.631358 0.922136 -0.633842 0.924219 -0.636296 C 0.926302 -0.63875 0.928038 -0.641774 0.930469 -0.643611 C 0.9329 -0.645447 0.936025 -0.645463 0.938802 -0.647314 C 0.94158 -0.649166 0.944705 -0.652253 0.947136 -0.654722 C 0.949566 -0.657191 0.951302 -0.660277 0.953386 -0.66213 C 0.955469 -0.663981 0.956858 -0.663364 0.959636 -0.665833 C 0.962413 -0.668302 0.967275 -0.673858 0.970052 -0.676944 C 0.97283 -0.68003 0.974219 -0.6825 0.976302 -0.684352 C 0.978386 -0.686203 0.980469 -0.686203 0.982552 -0.688055 C 0.984636 -0.689907 0.986372 -0.692376 0.988802 -0.695463 C 0.991233 -0.698549 0.994714 -0.704105 0.997136 -0.706574 C 0.999558 -0.709043 1.001259 -0.708425 1.003334 -0.710277 C 1.005408 -0.71213 1.007153 -0.715216 1.009584 -0.717685 C 1.012014 -0.720154 1.014792 -0.722006 1.017917 -0.725092 C 1.021042 -0.728179 1.024861 -0.733117 1.028334 -0.736203 C 1.031806 -0.739291 1.035278 -0.740524 1.03875 -0.743611 C 1.042223 -0.746697 1.045695 -0.751635 1.049167 -0.754722 C 1.052639 -0.757808 1.056806 -0.75966 1.059584 -0.762129 C 1.062361 -0.764598 1.06375 -0.767685 1.065834 -0.769537 C 1.067917 -0.771388 1.073125 -0.773858 1.072084 -0.77324 C 1.071042 -0.772623 1.063056 -0.768919 1.059584 -0.765833 C 1.056111 -0.762747 1.053681 -0.757191 1.05125 -0.754722 C 1.04882 -0.752253 1.048125 -0.752871 1.045 -0.751018 C 1.041875 -0.749166 1.03632 -0.746697 1.0325 -0.743611 C 1.028681 -0.740524 1.025903 -0.735586 1.022084 -0.7325 C 1.018264 -0.729414 1.013742 -0.728179 1.009584 -0.725092 C 1.005426 -0.722006 1.001988 -0.718302 0.997136 -0.713981 C 0.992283 -0.70966 0.98533 -0.703487 0.980469 -0.699166 C 0.975608 -0.694845 0.972483 -0.691759 0.967969 -0.688055 C 0.963455 -0.684352 0.958941 -0.681265 0.953386 -0.676944 C 0.94783 -0.672623 0.940886 -0.667067 0.934636 -0.66213 C 0.928386 -0.657191 0.924219 -0.654089 0.915886 -0.647314 C 0.907552 -0.64054 0.891927 -0.628256 0.884636 -0.621481 C 0.877344 -0.614706 0.87665 -0.610371 0.872136 -0.606667 C 0.867622 -0.602963 0.861719 -0.601728 0.857552 -0.599259 C 0.853386 -0.59679 0.850608 -0.594938 0.847136 -0.591851 C 0.843663 -0.588765 0.839844 -0.583827 0.836719 -0.58074 C 0.833594 -0.577654 0.831511 -0.575802 0.828386 -0.573333 C 0.825261 -0.570865 0.821441 -0.569012 0.817969 -0.565926 C 0.814497 -0.562839 0.810677 -0.557901 0.807552 -0.554814 C 0.804427 -0.551728 0.801997 -0.549259 0.799219 -0.547407 C 0.796441 -0.545556 0.793316 -0.545556 0.790886 -0.543703 C 0.788455 -0.541851 0.787066 -0.538765 0.784636 -0.536296 C 0.782205 -0.533827 0.780816 -0.532592 0.776302 -0.528888 C 0.771788 -0.525186 0.762413 -0.518395 0.757552 -0.514075 C 0.752691 -0.509753 0.750608 -0.506049 0.747136 -0.502963 C 0.743663 -0.499876 0.739844 -0.498024 0.736719 -0.495555 C 0.733594 -0.493086 0.731858 -0.490617 0.728386 -0.488148 C 0.724913 -0.485679 0.720052 -0.484444 0.715886 -0.48074 C 0.711719 -0.477037 0.7079 -0.470864 0.703386 -0.465925 C 0.698872 -0.460987 0.693316 -0.456064 0.688802 -0.451111 C 0.684288 -0.446157 0.680816 -0.44054 0.676302 -0.436203 C 0.671788 -0.431867 0.66658 -0.428796 0.661719 -0.425092 C 0.656858 -0.421389 0.651302 -0.417685 0.647136 -0.413981 C 0.642969 -0.410277 0.640886 -0.406574 0.636719 -0.40287 C 0.632552 -0.399166 0.629427 -0.398549 0.622136 -0.391759 C 0.614844 -0.384969 0.599566 -0.368919 0.592969 -0.362129 C 0.586372 -0.355339 0.58638 -0.354722 0.582552 -0.351018 C 0.578724 -0.347314 0.573828 -0.343611 0.57 -0.339907 C 0.566172 -0.336203 0.563403 -0.333117 0.559584 -0.328796 C 0.555764 -0.324475 0.550903 -0.319537 0.547084 -0.313981 C 0.543264 -0.308426 0.539792 -0.301018 0.536667 -0.295463 C 0.533542 -0.289907 0.530764 -0.284969 0.528334 -0.280648 C 0.525903 -0.276327 0.524167 -0.272623 0.522084 -0.269537 C 0.52 -0.26645 0.517917 -0.264598 0.515834 -0.262129 C 0.51375 -0.25966 0.512014 -0.257808 0.509584 -0.254722 C 0.507153 -0.251635 0.50507 -0.249166 0.50125 -0.243611 C 0.497431 -0.238055 0.490486 -0.226944 0.486667 -0.221388 C 0.482847 -0.215833 0.480764 -0.213364 0.478334 -0.210277 C 0.475903 -0.207191 0.474167 -0.205339 0.472084 -0.20287 C 0.47 -0.200401 0.468611 -0.199166 0.465834 -0.195463 C 0.463056 -0.191759 0.458542 -0.184969 0.455417 -0.180648 C 0.452292 -0.176327 0.449514 -0.172623 0.447084 -0.169537 C 0.444653 -0.16645 0.443611 -0.165833 0.440834 -0.162129 C 0.438056 -0.158426 0.433542 -0.151635 0.430417 -0.147314 C 0.427292 -0.142993 0.424861 -0.13929 0.422084 -0.136203 C 0.419306 -0.133117 0.416528 -0.131265 0.41375 -0.128796 C 0.410973 -0.126327 0.407848 -0.123858 0.405417 -0.121388 C 0.402986 -0.118919 0.401598 -0.11645 0.399167 -0.113981 C 0.396736 -0.111512 0.393959 -0.110277 0.390834 -0.106574 C 0.387709 -0.10287 0.383542 -0.096697 0.380417 -0.091759 C 0.377292 -0.086821 0.3752 -0.08125 0.372084 -0.076944 C 0.368967 -0.072639 0.365183 -0.070231 0.361719 -0.065925 C 0.358256 -0.06162 0.355122 -0.056666 0.351302 -0.051111 C 0.347483 -0.045555 0.342969 -0.038148 0.338802 -0.032592 C 0.334636 -0.027037 0.330122 -0.022716 0.326302 -0.017777 C 0.322483 -0.012839 0.319358 -0.007901 0.315886 -0.002963 C 0.312413 0.001976 0.309289 0.007531 0.305469 0.011852 C 0.30165 0.016173 0.296788 0.01926 0.292969 0.022963 C 0.28915 0.026667 0.286025 0.029754 0.282552 0.034075 C 0.27908 0.038395 0.275608 0.044568 0.272136 0.048889 C 0.268664 0.05321 0.267275 0.054445 0.261719 0.06 C 0.256164 0.065556 0.244358 0.076667 0.238802 0.082223 C 0.233247 0.087778 0.232552 0.089013 0.228386 0.093334 C 0.224219 0.097655 0.218316 0.10321 0.213802 0.108149 C 0.209289 0.113087 0.205469 0.118025 0.201302 0.122963 C 0.197136 0.127902 0.192622 0.133457 0.188802 0.137778 C 0.184983 0.142099 0.181858 0.145803 0.178386 0.148889 C 0.174914 0.151976 0.171441 0.154445 0.167969 0.156297 C 0.164497 0.158149 0.16033 0.158149 0.157552 0.16 C 0.154775 0.161852 0.154436 0.164939 0.151302 0.167408 C 0.148169 0.169877 0.142578 0.171729 0.13875 0.174815 C 0.134922 0.177902 0.131111 0.183457 0.128334 0.185926 C 0.125556 0.188395 0.125209 0.187161 0.122084 0.18963 C 0.118959 0.192099 0.113056 0.198272 0.109584 0.200741 C 0.106111 0.20321 0.103681 0.20321 0.10125 0.204445 C 0.09882 0.205679 0.097084 0.205679 0.095 0.208149 C 0.092917 0.210618 0.091875 0.216173 0.08875 0.21926 C 0.085625 0.222346 0.079723 0.224198 0.07625 0.226667 C 0.072778 0.229136 0.070695 0.232223 0.067917 0.234075 C 0.065139 0.235926 0.062014 0.236544 0.059584 0.237778 C 0.057153 0.239013 0.055764 0.23963 0.053334 0.241482 C 0.050903 0.243334 0.047422 0.247037 0.045 0.248889 C 0.042578 0.250741 0.040877 0.251358 0.038802 0.252593 C 0.036728 0.253828 0.034636 0.255062 0.032552 0.256297 C 0.030469 0.257531 0.028386 0.258766 0.026302 0.26 C 0.024219 0.261235 0.022136 0.26247 0.020052 0.263704 C 0.017969 0.264939 0.015886 0.265556 0.013802 0.267408 C 0.011719 0.26926 0.009983 0.272963 0.007552 0.274815 C 0.005122 0.276667 0.001997 0.27605 -0.000781 0.278519 C -0.003559 0.280988 -0.006684 0.287161 -0.009114 0.28963 C -0.011545 0.292099 -0.016753 0.29642 -0.015364 0.293334 C -0.013975 0.290247 -0.003906 0.276667 -0.000781 0.271112 C 0.002344 0.265556 0.001302 0.263087 0.003386 0.26 C 0.005469 0.256914 0.009289 0.255062 0.011719 0.252593 C 0.01415 0.250124 0.015886 0.247655 0.017969 0.245186 C 0.020052 0.242716 0.022136 0.240247 0.024219 0.237778 C 0.026302 0.235309 0.027353 0.234692 0.030469 0.230371 C 0.033585 0.22605 0.039453 0.216173 0.042917 0.211852 C 0.046381 0.207531 0.04882 0.206914 0.05125 0.204445 C 0.053681 0.201976 0.054723 0.200124 0.0575 0.197037 C 0.060278 0.193951 0.064792 0.18963 0.067917 0.185926 C 0.071042 0.182223 0.070348 0.180988 0.07625 0.174815 C 0.082153 0.168642 0.096736 0.155062 0.103334 0.148889 C 0.109931 0.142716 0.111667 0.140865 0.115834 0.137778 C 0.12 0.134692 0.124861 0.13284 0.128334 0.130371 C 0.131806 0.127902 0.133542 0.12605 0.136667 0.122963 C 0.139792 0.119877 0.143603 0.114939 0.147084 0.111852 C 0.150565 0.108766 0.153724 0.107531 0.157552 0.104445 C 0.161381 0.101358 0.16658 0.09642 0.170052 0.093334 C 0.173525 0.090247 0.175261 0.089013 0.178386 0.085926 C 0.181511 0.08284 0.185677 0.078519 0.188802 0.074815 C 0.191927 0.071112 0.193664 0.066791 0.197136 0.063704 C 0.200608 0.060618 0.205469 0.059383 0.209636 0.056297 C 0.213802 0.05321 0.211025 0.05321 0.222136 0.045186 C 0.233247 0.037161 0.264497 0.016173 0.276302 0.008149 C 0.288108 0.000124000000000001 0.288108 0.000124 0.292969 -0.002963 C 0.29783 -0.006049 0.30165 -0.007901 0.305469 -0.01037 C 0.309289 -0.012839 0.311719 -0.015308 0.315886 -0.017777 C 0.320052 -0.020246 0.326302 -0.022716 0.330469 -0.025185 C 0.334636 -0.027654 0.337414 -0.029506 0.340886 -0.032592 C 0.344358 -0.035679 0.34783 -0.040617 0.351302 -0.043703 C 0.354775 -0.04679 0.357908 -0.048642 0.361719 -0.051111 C 0.36553 -0.05358 0.370356 -0.055447 0.374167 -0.058518 C 0.377978 -0.061589 0.379028 -0.063997 0.384584 -0.069537 C 0.390139 -0.075077 0.402292 -0.087438 0.4075 -0.091759 C 0.412709 -0.09608 0.412361 -0.092993 0.415834 -0.095463 C 0.419306 -0.097932 0.424167 -0.102253 0.428334 -0.106574 C 0.4325 -0.110895 0.43632 -0.11645 0.440834 -0.121388 C 0.445348 -0.126327 0.450903 -0.1325 0.455417 -0.136203 C 0.459931 -0.139907 0.463056 -0.139907 0.467917 -0.143611 C 0.472778 -0.147314 0.479028 -0.153487 0.484584 -0.158425 C 0.490139 -0.163364 0.495348 -0.168302 0.50125 -0.17324 C 0.507153 -0.178179 0.514445 -0.183117 0.52 -0.188055 C 0.525556 -0.192993 0.529028 -0.197314 0.534584 -0.20287 C 0.540139 -0.208425 0.547084 -0.215833 0.553334 -0.221388 C 0.559584 -0.226944 0.563394 -0.228796 0.572084 -0.236203 C 0.580773 -0.243611 0.596433 -0.258426 0.605469 -0.265833 C 0.614505 -0.27324 0.620052 -0.275709 0.626302 -0.280648 C 0.632552 -0.285586 0.637413 -0.290524 0.642969 -0.295463 C 0.648525 -0.300401 0.654775 -0.305339 0.659636 -0.310277 C 0.664497 -0.315216 0.667275 -0.320771 0.672136 -0.325092 C 0.676997 -0.329413 0.683594 -0.3325 0.688802 -0.336203 C 0.694011 -0.339907 0.698525 -0.342993 0.703386 -0.347314 C 0.708247 -0.351635 0.713455 -0.357808 0.717969 -0.362129 C 0.722483 -0.36645 0.725955 -0.370155 0.730469 -0.37324 C 0.734983 -0.376327 0.740538 -0.377561 0.745052 -0.380648 C 0.749566 -0.383734 0.753038 -0.388056 0.757552 -0.391759 C 0.762066 -0.395463 0.763108 -0.396697 0.772136 -0.40287 C 0.781163 -0.409043 0.803038 -0.422623 0.811719 -0.428796 C 0.8204 -0.434969 0.820052 -0.436188 0.824219 -0.439907 C 0.828386 -0.443626 0.832205 -0.448009 0.836719 -0.451111 C 0.841233 -0.454213 0.847483 -0.455432 0.851302 -0.458518 C 0.855122 -0.461605 0.856511 -0.465926 0.859636 -0.469629 C 0.862761 -0.473333 0.866927 -0.477654 0.870052 -0.48074 C 0.873177 -0.483828 0.875261 -0.486296 0.878386 -0.488148 C 0.881511 -0.49 0.885677 -0.489382 0.888802 -0.491851 C 0.891927 -0.494321 0.894011 -0.499259 0.897136 -0.502963 C 0.900261 -0.506666 0.903733 -0.51037 0.907552 -0.514075 C 0.911372 -0.517777 0.91415 -0.519012 0.920052 -0.525186 C 0.925955 -0.531358 0.937413 -0.544321 0.942969 -0.551111 C 0.948525 -0.557901 0.950261 -0.561604 0.953386 -0.565926 C 0.956511 -0.570247 0.959288 -0.573333 0.961719 -0.577038 C 0.96415 -0.58074 0.965886 -0.584444 0.967969 -0.588148 C 0.970052 -0.591851 0.972136 -0.595555 0.974219 -0.599259 C 0.976302 -0.602962 0.978386 -0.606049 0.980469 -0.610371 C 0.982552 -0.614691 0.984636 -0.620262 0.986719 -0.625185 C 0.988802 -0.630108 0.990886 -0.63622 0.992969 -0.639907 C 0.995052 -0.643595 0.997144 -0.643611 0.999219 -0.647314 C 1.001294 -0.651018 1.001259 -0.655339 1.005417 -0.66213 C 1.009575 -0.668919 1.019306 -0.681882 1.024167 -0.688055 C 1.029028 -0.694228 1.031111 -0.694228 1.034584 -0.699166 C 1.038056 -0.704105 1.041875 -0.71213 1.045 -0.717685 C 1.048125 -0.72324 1.050903 -0.728796 1.053334 -0.7325 C 1.055764 -0.736203 1.0575 -0.736203 1.059584 -0.739908 C 1.061667 -0.743611 1.062709 -0.749166 1.065834 -0.754722 C 1.068959 -0.760277 1.075209 -0.768919 1.078334 -0.77324 C 1.081459 -0.777561 1.081806 -0.777561 1.084584 -0.780648 C 1.087361 -0.783734 1.092223 -0.788055 1.095 -0.791759 C 1.097778 -0.795463 1.099167 -0.799784 1.10125 -0.80287 C 1.103334 -0.805956 1.105417 -0.807808 1.1075 -0.810277 C 1.109584 -0.812747 1.111667 -0.815216 1.11375 -0.817686 C 1.115834 -0.820154 1.122084 -0.826328 1.12 -0.825092 C 1.117917 -0.823858 1.106111 -0.813981 1.10125 -0.810277 C 1.096389 -0.806574 1.095348 -0.806574 1.090834 -0.80287 C 1.08632 -0.799167 1.079723 -0.792994 1.074167 -0.788055 C 1.068611 -0.783117 1.063403 -0.777561 1.0575 -0.77324 C 1.051598 -0.768919 1.044306 -0.765833 1.03875 -0.762129 C 1.033195 -0.758425 1.029028 -0.754722 1.024167 -0.751018 C 1.019306 -0.747314 1.014089 -0.744228 1.009584 -0.739908 C 1.005078 -0.735586 1.001294 -0.729414 0.997136 -0.725092 C 0.992978 -0.720771 0.988455 -0.717068 0.984636 -0.713981 C 0.980816 -0.710895 0.978386 -0.70966 0.974219 -0.706574 C 0.970052 -0.703487 0.96415 -0.699784 0.959636 -0.695463 C 0.955122 -0.691142 0.95165 -0.686203 0.947136 -0.680648 C 0.942622 -0.675092 0.937066 -0.667067 0.932552 -0.66213 C 0.928038 -0.657191 0.923872 -0.654722 0.920052 -0.651018 C 0.916233 -0.647314 0.913455 -0.642978 0.909636 -0.639907 C 0.905816 -0.636836 0.900608 -0.635663 0.897136 -0.632592 C 0.893663 -0.629522 0.891927 -0.625185 0.888802 -0.621481 C 0.885677 -0.617777 0.881163 -0.613456 0.878386 -0.610371 C 0.875608 -0.607284 0.874566 -0.605432 0.872136 -0.602962 C 0.869705 -0.600493 0.866927 -0.599259 0.863802 -0.595555 C 0.860677 -0.591851 0.856511 -0.585679 0.853386 -0.58074 C 0.850261 -0.575802 0.848177 -0.570247 0.845052 -0.565926 C 0.841927 -0.561604 0.838455 -0.559135 0.834636 -0.554814 C 0.830816 -0.550493 0.826302 -0.544938 0.822136 -0.54 C 0.817969 -0.535061 0.81658 -0.531975 0.809636 -0.525186 C 0.802691 -0.518395 0.787761 -0.505432 0.780469 -0.499259 C 0.773177 -0.493086 0.770747 -0.491851 0.765886 -0.488148 C 0.761025 -0.484444 0.756163 -0.481358 0.751302 -0.477037 C 0.746441 -0.472716 0.740886 -0.466543 0.736719 -0.462222 C 0.732552 -0.457901 0.730122 -0.454213 0.726302 -0.451111 C 0.722483 -0.448009 0.717969 -0.446712 0.713802 -0.443611 C 0.709636 -0.440509 0.706163 -0.437438 0.701302 -0.4325 C 0.696441 -0.427561 0.690191 -0.419537 0.684636 -0.413981 C 0.67908 -0.408426 0.673872 -0.404105 0.667969 -0.399166 C 0.662066 -0.394228 0.655122 -0.388672 0.649219 -0.384351 C 0.643316 -0.38003 0.638455 -0.378179 0.632552 -0.37324 C 0.62665 -0.368302 0.619705 -0.360895 0.613802 -0.354722 C 0.6079 -0.348549 0.602691 -0.341759 0.597136 -0.336203 C 0.59158 -0.330648 0.586033 -0.326327 0.580469 -0.321388 C 0.574905 -0.31645 0.568967 -0.311512 0.56375 -0.306574 C 0.558533 -0.301635 0.554028 -0.297314 0.549167 -0.291759 C 0.544306 -0.286203 0.539098 -0.278796 0.534584 -0.27324 C 0.53007 -0.267685 0.526598 -0.263364 0.522084 -0.258425 C 0.51757 -0.253487 0.512361 -0.248549 0.5075 -0.243611 C 0.502639 -0.238672 0.497431 -0.233117 0.492917 -0.228796 C 0.488403 -0.224475 0.484931 -0.221388 0.480417 -0.217685 C 0.475903 -0.213981 0.47 -0.210895 0.465834 -0.206574 C 0.461667 -0.202253 0.459236 -0.196697 0.455417 -0.191759 C 0.451597 -0.186821 0.446389 -0.181265 0.442917 -0.176944 C 0.439445 -0.172623 0.437709 -0.168919 0.434584 -0.165833 C 0.431459 -0.162747 0.428681 -0.162129 0.424167 -0.158425 C 0.419653 -0.154722 0.412014 -0.148549 0.4075 -0.143611 C 0.402986 -0.138672 0.400209 -0.133117 0.397084 -0.128796 C 0.393959 -0.124475 0.391875 -0.121388 0.38875 -0.117685 C 0.385625 -0.113981 0.381459 -0.10966 0.378334 -0.106574 C 0.375209 -0.103487 0.373117 -0.101635 0.37 -0.099166 C 0.366884 -0.096697 0.363099 -0.094845 0.359636 -0.091759 C 0.356172 -0.088672 0.352691 -0.084351 0.349219 -0.080648 C 0.345747 -0.076944 0.342969 -0.074459 0.338802 -0.069537 C 0.334636 -0.064614 0.328386 -0.056651 0.324219 -0.051111 C 0.320052 -0.045571 0.317275 -0.04 0.313802 -0.036296 C 0.31033 -0.032592 0.308247 -0.033209 0.303386 -0.028888 C 0.298525 -0.024568 0.28915 -0.014691 0.284636 -0.01037 C 0.280122 -0.006049 0.27908 -0.006049 0.276302 -0.002963 C 0.273525 0.000124 0.271441 0.005062 0.267969 0.008149 C 0.264497 0.011235 0.258941 0.013087 0.255469 0.015556 C 0.251997 0.018025 0.250261 0.019877 0.247136 0.022963 C 0.244011 0.02605 0.239844 0.030988 0.236719 0.034075 C 0.233594 0.037161 0.231858 0.038395 0.228386 0.041482 C 0.224914 0.044568 0.219705 0.049507 0.215886 0.052593 C 0.212066 0.055679 0.208941 0.056914 0.205469 0.06 C 0.201997 0.063087 0.198177 0.068025 0.195052 0.071112 C 0.191927 0.074198 0.190191 0.07605 0.186719 0.078519 C 0.183247 0.080988 0.180469 0.080371 0.174219 0.085926 C 0.167969 0.091482 0.15513 0.105679 0.149219 0.111852 C 0.143308 0.118025 0.142231 0.119877 0.13875 0.122963 C 0.135269 0.12605 0.132153 0.127902 0.128334 0.130371 C 0.124514 0.13284 0.119306 0.135309 0.115834 0.137778 C 0.112361 0.140247 0.110625 0.142716 0.1075 0.145186 C 0.104375 0.147655 0.100209 0.150124 0.097084 0.152593 C 0.093959 0.155062 0.091875 0.157531 0.08875 0.16 C 0.085625 0.16247 0.081459 0.164939 0.078334 0.167408 C 0.075209 0.169877 0.072778 0.172346 0.07 0.174815 C 0.067223 0.177284 0.064445 0.180371 0.061667 0.182223 C 0.058889 0.184074 0.055764 0.184075 0.053334 0.185926 C 0.050903 0.187778 0.049853 0.190865 0.047084 0.193334 C 0.044315 0.195803 0.039488 0.198889 0.036719 0.200741 C 0.03395 0.202593 0.0329 0.202593 0.030469 0.204445 C 0.028039 0.206297 0.024914 0.209383 0.022136 0.211852 C 0.019358 0.214321 0.016233 0.217408 0.013802 0.21926 C 0.011372 0.221111 0.009983 0.221112 0.007552 0.222963 C 0.005122 0.224815 0.000608 0.229136 -0.000781 0.230371 E">
                                      <p:cBhvr>
                                        <p:cTn id="395" dur="2000" fill="hold"/>
                                        <p:tgtEl>
                                          <p:spTgt spid="859"/>
                                        </p:tgtEl>
                                      </p:cBhvr>
                                    </p:animMotion>
                                  </p:childTnLst>
                                </p:cTn>
                              </p:par>
                            </p:childTnLst>
                          </p:cTn>
                        </p:par>
                        <p:par>
                          <p:cTn id="396" nodeType="afterEffect" fill="hold">
                            <p:stCondLst>
                              <p:cond delay="6000"/>
                            </p:stCondLst>
                            <p:childTnLst>
                              <p:par>
                                <p:cTn id="397" nodeType="afterEffect" fill="hold" presetClass="path" presetID="0">
                                  <p:stCondLst>
                                    <p:cond delay="0"/>
                                  </p:stCondLst>
                                  <p:childTnLst>
                                    <p:animMotion origin="layout" path="M 0 0 C 0.001389 -0.002485 0.006597 -0.009954 0.008333 -0.014907 C 0.010069 -0.019861 0.009375 -0.022932 0.010417 -0.029722 C 0.011458 -0.036512 0.013203 -0.047624 0.014583 -0.055648 C 0.015963 -0.063673 0.017665 -0.07108 0.018698 -0.07787 C 0.019731 -0.084661 0.01974 -0.086512 0.020781 -0.096389 C 0.021823 -0.106265 0.024253 -0.127253 0.024948 -0.13713 C 0.025642 -0.147006 0.023906 -0.145154 0.024948 -0.155648 C 0.02599 -0.166142 0.030156 -0.188364 0.031198 -0.200093 C 0.03224 -0.211821 0.031198 -0.213673 0.031198 -0.226019 C 0.031198 -0.238364 0.031198 -0.261821 0.031198 -0.274167 C 0.031198 -0.286512 0.031198 -0.288364 0.031198 -0.300093 C 0.031198 -0.311821 0.031198 -0.334043 0.031198 -0.344537 C 0.031198 -0.355031 0.031545 -0.351343 0.031198 -0.363056 C 0.030851 -0.374769 0.029809 -0.402485 0.029115 -0.414815 C 0.02842 -0.427145 0.027726 -0.425926 0.027031 -0.437037 C 0.026337 -0.448148 0.025295 -0.469753 0.024948 -0.481481 C 0.024601 -0.49321 0.024948 -0.497531 0.024948 -0.507407 C 0.024948 -0.517284 0.024948 -0.532099 0.024948 -0.540741 C 0.024948 -0.549383 0.024948 -0.551852 0.024948 -0.559259 C 0.024948 -0.566667 0.025295 -0.577161 0.024948 -0.585185 C 0.024601 -0.59321 0.023559 -0.600617 0.022865 -0.607407 C 0.02217 -0.614198 0.022161 -0.618519 0.020781 -0.625926 C 0.019401 -0.633333 0.016311 -0.645062 0.014583 -0.651852 C 0.012856 -0.658642 0.012153 -0.659259 0.010417 -0.666667 C 0.008681 -0.674074 0.005208 -0.689506 0.004167 -0.696296 C 0.003125 -0.703086 0.004167 -0.701852 0.004167 -0.707407 C 0.004167 -0.712963 0.004167 -0.72284 0.004167 -0.72963 C 0.004167 -0.73642 0.004167 -0.742593 0.004167 -0.748148 C 0.004167 -0.753704 0.004167 -0.758627 0.004167 -0.762963 C 0.004167 -0.767299 0.004167 -0.76983 0.004167 -0.774167 C 0.004167 -0.778503 0.004167 -0.783426 0.004167 -0.788981 C 0.004167 -0.794537 0.004167 -0.80071 0.004167 -0.8075 C 0.004167 -0.81429 0.003819 -0.822315 0.004167 -0.829722 C 0.004514 -0.83713 0.005556 -0.845772 0.00625 -0.851944 C 0.006944 -0.858117 0.007986 -0.861204 0.008333 -0.866759 C 0.008681 -0.872315 0.008333 -0.879105 0.008333 -0.885278 C 0.008333 -0.891451 0.008333 -0.892685 0.008333 -0.903796 C 0.008333 -0.914907 0.008333 -0.940232 0.008333 -0.951944 C 0.008333 -0.963657 0.008333 -0.963596 0.008333 -0.974074 C 0.008333 -0.984553 0.008333 -1.004938 0.008333 -1.014815 C 0.008333 -1.024691 0.009028 -1.025309 0.008333 -1.033333 C 0.007639 -1.041358 0.004861 -1.056173 0.004167 -1.062963 C 0.003472 -1.069753 0.004514 -1.07037 0.004167 -1.074074 C 0.003819 -1.077778 0.002778 -1.081481 0.002083 -1.085185 C 0.001389 -1.088889 0.000347 -1.092593 0 -1.096296 C -0.000347 -1.1 0.000347 -1.103086 0 -1.107407 C -0.000347 -1.111728 -0.001736 -1.123457 -0.002083 -1.122222 C -0.002431 -1.120988 -0.001736 -1.105556 -0.002083 -1.1 C -0.002431 -1.094444 -0.003819 -1.092593 -0.004167 -1.088889 C -0.004514 -1.085185 -0.003819 -1.081481 -0.004167 -1.077778 C -0.004514 -1.074074 -0.005556 -1.071605 -0.00625 -1.066667 C -0.006944 -1.061728 -0.007639 -1.053704 -0.008333 -1.048148 C -0.009028 -1.042593 -0.010069 -1.037654 -0.010417 -1.033333 C -0.010764 -1.029012 -0.010417 -1.025926 -0.010417 -1.022222 C -0.010417 -1.018519 -0.010417 -1.015432 -0.010417 -1.011111 C -0.010417 -1.00679 -0.010417 -1.001852 -0.010417 -0.996296 C -0.010417 -0.990741 -0.010417 -0.983333 -0.010417 -0.977778 C -0.010417 -0.972222 -0.010417 -0.968503 -0.010417 -0.962963 C -0.010417 -0.957423 -0.010417 -0.953164 -0.010417 -0.944537 C -0.010417 -0.935911 -0.010417 -0.919846 -0.010417 -0.911204 C -0.010417 -0.902562 -0.010417 -0.90071 -0.010417 -0.892685 C -0.010417 -0.884661 -0.010417 -0.870463 -0.010417 -0.863056 C -0.010417 -0.855648 -0.010417 -0.855648 -0.010417 -0.848241 C -0.010417 -0.840833 -0.010417 -0.826019 -0.010417 -0.818611 C -0.010417 -0.811204 -0.010417 -0.808735 -0.010417 -0.803796 C -0.010417 -0.798858 -0.010417 -0.79392 -0.010417 -0.788981 C -0.010417 -0.784043 -0.010417 -0.779738 -0.010417 -0.774167 C -0.010417 -0.768596 -0.010764 -0.761127 -0.010417 -0.755556 C -0.010069 -0.749985 -0.008681 -0.745062 -0.008333 -0.740741 C -0.007986 -0.73642 -0.008333 -0.733333 -0.008333 -0.72963 C -0.008333 -0.725926 -0.008333 -0.72284 -0.008333 -0.718518 C -0.008333 -0.714198 -0.008333 -0.708025 -0.008333 -0.703704 C -0.008333 -0.699383 -0.007986 -0.7 -0.008333 -0.692593 C -0.008681 -0.685185 -0.010069 -0.666667 -0.010417 -0.659259 C -0.010764 -0.651852 -0.010417 -0.651852 -0.010417 -0.648148 C -0.010417 -0.644445 -0.010417 -0.641975 -0.010417 -0.637037 C -0.010417 -0.632099 -0.010417 -0.623457 -0.010417 -0.618519 C -0.010417 -0.61358 -0.010417 -0.611111 -0.010417 -0.607407 C -0.010417 -0.603704 -0.010417 -0.600617 -0.010417 -0.596296 C -0.010417 -0.591975 -0.010417 -0.58642 -0.010417 -0.581481 C -0.010417 -0.576543 -0.010417 -0.570988 -0.010417 -0.566667 C -0.010417 -0.562346 -0.010417 -0.561111 -0.010417 -0.555556 C -0.010417 -0.55 -0.010417 -0.539506 -0.010417 -0.533333 C -0.010417 -0.527161 -0.010417 -0.52284 -0.010417 -0.518519 C -0.010417 -0.514198 -0.010417 -0.512963 -0.010417 -0.507407 C -0.010417 -0.501852 -0.010417 -0.490741 -0.010417 -0.485185 C -0.010417 -0.47963 -0.010069 -0.478395 -0.010417 -0.474074 C -0.010764 -0.469753 -0.012153 -0.46358 -0.0125 -0.459259 C -0.012847 -0.454938 -0.012153 -0.453086 -0.0125 -0.448148 C -0.012847 -0.44321 -0.014236 -0.435185 -0.014583 -0.42963 C -0.014931 -0.424074 -0.014583 -0.419753 -0.014583 -0.414815 C -0.014583 -0.409877 -0.014583 -0.40554 -0.014583 -0.4 C -0.014583 -0.39446 -0.014583 -0.387114 -0.014583 -0.381574 C -0.014583 -0.376034 -0.014583 -0.371698 -0.014583 -0.366759 C -0.014583 -0.361821 -0.014583 -0.356883 -0.014583 -0.351944 C -0.014583 -0.347006 -0.014583 -0.342068 -0.014583 -0.33713 C -0.014583 -0.332191 -0.014583 -0.326636 -0.014583 -0.322315 C -0.014583 -0.317994 -0.014583 -0.315525 -0.014583 -0.311204 C -0.014583 -0.306883 -0.014583 -0.30071 -0.014583 -0.296389 C -0.014583 -0.292068 -0.014583 -0.290216 -0.014583 -0.285278 C -0.014583 -0.28034 -0.014583 -0.271698 -0.014583 -0.266759 C -0.014583 -0.261821 -0.014583 -0.259352 -0.014583 -0.255648 C -0.014583 -0.251945 -0.014583 -0.248241 -0.014583 -0.244537 C -0.014583 -0.240833 -0.014583 -0.237747 -0.014583 -0.233426 C -0.014583 -0.229105 -0.014583 -0.222932 -0.014583 -0.218611 C -0.014583 -0.21429 -0.014583 -0.211821 -0.014583 -0.2075 C -0.014583 -0.203179 -0.014583 -0.197006 -0.014583 -0.192685 C -0.014583 -0.188364 -0.015278 -0.188364 -0.014583 -0.181574 C -0.013889 -0.174784 -0.011111 -0.159352 -0.010417 -0.151944 C -0.009722 -0.144537 -0.010417 -0.142068 -0.010417 -0.13713 C -0.010417 -0.132191 -0.010417 -0.12787 -0.010417 -0.122315 C -0.010417 -0.116759 -0.010417 -0.109352 -0.010417 -0.103796 C -0.010417 -0.098241 -0.010764 -0.093302 -0.010417 -0.088981 C -0.010069 -0.084661 -0.009028 -0.081574 -0.008333 -0.07787 C -0.007639 -0.074167 -0.006597 -0.070463 -0.00625 -0.066759 C -0.005903 -0.063056 -0.006597 -0.059352 -0.00625 -0.055648 C -0.005903 -0.051945 -0.004514 -0.048241 -0.004167 -0.044537 C -0.003819 -0.040833 -0.004514 -0.03713 -0.004167 -0.033426 C -0.003819 -0.029722 -0.002431 -0.026651 -0.002083 -0.022315 C -0.001736 -0.017978 -0.002778 -0.008025 -0.002083 -0.007407 C -0.001389 -0.00679 0.001042 -0.014892 0.002083 -0.018611 C 0.003125 -0.02233 0.003819 -0.026019 0.004167 -0.029722 C 0.004514 -0.033426 0.004167 -0.03713 0.004167 -0.040833 C 0.004167 -0.044537 0.004167 -0.045772 0.004167 -0.051944 C 0.004167 -0.058117 0.004167 -0.069228 0.004167 -0.07787 C 0.004167 -0.086512 0.004167 -0.097624 0.004167 -0.103796 C 0.004167 -0.109969 0.003819 -0.109352 0.004167 -0.114907 C 0.004514 -0.120463 0.005556 -0.129105 0.00625 -0.13713 C 0.006944 -0.145154 0.007292 -0.155648 0.008333 -0.163056 C 0.009375 -0.170463 0.011806 -0.176636 0.0125 -0.181574 C 0.013194 -0.186512 0.012153 -0.188364 0.0125 -0.192685 C 0.012847 -0.197006 0.013889 -0.202562 0.014583 -0.2075 C 0.015278 -0.212438 0.016319 -0.217994 0.016667 -0.222315 C 0.017014 -0.226636 0.016667 -0.229722 0.016667 -0.233426 C 0.016667 -0.23713 0.016328 -0.240833 0.016667 -0.244537 C 0.017005 -0.248241 0.018012 -0.251327 0.018698 -0.255648 C 0.019384 -0.259969 0.020434 -0.266142 0.020781 -0.270463 C 0.021128 -0.274784 0.020781 -0.27787 0.020781 -0.281574 C 0.020781 -0.285278 0.020087 -0.286512 0.020781 -0.292685 C 0.021476 -0.298858 0.024253 -0.311821 0.024948 -0.318611 C 0.025642 -0.325401 0.024601 -0.32787 0.024948 -0.333426 C 0.025295 -0.338981 0.026337 -0.346389 0.027031 -0.351944 C 0.027726 -0.3575 0.02842 -0.361204 0.029115 -0.366759 C 0.029809 -0.372315 0.030851 -0.37912 0.031198 -0.385278 C 0.031545 -0.391435 0.030851 -0.396929 0.031198 -0.403704 C 0.031545 -0.410478 0.03224 -0.419136 0.033281 -0.425926 C 0.034323 -0.432716 0.036753 -0.438272 0.037448 -0.444444 C 0.038142 -0.450617 0.037448 -0.456173 0.037448 -0.462963 C 0.037448 -0.469753 0.037448 -0.478395 0.037448 -0.485185 C 0.037448 -0.491975 0.037448 -0.496914 0.037448 -0.503704 C 0.037448 -0.510494 0.037448 -0.517901 0.037448 -0.525926 C 0.037448 -0.533951 0.037795 -0.539506 0.037448 -0.551852 C 0.037101 -0.564198 0.036059 -0.589506 0.035365 -0.6 C 0.03467 -0.610494 0.033628 -0.610494 0.033281 -0.614815 C 0.032934 -0.619136 0.033628 -0.622222 0.033281 -0.625926 C 0.032934 -0.62963 0.031545 -0.632099 0.031198 -0.637037 C 0.030851 -0.641975 0.031198 -0.65 0.031198 -0.655556 C 0.031198 -0.661111 0.031198 -0.666049 0.031198 -0.67037 C 0.031198 -0.674691 0.031198 -0.677778 0.031198 -0.681481 C 0.031198 -0.685185 0.031198 -0.688272 0.031198 -0.692593 C 0.031198 -0.696914 0.031198 -0.701852 0.031198 -0.707407 C 0.031198 -0.712963 0.031198 -0.719753 0.031198 -0.725926 C 0.031198 -0.732099 0.031198 -0.739506 0.031198 -0.744444 C 0.031198 -0.749383 0.031198 -0.751852 0.031198 -0.755556 C 0.031198 -0.759259 0.031198 -0.762948 0.031198 -0.766667 C 0.031198 -0.770386 0.031545 -0.774151 0.031198 -0.77787 C 0.030851 -0.78159 0.029462 -0.785278 0.029115 -0.788981 C 0.028767 -0.792685 0.029115 -0.796389 0.029115 -0.800093 C 0.029115 -0.803796 0.029115 -0.8075 0.029115 -0.811204 C 0.029115 -0.814907 0.029115 -0.818611 0.029115 -0.822315 C 0.029115 -0.826019 0.029115 -0.829722 0.029115 -0.833426 C 0.029115 -0.83713 0.029115 -0.840216 0.029115 -0.844537 C 0.029115 -0.848858 0.029115 -0.855031 0.029115 -0.859352 C 0.029115 -0.863673 0.029462 -0.866142 0.029115 -0.870463 C 0.028767 -0.874784 0.027726 -0.879722 0.027031 -0.885278 C 0.026337 -0.890833 0.02599 -0.898241 0.024948 -0.903796 C 0.023906 -0.909352 0.022161 -0.912438 0.020781 -0.918611 C 0.019401 -0.924784 0.017352 -0.935278 0.016667 -0.940833 C 0.015981 -0.946389 0.017014 -0.947639 0.016667 -0.951944 C 0.016319 -0.95625 0.014931 -0.961744 0.014583 -0.966667 C 0.014236 -0.97159 0.014583 -0.977161 0.014583 -0.981481 C 0.014583 -0.985802 0.014583 -0.988272 0.014583 -0.992593 C 0.014583 -0.996914 0.014583 -1.003086 0.014583 -1.007407 C 0.014583 -1.011728 0.014583 -1.014815 0.014583 -1.018519 C 0.014583 -1.022222 0.014583 -1.025926 0.014583 -1.02963 C 0.014583 -1.033333 0.014583 -1.035802 0.014583 -1.040741 C 0.014583 -1.045679 0.014931 -1.053704 0.014583 -1.059259 C 0.014236 -1.064815 0.013194 -1.069753 0.0125 -1.074074 C 0.011806 -1.078395 0.010764 -1.081481 0.010417 -1.085185 C 0.010069 -1.088889 0.010417 -1.092593 0.010417 -1.096296 C 0.010417 -1.1 0.010417 -1.103704 0.010417 -1.107407 C 0.010417 -1.111111 0.010417 -1.12037 0.010417 -1.118518 C 0.010417 -1.116667 0.010417 -1.103086 0.010417 -1.096296 C 0.010417 -1.089506 0.009722 -1.085803 0.010417 -1.077778 C 0.011111 -1.069753 0.013889 -1.055556 0.014583 -1.048148 C 0.015278 -1.040741 0.014583 -1.042593 0.014583 -1.033333 C 0.014583 -1.024074 0.014583 -1.002469 0.014583 -0.992593 C 0.014583 -0.982716 0.014583 -0.980231 0.014583 -0.974074 C 0.014583 -0.967917 0.014583 -0.965509 0.014583 -0.955648 C 0.014583 -0.945787 0.014583 -0.926019 0.014583 -0.914907 C 0.014583 -0.903796 0.014583 -0.900093 0.014583 -0.888981 C 0.014583 -0.87787 0.014583 -0.858735 0.014583 -0.848241 C 0.014583 -0.837747 0.01355 -0.838364 0.014583 -0.826019 C 0.015616 -0.813673 0.019401 -0.786528 0.020781 -0.774167 C 0.022161 -0.761806 0.021823 -0.761744 0.022865 -0.751852 C 0.023906 -0.74196 0.026337 -0.723457 0.027031 -0.714815 C 0.027726 -0.706173 0.026337 -0.708642 0.027031 -0.7 C 0.027726 -0.691358 0.030156 -0.671605 0.031198 -0.662963 C 0.03224 -0.654321 0.032934 -0.653704 0.033281 -0.648148 C 0.033628 -0.642593 0.032934 -0.635803 0.033281 -0.62963 C 0.033628 -0.623457 0.03467 -0.616667 0.035365 -0.611111 C 0.036059 -0.605556 0.036753 -0.601852 0.037448 -0.596296 C 0.038142 -0.590741 0.039184 -0.583951 0.039531 -0.577778 C 0.039878 -0.571605 0.039531 -0.565432 0.039531 -0.559259 C 0.039531 -0.553086 0.039531 -0.547531 0.039531 -0.540741 C 0.039531 -0.533951 0.039531 -0.524691 0.039531 -0.518519 C 0.039531 -0.512346 0.039531 -0.508642 0.039531 -0.503704 C 0.039531 -0.498765 0.040226 -0.499383 0.039531 -0.488889 C 0.038837 -0.478395 0.036059 -0.450617 0.035365 -0.440741 C 0.03467 -0.430864 0.035712 -0.433333 0.035365 -0.42963 C 0.035017 -0.425926 0.033976 -0.423457 0.033281 -0.418519 C 0.032587 -0.41358 0.031545 -0.40554 0.031198 -0.4 C 0.030851 -0.39446 0.031198 -0.390201 0.031198 -0.385278 C 0.031198 -0.380355 0.031545 -0.375401 0.031198 -0.370463 C 0.030851 -0.365525 0.029462 -0.359969 0.029115 -0.355648 C 0.028767 -0.351327 0.029115 -0.348858 0.029115 -0.344537 C 0.029115 -0.340216 0.029115 -0.334661 0.029115 -0.329722 C 0.029115 -0.324784 0.029115 -0.319846 0.029115 -0.314907 C 0.029115 -0.309969 0.029462 -0.305648 0.029115 -0.300093 C 0.028767 -0.294537 0.027378 -0.287747 0.027031 -0.281574 C 0.026684 -0.275401 0.027031 -0.269228 0.027031 -0.263056 C 0.027031 -0.256883 0.027031 -0.250093 0.027031 -0.244537 C 0.027031 -0.238982 0.027031 -0.234043 0.027031 -0.229722 C 0.027031 -0.225401 0.027031 -0.222932 0.027031 -0.218611 C 0.027031 -0.21429 0.027031 -0.208117 0.027031 -0.203796 C 0.027031 -0.199475 0.027031 -0.197006 0.027031 -0.192685 C 0.027031 -0.188364 0.027031 -0.184661 0.027031 -0.17787 C 0.027031 -0.17108 0.027031 -0.158735 0.027031 -0.151944 C 0.027031 -0.145154 0.027031 -0.142068 0.027031 -0.13713 C 0.027031 -0.132191 0.027378 -0.126636 0.027031 -0.122315 C 0.026684 -0.117994 0.025642 -0.114907 0.024948 -0.111204 C 0.024253 -0.1075 0.023212 -0.103796 0.022865 -0.100093 C 0.022517 -0.096389 0.022865 -0.092685 0.022865 -0.088981 C 0.022865 -0.085278 0.022865 -0.082191 0.022865 -0.07787 C 0.022865 -0.073549 0.022865 -0.067377 0.022865 -0.063056 C 0.022865 -0.058735 0.022865 -0.055648 0.022865 -0.051944 C 0.022865 -0.048241 0.022517 -0.045154 0.022865 -0.040833 C 0.023212 -0.036512 0.024601 -0.03034 0.024948 -0.026019 C 0.025295 -0.021698 0.024948 -0.016759 0.024948 -0.014907 E">
                                      <p:cBhvr>
                                        <p:cTn id="398" dur="2000" fill="hold"/>
                                        <p:tgtEl>
                                          <p:spTgt spid="868"/>
                                        </p:tgtEl>
                                      </p:cBhvr>
                                    </p:animMotion>
                                  </p:childTnLst>
                                </p:cTn>
                              </p:par>
                            </p:childTnLst>
                          </p:cTn>
                        </p:par>
                        <p:par>
                          <p:cTn id="399" nodeType="afterEffect" fill="hold">
                            <p:stCondLst>
                              <p:cond delay="8000"/>
                            </p:stCondLst>
                            <p:childTnLst>
                              <p:par>
                                <p:cTn id="400" nodeType="afterEffect" fill="hold" presetClass="path" presetID="0">
                                  <p:stCondLst>
                                    <p:cond delay="0"/>
                                  </p:stCondLst>
                                  <p:childTnLst>
                                    <p:animMotion origin="layout" path="M 0 0 C -0.000694 -0.002469 -0.002083 -0.009259 -0.004167 -0.014815 C -0.00625 -0.02037 -0.010069 -0.027778 -0.0125 -0.033333 C -0.014931 -0.038889 -0.016319 -0.042593 -0.01875 -0.048148 C -0.021181 -0.053704 -0.024306 -0.060494 -0.027083 -0.066667 C -0.029861 -0.07284 -0.032986 -0.07963 -0.035417 -0.085185 C -0.037847 -0.090741 -0.039583 -0.094445 -0.041667 -0.1 C -0.04375 -0.105556 -0.045486 -0.112346 -0.047917 -0.118519 C -0.050347 -0.124691 -0.054167 -0.12963 -0.05625 -0.137037 C -0.058333 -0.144444 -0.059028 -0.155556 -0.060417 -0.162963 C -0.061806 -0.17037 -0.062847 -0.174691 -0.064583 -0.181481 C -0.066319 -0.188272 -0.069097 -0.196914 -0.070833 -0.203704 C -0.072569 -0.210494 -0.073611 -0.215432 -0.075 -0.222222 C -0.076389 -0.229012 -0.077422 -0.237037 -0.079167 -0.244444 C -0.080911 -0.251852 -0.083724 -0.259259 -0.085469 -0.266667 C -0.087214 -0.274074 -0.087899 -0.282099 -0.089635 -0.288889 C -0.091372 -0.295679 -0.093108 -0.300617 -0.095885 -0.307407 C -0.098663 -0.314198 -0.10283 -0.322222 -0.106302 -0.32963 C -0.109774 -0.337037 -0.113247 -0.34446 -0.116719 -0.351852 C -0.120191 -0.359244 -0.123316 -0.365355 -0.127135 -0.373981 C -0.130955 -0.382608 -0.135122 -0.393117 -0.139635 -0.403611 C -0.144149 -0.414105 -0.149358 -0.425216 -0.154219 -0.436944 C -0.15908 -0.448673 -0.164288 -0.461019 -0.168802 -0.473981 C -0.173316 -0.486944 -0.177135 -0.503611 -0.181302 -0.514722 C -0.185469 -0.525833 -0.189635 -0.532006 -0.193802 -0.540648 C -0.197969 -0.54929 -0.202483 -0.558549 -0.206302 -0.566574 C -0.210122 -0.574599 -0.213941 -0.583241 -0.216719 -0.588796 C -0.219497 -0.594352 -0.220885 -0.594969 -0.222969 -0.599907 C -0.225052 -0.604846 -0.227135 -0.612253 -0.229219 -0.618426 C -0.231302 -0.624599 -0.233733 -0.630154 -0.235469 -0.636944 C -0.237205 -0.643735 -0.238247 -0.653611 -0.239635 -0.659167 C -0.241024 -0.664722 -0.24276 -0.666574 -0.243802 -0.670278 C -0.244844 -0.673981 -0.244844 -0.676451 -0.245885 -0.681389 C -0.246927 -0.686327 -0.249358 -0.694969 -0.250052 -0.699907 C -0.250747 -0.704846 -0.250052 -0.706698 -0.250052 -0.711019 C -0.250052 -0.71534 -0.249358 -0.720895 -0.250052 -0.725833 C -0.250747 -0.730772 -0.25283 -0.735077 -0.254219 -0.740648 C -0.255608 -0.746219 -0.256997 -0.754306 -0.258385 -0.759259 C -0.259774 -0.764213 -0.26151 -0.766049 -0.262552 -0.77037 C -0.263594 -0.774691 -0.263594 -0.77963 -0.264635 -0.785185 C -0.265677 -0.790741 -0.267066 -0.797531 -0.268802 -0.803704 C -0.270538 -0.809877 -0.273316 -0.816049 -0.275052 -0.822222 C -0.276788 -0.828395 -0.277483 -0.835802 -0.279219 -0.840741 C -0.280955 -0.845679 -0.28408 -0.848148 -0.285469 -0.851852 C -0.286858 -0.855556 -0.286858 -0.858642 -0.287552 -0.862963 C -0.288247 -0.867284 -0.288594 -0.873457 -0.289635 -0.877778 C -0.290677 -0.882099 -0.292769 -0.884568 -0.293802 -0.888889 C -0.294835 -0.89321 -0.295148 -0.899383 -0.295833 -0.903704 C -0.296519 -0.908025 -0.296875 -0.910494 -0.297917 -0.914815 C -0.298958 -0.919136 -0.301042 -0.925309 -0.302083 -0.92963 C -0.303125 -0.933951 -0.303125 -0.937052 -0.304167 -0.940741 C -0.305208 -0.944429 -0.307292 -0.948071 -0.308333 -0.951759 C -0.309375 -0.955448 -0.309722 -0.959167 -0.310417 -0.96287 C -0.311111 -0.966574 -0.311806 -0.970278 -0.3125 -0.973981 C -0.313194 -0.977685 -0.313542 -0.981389 -0.314583 -0.985093 C -0.315625 -0.988796 -0.317361 -0.9925 -0.31875 -0.996204 C -0.320139 -0.999907 -0.321528 -1.002994 -0.322917 -1.007315 C -0.324306 -1.011636 -0.325695 -1.017809 -0.327083 -1.02213 C -0.328472 -1.026451 -0.330208 -1.029537 -0.33125 -1.033241 C -0.332292 -1.036944 -0.332639 -1.040648 -0.333333 -1.044352 C -0.334028 -1.048056 -0.334722 -1.051759 -0.335417 -1.055463 C -0.336111 -1.059167 -0.336458 -1.062253 -0.3375 -1.066574 C -0.338542 -1.070895 -0.340625 -1.077068 -0.341667 -1.081389 C -0.342708 -1.08571 -0.342708 -1.087562 -0.34375 -1.0925 C -0.344792 -1.097438 -0.346875 -1.10608 -0.347917 -1.111019 C -0.348958 -1.115957 -0.350694 -1.12213 -0.35 -1.12213 C -0.349306 -1.12213 -0.345486 -1.114722 -0.34375 -1.111019 C -0.342014 -1.107315 -0.340972 -1.104846 -0.339583 -1.099907 C -0.338194 -1.094969 -0.336806 -1.087562 -0.335417 -1.081389 C -0.334028 -1.075216 -0.332639 -1.069661 -0.33125 -1.06287 C -0.329861 -1.05608 -0.328819 -1.048673 -0.327083 -1.040648 C -0.325347 -1.032624 -0.322917 -1.023364 -0.320833 -1.014722 C -0.31875 -1.00608 -0.316319 -0.996821 -0.314583 -0.988796 C -0.312847 -0.980772 -0.311806 -0.972747 -0.310417 -0.966574 C -0.309028 -0.960401 -0.307986 -0.957917 -0.30625 -0.951759 C -0.304514 -0.945602 -0.301736 -0.936404 -0.3 -0.92963 C -0.298264 -0.922855 -0.297214 -0.917284 -0.295833 -0.911111 C -0.294453 -0.904938 -0.293793 -0.898148 -0.291719 -0.892593 C -0.289644 -0.887037 -0.286163 -0.882716 -0.283385 -0.877778 C -0.280608 -0.87284 -0.277135 -0.867901 -0.275052 -0.862963 C -0.272969 -0.858025 -0.272274 -0.853086 -0.270885 -0.848148 C -0.269497 -0.84321 -0.268455 -0.837654 -0.266719 -0.833333 C -0.264983 -0.829012 -0.262552 -0.827161 -0.260469 -0.822222 C -0.258385 -0.817284 -0.255955 -0.809259 -0.254219 -0.803704 C -0.252483 -0.798148 -0.251441 -0.79321 -0.250052 -0.788889 C -0.248663 -0.784568 -0.246927 -0.781482 -0.245885 -0.777778 C -0.244844 -0.774074 -0.244844 -0.771003 -0.243802 -0.766667 C -0.24276 -0.76233 -0.24033 -0.756096 -0.239635 -0.751759 C -0.238941 -0.747423 -0.239983 -0.744969 -0.239635 -0.740648 C -0.239288 -0.736327 -0.238247 -0.730154 -0.237552 -0.725833 C -0.236858 -0.721512 -0.23651 -0.719661 -0.235469 -0.714722 C -0.234427 -0.709784 -0.232344 -0.701759 -0.231302 -0.696204 C -0.23026 -0.690648 -0.23026 -0.686327 -0.229219 -0.681389 C -0.228177 -0.676451 -0.226788 -0.671512 -0.225052 -0.666574 C -0.223316 -0.661636 -0.220191 -0.656698 -0.218802 -0.651759 C -0.217413 -0.646821 -0.21776 -0.6425 -0.216719 -0.636944 C -0.215677 -0.631389 -0.213941 -0.623981 -0.212552 -0.618426 C -0.211163 -0.61287 -0.209774 -0.608549 -0.208385 -0.603611 C -0.206997 -0.598673 -0.206302 -0.593735 -0.204219 -0.588796 C -0.202135 -0.583858 -0.197969 -0.579537 -0.195885 -0.573981 C -0.193802 -0.568426 -0.19276 -0.561019 -0.191719 -0.555463 C -0.190677 -0.549908 -0.190677 -0.545586 -0.189635 -0.540648 C -0.188594 -0.53571 -0.186858 -0.530772 -0.185469 -0.525833 C -0.18408 -0.520895 -0.182691 -0.516574 -0.181302 -0.511019 C -0.179913 -0.505463 -0.178524 -0.498673 -0.177135 -0.4925 C -0.175747 -0.486327 -0.174358 -0.480772 -0.172969 -0.473981 C -0.17158 -0.467191 -0.170885 -0.457932 -0.168802 -0.451759 C -0.166719 -0.445586 -0.163247 -0.441265 -0.160469 -0.436944 C -0.157691 -0.432624 -0.154566 -0.430772 -0.152135 -0.425833 C -0.149705 -0.420895 -0.147969 -0.413488 -0.145885 -0.407315 C -0.143802 -0.401142 -0.141372 -0.393735 -0.139635 -0.388796 C -0.137899 -0.383858 -0.136858 -0.381374 -0.135469 -0.377685 C -0.13408 -0.373997 -0.133038 -0.370355 -0.131302 -0.366667 C -0.129566 -0.362978 -0.127135 -0.359877 -0.125052 -0.355556 C -0.122969 -0.351235 -0.120538 -0.345679 -0.118802 -0.340741 C -0.117066 -0.335802 -0.115677 -0.330864 -0.114635 -0.325926 C -0.113594 -0.320988 -0.113594 -0.316049 -0.112552 -0.311111 C -0.11151 -0.306173 -0.109427 -0.300617 -0.108385 -0.296296 C -0.107344 -0.291975 -0.106997 -0.288889 -0.106302 -0.285185 C -0.105608 -0.281482 -0.10526 -0.277778 -0.104219 -0.274074 C -0.103177 -0.27037 -0.101094 -0.266667 -0.100052 -0.262963 C -0.09901 -0.259259 -0.09901 -0.25679 -0.097969 -0.251852 C -0.096927 -0.246914 -0.095191 -0.239506 -0.093802 -0.233333 C -0.092413 -0.227161 -0.091024 -0.22037 -0.089635 -0.214815 C -0.088247 -0.209259 -0.08651 -0.204938 -0.085469 -0.2 C -0.084427 -0.195062 -0.084436 -0.190124 -0.083385 -0.185185 C -0.082335 -0.180247 -0.081259 -0.175309 -0.079167 -0.17037 C -0.077075 -0.165432 -0.072917 -0.160494 -0.070833 -0.155556 C -0.06875 -0.150617 -0.068056 -0.145062 -0.066667 -0.140741 C -0.065278 -0.13642 -0.064236 -0.133333 -0.0625 -0.12963 C -0.060764 -0.125926 -0.057986 -0.122222 -0.05625 -0.118519 C -0.054514 -0.114815 -0.053472 -0.112346 -0.052083 -0.107407 C -0.050694 -0.102469 -0.048958 -0.093827 -0.047917 -0.088889 C -0.046875 -0.083951 -0.046875 -0.081481 -0.045833 -0.077778 C -0.044792 -0.074074 -0.043403 -0.069753 -0.041667 -0.066667 C -0.039931 -0.06358 -0.037153 -0.062346 -0.035417 -0.059259 C -0.033681 -0.056173 -0.032639 -0.051852 -0.03125 -0.048148 C -0.029861 -0.044445 -0.028819 -0.040124 -0.027083 -0.037037 C -0.025347 -0.033951 -0.022222 -0.032716 -0.020833 -0.02963 C -0.019444 -0.026543 -0.019097 -0.018519 -0.01875 -0.018519 C -0.018403 -0.018519 -0.018403 -0.025309 -0.01875 -0.02963 C -0.019097 -0.033951 -0.019444 -0.038889 -0.020833 -0.044444 C -0.022222 -0.05 -0.025694 -0.058025 -0.027083 -0.062963 C -0.028472 -0.067901 -0.028819 -0.07037 -0.029167 -0.074074 C -0.029514 -0.077778 -0.028125 -0.080864 -0.029167 -0.085185 C -0.030208 -0.089506 -0.033681 -0.095679 -0.035417 -0.1 C -0.037153 -0.104321 -0.038542 -0.10679 -0.039583 -0.111111 C -0.040625 -0.115432 -0.040278 -0.120988 -0.041667 -0.125926 C -0.043056 -0.130864 -0.046181 -0.13642 -0.047917 -0.140741 C -0.049653 -0.145062 -0.05 -0.146914 -0.052083 -0.151852 C -0.054167 -0.15679 -0.057986 -0.164815 -0.060417 -0.17037 C -0.062847 -0.175926 -0.064236 -0.17963 -0.066667 -0.185185 C -0.069097 -0.190741 -0.072569 -0.198148 -0.075 -0.203704 C -0.077431 -0.209259 -0.079505 -0.214198 -0.08125 -0.218519 C -0.082995 -0.22284 -0.084071 -0.225926 -0.085469 -0.22963 C -0.086866 -0.233333 -0.087552 -0.235803 -0.089635 -0.240741 C -0.091719 -0.245679 -0.095885 -0.254321 -0.097969 -0.259259 C -0.100052 -0.264198 -0.100399 -0.266049 -0.102135 -0.27037 C -0.103872 -0.274691 -0.106302 -0.280247 -0.108385 -0.285185 C -0.110469 -0.290124 -0.112552 -0.296296 -0.114635 -0.3 C -0.116719 -0.303704 -0.119149 -0.303704 -0.120885 -0.307407 C -0.122622 -0.311111 -0.12401 -0.317901 -0.125052 -0.322222 C -0.126094 -0.326543 -0.125747 -0.32963 -0.127135 -0.333333 C -0.128524 -0.337037 -0.131649 -0.340124 -0.133385 -0.344444 C -0.135122 -0.348765 -0.135816 -0.354938 -0.137552 -0.359259 C -0.139288 -0.36358 -0.142066 -0.366682 -0.143802 -0.37037 C -0.145538 -0.374059 -0.146233 -0.377083 -0.147969 -0.381389 C -0.149705 -0.385694 -0.15283 -0.391883 -0.154219 -0.396204 C -0.155608 -0.400525 -0.155608 -0.403611 -0.156302 -0.407315 C -0.156997 -0.411019 -0.157344 -0.413488 -0.158385 -0.418426 C -0.159427 -0.423364 -0.160816 -0.430154 -0.162552 -0.436944 C -0.164288 -0.443735 -0.167413 -0.453611 -0.168802 -0.459167 C -0.170191 -0.464722 -0.169844 -0.466574 -0.170885 -0.470278 C -0.171927 -0.473981 -0.17401 -0.475833 -0.175052 -0.481389 C -0.176094 -0.486944 -0.176441 -0.498056 -0.177135 -0.503611 C -0.17783 -0.509167 -0.178524 -0.511019 -0.179219 -0.514722 C -0.179913 -0.518426 -0.179913 -0.520278 -0.181302 -0.525833 C -0.182691 -0.531389 -0.185816 -0.541883 -0.187552 -0.548056 C -0.189288 -0.554228 -0.190677 -0.558549 -0.191719 -0.56287 C -0.19276 -0.567191 -0.19276 -0.568426 -0.193802 -0.573981 C -0.194844 -0.579537 -0.195885 -0.589414 -0.197969 -0.596204 C -0.200052 -0.602994 -0.204219 -0.609784 -0.206302 -0.614722 C -0.208385 -0.619661 -0.208733 -0.62213 -0.210469 -0.625833 C -0.212205 -0.629537 -0.214635 -0.633241 -0.216719 -0.636944 C -0.218802 -0.640648 -0.221233 -0.644352 -0.222969 -0.648056 C -0.224705 -0.651759 -0.225747 -0.654846 -0.227135 -0.659167 C -0.228524 -0.663488 -0.229219 -0.668426 -0.231302 -0.673981 C -0.233385 -0.679537 -0.237552 -0.686945 -0.239635 -0.6925 C -0.241719 -0.698056 -0.242066 -0.703611 -0.243802 -0.707315 C -0.245538 -0.711019 -0.248316 -0.711636 -0.250052 -0.714722 C -0.251788 -0.717809 -0.253177 -0.72213 -0.254219 -0.725833 C -0.25526 -0.729537 -0.254913 -0.733858 -0.256302 -0.736944 C -0.257691 -0.740031 -0.261163 -0.740633 -0.262552 -0.744352 C -0.263941 -0.748071 -0.263941 -0.754923 -0.264635 -0.759259 C -0.26533 -0.763596 -0.265677 -0.765432 -0.266719 -0.77037 C -0.26776 -0.775309 -0.269497 -0.782716 -0.270885 -0.788889 C -0.272274 -0.795062 -0.27401 -0.801852 -0.275052 -0.807407 C -0.276094 -0.812963 -0.276094 -0.817901 -0.277135 -0.822222 C -0.278177 -0.826543 -0.28026 -0.82963 -0.281302 -0.833333 C -0.282344 -0.837037 -0.282691 -0.840741 -0.283385 -0.844444 C -0.28408 -0.848148 -0.285122 -0.851852 -0.285469 -0.855556 C -0.285816 -0.859259 -0.285122 -0.862346 -0.285469 -0.866667 C -0.285816 -0.870988 -0.287205 -0.877161 -0.287552 -0.881481 C -0.287899 -0.885803 -0.286858 -0.888272 -0.287552 -0.892593 C -0.288247 -0.896914 -0.290339 -0.901235 -0.291719 -0.907407 C -0.293099 -0.91358 -0.295148 -0.924074 -0.295833 -0.92963 C -0.296519 -0.935185 -0.295139 -0.936435 -0.295833 -0.940741 C -0.296528 -0.945046 -0.298611 -0.951157 -0.3 -0.955463 C -0.301389 -0.959769 -0.303125 -0.96287 -0.304167 -0.966574 C -0.305208 -0.970278 -0.305208 -0.973364 -0.30625 -0.977685 C -0.307292 -0.982006 -0.309375 -0.988179 -0.310417 -0.9925 C -0.311458 -0.996821 -0.311806 -0.999907 -0.3125 -1.003611 C -0.313194 -1.007315 -0.313889 -1.011019 -0.314583 -1.014722 C -0.315278 -1.018426 -0.315625 -1.02213 -0.316667 -1.025833 C -0.317708 -1.029537 -0.319444 -1.033241 -0.320833 -1.036944 C -0.322222 -1.040648 -0.323611 -1.044352 -0.325 -1.048056 C -0.326389 -1.051759 -0.328125 -1.055463 -0.329167 -1.059167 C -0.330208 -1.06287 -0.330556 -1.066574 -0.33125 -1.070278 C -0.331944 -1.073982 -0.332639 -1.077685 -0.333333 -1.081389 C -0.334028 -1.085093 -0.335764 -1.0925 -0.335417 -1.0925 C -0.335069 -1.0925 -0.332639 -1.085093 -0.33125 -1.081389 C -0.329861 -1.077685 -0.328819 -1.074599 -0.327083 -1.070278 C -0.325347 -1.065957 -0.322569 -1.059784 -0.320833 -1.055463 C -0.319097 -1.051142 -0.317708 -1.048673 -0.316667 -1.044352 C -0.315625 -1.040031 -0.316319 -1.03571 -0.314583 -1.029537 C -0.312847 -1.023364 -0.308681 -1.013488 -0.30625 -1.007315 C -0.303819 -1.001142 -0.302075 -0.998673 -0.3 -0.9925 C -0.297925 -0.986327 -0.295182 -0.976451 -0.293802 -0.970278 C -0.292422 -0.964105 -0.29276 -0.960386 -0.291719 -0.955463 C -0.290677 -0.95054 -0.288594 -0.945664 -0.287552 -0.940741 C -0.28651 -0.935818 -0.286858 -0.931481 -0.285469 -0.925926 C -0.28408 -0.92037 -0.280955 -0.912346 -0.279219 -0.907407 C -0.277483 -0.902469 -0.276094 -0.900617 -0.275052 -0.896296 C -0.27401 -0.891975 -0.273663 -0.885803 -0.272969 -0.881481 C -0.272274 -0.877161 -0.271233 -0.874691 -0.270885 -0.87037 C -0.270538 -0.866049 -0.27158 -0.860494 -0.270885 -0.855556 C -0.270191 -0.850617 -0.268108 -0.846296 -0.266719 -0.840741 C -0.26533 -0.835185 -0.263941 -0.828395 -0.262552 -0.822222 C -0.261163 -0.816049 -0.260122 -0.809877 -0.258385 -0.803704 C -0.256649 -0.797531 -0.254219 -0.791975 -0.252135 -0.785185 C -0.250052 -0.778395 -0.247622 -0.768534 -0.245885 -0.762963 C -0.244149 -0.757392 -0.24276 -0.756096 -0.241719 -0.751759 C -0.240677 -0.747423 -0.24033 -0.741883 -0.239635 -0.736944 C -0.238941 -0.732006 -0.238594 -0.727068 -0.237552 -0.72213 C -0.23651 -0.717191 -0.234427 -0.711636 -0.233385 -0.707315 C -0.232344 -0.702994 -0.232344 -0.701142 -0.231302 -0.696204 C -0.23026 -0.691265 -0.228177 -0.683241 -0.227135 -0.677685 C -0.226094 -0.67213 -0.226094 -0.667809 -0.225052 -0.66287 C -0.22401 -0.657932 -0.222622 -0.652377 -0.220885 -0.648056 C -0.219149 -0.643735 -0.216719 -0.641883 -0.214635 -0.636944 C -0.212552 -0.632006 -0.210469 -0.624599 -0.208385 -0.618426 C -0.206302 -0.612253 -0.204566 -0.605463 -0.202135 -0.599907 C -0.199705 -0.594352 -0.19658 -0.590648 -0.193802 -0.585093 C -0.191024 -0.579537 -0.187899 -0.572747 -0.185469 -0.566574 C -0.183038 -0.560401 -0.181302 -0.553611 -0.179219 -0.548056 C -0.177135 -0.5425 -0.175052 -0.539414 -0.172969 -0.533241 C -0.170885 -0.527068 -0.168455 -0.517809 -0.166719 -0.511019 C -0.164983 -0.504228 -0.163941 -0.498673 -0.162552 -0.4925 C -0.161163 -0.486327 -0.159774 -0.479537 -0.158385 -0.473981 C -0.156997 -0.468426 -0.15526 -0.46534 -0.154219 -0.459167 C -0.153177 -0.452994 -0.153524 -0.443735 -0.152135 -0.436944 C -0.150747 -0.430154 -0.147622 -0.424599 -0.145885 -0.418426 C -0.144149 -0.412253 -0.143108 -0.405463 -0.141719 -0.399907 C -0.14033 -0.394352 -0.138594 -0.390015 -0.137552 -0.385093 C -0.13651 -0.38017 -0.13651 -0.375911 -0.135469 -0.37037 C -0.134427 -0.36483 -0.133038 -0.357407 -0.131302 -0.351852 C -0.129566 -0.346296 -0.126094 -0.342593 -0.125052 -0.337037 C -0.12401 -0.331482 -0.125747 -0.324074 -0.125052 -0.318519 C -0.124358 -0.312963 -0.122274 -0.308642 -0.120885 -0.303704 C -0.119497 -0.298765 -0.11776 -0.29321 -0.116719 -0.288889 C -0.115677 -0.284568 -0.11533 -0.282099 -0.114635 -0.277778 C -0.113941 -0.273457 -0.113941 -0.269136 -0.112552 -0.262963 C -0.111163 -0.25679 -0.107344 -0.246296 -0.106302 -0.240741 C -0.10526 -0.235185 -0.106997 -0.233333 -0.106302 -0.22963 C -0.105608 -0.225926 -0.103524 -0.222222 -0.102135 -0.218519 C -0.100747 -0.214815 -0.099705 -0.211728 -0.097969 -0.207407 C -0.096233 -0.203086 -0.093108 -0.196914 -0.091719 -0.192593 C -0.09033 -0.188272 -0.091024 -0.185185 -0.089635 -0.181481 C -0.088247 -0.177778 -0.084783 -0.174691 -0.083385 -0.17037 C -0.081988 -0.166049 -0.0823 -0.159877 -0.08125 -0.155556 C -0.0802 -0.151235 -0.078819 -0.148765 -0.077083 -0.144444 C -0.075347 -0.140124 -0.072917 -0.134568 -0.070833 -0.12963 C -0.06875 -0.124691 -0.066667 -0.118519 -0.064583 -0.114815 C -0.0625 -0.111111 -0.060069 -0.110494 -0.058333 -0.107407 C -0.056597 -0.104321 -0.05625 -0.099383 -0.054167 -0.096296 C -0.052083 -0.09321 -0.048264 -0.091358 -0.045833 -0.088889 C -0.043403 -0.08642 -0.041667 -0.085185 -0.039583 -0.081481 C -0.0375 -0.077778 -0.035069 -0.070988 -0.033333 -0.066667 C -0.031597 -0.062346 -0.03125 -0.058642 -0.029167 -0.055556 C -0.027083 -0.052469 -0.022569 -0.051235 -0.020833 -0.048148 C -0.019097 -0.045062 -0.019792 -0.040741 -0.01875 -0.037037 C -0.017708 -0.033333 -0.015278 -0.027778 -0.014583 -0.025926 E">
                                      <p:cBhvr>
                                        <p:cTn id="401" dur="2000" fill="hold"/>
                                        <p:tgtEl>
                                          <p:spTgt spid="867"/>
                                        </p:tgtEl>
                                      </p:cBhvr>
                                    </p:animMotion>
                                  </p:childTnLst>
                                </p:cTn>
                              </p:par>
                            </p:childTnLst>
                          </p:cTn>
                        </p:par>
                        <p:par>
                          <p:cTn id="402" nodeType="afterEffect" fill="hold">
                            <p:stCondLst>
                              <p:cond delay="10000"/>
                            </p:stCondLst>
                            <p:childTnLst>
                              <p:par>
                                <p:cTn id="403" nodeType="afterEffect" fill="hold" presetClass="path" presetID="0">
                                  <p:stCondLst>
                                    <p:cond delay="0"/>
                                  </p:stCondLst>
                                  <p:childTnLst>
                                    <p:animMotion origin="layout" path="M 0 0 C 0.001042 -0.003704 0.003819 -0.012963 0.00625 -0.022222 C 0.008681 -0.031481 0.013194 -0.047531 0.014583 -0.055556 C 0.015972 -0.06358 0.014236 -0.062963 0.014583 -0.07037 C 0.014931 -0.077778 0.015972 -0.092593 0.016667 -0.1 C 0.017361 -0.107407 0.017708 -0.108642 0.01875 -0.114815 C 0.019792 -0.120988 0.021875 -0.131482 0.022917 -0.137037 C 0.023958 -0.142593 0.022917 -0.138272 0.025 -0.148148 C 0.027083 -0.158025 0.032986 -0.182716 0.035417 -0.196296 C 0.037847 -0.209877 0.038542 -0.22037 0.039583 -0.22963 C 0.040625 -0.238889 0.040625 -0.243827 0.041667 -0.251852 C 0.042708 -0.259877 0.044792 -0.269753 0.045833 -0.277778 C 0.046875 -0.285803 0.047222 -0.292593 0.047917 -0.3 C 0.048611 -0.307407 0.049306 -0.314815 0.05 -0.322222 C 0.050694 -0.32963 0.051042 -0.337654 0.052083 -0.344444 C 0.053125 -0.351235 0.055208 -0.355571 0.05625 -0.362963 C 0.057292 -0.370355 0.057292 -0.38017 0.058333 -0.388796 C 0.059375 -0.397423 0.061458 -0.40608 0.0625 -0.414722 C 0.063542 -0.423364 0.064236 -0.432006 0.064583 -0.440648 C 0.064931 -0.44929 0.063889 -0.456698 0.064583 -0.466574 C 0.065278 -0.476451 0.067708 -0.487562 0.06875 -0.499907 C 0.069792 -0.512253 0.070486 -0.531389 0.070833 -0.540648 C 0.071181 -0.549907 0.070486 -0.548056 0.070833 -0.555463 C 0.071181 -0.56287 0.072222 -0.578303 0.072917 -0.585093 C 0.073611 -0.591883 0.074306 -0.591883 0.075 -0.596204 C 0.075694 -0.600525 0.076042 -0.603611 0.077083 -0.611019 C 0.078125 -0.618426 0.080208 -0.632623 0.08125 -0.640648 C 0.082292 -0.648673 0.082639 -0.653611 0.083333 -0.659167 C 0.084028 -0.664722 0.084722 -0.669043 0.085417 -0.673981 C 0.086111 -0.67892 0.087153 -0.682624 0.0875 -0.688796 C 0.087847 -0.694969 0.087153 -0.704228 0.0875 -0.711019 C 0.087847 -0.717809 0.088889 -0.723982 0.089583 -0.729537 C 0.090278 -0.735093 0.090972 -0.739398 0.091667 -0.744352 C 0.092361 -0.749306 0.093056 -0.754923 0.09375 -0.759259 C 0.094444 -0.763596 0.095139 -0.766667 0.095833 -0.77037 C 0.096528 -0.774074 0.096528 -0.773457 0.097917 -0.781482 C 0.099306 -0.789506 0.102431 -0.809259 0.104167 -0.818519 C 0.105903 -0.827778 0.106944 -0.831481 0.108333 -0.837037 C 0.109722 -0.842593 0.111111 -0.845679 0.1125 -0.851852 C 0.113889 -0.858025 0.115972 -0.866667 0.116667 -0.874074 C 0.117361 -0.881481 0.116319 -0.888889 0.116667 -0.896296 C 0.117014 -0.903704 0.118056 -0.911111 0.11875 -0.918519 C 0.119444 -0.925926 0.120139 -0.932732 0.120833 -0.940741 C 0.121528 -0.94875 0.122569 -0.959799 0.122917 -0.966574 C 0.123264 -0.973349 0.122917 -0.977068 0.122917 -0.981389 C 0.122917 -0.98571 0.122917 -0.988179 0.122917 -0.9925 C 0.122917 -0.996821 0.122917 -1.002377 0.122917 -1.007315 C 0.122917 -1.012253 0.122222 -1.015339 0.122917 -1.02213 C 0.123611 -1.02892 0.126042 -1.041883 0.127083 -1.048056 C 0.128125 -1.054228 0.128819 -1.054228 0.129167 -1.059167 C 0.129514 -1.064105 0.128819 -1.072747 0.129167 -1.077685 C 0.129514 -1.082623 0.130903 -1.085093 0.13125 -1.088796 C 0.131597 -1.0925 0.130903 -1.095587 0.13125 -1.099907 C 0.131597 -1.104228 0.132639 -1.110401 0.133333 -1.114722 C 0.134028 -1.119043 0.135069 -1.121497 0.135417 -1.125833 C 0.135764 -1.13017 0.135078 -1.135787 0.135417 -1.140741 C 0.135755 -1.145694 0.137795 -1.15679 0.137448 -1.155556 C 0.137101 -1.154321 0.135755 -1.141991 0.133333 -1.133333 C 0.130911 -1.124676 0.125 -1.111651 0.122917 -1.103611 C 0.120833 -1.095571 0.122222 -1.091883 0.120833 -1.085093 C 0.119444 -1.078303 0.115625 -1.068426 0.114583 -1.06287 C 0.113542 -1.057315 0.114931 -1.059784 0.114583 -1.051759 C 0.114236 -1.043735 0.113194 -1.024599 0.1125 -1.014722 C 0.111806 -1.004846 0.111458 -1.000525 0.110417 -0.9925 C 0.109375 -0.984475 0.108333 -0.97767 0.10625 -0.966574 C 0.104167 -0.955478 0.1 -0.937022 0.097917 -0.925926 C 0.095833 -0.91483 0.096181 -0.911111 0.09375 -0.9 C 0.091319 -0.888889 0.085417 -0.869136 0.083333 -0.859259 C 0.08125 -0.849383 0.082292 -0.847531 0.08125 -0.840741 C 0.080208 -0.833951 0.078125 -0.824691 0.077083 -0.818519 C 0.076042 -0.812346 0.075347 -0.808642 0.075 -0.803704 C 0.074653 -0.798765 0.075694 -0.794444 0.075 -0.788889 C 0.074306 -0.783333 0.072222 -0.776559 0.070833 -0.77037 C 0.069444 -0.764182 0.068056 -0.758565 0.066667 -0.751759 C 0.065278 -0.744954 0.063889 -0.73571 0.0625 -0.729537 C 0.061111 -0.723364 0.059375 -0.720278 0.058333 -0.714722 C 0.057292 -0.709167 0.057292 -0.701759 0.05625 -0.696204 C 0.055208 -0.690648 0.054167 -0.688796 0.052083 -0.681389 C 0.05 -0.673982 0.045833 -0.659784 0.04375 -0.651759 C 0.041667 -0.643735 0.040625 -0.639414 0.039583 -0.633241 C 0.038542 -0.627068 0.038542 -0.620278 0.0375 -0.614722 C 0.036458 -0.609167 0.034722 -0.60608 0.033333 -0.599907 C 0.031944 -0.593735 0.030556 -0.584475 0.029167 -0.577685 C 0.027778 -0.570895 0.026042 -0.565957 0.025 -0.559167 C 0.023958 -0.552377 0.024306 -0.544352 0.022917 -0.536944 C 0.021528 -0.529537 0.018403 -0.521512 0.016667 -0.514722 C 0.014931 -0.507932 0.013542 -0.501759 0.0125 -0.496204 C 0.011458 -0.490648 0.011111 -0.487562 0.010417 -0.481389 C 0.009722 -0.475216 0.009375 -0.467191 0.008333 -0.459167 C 0.007292 -0.451142 0.005208 -0.441265 0.004167 -0.433241 C 0.003125 -0.425216 0.002431 -0.420895 0.002083 -0.411019 C 0.001736 -0.401142 0.002083 -0.383225 0.002083 -0.373981 C 0.002083 -0.364738 0.002083 -0.361713 0.002083 -0.355556 C 0.002083 -0.349398 0.002083 -0.343827 0.002083 -0.337037 C 0.002083 -0.330247 0.002778 -0.320988 0.002083 -0.314815 C 0.001389 -0.308642 -0.001389 -0.307407 -0.002083 -0.3 C -0.002778 -0.292593 -0.002083 -0.278395 -0.002083 -0.27037 C -0.002083 -0.262346 -0.002083 -0.262963 -0.002083 -0.251852 C -0.002083 -0.240741 -0.002083 -0.216049 -0.002083 -0.203704 C -0.002083 -0.191358 -0.002083 -0.187654 -0.002083 -0.177778 C -0.002083 -0.167901 -0.001736 -0.152469 -0.002083 -0.144444 C -0.002431 -0.13642 -0.003125 -0.135802 -0.004167 -0.12963 C -0.005208 -0.123457 -0.007639 -0.115432 -0.008333 -0.107407 C -0.009028 -0.099383 -0.008333 -0.087654 -0.008333 -0.081481 C -0.008333 -0.075309 -0.008333 -0.075926 -0.008333 -0.07037 C -0.008333 -0.064815 -0.007986 -0.053704 -0.008333 -0.048148 C -0.008681 -0.042593 -0.010069 -0.040741 -0.010417 -0.037037 C -0.010764 -0.033333 -0.010069 -0.02963 -0.010417 -0.025926 C -0.010764 -0.022222 -0.012153 -0.018519 -0.0125 -0.014815 C -0.012847 -0.011111 -0.0125 -0.003086 -0.0125 -0.003704 C -0.0125 -0.004321 -0.0125 -0.01358 -0.0125 -0.018519 C -0.0125 -0.023457 -0.012153 -0.028395 -0.0125 -0.033333 C -0.012847 -0.038272 -0.013542 -0.043827 -0.014583 -0.048148 C -0.015625 -0.052469 -0.017361 -0.055556 -0.01875 -0.059259 C -0.020139 -0.062963 -0.021181 -0.066667 -0.022917 -0.07037 C -0.024653 -0.074074 -0.027083 -0.077778 -0.029167 -0.081481 C -0.03125 -0.085185 -0.033333 -0.089506 -0.035417 -0.092593 C -0.0375 -0.095679 -0.039236 -0.097531 -0.041667 -0.1 C -0.044097 -0.102469 -0.047569 -0.104938 -0.05 -0.107407 C -0.052431 -0.109877 -0.054167 -0.111728 -0.05625 -0.114815 C -0.058333 -0.117901 -0.060417 -0.123457 -0.0625 -0.125926 C -0.064583 -0.128395 -0.066319 -0.126543 -0.06875 -0.12963 C -0.071181 -0.132716 -0.074653 -0.140741 -0.077083 -0.144444 C -0.079514 -0.148148 -0.080556 -0.147531 -0.083333 -0.151852 C -0.086111 -0.156173 -0.090625 -0.165432 -0.09375 -0.17037 C -0.096875 -0.175309 -0.099306 -0.177778 -0.102083 -0.181481 C -0.104861 -0.185185 -0.107639 -0.188889 -0.110417 -0.192593 C -0.113194 -0.196296 -0.115625 -0.2 -0.11875 -0.203704 C -0.121875 -0.207407 -0.126042 -0.211728 -0.129167 -0.214815 C -0.132292 -0.217901 -0.134722 -0.219136 -0.1375 -0.222222 C -0.140278 -0.225309 -0.142361 -0.22963 -0.145833 -0.233333 C -0.149306 -0.237037 -0.153819 -0.238889 -0.158333 -0.244444 C -0.162847 -0.25 -0.168403 -0.261111 -0.172917 -0.266667 C -0.177431 -0.272222 -0.181944 -0.273457 -0.185417 -0.277778 C -0.188889 -0.282099 -0.190972 -0.287654 -0.19375 -0.292593 C -0.196528 -0.297531 -0.198611 -0.303086 -0.202083 -0.307407 C -0.205556 -0.311728 -0.210764 -0.314198 -0.214583 -0.318519 C -0.218403 -0.32284 -0.221181 -0.327778 -0.225 -0.333333 C -0.228819 -0.338889 -0.232986 -0.346296 -0.2375 -0.351852 C -0.242014 -0.357407 -0.247569 -0.361744 -0.252083 -0.366667 C -0.256597 -0.37159 -0.260069 -0.375849 -0.264583 -0.381389 C -0.269097 -0.386929 -0.274644 -0.393735 -0.279167 -0.399907 C -0.283689 -0.40608 -0.288238 -0.41287 -0.291719 -0.418426 C -0.2952 -0.423981 -0.296927 -0.428302 -0.300052 -0.433241 C -0.303177 -0.438179 -0.306997 -0.443117 -0.310469 -0.448056 C -0.313941 -0.452994 -0.31776 -0.458549 -0.320885 -0.46287 C -0.32401 -0.467191 -0.326441 -0.470278 -0.329219 -0.473981 C -0.331997 -0.477685 -0.335122 -0.480772 -0.337552 -0.485093 C -0.339983 -0.489414 -0.341719 -0.494969 -0.343802 -0.499907 C -0.345885 -0.504846 -0.347969 -0.509784 -0.350052 -0.514722 C -0.352135 -0.519661 -0.354219 -0.524599 -0.356302 -0.529537 C -0.358385 -0.534475 -0.360469 -0.539414 -0.362552 -0.544352 C -0.364635 -0.54929 -0.366719 -0.554228 -0.368802 -0.559167 C -0.370885 -0.564105 -0.372969 -0.569043 -0.375052 -0.573981 C -0.377135 -0.57892 -0.379566 -0.583858 -0.381302 -0.588796 C -0.383038 -0.593735 -0.38408 -0.598673 -0.385469 -0.603611 C -0.386858 -0.608549 -0.387899 -0.614105 -0.389635 -0.618426 C -0.391372 -0.622747 -0.393802 -0.625833 -0.395885 -0.629537 C -0.397969 -0.633241 -0.400052 -0.63571 -0.402135 -0.640648 C -0.404219 -0.645586 -0.405955 -0.652994 -0.408385 -0.659167 C -0.410816 -0.66534 -0.413941 -0.67213 -0.416719 -0.677685 C -0.419497 -0.683241 -0.420538 -0.682006 -0.425052 -0.6925 C -0.429566 -0.702994 -0.438941 -0.728904 -0.443802 -0.740648 C -0.448663 -0.752392 -0.44901 -0.750602 -0.454219 -0.762963 C -0.459427 -0.775324 -0.469844 -0.802469 -0.475052 -0.814815 C -0.48026 -0.827161 -0.480616 -0.825309 -0.485469 -0.837037 C -0.490321 -0.848765 -0.499662 -0.87284 -0.504167 -0.885185 C -0.508672 -0.897531 -0.509375 -0.903704 -0.5125 -0.911111 C -0.515625 -0.918519 -0.519444 -0.92409 -0.522917 -0.92963 C -0.526389 -0.93517 -0.530208 -0.939429 -0.533333 -0.944352 C -0.536458 -0.949275 -0.538889 -0.953611 -0.541667 -0.959167 C -0.544445 -0.964722 -0.547222 -0.971512 -0.55 -0.977685 C -0.552778 -0.983858 -0.555903 -0.990648 -0.558333 -0.996204 C -0.560764 -1.001759 -0.5625 -1.006698 -0.564583 -1.011019 C -0.566667 -1.015339 -0.569097 -1.017809 -0.570833 -1.02213 C -0.572569 -1.026451 -0.573611 -1.032006 -0.575 -1.036944 C -0.576389 -1.041883 -0.577778 -1.047438 -0.579167 -1.051759 C -0.580556 -1.05608 -0.581597 -1.059784 -0.583333 -1.06287 C -0.585069 -1.065957 -0.587847 -1.067191 -0.589583 -1.070278 C -0.59132 -1.073364 -0.592708 -1.077685 -0.59375 -1.081389 C -0.594792 -1.085093 -0.594445 -1.089414 -0.595833 -1.0925 C -0.597222 -1.095587 -0.6 -1.097438 -0.602083 -1.099907 C -0.604167 -1.102377 -0.605903 -1.104228 -0.608333 -1.107315 C -0.610764 -1.110401 -0.617708 -1.119043 -0.616667 -1.118426 C -0.615625 -1.117809 -0.606597 -1.108549 -0.602083 -1.103611 C -0.597569 -1.098673 -0.594445 -1.094352 -0.589583 -1.088796 C -0.584722 -1.083241 -0.578125 -1.077068 -0.572917 -1.070278 C -0.567708 -1.063488 -0.563195 -1.055463 -0.558333 -1.048056 C -0.553472 -1.040648 -0.548958 -1.033241 -0.54375 -1.025833 C -0.538542 -1.018426 -0.532292 -1.010401 -0.527083 -1.003611 C -0.521875 -0.996821 -0.517005 -0.991265 -0.5125 -0.985093 C -0.507995 -0.97892 -0.504557 -0.972747 -0.500052 -0.966574 C -0.495547 -0.960401 -0.489983 -0.952978 -0.485469 -0.948056 C -0.480955 -0.943133 -0.476788 -0.941343 -0.472969 -0.937037 C -0.469149 -0.932732 -0.466024 -0.927161 -0.462552 -0.922222 C -0.45908 -0.917284 -0.45526 -0.912346 -0.452135 -0.907407 C -0.44901 -0.902469 -0.44658 -0.897531 -0.443802 -0.892593 C -0.441024 -0.887654 -0.438594 -0.885185 -0.435469 -0.877778 C -0.432344 -0.87037 -0.428177 -0.855556 -0.425052 -0.848148 C -0.421927 -0.840741 -0.420885 -0.841975 -0.416719 -0.833333 C -0.412552 -0.824691 -0.403872 -0.806173 -0.400052 -0.796296 C -0.396233 -0.78642 -0.396233 -0.782114 -0.393802 -0.774074 C -0.391372 -0.766034 -0.388594 -0.755478 -0.385469 -0.748056 C -0.382344 -0.740633 -0.378177 -0.736327 -0.375052 -0.729537 C -0.371927 -0.722747 -0.369497 -0.714105 -0.366719 -0.707315 C -0.363941 -0.700525 -0.36151 -0.695587 -0.358385 -0.688796 C -0.35526 -0.682006 -0.351094 -0.673364 -0.347969 -0.666574 C -0.344844 -0.659784 -0.342066 -0.654228 -0.339635 -0.648056 C -0.337205 -0.641883 -0.335816 -0.635093 -0.333385 -0.629537 C -0.330955 -0.623982 -0.32783 -0.620895 -0.325052 -0.614722 C -0.322274 -0.608549 -0.319497 -0.599907 -0.316719 -0.5925 C -0.313941 -0.585093 -0.312552 -0.580772 -0.308385 -0.570278 C -0.304219 -0.559784 -0.297283 -0.540648 -0.291719 -0.529537 C -0.286155 -0.518426 -0.279175 -0.509784 -0.275 -0.503611 C -0.270825 -0.497438 -0.269444 -0.496821 -0.266667 -0.4925 C -0.263889 -0.488179 -0.260764 -0.482624 -0.258333 -0.477685 C -0.255903 -0.472747 -0.254167 -0.468426 -0.252083 -0.46287 C -0.25 -0.457315 -0.247917 -0.450525 -0.245833 -0.444352 C -0.24375 -0.438179 -0.242014 -0.430772 -0.239583 -0.425833 C -0.237153 -0.420895 -0.233681 -0.419043 -0.23125 -0.414722 C -0.228819 -0.410401 -0.227083 -0.405463 -0.225 -0.399907 C -0.222917 -0.394352 -0.220833 -0.386929 -0.21875 -0.381389 C -0.216667 -0.375849 -0.214236 -0.37159 -0.2125 -0.366667 C -0.210764 -0.361744 -0.209722 -0.356173 -0.208333 -0.351852 C -0.206944 -0.347531 -0.206944 -0.347531 -0.204167 -0.340741 C -0.201389 -0.333951 -0.194792 -0.319136 -0.191667 -0.311111 C -0.188542 -0.303086 -0.188194 -0.299383 -0.185417 -0.292593 C -0.182639 -0.285803 -0.177778 -0.276543 -0.175 -0.27037 C -0.172222 -0.264198 -0.170833 -0.259877 -0.16875 -0.255556 C -0.166667 -0.251235 -0.164583 -0.249383 -0.1625 -0.244444 C -0.160417 -0.239506 -0.158333 -0.231481 -0.15625 -0.225926 C -0.154167 -0.22037 -0.152083 -0.214815 -0.15 -0.211111 C -0.147917 -0.207408 -0.146528 -0.207407 -0.14375 -0.203704 C -0.140972 -0.2 -0.136111 -0.192593 -0.133333 -0.188889 C -0.130556 -0.185185 -0.130556 -0.187654 -0.127083 -0.181481 C -0.123611 -0.175309 -0.115625 -0.158642 -0.1125 -0.151852 C -0.109375 -0.145062 -0.111111 -0.145679 -0.108333 -0.140741 C -0.105556 -0.135802 -0.1 -0.127161 -0.095833 -0.122222 C -0.091667 -0.117284 -0.0875 -0.116049 -0.083333 -0.111111 C -0.079167 -0.106173 -0.075347 -0.098765 -0.070833 -0.092593 C -0.066319 -0.08642 -0.060069 -0.078395 -0.05625 -0.074074 C -0.052431 -0.069753 -0.050694 -0.068519 -0.047917 -0.066667 C -0.045139 -0.064815 -0.044444 -0.066667 -0.039583 -0.062963 C -0.034722 -0.059259 -0.023264 -0.048148 -0.01875 -0.044444 C -0.014236 -0.040741 -0.015625 -0.042593 -0.0125 -0.040741 C -0.009375 -0.038889 -0.003472 -0.03642 0 -0.033333 C 0.003472 -0.030247 0.004861 -0.025926 0.008333 -0.022222 C 0.011806 -0.018519 0.018056 -0.014815 0.020833 -0.011111 C 0.023611 -0.007407 0.024306 -0.001852 0.025 0 E">
                                      <p:cBhvr>
                                        <p:cTn id="404" dur="2000" fill="hold"/>
                                        <p:tgtEl>
                                          <p:spTgt spid="866"/>
                                        </p:tgtEl>
                                      </p:cBhvr>
                                    </p:animMotion>
                                  </p:childTnLst>
                                </p:cTn>
                              </p:par>
                            </p:childTnLst>
                          </p:cTn>
                        </p:par>
                        <p:par>
                          <p:cTn id="405" nodeType="afterEffect" fill="hold">
                            <p:stCondLst>
                              <p:cond delay="12000"/>
                            </p:stCondLst>
                            <p:childTnLst>
                              <p:par>
                                <p:cTn id="406" nodeType="afterEffect" fill="hold" presetClass="path" presetID="0">
                                  <p:stCondLst>
                                    <p:cond delay="0"/>
                                  </p:stCondLst>
                                  <p:childTnLst>
                                    <p:animMotion origin="layout" path="M 0 0 C -0.001389 0 -0.003125 0.003086 -0.008333 0 C -0.013542 -0.003086 -0.024653 -0.01358 -0.03125 -0.018519 C -0.037847 -0.023457 -0.039583 -0.025309 -0.047917 -0.02963 C -0.05625 -0.033951 -0.072578 -0.041358 -0.08125 -0.044444 C -0.089922 -0.047531 -0.094054 -0.046914 -0.099948 -0.048148 C -0.105842 -0.049383 -0.108629 -0.049398 -0.116615 -0.051852 C -0.124601 -0.054306 -0.139879 -0.059799 -0.147865 -0.06287 C -0.155851 -0.065941 -0.15967 -0.068426 -0.164531 -0.070278 C -0.169392 -0.07213 -0.172865 -0.073364 -0.177031 -0.073981 C -0.181198 -0.074599 -0.185365 -0.073981 -0.189531 -0.073981 C -0.193698 -0.073981 -0.197865 -0.072747 -0.202031 -0.073981 C -0.206198 -0.075216 -0.210712 -0.079537 -0.214531 -0.081389 C -0.218351 -0.083241 -0.221129 -0.084475 -0.224948 -0.085093 C -0.228767 -0.08571 -0.232934 -0.083858 -0.237448 -0.085093 C -0.241962 -0.086327 -0.247517 -0.090648 -0.252031 -0.0925 C -0.256545 -0.094352 -0.257934 -0.094969 -0.264531 -0.096204 C -0.271129 -0.097438 -0.283976 -0.09929 -0.291615 -0.099907 C -0.299254 -0.100525 -0.304462 -0.09929 -0.310365 -0.099907 C -0.316267 -0.100525 -0.320781 -0.101759 -0.327031 -0.103611 C -0.333281 -0.105463 -0.340226 -0.108549 -0.347865 -0.111019 C -0.355504 -0.113488 -0.364879 -0.115957 -0.372865 -0.118426 C -0.380851 -0.120895 -0.38849 -0.123982 -0.395781 -0.125833 C -0.403073 -0.127685 -0.410365 -0.127685 -0.416615 -0.129537 C -0.422865 -0.131389 -0.427379 -0.134475 -0.433281 -0.136944 C -0.439184 -0.139414 -0.445781 -0.1425 -0.452031 -0.144352 C -0.458281 -0.146204 -0.465226 -0.146204 -0.470781 -0.148056 C -0.476337 -0.149907 -0.480504 -0.153611 -0.485365 -0.155463 C -0.490226 -0.157315 -0.4923 -0.15608 -0.499948 -0.159167 C -0.507596 -0.162253 -0.524297 -0.170278 -0.53125 -0.173981 C -0.538203 -0.177685 -0.538542 -0.17892 -0.541667 -0.181389 C -0.544792 -0.183858 -0.546875 -0.186327 -0.55 -0.188796 C -0.553125 -0.191265 -0.557292 -0.194352 -0.560417 -0.196204 C -0.563542 -0.198056 -0.566319 -0.198056 -0.56875 -0.199907 C -0.571181 -0.201759 -0.572569 -0.205463 -0.575 -0.207315 C -0.577431 -0.209167 -0.580903 -0.209784 -0.583333 -0.211019 C -0.585764 -0.212253 -0.587153 -0.213488 -0.589583 -0.214722 C -0.592014 -0.215957 -0.595139 -0.217191 -0.597917 -0.218426 C -0.600694 -0.219661 -0.603125 -0.220895 -0.60625 -0.22213 C -0.609375 -0.223364 -0.612847 -0.224599 -0.616667 -0.225833 C -0.620486 -0.227068 -0.625347 -0.228302 -0.629167 -0.229537 C -0.632986 -0.230772 -0.634375 -0.232006 -0.639583 -0.233241 C -0.644792 -0.234475 -0.655556 -0.23571 -0.660417 -0.236944 C -0.665278 -0.238179 -0.662847 -0.238796 -0.66875 -0.240648 C -0.674653 -0.2425 -0.690278 -0.246204 -0.695833 -0.248056 C -0.701389 -0.249907 -0.697917 -0.250525 -0.702083 -0.251759 C -0.70625 -0.252994 -0.715972 -0.254228 -0.720833 -0.255463 C -0.725694 -0.256698 -0.727092 -0.256698 -0.73125 -0.259167 C -0.735408 -0.261636 -0.742318 -0.267809 -0.745781 -0.270278 C -0.749245 -0.272747 -0.748212 -0.271512 -0.752031 -0.273981 C -0.755851 -0.276451 -0.764184 -0.282006 -0.768698 -0.285093 C -0.773212 -0.288179 -0.774253 -0.288796 -0.779115 -0.2925 C -0.783976 -0.296204 -0.793003 -0.303611 -0.797865 -0.307315 C -0.802726 -0.311019 -0.802378 -0.311019 -0.808281 -0.314722 C -0.814184 -0.318426 -0.827031 -0.325833 -0.833281 -0.329537 C -0.839531 -0.333241 -0.839531 -0.332624 -0.845781 -0.336944 C -0.852031 -0.341265 -0.864184 -0.351759 -0.870781 -0.355463 C -0.877378 -0.359167 -0.879115 -0.355463 -0.885365 -0.359167 C -0.891615 -0.36287 -0.902378 -0.373364 -0.908281 -0.377685 C -0.914184 -0.382006 -0.916267 -0.382624 -0.920781 -0.385093 C -0.925295 -0.387562 -0.930495 -0.389414 -0.935365 -0.3925 C -0.940234 -0.395586 -0.945825 -0.400525 -0.95 -0.403611 C -0.954175 -0.406698 -0.955903 -0.407932 -0.960417 -0.411019 C -0.964931 -0.414105 -0.972569 -0.419043 -0.977083 -0.42213 C -0.981597 -0.425216 -0.984375 -0.427685 -0.9875 -0.429537 C -0.990625 -0.431389 -0.993403 -0.432624 -0.995833 -0.433241 C -0.998264 -0.433858 -1 -0.433241 -1.002083 -0.433241 C -1.004167 -0.433241 -1.00625 -0.432624 -1.008333 -0.433241 C -1.010417 -0.433858 -1.012153 -0.436327 -1.014583 -0.436944 C -1.017014 -0.437562 -1.020486 -0.436944 -1.022917 -0.436944 C -1.025347 -0.436944 -1.025347 -0.435695 -1.029167 -0.436944 C -1.032986 -0.438194 -1.041328 -0.442577 -1.045833 -0.444444 C -1.050339 -0.446312 -1.052387 -0.447531 -1.056198 -0.448148 C -1.060009 -0.448765 -1.064878 -0.448148 -1.068698 -0.448148 C -1.072517 -0.448148 -1.07842 -0.448148 -1.079115 -0.448148 C -1.079809 -0.448148 -1.076684 -0.450015 -1.072865 -0.448148 C -1.069045 -0.446281 -1.06105 -0.439429 -1.056198 -0.436944 C -1.051345 -0.43446 -1.049991 -0.43571 -1.04375 -0.433241 C -1.037509 -0.430772 -1.025347 -0.424599 -1.01875 -0.42213 C -1.012153 -0.419661 -1.011111 -0.421512 -1.004167 -0.418426 C -0.997222 -0.41534 -0.983333 -0.407932 -0.977083 -0.403611 C -0.970833 -0.39929 -0.970833 -0.396204 -0.966667 -0.3925 C -0.9625 -0.388796 -0.958342 -0.385093 -0.952083 -0.381389 C -0.945825 -0.377685 -0.936762 -0.375216 -0.929115 -0.370278 C -0.921467 -0.36534 -0.912448 -0.355463 -0.906198 -0.351759 C -0.899948 -0.348056 -0.896823 -0.34929 -0.891615 -0.348056 C -0.886406 -0.346821 -0.880503 -0.345586 -0.874948 -0.344352 C -0.869392 -0.343117 -0.863837 -0.341883 -0.858281 -0.340648 C -0.852726 -0.339414 -0.846823 -0.338796 -0.841615 -0.336944 C -0.836406 -0.335093 -0.832587 -0.332006 -0.827031 -0.329537 C -0.821476 -0.327068 -0.814878 -0.323981 -0.808281 -0.32213 C -0.801684 -0.320278 -0.794045 -0.320895 -0.787448 -0.318426 C -0.780851 -0.315957 -0.775295 -0.311019 -0.768698 -0.307315 C -0.762101 -0.303611 -0.754106 -0.300525 -0.747865 -0.296204 C -0.741623 -0.291883 -0.737144 -0.28571 -0.73125 -0.281389 C -0.725356 -0.277068 -0.721875 -0.275216 -0.7125 -0.270278 C -0.703125 -0.26534 -0.687847 -0.255463 -0.675 -0.251759 C -0.662153 -0.248056 -0.644097 -0.249907 -0.635417 -0.248056 C -0.626736 -0.246204 -0.626736 -0.2425 -0.622917 -0.240648 C -0.619097 -0.238796 -0.616667 -0.239414 -0.6125 -0.236944 C -0.608333 -0.234475 -0.602431 -0.22892 -0.597917 -0.225833 C -0.593403 -0.222747 -0.589583 -0.220895 -0.585417 -0.218426 C -0.58125 -0.215957 -0.576736 -0.212253 -0.572917 -0.211019 C -0.569097 -0.209784 -0.566319 -0.211636 -0.5625 -0.211019 C -0.558681 -0.210401 -0.554167 -0.209167 -0.55 -0.207315 C -0.545833 -0.205463 -0.541319 -0.201759 -0.5375 -0.199907 C -0.533681 -0.198056 -0.530564 -0.196821 -0.527083 -0.196204 C -0.523603 -0.195586 -0.521484 -0.198056 -0.516615 -0.196204 C -0.511745 -0.194352 -0.502379 -0.188179 -0.497865 -0.185093 C -0.493351 -0.182006 -0.494045 -0.181389 -0.489531 -0.177685 C -0.485017 -0.173982 -0.47599 -0.167191 -0.470781 -0.16287 C -0.465573 -0.158549 -0.464184 -0.155463 -0.458281 -0.151759 C -0.452379 -0.148056 -0.441267 -0.144352 -0.435365 -0.140648 C -0.429462 -0.136945 -0.429462 -0.132624 -0.422865 -0.129537 C -0.416267 -0.126451 -0.402726 -0.124599 -0.395781 -0.12213 C -0.388837 -0.119661 -0.388142 -0.116574 -0.381198 -0.114722 C -0.374254 -0.11287 -0.360365 -0.113488 -0.354115 -0.111019 C -0.347865 -0.108549 -0.352031 -0.104228 -0.343698 -0.099907 C -0.335365 -0.095586 -0.315226 -0.088179 -0.304115 -0.085093 C -0.293004 -0.082006 -0.283629 -0.082624 -0.277031 -0.081389 C -0.270434 -0.080154 -0.268698 -0.07892 -0.264531 -0.077685 C -0.260365 -0.076451 -0.256545 -0.075216 -0.252031 -0.073981 C -0.247517 -0.072747 -0.241962 -0.07213 -0.237448 -0.070278 C -0.232934 -0.068426 -0.229115 -0.064722 -0.224948 -0.06287 C -0.220781 -0.061019 -0.216615 -0.060386 -0.212448 -0.059167 C -0.208281 -0.057948 -0.20342 -0.056157 -0.199948 -0.055556 C -0.196476 -0.054954 -0.19474 -0.056173 -0.191615 -0.055556 C -0.18849 -0.054938 -0.185017 -0.053086 -0.181198 -0.051852 C -0.177379 -0.050617 -0.17217 -0.049383 -0.168698 -0.048148 C -0.165226 -0.046914 -0.16349 -0.045062 -0.160365 -0.044444 C -0.15724 -0.043827 -0.153767 -0.045062 -0.149948 -0.044444 C -0.146129 -0.043827 -0.14092 -0.041975 -0.137448 -0.040741 C -0.133976 -0.039506 -0.131892 -0.037654 -0.129115 -0.037037 C -0.126337 -0.03642 -0.123559 -0.037037 -0.120781 -0.037037 C -0.118004 -0.037037 -0.114879 -0.037037 -0.112448 -0.037037 C -0.110017 -0.037037 -0.108281 -0.037654 -0.106198 -0.037037 C -0.104115 -0.03642 -0.102023 -0.033951 -0.099948 -0.033333 C -0.097873 -0.032716 -0.096172 -0.034568 -0.09375 -0.033333 C -0.091328 -0.032099 -0.087847 -0.027778 -0.085417 -0.025926 C -0.082986 -0.024074 -0.08125 -0.023457 -0.079167 -0.022222 C -0.077083 -0.020988 -0.076736 -0.02037 -0.072917 -0.018519 C -0.069097 -0.016667 -0.061111 -0.012346 -0.05625 -0.011111 C -0.051389 -0.009877 -0.046875 -0.011728 -0.04375 -0.011111 C -0.040625 -0.010494 -0.039583 -0.008025 -0.0375 -0.007407 C -0.035417 -0.00679 -0.033333 -0.007407 -0.03125 -0.007407 C -0.029167 -0.007407 -0.023611 -0.008025 -0.025 -0.007407 C -0.026389 -0.00679 -0.036111 -0.004321 -0.039583 -0.003704 C -0.043056 -0.003086 -0.043403 -0.003704 -0.045833 -0.003704 C -0.048264 -0.003704 -0.051389 -0.003704 -0.054167 -0.003704 C -0.056944 -0.003704 -0.060069 -0.003704 -0.0625 -0.003704 C -0.064931 -0.003704 -0.066667 -0.003704 -0.06875 -0.003704 C -0.070833 -0.003704 -0.072917 -0.003704 -0.075 -0.003704 C -0.077083 -0.003704 -0.078819 -0.003704 -0.08125 -0.003704 C -0.083681 -0.003704 -0.085425 -0.003086 -0.089583 -0.003704 C -0.093741 -0.004321 -0.102387 -0.00679 -0.106198 -0.007407 C -0.110009 -0.008025 -0.110365 -0.00679 -0.112448 -0.007407 C -0.114531 -0.008025 -0.114879 -0.009877 -0.118698 -0.011111 C -0.122517 -0.012346 -0.130851 -0.01358 -0.135365 -0.014815 C -0.139879 -0.016049 -0.141267 -0.016667 -0.145781 -0.018519 C -0.150295 -0.02037 -0.158629 -0.024691 -0.162448 -0.025926 C -0.166267 -0.027161 -0.16592 -0.025926 -0.168698 -0.025926 C -0.171476 -0.025926 -0.174601 -0.024691 -0.179115 -0.025926 C -0.183629 -0.027161 -0.191962 -0.032099 -0.195781 -0.033333 C -0.199601 -0.034568 -0.199254 -0.032716 -0.202031 -0.033333 C -0.204809 -0.033951 -0.207934 -0.035802 -0.212448 -0.037037 C -0.216962 -0.038272 -0.225295 -0.039506 -0.229115 -0.040741 C -0.232934 -0.041975 -0.23224 -0.04321 -0.235365 -0.044444 C -0.23849 -0.045679 -0.244392 -0.046914 -0.247865 -0.048148 C -0.251337 -0.049383 -0.250642 -0.050015 -0.256198 -0.051852 C -0.261754 -0.053688 -0.274601 -0.057948 -0.281198 -0.059167 C -0.287795 -0.060386 -0.291962 -0.057932 -0.295781 -0.059167 C -0.299601 -0.060401 -0.298906 -0.064722 -0.304115 -0.066574 C -0.309323 -0.068426 -0.32217 -0.068426 -0.327031 -0.070278 C -0.331892 -0.07213 -0.330851 -0.075833 -0.333281 -0.077685 C -0.335712 -0.079537 -0.339184 -0.079537 -0.341615 -0.081389 C -0.344045 -0.083241 -0.345434 -0.086945 -0.347865 -0.088796 C -0.350295 -0.090648 -0.353767 -0.091265 -0.356198 -0.0925 C -0.358629 -0.093735 -0.360017 -0.094352 -0.362448 -0.096204 C -0.364879 -0.098056 -0.368004 -0.101759 -0.370781 -0.103611 C -0.373559 -0.105463 -0.376337 -0.105463 -0.379115 -0.107315 C -0.381892 -0.109167 -0.384323 -0.112253 -0.387448 -0.114722 C -0.390573 -0.117191 -0.391962 -0.119043 -0.397865 -0.12213 C -0.403767 -0.125216 -0.416615 -0.131389 -0.422865 -0.133241 C -0.429115 -0.135093 -0.431198 -0.132624 -0.435365 -0.133241 C -0.439531 -0.133858 -0.443351 -0.135093 -0.447865 -0.136944 C -0.452379 -0.138796 -0.457587 -0.141265 -0.462448 -0.144352 C -0.467309 -0.147438 -0.47217 -0.152377 -0.477031 -0.155463 C -0.481892 -0.158549 -0.486406 -0.159167 -0.491615 -0.16287 C -0.496823 -0.166574 -0.50237 -0.173364 -0.508281 -0.177685 C -0.514193 -0.182006 -0.520478 -0.185093 -0.527083 -0.188796 C -0.533689 -0.1925 -0.542014 -0.195586 -0.547917 -0.199907 C -0.553819 -0.204228 -0.556944 -0.211636 -0.5625 -0.214722 C -0.568056 -0.217809 -0.575347 -0.217191 -0.58125 -0.218426 C -0.587153 -0.219661 -0.588889 -0.219661 -0.597917 -0.22213 C -0.606945 -0.224599 -0.627431 -0.230154 -0.635417 -0.233241 C -0.643403 -0.236327 -0.642014 -0.238796 -0.645833 -0.240648 C -0.649653 -0.2425 -0.65382 -0.243117 -0.658333 -0.244352 C -0.662847 -0.245586 -0.668056 -0.246821 -0.672917 -0.248056 C -0.677778 -0.24929 -0.682292 -0.249907 -0.6875 -0.251759 C -0.692708 -0.253611 -0.698611 -0.257315 -0.704167 -0.259167 C -0.709722 -0.261019 -0.715972 -0.262253 -0.720833 -0.26287 C -0.725694 -0.263488 -0.729523 -0.261636 -0.733333 -0.26287 C -0.737144 -0.264105 -0.740234 -0.268426 -0.743698 -0.270278 C -0.747161 -0.27213 -0.75099 -0.273364 -0.754115 -0.273981 C -0.75724 -0.274599 -0.760017 -0.273364 -0.762448 -0.273981 C -0.764878 -0.274599 -0.76592 -0.275833 -0.768698 -0.277685 C -0.771476 -0.279537 -0.776337 -0.283241 -0.779115 -0.285093 C -0.781892 -0.286944 -0.782934 -0.287562 -0.785365 -0.288796 C -0.787795 -0.290031 -0.791267 -0.290648 -0.793698 -0.2925 C -0.796128 -0.294352 -0.796823 -0.297438 -0.799948 -0.299907 C -0.803073 -0.302377 -0.808976 -0.304846 -0.812448 -0.307315 C -0.81592 -0.309784 -0.818351 -0.311636 -0.820781 -0.314722 C -0.823212 -0.317809 -0.823906 -0.323364 -0.827031 -0.325833 C -0.830156 -0.328303 -0.835712 -0.327068 -0.839531 -0.329537 C -0.843351 -0.332006 -0.846128 -0.337562 -0.849948 -0.340648 C -0.853767 -0.343735 -0.857587 -0.345586 -0.862448 -0.348056 C -0.867309 -0.350525 -0.874253 -0.351759 -0.879115 -0.355463 C -0.883976 -0.359167 -0.886753 -0.365957 -0.891615 -0.370278 C -0.896476 -0.374599 -0.902726 -0.377685 -0.908281 -0.381389 C -0.913837 -0.385093 -0.91974 -0.389414 -0.924948 -0.3925 C -0.930156 -0.395586 -0.932578 -0.395586 -0.939531 -0.399907 C -0.946484 -0.404228 -0.961102 -0.414105 -0.966667 -0.418426 C -0.972231 -0.422747 -0.970486 -0.423982 -0.972917 -0.425833 C -0.975347 -0.427685 -0.978819 -0.427685 -0.98125 -0.429537 C -0.983681 -0.431389 -0.985069 -0.43571 -0.9875 -0.436944 C -0.989931 -0.438179 -0.993056 -0.435695 -0.995833 -0.436944 C -0.998611 -0.438194 -1.001389 -0.44196 -1.004167 -0.444444 C -1.006944 -0.446929 -1.009375 -0.450617 -1.0125 -0.451852 C -1.015625 -0.453086 -1.019792 -0.451235 -1.022917 -0.451852 C -1.026042 -0.452469 -1.028819 -0.454321 -1.03125 -0.455556 C -1.033681 -0.45679 -1.034722 -0.458025 -1.0375 -0.459259 C -1.040278 -0.460494 -1.045139 -0.462346 -1.047917 -0.462963 C -1.050694 -0.46358 -1.051398 -0.462963 -1.054167 -0.462963 C -1.056936 -0.462963 -1.061762 -0.462346 -1.064531 -0.462963 C -1.0673 -0.46358 -1.067309 -0.465432 -1.070781 -0.466667 C -1.074253 -0.467901 -1.081892 -0.469753 -1.085365 -0.47037 C -1.088837 -0.470988 -1.092656 -0.47037 -1.091615 -0.47037 C -1.090573 -0.47037 -1.08467 -0.472222 -1.079115 -0.47037 C -1.073559 -0.468519 -1.063481 -0.461728 -1.058281 -0.459259 C -1.053082 -0.45679 -1.05138 -0.457407 -1.047917 -0.455556 C -1.044453 -0.453704 -1.042014 -0.449383 -1.0375 -0.448148 C -1.032986 -0.446914 -1.025694 -0.448765 -1.020833 -0.448148 C -1.015972 -0.447531 -1.012153 -0.445679 -1.008333 -0.444444 C -1.004514 -0.44321 -1.001389 -0.441991 -0.997917 -0.440741 C -0.994444 -0.439491 -0.991319 -0.437577 -0.9875 -0.436944 C -0.983681 -0.436312 -0.979167 -0.437562 -0.975 -0.436944 C -0.970833 -0.436327 -0.966319 -0.435093 -0.9625 -0.433241 C -0.958681 -0.431389 -0.955911 -0.427685 -0.952083 -0.425833 C -0.948255 -0.423982 -0.946484 -0.423364 -0.939531 -0.42213 C -0.932578 -0.420895 -0.918003 -0.419043 -0.910365 -0.418426 C -0.902726 -0.417809 -0.899601 -0.418426 -0.893698 -0.418426 C -0.887795 -0.418426 -0.881198 -0.419043 -0.874948 -0.418426 C -0.868698 -0.417809 -0.861753 -0.416574 -0.856198 -0.414722 C -0.850642 -0.41287 -0.846476 -0.409167 -0.841615 -0.407315 C -0.836753 -0.405463 -0.832934 -0.405463 -0.827031 -0.403611 C -0.821128 -0.401759 -0.812795 -0.398056 -0.806198 -0.396204 C -0.799601 -0.394352 -0.793351 -0.393735 -0.787448 -0.3925 C -0.781545 -0.391265 -0.776684 -0.390031 -0.770781 -0.388796 C -0.764878 -0.387562 -0.757587 -0.386944 -0.752031 -0.385093 C -0.746476 -0.383241 -0.7423 -0.379537 -0.737448 -0.377685 C -0.732596 -0.375833 -0.729852 -0.375833 -0.722917 -0.373981 C -0.715981 -0.37213 -0.702083 -0.368426 -0.695833 -0.366574 C -0.689583 -0.364722 -0.689931 -0.364722 -0.685417 -0.36287 C -0.680903 -0.361019 -0.672917 -0.357315 -0.66875 -0.355463 C -0.664583 -0.353611 -0.664583 -0.353611 -0.660417 -0.351759 C -0.65625 -0.349907 -0.649306 -0.346821 -0.64375 -0.344352 C -0.638195 -0.341883 -0.630903 -0.338179 -0.627083 -0.336944 C -0.623264 -0.33571 -0.622917 -0.336944 -0.620833 -0.336944 C -0.61875 -0.336944 -0.617708 -0.338179 -0.614583 -0.336944 C -0.611458 -0.33571 -0.605208 -0.331389 -0.602083 -0.329537 C -0.598958 -0.327685 -0.599653 -0.32892 -0.595833 -0.325833 C -0.592014 -0.322747 -0.583333 -0.314722 -0.579167 -0.311019 C -0.575 -0.307315 -0.574653 -0.30608 -0.570833 -0.303611 C -0.567014 -0.301142 -0.560417 -0.298673 -0.55625 -0.296204 C -0.552083 -0.293735 -0.549306 -0.291883 -0.545833 -0.288796 C -0.542361 -0.28571 -0.538194 -0.281389 -0.535417 -0.277685 C -0.532639 -0.273982 -0.531953 -0.270895 -0.529167 -0.266574 C -0.52638 -0.262253 -0.521484 -0.254846 -0.518698 -0.251759 C -0.515912 -0.248673 -0.514879 -0.249907 -0.512448 -0.248056 C -0.510017 -0.246204 -0.50724 -0.243117 -0.504115 -0.240648 C -0.50099 -0.238179 -0.49717 -0.236327 -0.493698 -0.233241 C -0.490226 -0.230154 -0.487101 -0.224599 -0.483281 -0.22213 C -0.479462 -0.219661 -0.473906 -0.220278 -0.470781 -0.218426 C -0.467656 -0.216574 -0.466615 -0.214105 -0.464531 -0.211019 C -0.462448 -0.207932 -0.460365 -0.202994 -0.458281 -0.199907 C -0.456198 -0.196821 -0.454462 -0.195586 -0.452031 -0.1925 C -0.449601 -0.189414 -0.447517 -0.183858 -0.443698 -0.181389 C -0.439879 -0.17892 -0.433281 -0.180154 -0.429115 -0.177685 C -0.424948 -0.175216 -0.422517 -0.170278 -0.418698 -0.166574 C -0.414879 -0.16287 -0.410365 -0.157932 -0.406198 -0.155463 C -0.402031 -0.152994 -0.397865 -0.152994 -0.393698 -0.151759 C -0.389531 -0.150525 -0.387795 -0.149907 -0.381198 -0.148056 C -0.374601 -0.146204 -0.360365 -0.141883 -0.354115 -0.140648 C -0.347865 -0.139414 -0.346823 -0.141265 -0.343698 -0.140648 C -0.340573 -0.140031 -0.33849 -0.138796 -0.335365 -0.136944 C -0.33224 -0.135093 -0.328073 -0.130772 -0.324948 -0.129537 C -0.321823 -0.128302 -0.319392 -0.130772 -0.316615 -0.129537 C -0.313837 -0.128302 -0.310712 -0.123981 -0.308281 -0.12213 C -0.305851 -0.120278 -0.304462 -0.119661 -0.302031 -0.118426 C -0.299601 -0.117191 -0.296476 -0.115957 -0.293698 -0.114722 C -0.29092 -0.113488 -0.28849 -0.112253 -0.285365 -0.111019 C -0.28224 -0.109784 -0.278073 -0.108549 -0.274948 -0.107315 C -0.271823 -0.10608 -0.269392 -0.104846 -0.266615 -0.103611 C -0.263837 -0.102377 -0.261406 -0.101142 -0.258281 -0.099907 C -0.255156 -0.098673 -0.252031 -0.097438 -0.247865 -0.096204 C -0.243698 -0.094969 -0.237101 -0.093117 -0.233281 -0.0925 C -0.229462 -0.091883 -0.229462 -0.093735 -0.224948 -0.0925 C -0.220434 -0.091265 -0.210365 -0.086327 -0.206198 -0.085093 C -0.202031 -0.083858 -0.204115 -0.086327 -0.199948 -0.085093 C -0.195781 -0.083858 -0.185365 -0.07892 -0.181198 -0.077685 C -0.177031 -0.076451 -0.177031 -0.078303 -0.174948 -0.077685 C -0.172865 -0.077068 -0.170781 -0.075216 -0.168698 -0.073981 C -0.166615 -0.072747 -0.165226 -0.071512 -0.162448 -0.070278 C -0.15967 -0.069043 -0.154809 -0.068426 -0.152031 -0.066574 C -0.149254 -0.064722 -0.147865 -0.060401 -0.145781 -0.059167 C -0.143698 -0.057932 -0.141962 -0.059167 -0.139531 -0.059167 C -0.137101 -0.059167 -0.133629 -0.059769 -0.131198 -0.059167 C -0.128767 -0.058565 -0.127726 -0.056157 -0.124948 -0.055556 C -0.12217 -0.054954 -0.118004 -0.05679 -0.114531 -0.055556 C -0.111059 -0.054321 -0.106892 -0.050617 -0.104115 -0.048148 C -0.101337 -0.045679 -0.099939 -0.041975 -0.097865 -0.040741 C -0.09579 -0.039506 -0.093741 -0.040741 -0.091667 -0.040741 C -0.089592 -0.040741 -0.088194 -0.041975 -0.085417 -0.040741 C -0.082639 -0.039506 -0.078472 -0.035185 -0.075 -0.033333 C -0.071528 -0.031482 -0.068056 -0.030247 -0.064583 -0.02963 C -0.061111 -0.029012 -0.056944 -0.02963 -0.054167 -0.02963 C -0.051389 -0.02963 -0.050347 -0.030864 -0.047917 -0.02963 C -0.045486 -0.028395 -0.042014 -0.023457 -0.039583 -0.022222 C -0.037153 -0.020988 -0.036111 -0.024074 -0.033333 -0.022222 C -0.030556 -0.02037 -0.026736 -0.015432 -0.022917 -0.011111 C -0.019097 -0.00679 -0.013542 0.001235 -0.010417 0.003704 C -0.007292 0.006173 -0.00625 0.003086 -0.004167 0.003704 C -0.002083 0.004321 0 0.00679 0.002083 0.007407 C 0.004167 0.008025 0.007292 0.007407 0.008333 0.007407 E">
                                      <p:cBhvr>
                                        <p:cTn id="407" dur="2000" fill="hold"/>
                                        <p:tgtEl>
                                          <p:spTgt spid="865"/>
                                        </p:tgtEl>
                                      </p:cBhvr>
                                    </p:animMotion>
                                  </p:childTnLst>
                                </p:cTn>
                              </p:par>
                            </p:childTnLst>
                          </p:cTn>
                        </p:par>
                        <p:par>
                          <p:cTn id="408" nodeType="afterEffect" fill="hold">
                            <p:stCondLst>
                              <p:cond delay="14000"/>
                            </p:stCondLst>
                            <p:childTnLst>
                              <p:par>
                                <p:cTn id="409" nodeType="afterEffect" fill="hold" presetClass="path" presetID="0">
                                  <p:stCondLst>
                                    <p:cond delay="0"/>
                                  </p:stCondLst>
                                  <p:childTnLst>
                                    <p:animMotion origin="layout" path="M 0 0 C -0.001042 0 -0.003819 -0.000617 -0.00625 0 C -0.008681 0.000617 -0.011458 0.001852 -0.014583 0.003704 C -0.017708 0.005555 -0.021181 0.007407 -0.025 0.011111 C -0.028819 0.014815 -0.032639 0.021605 -0.0375 0.025926 C -0.042361 0.030247 -0.049653 0.033951 -0.054167 0.037037 C -0.058681 0.040123 -0.060764 0.041975 -0.064583 0.044444 C -0.068403 0.046914 -0.073264 0.048765 -0.077083 0.051852 C -0.080903 0.054938 -0.083689 0.058642 -0.0875 0.062963 C -0.091311 0.067284 -0.096137 0.073457 -0.099948 0.077778 C -0.103759 0.082099 -0.106892 0.085185 -0.110365 0.088889 C -0.113837 0.092593 -0.116962 0.095679 -0.120781 0.1 C -0.124601 0.104321 -0.129462 0.110494 -0.133281 0.114815 C -0.137101 0.119136 -0.139531 0.122222 -0.143698 0.125926 C -0.147865 0.12963 -0.153767 0.132716 -0.158281 0.137037 C -0.162795 0.141358 -0.166615 0.146914 -0.170781 0.151852 C -0.174948 0.15679 -0.177726 0.161728 -0.183281 0.166667 C -0.188837 0.171605 -0.198559 0.17716 -0.204115 0.181481 C -0.20967 0.185802 -0.210365 0.187654 -0.216615 0.192593 C -0.222865 0.197531 -0.235365 0.206173 -0.241615 0.211111 C -0.247865 0.216049 -0.247517 0.216049 -0.254115 0.222222 C -0.260712 0.228395 -0.274254 0.241975 -0.281198 0.248148 C -0.288142 0.254321 -0.287795 0.252469 -0.295781 0.259259 C -0.303767 0.266049 -0.320781 0.281481 -0.329115 0.288889 C -0.337448 0.296296 -0.340226 0.299383 -0.345781 0.303704 C -0.351337 0.308025 -0.35724 0.311728 -0.362448 0.314815 C -0.367656 0.317901 -0.371129 0.319136 -0.377031 0.322222 C -0.382934 0.325309 -0.391267 0.329012 -0.397865 0.333333 C -0.404462 0.337654 -0.410712 0.34446 -0.416615 0.348148 C -0.422517 0.351836 -0.427379 0.353626 -0.433281 0.355463 C -0.439184 0.357299 -0.446476 0.357315 -0.452031 0.359167 C -0.457587 0.361018 -0.462101 0.363488 -0.466615 0.366574 C -0.471129 0.36966 -0.474601 0.373981 -0.479115 0.377685 C -0.483629 0.381389 -0.489531 0.385093 -0.493698 0.388796 C -0.497865 0.3925 -0.498898 0.395586 -0.504115 0.399907 C -0.509332 0.404228 -0.52013 0.411019 -0.525 0.414722 C -0.52987 0.418426 -0.529514 0.417809 -0.533333 0.42213 C -0.537153 0.426451 -0.543403 0.43571 -0.547917 0.440648 C -0.552431 0.445586 -0.554861 0.446204 -0.560417 0.451759 C -0.565972 0.457315 -0.576389 0.46966 -0.58125 0.473981 C -0.586111 0.478302 -0.584722 0.473981 -0.589583 0.477685 C -0.594445 0.481389 -0.604861 0.491265 -0.610417 0.496204 C -0.615972 0.501142 -0.617014 0.502994 -0.622917 0.507315 C -0.628819 0.511636 -0.640278 0.518426 -0.645833 0.52213 C -0.651389 0.525833 -0.65 0.524599 -0.65625 0.529537 C -0.6625 0.534475 -0.676389 0.546821 -0.683333 0.551759 C -0.690278 0.556697 -0.690972 0.554846 -0.697917 0.559167 C -0.704861 0.563488 -0.718412 0.573364 -0.725 0.577685 C -0.731589 0.582006 -0.73329 0.582006 -0.737448 0.585093 C -0.741606 0.588179 -0.746476 0.593735 -0.749948 0.596204 C -0.75342 0.598673 -0.755503 0.598056 -0.758281 0.599907 C -0.761059 0.601759 -0.76349 0.605463 -0.766615 0.607315 C -0.76974 0.609167 -0.773559 0.608549 -0.777031 0.611019 C -0.780503 0.613488 -0.783628 0.619043 -0.787448 0.62213 C -0.791267 0.625216 -0.796476 0.627685 -0.799948 0.629537 C -0.80342 0.631389 -0.804809 0.630772 -0.808281 0.633241 C -0.811753 0.63571 -0.817309 0.641265 -0.820781 0.644352 C -0.824253 0.647438 -0.826337 0.649907 -0.829115 0.651759 C -0.831892 0.653611 -0.83467 0.652994 -0.837448 0.655463 C -0.840226 0.657932 -0.843003 0.663488 -0.845781 0.666574 C -0.848559 0.66966 -0.850295 0.670278 -0.854115 0.673981 C -0.857934 0.677685 -0.864878 0.68571 -0.868698 0.688796 C -0.872517 0.691883 -0.874253 0.690031 -0.877031 0.6925 C -0.879809 0.694969 -0.88224 0.700525 -0.885365 0.703611 C -0.88849 0.706698 -0.892656 0.709167 -0.895781 0.711019 C -0.898906 0.71287 -0.90099 0.712253 -0.904115 0.714722 C -0.90724 0.717191 -0.911753 0.722731 -0.914531 0.725833 C -0.917309 0.728935 -0.918698 0.731466 -0.920781 0.733333 C -0.922865 0.735201 -0.928073 0.73642 -0.927031 0.737037 C -0.92599 0.737654 -0.918003 0.738271 -0.914531 0.737037 C -0.911059 0.735802 -0.90967 0.732114 -0.906198 0.72963 C -0.902726 0.727145 -0.898212 0.725231 -0.893698 0.72213 C -0.889184 0.719028 -0.884323 0.714722 -0.879115 0.711019 C -0.873906 0.707315 -0.866962 0.702376 -0.862448 0.699907 C -0.857934 0.697438 -0.855503 0.698673 -0.852031 0.696204 C -0.848559 0.693735 -0.845434 0.688179 -0.841615 0.685093 C -0.837795 0.682006 -0.832934 0.680154 -0.829115 0.677685 C -0.825295 0.675216 -0.822517 0.67213 -0.818698 0.670278 C -0.814878 0.668426 -0.809323 0.668426 -0.806198 0.666574 C -0.803073 0.664722 -0.802378 0.661018 -0.799948 0.659167 C -0.797517 0.657315 -0.795434 0.658549 -0.791615 0.655463 C -0.787795 0.652376 -0.780851 0.644352 -0.777031 0.640648 C -0.773212 0.636944 -0.771476 0.635092 -0.768698 0.633241 C -0.76592 0.631389 -0.764531 0.633241 -0.760365 0.629537 C -0.756198 0.625833 -0.747865 0.614722 -0.743698 0.611019 C -0.739531 0.607315 -0.738481 0.609167 -0.735365 0.607315 C -0.732248 0.605463 -0.728116 0.601759 -0.725 0.599907 C -0.721884 0.598056 -0.719445 0.597438 -0.716667 0.596204 C -0.713889 0.594969 -0.710764 0.594352 -0.708333 0.5925 C -0.705903 0.590648 -0.704514 0.586944 -0.702083 0.585093 C -0.699653 0.583241 -0.697222 0.583858 -0.69375 0.581389 C -0.690278 0.57892 -0.684375 0.572747 -0.68125 0.570278 C -0.678125 0.567809 -0.678819 0.569043 -0.675 0.566574 C -0.671181 0.564105 -0.662847 0.559167 -0.658333 0.555463 C -0.65382 0.551759 -0.651736 0.547438 -0.647917 0.544352 C -0.644097 0.541265 -0.638889 0.538796 -0.635417 0.536944 C -0.631944 0.535093 -0.630556 0.53571 -0.627083 0.533241 C -0.623611 0.530772 -0.618403 0.525216 -0.614583 0.52213 C -0.610764 0.519043 -0.607639 0.517191 -0.604167 0.514722 C -0.600694 0.512253 -0.597222 0.509784 -0.59375 0.507315 C -0.590278 0.504846 -0.587153 0.502376 -0.583333 0.499907 C -0.579514 0.497438 -0.574653 0.494969 -0.570833 0.4925 C -0.567014 0.490031 -0.564236 0.487562 -0.560417 0.485093 C -0.556597 0.482623 -0.551736 0.480154 -0.547917 0.477685 C -0.544097 0.475216 -0.541667 0.473364 -0.5375 0.470278 C -0.533333 0.467191 -0.52987 0.464722 -0.522917 0.459167 C -0.515964 0.453611 -0.502734 0.443117 -0.495781 0.436944 C -0.488828 0.430772 -0.488837 0.427685 -0.481198 0.42213 C -0.473559 0.416574 -0.457587 0.408549 -0.449948 0.403611 C -0.442309 0.398673 -0.442309 0.398673 -0.435365 0.3925 C -0.42842 0.386327 -0.415226 0.37213 -0.408281 0.366574 C -0.401337 0.361019 -0.398212 0.361636 -0.393698 0.359167 C -0.389184 0.356697 -0.385365 0.35483 -0.381198 0.351759 C -0.377031 0.348688 -0.372517 0.343812 -0.368698 0.340741 C -0.364879 0.33767 -0.362448 0.33642 -0.358281 0.333333 C -0.354115 0.330247 -0.348212 0.325309 -0.343698 0.322222 C -0.339184 0.319136 -0.335365 0.317284 -0.331198 0.314815 C -0.327031 0.312346 -0.322517 0.310494 -0.318698 0.307407 C -0.314879 0.304321 -0.312448 0.299383 -0.308281 0.296296 C -0.304115 0.29321 -0.297865 0.291358 -0.293698 0.288889 C -0.289531 0.28642 -0.286754 0.283951 -0.283281 0.281481 C -0.279809 0.279012 -0.27599 0.276543 -0.272865 0.274074 C -0.26974 0.271605 -0.267656 0.269136 -0.264531 0.266667 C -0.261406 0.264197 -0.25724 0.261111 -0.254115 0.259259 C -0.25099 0.257407 -0.249601 0.258642 -0.245781 0.255556 C -0.241962 0.252469 -0.235017 0.244444 -0.231198 0.240741 C -0.227379 0.237037 -0.22599 0.237037 -0.222865 0.233333 C -0.21974 0.22963 -0.215226 0.222222 -0.212448 0.218519 C -0.20967 0.214815 -0.208629 0.214815 -0.206198 0.211111 C -0.203767 0.207407 -0.200642 0.2 -0.197865 0.196296 C -0.195087 0.192593 -0.192656 0.192593 -0.189531 0.188889 C -0.186406 0.185185 -0.181892 0.177778 -0.179115 0.174074 C -0.176337 0.17037 -0.175642 0.17037 -0.172865 0.166667 C -0.170087 0.162963 -0.165226 0.155555 -0.162448 0.151852 C -0.15967 0.148148 -0.160712 0.149383 -0.156198 0.144444 C -0.151684 0.139506 -0.139879 0.12716 -0.135365 0.122222 C -0.130851 0.117284 -0.131892 0.117901 -0.129115 0.114815 C -0.126337 0.111728 -0.121823 0.106173 -0.118698 0.103704 C -0.115573 0.101235 -0.112795 0.101235 -0.110365 0.1 C -0.107934 0.098765 -0.106198 0.098148 -0.104115 0.096296 C -0.102031 0.094444 -0.099939 0.090741 -0.097865 0.088889 C -0.09579 0.087037 -0.093741 0.08642 -0.091667 0.085185 C -0.089592 0.083951 -0.087847 0.082099 -0.085417 0.081481 C -0.082986 0.080864 -0.079861 0.082099 -0.077083 0.081481 C -0.074306 0.080864 -0.071181 0.078395 -0.06875 0.077778 C -0.066319 0.07716 -0.064931 0.079012 -0.0625 0.077778 C -0.060069 0.076543 -0.056597 0.072222 -0.054167 0.07037 C -0.051736 0.068519 -0.05 0.067901 -0.047917 0.066667 C -0.045833 0.065432 -0.044444 0.065432 -0.041667 0.062963 C -0.038889 0.060494 -0.034028 0.054938 -0.03125 0.051852 C -0.028472 0.048765 -0.027431 0.047531 -0.025 0.044444 C -0.022569 0.041358 -0.019792 0.038272 -0.016667 0.033333 C -0.013542 0.028395 -0.009028 0.019136 -0.00625 0.014815 C -0.003472 0.010494 -0.002083 0.009259 0 0.007407 C 0.002083 0.005556 0.004167 0.005555 0.00625 0.003704 C 0.008333 0.001852 0.013542 -0.002469 0.0125 -0.003704 C 0.011458 -0.004938 0.003125 -0.003704 0 -0.003704 C -0.003125 -0.003704 -0.003125 -0.005556 -0.00625 -0.003704 C -0.009375 -0.001852 -0.015625 0.004938 -0.01875 0.007407 C -0.021875 0.009876 -0.021181 0.008025 -0.025 0.011111 C -0.028819 0.014198 -0.036806 0.022222 -0.041667 0.025926 C -0.046528 0.02963 -0.050347 0.030247 -0.054167 0.033333 C -0.057986 0.03642 -0.060417 0.040741 -0.064583 0.044444 C -0.06875 0.048148 -0.074653 0.051852 -0.079167 0.055556 C -0.083681 0.059259 -0.087162 0.062346 -0.091667 0.066667 C -0.096172 0.070988 -0.101693 0.077778 -0.106198 0.081481 C -0.110703 0.085185 -0.114184 0.08642 -0.118698 0.088889 C -0.123212 0.091358 -0.128767 0.092593 -0.133281 0.096296 C -0.137795 0.1 -0.141267 0.10679 -0.145781 0.111111 C -0.150295 0.115432 -0.156198 0.118519 -0.160365 0.122222 C -0.164531 0.125926 -0.164879 0.128395 -0.170781 0.133333 C -0.176684 0.138272 -0.18849 0.146296 -0.195781 0.151852 C -0.203073 0.157407 -0.208629 0.161728 -0.214531 0.166667 C -0.220434 0.171605 -0.225642 0.175926 -0.231198 0.181481 C -0.236754 0.187037 -0.241962 0.194444 -0.247865 0.2 C -0.253767 0.205555 -0.260712 0.210494 -0.266615 0.214815 C -0.272517 0.219136 -0.278073 0.221605 -0.283281 0.225926 C -0.28849 0.230247 -0.292309 0.23642 -0.297865 0.240741 C -0.30342 0.245062 -0.310365 0.248148 -0.316615 0.251852 C -0.322865 0.255555 -0.328767 0.258642 -0.335365 0.262963 C -0.341962 0.267284 -0.349601 0.273457 -0.356198 0.277778 C -0.362795 0.282099 -0.369045 0.284568 -0.374948 0.288889 C -0.380851 0.29321 -0.383629 0.297531 -0.391615 0.303704 C -0.399601 0.309876 -0.415573 0.319753 -0.422865 0.325926 C -0.430156 0.332099 -0.431198 0.337037 -0.435365 0.340741 C -0.439531 0.344444 -0.444045 0.345077 -0.447865 0.348148 C -0.451684 0.351219 -0.454115 0.355478 -0.458281 0.359167 C -0.462448 0.362855 -0.469045 0.367191 -0.472865 0.370278 C -0.476684 0.373364 -0.478073 0.375833 -0.481198 0.377685 C -0.484323 0.379537 -0.487795 0.37892 -0.491615 0.381389 C -0.495434 0.383858 -0.499601 0.388796 -0.504115 0.3925 C -0.508629 0.396204 -0.514523 0.399907 -0.518698 0.403611 C -0.522873 0.407315 -0.525339 0.411019 -0.529167 0.414722 C -0.532995 0.418426 -0.5375 0.421512 -0.541667 0.425833 C -0.545833 0.430154 -0.549653 0.436327 -0.554167 0.440648 C -0.558681 0.444969 -0.561458 0.446204 -0.56875 0.451759 C -0.576042 0.457315 -0.590625 0.467809 -0.597917 0.473981 C -0.605208 0.480154 -0.604861 0.482623 -0.6125 0.488796 C -0.620139 0.494969 -0.636111 0.505463 -0.64375 0.511019 C -0.651389 0.516574 -0.652083 0.517191 -0.658333 0.52213 C -0.664583 0.527068 -0.675694 0.536327 -0.68125 0.540648 C -0.686806 0.544969 -0.68507 0.5425 -0.691667 0.548056 C -0.698264 0.553611 -0.714583 0.568426 -0.720833 0.573981 C -0.727083 0.579537 -0.725356 0.577685 -0.729167 0.581389 C -0.732977 0.585092 -0.73954 0.5925 -0.743698 0.596204 C -0.747856 0.599907 -0.749601 0.59929 -0.754115 0.603611 C -0.758628 0.607932 -0.766962 0.618426 -0.770781 0.62213 C -0.774601 0.625833 -0.773559 0.62213 -0.777031 0.625833 C -0.780503 0.629537 -0.788142 0.640648 -0.791615 0.644352 C -0.795087 0.648055 -0.795434 0.646821 -0.797865 0.648056 C -0.800295 0.64929 -0.803767 0.64929 -0.806198 0.651759 C -0.808628 0.654228 -0.810017 0.660401 -0.812448 0.66287 C -0.814878 0.665339 -0.818351 0.665339 -0.820781 0.666574 C -0.823212 0.667809 -0.824948 0.668426 -0.827031 0.670278 C -0.829115 0.67213 -0.830156 0.675216 -0.833281 0.677685 C -0.836406 0.680154 -0.842309 0.682623 -0.845781 0.685093 C -0.849253 0.687562 -0.851337 0.690031 -0.854115 0.6925 C -0.856892 0.694969 -0.859323 0.697438 -0.862448 0.699907 C -0.865573 0.702376 -0.86974 0.704846 -0.872865 0.707315 C -0.87599 0.709784 -0.878073 0.712253 -0.881198 0.714722 C -0.884323 0.717191 -0.887101 0.71841 -0.891615 0.72213 C -0.896128 0.725849 -0.904462 0.733935 -0.908281 0.737037 C -0.912101 0.740139 -0.911406 0.738271 -0.914531 0.740741 C -0.917656 0.74321 -0.923906 0.749383 -0.927031 0.751852 C -0.930156 0.754321 -0.933281 0.754938 -0.933281 0.755556 C -0.933281 0.756173 -0.930851 0.758025 -0.927031 0.755556 C -0.923212 0.753086 -0.915226 0.745062 -0.910365 0.740741 C -0.905503 0.73642 -0.906892 0.737052 -0.897865 0.72963 C -0.888837 0.722207 -0.866615 0.705478 -0.856198 0.696204 C -0.845781 0.686929 -0.842656 0.680154 -0.835365 0.673981 C -0.828073 0.667809 -0.821823 0.665957 -0.812448 0.659167 C -0.803073 0.652376 -0.786059 0.638796 -0.779115 0.633241 C -0.77217 0.627685 -0.773906 0.62892 -0.770781 0.625833 C -0.767656 0.622747 -0.763837 0.617809 -0.760365 0.614722 C -0.756892 0.611636 -0.752726 0.609167 -0.749948 0.607315 C -0.74717 0.605463 -0.745781 0.604846 -0.743698 0.603611 C -0.741615 0.602376 -0.739523 0.602376 -0.737448 0.599907 C -0.735373 0.597438 -0.734366 0.593117 -0.73125 0.588796 C -0.728134 0.584475 -0.722569 0.578302 -0.71875 0.573981 C -0.714931 0.56966 -0.712153 0.566574 -0.708333 0.56287 C -0.704514 0.559167 -0.7 0.55608 -0.695833 0.551759 C -0.691667 0.547438 -0.690625 0.543735 -0.683333 0.536944 C -0.676042 0.530154 -0.660069 0.517191 -0.652083 0.511019 C -0.644097 0.504846 -0.640625 0.503611 -0.635417 0.499907 C -0.630208 0.496204 -0.628125 0.4925 -0.620833 0.488796 C -0.613542 0.485093 -0.598958 0.480154 -0.591667 0.477685 C -0.584375 0.475216 -0.581944 0.475216 -0.577083 0.473981 C -0.572222 0.472747 -0.566667 0.471512 -0.5625 0.470278 C -0.558333 0.469043 -0.555208 0.467809 -0.552083 0.466574 C -0.548958 0.465339 -0.546875 0.463488 -0.54375 0.46287 C -0.540625 0.462253 -0.536458 0.464105 -0.533333 0.46287 C -0.530208 0.461636 -0.528134 0.457932 -0.525 0.455463 C -0.521866 0.452994 -0.518012 0.451142 -0.514531 0.448056 C -0.51105 0.444969 -0.507934 0.440648 -0.504115 0.436944 C -0.500295 0.433241 -0.495434 0.42892 -0.491615 0.425833 C -0.487795 0.422747 -0.487795 0.424599 -0.481198 0.418426 C -0.474601 0.412253 -0.45967 0.395586 -0.452031 0.388796 C -0.444392 0.382006 -0.440573 0.380772 -0.435365 0.377685 C -0.430156 0.374599 -0.42599 0.373981 -0.420781 0.370278 C -0.415573 0.366574 -0.409323 0.359768 -0.404115 0.355463 C -0.398906 0.351157 -0.395087 0.348133 -0.389531 0.344444 C -0.383976 0.340756 -0.376684 0.337654 -0.370781 0.333333 C -0.364879 0.329012 -0.35967 0.322839 -0.354115 0.318519 C -0.348559 0.314198 -0.343698 0.311728 -0.337448 0.307407 C -0.331198 0.303086 -0.323559 0.298765 -0.316615 0.292593 C -0.30967 0.28642 -0.301684 0.276543 -0.295781 0.27037 C -0.289879 0.264197 -0.286754 0.260494 -0.281198 0.255556 C -0.275642 0.250617 -0.270434 0.248148 -0.262448 0.240741 C -0.254462 0.233333 -0.241267 0.219753 -0.233281 0.211111 C -0.225295 0.202469 -0.219045 0.194444 -0.214531 0.188889 C -0.210017 0.183333 -0.208629 0.180864 -0.206198 0.177778 C -0.203767 0.174691 -0.202379 0.172839 -0.199948 0.17037 C -0.197517 0.167901 -0.194045 0.165432 -0.191615 0.162963 C -0.189184 0.160494 -0.187448 0.158025 -0.185365 0.155556 C -0.183281 0.153086 -0.181198 0.150617 -0.179115 0.148148 C -0.177031 0.145679 -0.176337 0.144444 -0.172865 0.140741 C -0.169392 0.137037 -0.161754 0.129012 -0.158281 0.125926 C -0.154809 0.122839 -0.154115 0.123457 -0.152031 0.122222 C -0.149948 0.120988 -0.147865 0.119753 -0.145781 0.118519 C -0.143698 0.117284 -0.141615 0.115432 -0.139531 0.114815 C -0.137448 0.114198 -0.135712 0.115432 -0.133281 0.114815 C -0.130851 0.114198 -0.127726 0.112346 -0.124948 0.111111 C -0.12217 0.109876 -0.119392 0.108642 -0.116615 0.107407 C -0.113837 0.106173 -0.110712 0.104938 -0.108281 0.103704 C -0.105851 0.102469 -0.104462 0.100617 -0.102031 0.1 C -0.099601 0.099383 -0.096467 0.101235 -0.093698 0.1 C -0.090929 0.098765 -0.088533 0.094444 -0.085417 0.092593 C -0.0823 0.090741 -0.078125 0.091358 -0.075 0.088889 C -0.071875 0.08642 -0.070833 0.081481 -0.066667 0.077778 C -0.0625 0.074074 -0.054167 0.069753 -0.05 0.066667 C -0.045833 0.06358 -0.044792 0.061728 -0.041667 0.059259 C -0.038542 0.05679 -0.034375 0.054321 -0.03125 0.051852 C -0.028125 0.049383 -0.026042 0.046914 -0.022917 0.044444 C -0.019792 0.041975 -0.015972 0.040123 -0.0125 0.037037 C -0.009028 0.033951 -0.004861 0.029012 -0.002083 0.025926 C 0.000694 0.022839 0.001736 0.020988 0.004167 0.018519 C 0.006597 0.016049 0.009722 0.01358 0.0125 0.011111 C 0.015278 0.008642 0.017361 0.00679 0.020833 0.003704 C 0.024306 0.000617 0.030208 -0.003704 0.033333 -0.007407 C 0.036458 -0.011111 0.0375 -0.016049 0.039583 -0.018519 C 0.041667 -0.020988 0.044792 -0.021605 0.045833 -0.022222 E">
                                      <p:cBhvr>
                                        <p:cTn id="410" dur="2000" fill="hold"/>
                                        <p:tgtEl>
                                          <p:spTgt spid="864"/>
                                        </p:tgtEl>
                                      </p:cBhvr>
                                    </p:animMotion>
                                  </p:childTnLst>
                                </p:cTn>
                              </p:par>
                            </p:childTnLst>
                          </p:cTn>
                        </p:par>
                        <p:par>
                          <p:cTn id="411" nodeType="afterEffect" fill="hold">
                            <p:stCondLst>
                              <p:cond delay="16000"/>
                            </p:stCondLst>
                            <p:childTnLst>
                              <p:par>
                                <p:cTn id="412" nodeType="afterEffect" fill="hold" presetClass="path" presetID="0">
                                  <p:stCondLst>
                                    <p:cond delay="0"/>
                                  </p:stCondLst>
                                  <p:childTnLst>
                                    <p:animMotion origin="layout" path="M 0 0 C -0.001389 0 -0.003472 0 -0.008333 0 C -0.013194 0 -0.022925 -0.000617 -0.029167 0 C -0.035408 0.000617 -0.035721 0.000617 -0.045781 0.003704 C -0.055842 0.00679 -0.078767 0.014815 -0.089531 0.018519 C -0.100295 0.022222 -0.10342 0.023441 -0.110365 0.025926 C -0.117309 0.02841 -0.123906 0.030324 -0.131198 0.033426 C -0.13849 0.036528 -0.14717 0.040833 -0.154115 0.044537 C -0.161059 0.048241 -0.166962 0.052562 -0.172865 0.055648 C -0.178767 0.058735 -0.184323 0.059352 -0.189531 0.063056 C -0.19474 0.066759 -0.198559 0.072932 -0.204115 0.07787 C -0.20967 0.082809 -0.217309 0.08713 -0.222865 0.092685 C -0.22842 0.098241 -0.231892 0.105031 -0.237448 0.111204 C -0.243004 0.117377 -0.249601 0.122932 -0.256198 0.129722 C -0.262795 0.136512 -0.26974 0.143302 -0.277031 0.151944 C -0.284323 0.160586 -0.289531 0.167392 -0.299948 0.181574 C -0.310365 0.195756 -0.329809 0.224089 -0.339531 0.237037 C -0.349254 0.249985 -0.348906 0.249383 -0.358281 0.259259 C -0.367656 0.269136 -0.386754 0.287654 -0.395781 0.296296 C -0.404809 0.304938 -0.404115 0.305556 -0.412448 0.311111 C -0.420781 0.316667 -0.43849 0.325926 -0.445781 0.32963 C -0.453073 0.333333 -0.450634 0.330864 -0.456198 0.333333 C -0.461762 0.335802 -0.47395 0.341358 -0.479167 0.344444 C -0.484384 0.347531 -0.484375 0.349383 -0.4875 0.351852 C -0.490625 0.354321 -0.492014 0.354938 -0.497917 0.359259 C -0.503819 0.36358 -0.51632 0.371605 -0.522917 0.377778 C -0.529514 0.383951 -0.525 0.386404 -0.5375 0.396296 C -0.55 0.406188 -0.584028 0.428472 -0.597917 0.43713 C -0.611806 0.445787 -0.6073 0.443302 -0.620833 0.448241 C -0.634366 0.453179 -0.663151 0.461821 -0.679115 0.466759 C -0.695078 0.471698 -0.701337 0.474167 -0.716615 0.47787 C -0.731892 0.481574 -0.758628 0.485278 -0.770781 0.488981 C -0.782934 0.492685 -0.779809 0.49392 -0.789531 0.500093 C -0.799253 0.506265 -0.820087 0.519846 -0.829115 0.526019 C -0.838142 0.532191 -0.838837 0.532809 -0.843698 0.53713 C -0.848559 0.541451 -0.850634 0.545154 -0.858281 0.551944 C -0.865929 0.558735 -0.881589 0.57108 -0.889583 0.57787 C -0.897578 0.58466 -0.901389 0.588364 -0.90625 0.592685 C -0.911111 0.597006 -0.913889 0.599475 -0.91875 0.603796 C -0.923611 0.608117 -0.930208 0.61429 -0.935417 0.618611 C -0.940625 0.622932 -0.945139 0.626019 -0.95 0.629722 C -0.954861 0.633426 -0.959722 0.635895 -0.964583 0.640833 C -0.969444 0.645772 -0.973967 0.653179 -0.979167 0.659352 C -0.984366 0.665525 -0.990582 0.672315 -0.995781 0.67787 C -1.000981 0.683426 -1.005851 0.688364 -1.010365 0.692685 C -1.014879 0.697006 -1.014531 0.697006 -1.022865 0.703796 C -1.031198 0.710586 -1.052378 0.726636 -1.060365 0.733426 C -1.068351 0.740216 -1.066962 0.740833 -1.070781 0.744537 C -1.074601 0.748241 -1.079115 0.751327 -1.083281 0.755648 C -1.087448 0.759969 -1.091606 0.766759 -1.095781 0.770463 C -1.099957 0.774167 -1.104505 0.775401 -1.108333 0.77787 C -1.112162 0.780339 -1.115278 0.782207 -1.11875 0.785278 C -1.122222 0.788349 -1.126389 0.793225 -1.129167 0.796296 C -1.131944 0.799367 -1.132639 0.801852 -1.135417 0.803704 C -1.138194 0.805555 -1.142708 0.805556 -1.145833 0.807407 C -1.148958 0.809259 -1.151398 0.81358 -1.154167 0.814815 C -1.156936 0.816049 -1.159679 0.814815 -1.162448 0.814815 C -1.165217 0.814815 -1.168351 0.81358 -1.170781 0.814815 C -1.173212 0.816049 -1.177378 0.821605 -1.177031 0.822222 C -1.176684 0.822839 -1.175634 0.82037 -1.168698 0.818519 C -1.161762 0.816667 -1.145477 0.81358 -1.135417 0.811111 C -1.125356 0.808642 -1.123273 0.808626 -1.108333 0.803704 C -1.093394 0.798781 -1.062804 0.787731 -1.045781 0.781574 C -1.028759 0.775417 -1.025286 0.776018 -1.006198 0.766759 C -0.987109 0.7575 -0.948602 0.735278 -0.93125 0.726019 C -0.913898 0.716759 -0.915634 0.719846 -0.902083 0.711204 C -0.888533 0.702562 -0.861762 0.682191 -0.849948 0.674167 C -0.838134 0.666142 -0.837448 0.666142 -0.831198 0.663056 C -0.824948 0.659969 -0.818351 0.659352 -0.812448 0.655648 C -0.806545 0.651944 -0.801684 0.645154 -0.795781 0.640833 C -0.789878 0.636512 -0.782587 0.633426 -0.777031 0.629722 C -0.771476 0.626019 -0.767656 0.622932 -0.762448 0.618611 C -0.75724 0.61429 -0.75099 0.608117 -0.745781 0.603796 C -0.740573 0.599475 -0.736059 0.596389 -0.731198 0.592685 C -0.726337 0.588982 -0.721128 0.585895 -0.716615 0.581574 C -0.712101 0.577253 -0.708976 0.57108 -0.704115 0.566759 C -0.699253 0.562438 -0.692995 0.559352 -0.687448 0.555648 C -0.681901 0.551944 -0.679158 0.55071 -0.670833 0.544537 C -0.662509 0.538364 -0.646181 0.525401 -0.6375 0.518611 C -0.628819 0.511821 -0.627431 0.511204 -0.61875 0.503796 C -0.61007 0.496389 -0.59375 0.481574 -0.585417 0.474167 C -0.577083 0.466759 -0.577778 0.466759 -0.56875 0.459352 C -0.559722 0.451944 -0.540278 0.436512 -0.53125 0.429722 C -0.522222 0.422932 -0.519792 0.42233 -0.514583 0.418611 C -0.509375 0.414892 -0.504861 0.410509 -0.5 0.407407 C -0.495139 0.404306 -0.490278 0.403086 -0.485417 0.4 C -0.480556 0.396914 -0.475703 0.39321 -0.470833 0.388889 C -0.465964 0.384568 -0.461068 0.379012 -0.456198 0.374074 C -0.451328 0.369136 -0.446129 0.36358 -0.441615 0.359259 C -0.437101 0.354938 -0.433281 0.351852 -0.429115 0.348148 C -0.424948 0.344444 -0.421129 0.341358 -0.416615 0.337037 C -0.412101 0.332716 -0.406545 0.327778 -0.402031 0.322222 C -0.397517 0.316667 -0.394045 0.309259 -0.389531 0.303704 C -0.385017 0.298148 -0.379462 0.29321 -0.374948 0.288889 C -0.370434 0.284568 -0.366267 0.282099 -0.362448 0.277778 C -0.358629 0.273457 -0.356198 0.267901 -0.352031 0.262963 C -0.347865 0.258025 -0.343351 0.253704 -0.337448 0.248148 C -0.331545 0.242593 -0.32217 0.235787 -0.316615 0.22963 C -0.311059 0.223472 -0.310365 0.217978 -0.304115 0.211204 C -0.297865 0.204429 -0.285017 0.194537 -0.279115 0.188981 C -0.273212 0.183426 -0.274254 0.184043 -0.268698 0.17787 C -0.263142 0.171697 -0.251684 0.158117 -0.245781 0.151944 C -0.239879 0.145772 -0.239184 0.145772 -0.233281 0.140833 C -0.227379 0.135895 -0.21592 0.126636 -0.210365 0.122315 C -0.204809 0.117994 -0.205851 0.117994 -0.199948 0.114907 C -0.194045 0.111821 -0.181198 0.106265 -0.174948 0.103796 C -0.168698 0.101327 -0.168351 0.101944 -0.162448 0.100093 C -0.156545 0.098241 -0.145087 0.095154 -0.139531 0.092685 C -0.133976 0.090216 -0.132587 0.086512 -0.129115 0.085278 C -0.125642 0.084043 -0.124254 0.086512 -0.118698 0.085278 C -0.113142 0.084043 -0.101337 0.079105 -0.095781 0.07787 C -0.090226 0.076636 -0.091615 0.080339 -0.085365 0.07787 C -0.079115 0.075401 -0.065573 0.068611 -0.058281 0.063056 C -0.05099 0.0575 -0.04612 0.048858 -0.041615 0.044537 C -0.037109 0.040216 -0.035061 0.039614 -0.03125 0.03713 C -0.027439 0.034645 -0.021875 0.032731 -0.01875 0.02963 C -0.015625 0.026528 -0.014931 0.020988 -0.0125 0.018519 C -0.010069 0.016049 -0.006944 0.016049 -0.004167 0.014815 C -0.001389 0.01358 0.001042 0.012963 0.004167 0.011111 C 0.007292 0.009259 0.011806 0.005556 0.014583 0.003704 C 0.017361 0.001852 0.01875 0.000617 0.020833 0 C 0.022917 -0.000617 0.024653 0.000617 0.027083 0 C 0.029514 -0.000617 0.032986 -0.001852 0.035417 -0.003704 C 0.037847 -0.005556 0.039583 -0.009259 0.041667 -0.011111 C 0.04375 -0.012963 0.047917 -0.014815 0.047917 -0.014815 C 0.047917 -0.014815 0.045139 -0.01358 0.041667 -0.011111 C 0.038194 -0.008642 0.03125 -0.001852 0.027083 0 C 0.022917 0.001852 0.021875 -0.001235 0.016667 0 C 0.011458 0.001235 0.001042 0.005556 -0.004167 0.007407 C -0.009375 0.009259 -0.008342 0.007407 -0.014583 0.011111 C -0.020825 0.014815 -0.035026 0.024676 -0.041615 0.02963 C -0.048203 0.034583 -0.049601 0.037731 -0.054115 0.040833 C -0.058629 0.043935 -0.060365 0.041451 -0.068698 0.048241 C -0.077031 0.055031 -0.095434 0.074167 -0.104115 0.081574 C -0.112795 0.088981 -0.114879 0.088981 -0.120781 0.092685 C -0.126684 0.096389 -0.133629 0.099475 -0.139531 0.103796 C -0.145434 0.108117 -0.150295 0.11429 -0.156198 0.118611 C -0.162101 0.122932 -0.168698 0.125401 -0.174948 0.129722 C -0.181198 0.134043 -0.188142 0.140216 -0.193698 0.144537 C -0.199254 0.148858 -0.202726 0.151327 -0.208281 0.155648 C -0.213837 0.159969 -0.220781 0.165525 -0.227031 0.170463 C -0.233281 0.175401 -0.239531 0.180339 -0.245781 0.185278 C -0.252031 0.190216 -0.258976 0.195154 -0.264531 0.200093 C -0.270087 0.205031 -0.273212 0.209985 -0.279115 0.214907 C -0.285017 0.21983 -0.293351 0.224707 -0.299948 0.22963 C -0.306545 0.234552 -0.312448 0.240123 -0.318698 0.244444 C -0.324948 0.248765 -0.331198 0.251235 -0.337448 0.255556 C -0.343698 0.259877 -0.349601 0.266049 -0.356198 0.27037 C -0.362795 0.274691 -0.370781 0.277778 -0.377031 0.281481 C -0.383281 0.285185 -0.38849 0.290741 -0.393698 0.292593 C -0.398906 0.294444 -0.403073 0.291975 -0.408281 0.292593 C -0.41349 0.29321 -0.419392 0.293827 -0.424948 0.296296 C -0.430504 0.298765 -0.436059 0.303704 -0.441615 0.307407 C -0.44717 0.311111 -0.452717 0.314198 -0.458281 0.318519 C -0.463846 0.322839 -0.469436 0.328395 -0.475 0.333333 C -0.480564 0.338272 -0.486458 0.342593 -0.491667 0.348148 C -0.496875 0.353704 -0.501389 0.360494 -0.50625 0.366667 C -0.511111 0.372839 -0.516667 0.37963 -0.520833 0.385185 C -0.525 0.390741 -0.527431 0.395046 -0.53125 0.4 C -0.535069 0.404954 -0.539583 0.409954 -0.54375 0.414907 C -0.547917 0.419861 -0.551736 0.424784 -0.55625 0.429722 C -0.560764 0.43466 -0.567014 0.440833 -0.570833 0.444537 C -0.574653 0.448241 -0.575347 0.448858 -0.579167 0.451944 C -0.582986 0.455031 -0.589583 0.459969 -0.59375 0.463056 C -0.597917 0.466142 -0.597917 0.465525 -0.604167 0.470463 C -0.610417 0.475401 -0.624306 0.48713 -0.63125 0.492685 C -0.638195 0.498241 -0.638203 0.498241 -0.645833 0.503796 C -0.653464 0.509352 -0.668012 0.519846 -0.677031 0.526019 C -0.68605 0.532191 -0.692656 0.53713 -0.699948 0.540833 C -0.70724 0.544537 -0.71349 0.545772 -0.720781 0.548241 C -0.728073 0.55071 -0.736059 0.553179 -0.743698 0.555648 C -0.751337 0.558117 -0.758628 0.560586 -0.766615 0.563056 C -0.774601 0.565525 -0.783976 0.568611 -0.791615 0.570463 C -0.799253 0.572315 -0.805851 0.572315 -0.812448 0.574167 C -0.819045 0.576018 -0.824601 0.579105 -0.831198 0.581574 C -0.837795 0.584043 -0.845434 0.586512 -0.852031 0.588982 C -0.858628 0.591451 -0.864523 0.592685 -0.870781 0.596389 C -0.87704 0.600093 -0.883672 0.606883 -0.889583 0.611204 C -0.895495 0.615525 -0.897569 0.615525 -0.90625 0.622315 C -0.914931 0.629105 -0.931944 0.644537 -0.941667 0.651944 C -0.951389 0.659352 -0.955564 0.660586 -0.964583 0.666759 C -0.973602 0.672932 -0.987804 0.683426 -0.995781 0.688981 C -1.003759 0.694537 -1.005156 0.696389 -1.012448 0.700093 C -1.01974 0.703796 -1.033628 0.708735 -1.039531 0.711204 C -1.045434 0.713673 -1.043351 0.713673 -1.047865 0.714907 C -1.052378 0.716142 -1.062448 0.717376 -1.066615 0.718611 C -1.070781 0.719846 -1.068351 0.719846 -1.072865 0.722315 C -1.077379 0.724784 -1.088481 0.730339 -1.093698 0.733426 C -1.098915 0.736512 -1.100686 0.738981 -1.104167 0.740833 C -1.107648 0.742685 -1.110069 0.742068 -1.114583 0.744537 C -1.119097 0.747006 -1.127083 0.753796 -1.13125 0.755648 C -1.135417 0.7575 -1.137153 0.755031 -1.139583 0.755648 C -1.142014 0.756265 -1.14375 0.758735 -1.145833 0.759352 C -1.147917 0.759969 -1.149314 0.758117 -1.152083 0.759352 C -1.154852 0.760586 -1.159332 0.76429 -1.162448 0.766759 C -1.165564 0.769228 -1.171476 0.772932 -1.170781 0.774167 C -1.170087 0.775401 -1.163828 0.776636 -1.158281 0.774167 C -1.152734 0.771698 -1.143741 0.763055 -1.1375 0.759352 C -1.131259 0.755648 -1.129175 0.756265 -1.120833 0.751944 C -1.112491 0.747623 -1.096137 0.73713 -1.087448 0.733426 C -1.078759 0.729722 -1.079115 0.735278 -1.068698 0.729722 C -1.058281 0.724167 -1.035712 0.7075 -1.024948 0.700093 C -1.014184 0.692685 -1.015911 0.694537 -1.004115 0.685278 C -0.992318 0.676019 -0.967352 0.655031 -0.954167 0.644537 C -0.940981 0.634043 -0.934722 0.630339 -0.925 0.622315 C -0.915278 0.61429 -0.912509 0.611821 -0.895833 0.596389 C -0.879158 0.580957 -0.843707 0.545154 -0.824948 0.529722 C -0.806189 0.51429 -0.796823 0.511821 -0.783281 0.503796 C -0.76974 0.495772 -0.75724 0.487747 -0.743698 0.481574 C -0.730156 0.475401 -0.715217 0.470463 -0.702031 0.466759 C -0.688846 0.463056 -0.675339 0.461821 -0.664583 0.459352 C -0.653828 0.456883 -0.646875 0.454414 -0.6375 0.451944 C -0.628125 0.449475 -0.617361 0.447623 -0.608333 0.444537 C -0.599306 0.441451 -0.590625 0.435895 -0.583333 0.433426 C -0.576042 0.430957 -0.570139 0.430957 -0.564583 0.429722 C -0.559028 0.428488 -0.554861 0.42787 -0.55 0.426019 C -0.545139 0.424167 -0.542014 0.421713 -0.535417 0.418611 C -0.52882 0.415509 -0.51632 0.410509 -0.510417 0.407407 C -0.504514 0.404306 -0.505903 0.403086 -0.5 0.4 C -0.494097 0.396914 -0.48125 0.391358 -0.475 0.388889 C -0.46875 0.38642 -0.468759 0.387037 -0.4625 0.385185 C -0.456241 0.383333 -0.443707 0.37963 -0.437448 0.377778 C -0.431189 0.375926 -0.431198 0.375926 -0.424948 0.374074 C -0.418698 0.372222 -0.406198 0.368518 -0.399948 0.366667 C -0.393698 0.364815 -0.392309 0.364197 -0.387448 0.362963 C -0.382587 0.361728 -0.376684 0.360494 -0.370781 0.359259 C -0.364879 0.358025 -0.357934 0.357407 -0.352031 0.355556 C -0.346129 0.353704 -0.341267 0.350617 -0.335365 0.348148 C -0.329462 0.345679 -0.322517 0.342593 -0.316615 0.340741 C -0.310712 0.338889 -0.305851 0.339506 -0.299948 0.337037 C -0.294045 0.334568 -0.287448 0.32963 -0.281198 0.325926 C -0.274948 0.322222 -0.268004 0.318518 -0.262448 0.314815 C -0.256892 0.311111 -0.25342 0.308025 -0.247865 0.303704 C -0.242309 0.299383 -0.235017 0.293827 -0.229115 0.288889 C -0.223212 0.283951 -0.220434 0.281481 -0.212448 0.274074 C -0.204462 0.266667 -0.18849 0.251852 -0.181198 0.244444 C -0.173906 0.237037 -0.172865 0.234552 -0.168698 0.22963 C -0.164531 0.224707 -0.161754 0.21983 -0.156198 0.214907 C -0.150642 0.209985 -0.140573 0.205031 -0.135365 0.200093 C -0.130156 0.195154 -0.129809 0.190216 -0.124948 0.185278 C -0.120087 0.180339 -0.111059 0.174167 -0.106198 0.170463 C -0.101337 0.166759 -0.098906 0.166142 -0.095781 0.163056 C -0.092656 0.159969 -0.090226 0.155031 -0.087448 0.151944 C -0.08467 0.148858 -0.081545 0.146389 -0.079115 0.144537 C -0.076684 0.142685 -0.075642 0.142685 -0.072865 0.140833 C -0.070087 0.138981 -0.065226 0.135278 -0.062448 0.133426 C -0.05967 0.131574 -0.058976 0.131574 -0.056198 0.129722 C -0.05342 0.12787 -0.049254 0.125401 -0.045781 0.122315 C -0.042309 0.119228 -0.038828 0.113673 -0.035365 0.111204 C -0.031901 0.108735 -0.028116 0.108735 -0.025 0.1075 C -0.021884 0.106265 -0.023264 0.105648 -0.016667 0.103796 C -0.010069 0.101944 0.007986 0.098241 0.014583 0.096389 C 0.021181 0.094537 0.020139 0.093302 0.022917 0.092685 C 0.025694 0.092068 0.027778 0.09392 0.03125 0.092685 C 0.034722 0.091451 0.039931 0.087747 0.04375 0.085278 C 0.047569 0.082809 0.050694 0.079722 0.054167 0.07787 C 0.057639 0.076019 0.061458 0.076018 0.064583 0.074167 C 0.067708 0.072315 0.069792 0.069846 0.072917 0.066759 C 0.076042 0.063673 0.080556 0.059352 0.083333 0.055648 C 0.086111 0.051944 0.0875 0.047006 0.089583 0.044537 C 0.091667 0.042068 0.093403 0.042685 0.095833 0.040833 C 0.098264 0.038981 0.102778 0.03466 0.104167 0.033426 E">
                                      <p:cBhvr>
                                        <p:cTn id="413" dur="2000" fill="hold"/>
                                        <p:tgtEl>
                                          <p:spTgt spid="863"/>
                                        </p:tgtEl>
                                      </p:cBhvr>
                                    </p:animMotion>
                                  </p:childTnLst>
                                </p:cTn>
                              </p:par>
                            </p:childTnLst>
                          </p:cTn>
                        </p:par>
                        <p:par>
                          <p:cTn id="414" nodeType="afterEffect" fill="hold">
                            <p:stCondLst>
                              <p:cond delay="18000"/>
                            </p:stCondLst>
                            <p:childTnLst>
                              <p:par>
                                <p:cTn id="415" nodeType="afterEffect" fill="hold" presetClass="path" presetID="0">
                                  <p:stCondLst>
                                    <p:cond delay="0"/>
                                  </p:stCondLst>
                                  <p:childTnLst>
                                    <p:animMotion origin="layout" path="M 0.004115 0.026574 C 0.003767 0.029043 0.003073 0.036466 0.002031 0.041389 C 0.00099 0.046312 -0.000747 0.050571 -0.002135 0.056111 C -0.003524 0.061651 -0.004913 0.068457 -0.006302 0.07463 C -0.007691 0.080802 -0.008733 0.086975 -0.010469 0.093148 C -0.012205 0.099321 -0.013941 0.098688 -0.016719 0.111667 C -0.019497 0.124645 -0.024705 0.157423 -0.027135 0.171019 C -0.029566 0.184614 -0.030261 0.185833 -0.031302 0.193241 C -0.032344 0.200648 -0.033038 0.208056 -0.033385 0.215463 C -0.033733 0.22287 -0.033038 0.22966 -0.033385 0.237685 C -0.033733 0.24571 -0.035122 0.255586 -0.035469 0.263611 C -0.035816 0.271636 -0.035469 0.278426 -0.035469 0.285833 C -0.035469 0.293241 -0.035122 0.299429 -0.035469 0.308056 C -0.035816 0.316682 -0.036858 0.327731 -0.037552 0.337593 C -0.038247 0.347454 -0.039288 0.357963 -0.039635 0.367222 C -0.039983 0.376481 -0.039635 0.383272 -0.039635 0.393148 C -0.039635 0.403025 -0.039635 0.406728 -0.039635 0.426481 C -0.039635 0.446235 -0.039635 0.493133 -0.039635 0.511667 C -0.039635 0.530201 -0.039635 0.529645 -0.039635 0.537685 C -0.039635 0.545725 -0.039635 0.551883 -0.039635 0.559907 C -0.039635 0.567932 -0.039635 0.577191 -0.039635 0.585833 C -0.039635 0.594475 -0.039635 0.604352 -0.039635 0.611759 C -0.039635 0.619167 -0.039635 0.624722 -0.039635 0.630278 C -0.039635 0.635833 -0.039288 0.639537 -0.039635 0.645093 C -0.039983 0.650648 -0.041024 0.657438 -0.041719 0.663611 C -0.042413 0.669784 -0.042761 0.675339 -0.043802 0.68213 C -0.044844 0.68892 -0.047274 0.696944 -0.047969 0.704352 C -0.048663 0.711759 -0.047274 0.70929 -0.047969 0.726574 C -0.048663 0.743858 -0.051441 0.790772 -0.052135 0.808056 C -0.05283 0.825339 -0.052135 0.823488 -0.052135 0.830278 C -0.052135 0.837068 -0.051788 0.843241 -0.052135 0.848796 C -0.052483 0.854352 -0.053872 0.85929 -0.054219 0.863611 C -0.054566 0.867932 -0.053872 0.870401 -0.054219 0.874722 C -0.054566 0.879043 -0.055608 0.885216 -0.056302 0.889537 C -0.056997 0.893858 -0.057691 0.89696 -0.058385 0.900648 C -0.05908 0.904336 -0.060122 0.907361 -0.060469 0.911667 C -0.060816 0.915972 -0.060469 0.921543 -0.060469 0.926481 C -0.060469 0.93142 -0.060469 0.933889 -0.060469 0.941296 C -0.060469 0.948704 -0.060469 0.964136 -0.060469 0.970926 C -0.060469 0.977716 -0.060469 0.978333 -0.060469 0.982037 C -0.060469 0.985741 -0.060469 0.989444 -0.060469 0.993148 C -0.060469 0.996852 -0.060122 0.999938 -0.060469 1.004259 C -0.060816 1.00858 -0.061858 1.012901 -0.062552 1.019074 C -0.063247 1.025247 -0.063941 1.035741 -0.064635 1.041296 C -0.06533 1.046852 -0.066024 1.048704 -0.066719 1.052407 C -0.067413 1.056111 -0.068455 1.059198 -0.068802 1.063519 C -0.069149 1.06784 -0.067413 1.07216 -0.068802 1.078333 C -0.070191 1.084506 -0.075399 1.095 -0.077135 1.100556 C -0.078872 1.106111 -0.078524 1.107963 -0.079219 1.111667 C -0.079913 1.11537 -0.080955 1.119074 -0.081302 1.122778 C -0.081649 1.126481 -0.081649 1.135741 -0.081302 1.133889 C -0.080955 1.132037 -0.079913 1.117222 -0.079219 1.111667 C -0.078524 1.106111 -0.07783 1.104877 -0.077135 1.100556 C -0.076441 1.096235 -0.075399 1.090062 -0.075052 1.085741 C -0.074705 1.08142 -0.075399 1.078333 -0.075052 1.07463 C -0.074705 1.070926 -0.073663 1.069074 -0.072969 1.063519 C -0.072274 1.057963 -0.071927 1.048086 -0.070885 1.041296 C -0.069844 1.034506 -0.068108 1.029568 -0.066719 1.022778 C -0.06533 1.015988 -0.063247 1.007346 -0.062552 1.000556 C -0.061858 0.993765 -0.063247 0.988827 -0.062552 0.982037 C -0.061858 0.975247 -0.059427 0.967839 -0.058385 0.959815 C -0.057344 0.95179 -0.056649 0.941914 -0.056302 0.933889 C -0.055955 0.925864 -0.056649 0.922762 -0.056302 0.911667 C -0.055955 0.900571 -0.054566 0.877793 -0.054219 0.867315 C -0.053872 0.856836 -0.054219 0.854969 -0.054219 0.848796 C -0.054219 0.842623 -0.054219 0.835833 -0.054219 0.830278 C -0.054219 0.824722 -0.054219 0.820401 -0.054219 0.815463 C -0.054219 0.810525 -0.054219 0.805586 -0.054219 0.800648 C -0.054219 0.79571 -0.054219 0.790772 -0.054219 0.785833 C -0.054219 0.780895 -0.054219 0.775957 -0.054219 0.771019 C -0.054219 0.76608 -0.054219 0.761142 -0.054219 0.756204 C -0.054219 0.751265 -0.054219 0.74571 -0.054219 0.741389 C -0.054219 0.737068 -0.054219 0.735216 -0.054219 0.730278 C -0.054219 0.725339 -0.054219 0.718549 -0.054219 0.711759 C -0.054219 0.704969 -0.054219 0.696944 -0.054219 0.689537 C -0.054219 0.68213 -0.053872 0.674105 -0.054219 0.667315 C -0.054566 0.660525 -0.055608 0.655586 -0.056302 0.648796 C -0.056997 0.642006 -0.058038 0.633364 -0.058385 0.626574 C -0.058733 0.619784 -0.058038 0.614228 -0.058385 0.608056 C -0.058733 0.601883 -0.060122 0.595092 -0.060469 0.589537 C -0.060816 0.583981 -0.060469 0.580278 -0.060469 0.574722 C -0.060469 0.569167 -0.060469 0.561759 -0.060469 0.556204 C -0.060469 0.550648 -0.060469 0.546327 -0.060469 0.541389 C -0.060469 0.536451 -0.060469 0.532762 -0.060469 0.526574 C -0.060469 0.520386 -0.060469 0.50983 -0.060469 0.504259 C -0.060469 0.498688 -0.060469 0.496852 -0.060469 0.493148 C -0.060469 0.489444 -0.060469 0.48821 -0.060469 0.482037 C -0.060469 0.475864 -0.060469 0.464136 -0.060469 0.456111 C -0.060469 0.448086 -0.060469 0.440062 -0.060469 0.433889 C -0.060469 0.427716 -0.060469 0.423395 -0.060469 0.419074 C -0.060469 0.414753 -0.060469 0.411667 -0.060469 0.407963 C -0.060469 0.404259 -0.060469 0.401173 -0.060469 0.396852 C -0.060469 0.392531 -0.060469 0.386975 -0.060469 0.382037 C -0.060469 0.377099 -0.060469 0.37216 -0.060469 0.367222 C -0.060469 0.362284 -0.060469 0.356728 -0.060469 0.352407 C -0.060469 0.348086 -0.060469 0.346836 -0.060469 0.341296 C -0.060469 0.335756 -0.060469 0.324707 -0.060469 0.319167 C -0.060469 0.313627 -0.060469 0.312994 -0.060469 0.308056 C -0.060469 0.303117 -0.060469 0.295093 -0.060469 0.289537 C -0.060469 0.283981 -0.060469 0.279043 -0.060469 0.274722 C -0.060469 0.270401 -0.060469 0.267932 -0.060469 0.263611 C -0.060469 0.25929 -0.060469 0.253117 -0.060469 0.248796 C -0.060469 0.244475 -0.060469 0.241389 -0.060469 0.237685 C -0.060469 0.233981 -0.060469 0.231512 -0.060469 0.226574 C -0.060469 0.221636 -0.060469 0.213611 -0.060469 0.208056 C -0.060469 0.2025 -0.060469 0.197562 -0.060469 0.193241 C -0.060469 0.18892 -0.061163 0.185833 -0.060469 0.18213 C -0.059774 0.178426 -0.057344 0.174722 -0.056302 0.171019 C -0.055261 0.167315 -0.054913 0.164228 -0.054219 0.159907 C -0.053524 0.155586 -0.053177 0.149429 -0.052135 0.145093 C -0.051094 0.140756 -0.048663 0.137608 -0.047969 0.133889 C -0.047274 0.13017 -0.048663 0.126481 -0.047969 0.122778 C -0.047274 0.119074 -0.045191 0.115988 -0.043802 0.111667 C -0.042413 0.107346 -0.040677 0.101173 -0.039635 0.096852 C -0.038594 0.092531 -0.039288 0.090679 -0.037552 0.085741 C -0.035816 0.080802 -0.030955 0.07216 -0.029219 0.067222 C -0.027483 0.062284 -0.02783 0.060417 -0.027135 0.056111 C -0.026441 0.051806 -0.025747 0.045694 -0.025052 0.041389 C -0.024358 0.037083 -0.024705 0.028441 -0.022969 0.030278 C -0.021233 0.032114 -0.016024 0.04625 -0.014635 0.052407 C -0.013247 0.058565 -0.014983 0.061667 -0.014635 0.067222 C -0.014288 0.072778 -0.013594 0.079568 -0.012552 0.085741 C -0.011511 0.091914 -0.010122 0.098704 -0.008385 0.104259 C -0.006649 0.109815 -0.003524 0.112901 -0.002135 0.119074 C -0.000747 0.125247 -0.001441 0.133256 -5.2E-005 0.141296 C 0.001337 0.149336 0.004462 0.158657 0.006198 0.167315 C 0.007934 0.175972 0.008976 0.184599 0.010365 0.193241 C 0.011753 0.201883 0.013142 0.211142 0.014531 0.219167 C 0.01592 0.227191 0.016962 0.232747 0.018698 0.241389 C 0.020434 0.250031 0.02217 0.257438 0.024948 0.271019 C 0.027726 0.284599 0.032587 0.31054 0.035365 0.32287 C 0.038142 0.335201 0.039878 0.336991 0.041615 0.345 C 0.043351 0.353009 0.044045 0.361667 0.045781 0.370926 C 0.047517 0.380185 0.050295 0.391296 0.052031 0.400556 C 0.053767 0.409815 0.054462 0.415988 0.056198 0.426481 C 0.057934 0.436975 0.061059 0.451173 0.062448 0.463519 C 0.063837 0.475864 0.06349 0.488812 0.064531 0.500556 C 0.065573 0.512299 0.066962 0.522855 0.068698 0.533982 C 0.070434 0.545108 0.072865 0.556821 0.074948 0.567315 C 0.077031 0.577809 0.079115 0.586451 0.081198 0.596944 C 0.083281 0.607438 0.085017 0.619784 0.087448 0.630278 C 0.089878 0.640772 0.092309 0.645093 0.095781 0.659907 C 0.099253 0.674722 0.105503 0.706204 0.108281 0.719167 C 0.111059 0.73213 0.110712 0.731512 0.112448 0.737685 C 0.114184 0.743858 0.116962 0.750031 0.118698 0.756204 C 0.120434 0.762376 0.121128 0.769167 0.122865 0.774722 C 0.124601 0.780278 0.127378 0.784599 0.129115 0.789537 C 0.130851 0.794475 0.13224 0.800031 0.133281 0.804352 C 0.134323 0.808673 0.134323 0.810525 0.135365 0.815463 C 0.136406 0.820401 0.13849 0.827809 0.139531 0.833981 C 0.140573 0.840154 0.140573 0.846944 0.141615 0.8525 C 0.142656 0.858055 0.14474 0.862377 0.145781 0.867315 C 0.146823 0.872253 0.146823 0.877191 0.147865 0.88213 C 0.148906 0.887068 0.150642 0.889552 0.152031 0.896944 C 0.15342 0.904336 0.154809 0.919707 0.156198 0.926481 C 0.157587 0.933256 0.159323 0.933889 0.160365 0.937593 C 0.161406 0.941296 0.161406 0.943765 0.162448 0.948704 C 0.163489 0.953642 0.165573 0.962284 0.166615 0.967222 C 0.167656 0.97216 0.167656 0.974012 0.168698 0.978333 C 0.169739 0.982654 0.171476 0.98821 0.172865 0.993148 C 0.174253 0.998086 0.175642 1.002407 0.177031 1.007963 C 0.17842 1.013518 0.180156 1.021543 0.181198 1.026482 C 0.182239 1.03142 0.182587 1.033889 0.183281 1.037593 C 0.183976 1.041296 0.184323 1.043148 0.185365 1.048704 C 0.186406 1.054259 0.188142 1.06537 0.189531 1.070926 C 0.19092 1.076481 0.193003 1.078333 0.193698 1.082037 C 0.194392 1.085741 0.193003 1.089444 0.193698 1.093148 C 0.194392 1.096852 0.196128 1.100556 0.197865 1.104259 C 0.199601 1.107963 0.202378 1.111667 0.204115 1.11537 C 0.205851 1.119074 0.207934 1.127716 0.208281 1.126482 C 0.208628 1.125247 0.207239 1.114753 0.206198 1.107963 C 0.205156 1.101173 0.20342 1.091296 0.202031 1.085741 C 0.200642 1.080185 0.199601 1.078951 0.197865 1.07463 C 0.196128 1.070309 0.193698 1.064753 0.191615 1.059815 C 0.189531 1.054876 0.187795 1.050555 0.185365 1.045 C 0.182934 1.039444 0.179809 1.032654 0.177031 1.026482 C 0.174253 1.020309 0.171128 1.013518 0.168698 1.007963 C 0.166267 1.002407 0.164531 0.998704 0.162448 0.993148 C 0.160365 0.987593 0.158281 0.980185 0.156198 0.97463 C 0.154115 0.969074 0.152031 0.964136 0.149948 0.959815 C 0.147865 0.955494 0.146128 0.955494 0.143698 0.948704 C 0.141267 0.941914 0.137795 0.926481 0.135365 0.919074 C 0.132934 0.911667 0.130851 0.909799 0.129115 0.904259 C 0.127378 0.898719 0.126337 0.891991 0.124948 0.885833 C 0.123559 0.879676 0.12217 0.874105 0.120781 0.867315 C 0.119392 0.860525 0.118351 0.851883 0.116615 0.845093 C 0.114878 0.838302 0.111753 0.833364 0.110365 0.826574 C 0.108976 0.819784 0.109323 0.810525 0.108281 0.804352 C 0.10724 0.798179 0.104809 0.794475 0.104115 0.789537 C 0.10342 0.784599 0.104115 0.77966 0.104115 0.774722 C 0.104115 0.769784 0.104462 0.765463 0.104115 0.759907 C 0.103767 0.754352 0.102726 0.747562 0.102031 0.741389 C 0.101337 0.735216 0.100989 0.733981 0.099948 0.72287 C 0.098906 0.711759 0.09717 0.685833 0.095781 0.674722 C 0.094392 0.663611 0.093003 0.662376 0.091615 0.656204 C 0.090226 0.650031 0.088837 0.643858 0.087448 0.637685 C 0.086059 0.631512 0.08467 0.625957 0.083281 0.619167 C 0.081892 0.612377 0.080156 0.604352 0.079115 0.596944 C 0.078073 0.589537 0.07842 0.580895 0.077031 0.574722 C 0.075642 0.568549 0.072517 0.565463 0.070781 0.559907 C 0.069045 0.554352 0.067656 0.546944 0.066615 0.541389 C 0.065573 0.535833 0.06592 0.532762 0.064531 0.526574 C 0.063142 0.520386 0.060017 0.511682 0.058281 0.504259 C 0.056545 0.496836 0.055851 0.489444 0.054115 0.482037 C 0.052378 0.47463 0.049948 0.469691 0.047865 0.459815 C 0.045781 0.449938 0.043698 0.432037 0.041615 0.422778 C 0.039531 0.413519 0.037101 0.410432 0.035365 0.404259 C 0.033628 0.398086 0.032239 0.390679 0.031198 0.385741 C 0.030156 0.380802 0.029462 0.378333 0.029115 0.37463 C 0.028767 0.370926 0.029462 0.367839 0.029115 0.363519 C 0.028767 0.359197 0.027378 0.353642 0.027031 0.348704 C 0.026684 0.343765 0.027031 0.338194 0.027031 0.333889 C 0.027031 0.329583 0.027378 0.327176 0.027031 0.32287 C 0.026684 0.318565 0.025295 0.312377 0.024948 0.308056 C 0.024601 0.303735 0.024948 0.3025 0.024948 0.296944 C 0.024948 0.291389 0.025295 0.280278 0.024948 0.274722 C 0.024601 0.269167 0.023212 0.267932 0.022865 0.263611 C 0.022517 0.25929 0.023212 0.253735 0.022865 0.248796 C 0.022517 0.243858 0.02217 0.239537 0.020781 0.233981 C 0.019392 0.228426 0.01592 0.222253 0.014531 0.215463 C 0.013142 0.208673 0.013142 0.198796 0.012448 0.193241 C 0.011753 0.187685 0.010712 0.186451 0.010365 0.18213 C 0.010017 0.177809 0.010365 0.172253 0.010365 0.167315 C 0.010365 0.162377 0.010365 0.157454 0.010365 0.1525 C 0.010365 0.147546 0.011059 0.141929 0.010365 0.137593 C 0.00967 0.133256 0.006892 0.130185 0.006198 0.126481 C 0.005503 0.122778 0.006545 0.119691 0.006198 0.11537 C 0.005851 0.111049 0.005156 0.104877 0.004115 0.100556 C 0.003073 0.096235 0.001337 0.093148 -5.2E-005 0.089444 C -0.001441 0.085741 -0.00283 0.084506 -0.004219 0.078333 C -0.005608 0.07216 -0.007344 0.058565 -0.008385 0.052407 C -0.009427 0.04625 -0.010122 0.043225 -0.010469 0.041389 E">
                                      <p:cBhvr>
                                        <p:cTn id="416" dur="2000" fill="hold"/>
                                        <p:tgtEl>
                                          <p:spTgt spid="862"/>
                                        </p:tgtEl>
                                      </p:cBhvr>
                                    </p:animMotion>
                                  </p:childTnLst>
                                </p:cTn>
                              </p:par>
                            </p:childTnLst>
                          </p:cTn>
                        </p:par>
                        <p:par>
                          <p:cTn id="417" nodeType="afterEffect" fill="hold">
                            <p:stCondLst>
                              <p:cond delay="20000"/>
                            </p:stCondLst>
                            <p:childTnLst>
                              <p:par>
                                <p:cTn id="418" nodeType="afterEffect" fill="hold" presetClass="path" presetID="0">
                                  <p:stCondLst>
                                    <p:cond delay="0"/>
                                  </p:stCondLst>
                                  <p:childTnLst>
                                    <p:animMotion origin="layout" path="M 0 0 C 0 0.002469 0 0.010494 0 0.014815 C 0 0.019136 0 0.020988 0 0.025926 C 0 0.030864 0.000694 0.03767 0 0.044444 C -0.000694 0.051219 -0.003472 0.058565 -0.004167 0.066574 C -0.004861 0.074583 -0.003819 0.085093 -0.004167 0.0925 C -0.004514 0.099907 -0.005208 0.09804 -0.00625 0.111019 C -0.007292 0.123997 -0.009722 0.156157 -0.010417 0.17037 C -0.011111 0.184583 -0.010417 0.187654 -0.010417 0.196296 C -0.010417 0.204938 -0.010417 0.21358 -0.010417 0.222222 C -0.010417 0.230864 -0.010417 0.238272 -0.010417 0.248148 C -0.010417 0.258025 -0.010417 0.269753 -0.010417 0.281481 C -0.010417 0.29321 -0.010764 0.307423 -0.010417 0.318519 C -0.010069 0.329614 -0.009028 0.338194 -0.008333 0.348056 C -0.007639 0.357917 -0.006597 0.367809 -0.00625 0.377685 C -0.005903 0.387562 -0.00625 0.398056 -0.00625 0.407315 C -0.00625 0.416574 -0.00625 0.424599 -0.00625 0.433241 C -0.00625 0.441883 -0.006597 0.451142 -0.00625 0.459167 C -0.005903 0.467191 -0.004861 0.471512 -0.004167 0.481389 C -0.003472 0.491265 -0.002778 0.507917 -0.002083 0.518426 C -0.001389 0.528935 -0.000347 0.532701 0 0.544444 C 0.000347 0.556188 0 0.577778 0 0.588889 C 0 0.6 0 0.598148 0 0.611111 C 0 0.624074 0 0.653086 0 0.666667 C 0 0.680247 0 0.684568 0 0.692593 C 0 0.700617 0 0.704938 0 0.714815 C 0 0.724691 0 0.743827 0 0.751852 C 0 0.759876 0 0.758642 0 0.762963 C 0 0.767284 0 0.772222 0 0.777778 C 0 0.783333 0 0.790741 0 0.796296 C 0 0.801852 0 0.806173 0 0.811111 C 0 0.816049 0 0.820988 0 0.825926 C 0 0.830864 0.000347 0.835185 0 0.840741 C -0.000347 0.846296 -0.001389 0.853086 -0.002083 0.859259 C -0.002778 0.865432 -0.003472 0.871605 -0.004167 0.877778 C -0.004861 0.883951 -0.005556 0.889522 -0.00625 0.896296 C -0.006944 0.903071 -0.007292 0.912269 -0.008333 0.918426 C -0.009375 0.924583 -0.011806 0.927685 -0.0125 0.933241 C -0.013194 0.938796 -0.0125 0.946204 -0.0125 0.951759 C -0.0125 0.957315 -0.0125 0.959167 -0.0125 0.966574 C -0.0125 0.973981 -0.012847 0.989413 -0.0125 0.996204 C -0.012153 1.002994 -0.011111 1.000525 -0.010417 1.007315 C -0.009722 1.014105 -0.008681 1.030154 -0.008333 1.036944 C -0.007986 1.043735 -0.008333 1.044352 -0.008333 1.048056 C -0.008333 1.051759 -0.008333 1.055463 -0.008333 1.059167 C -0.008333 1.06287 -0.008333 1.066574 -0.008333 1.070278 C -0.008333 1.073981 -0.008333 1.077068 -0.008333 1.081389 C -0.008333 1.08571 -0.008333 1.091265 -0.008333 1.096204 C -0.008333 1.101142 -0.008333 1.106698 -0.008333 1.111019 C -0.008333 1.115339 -0.008681 1.117809 -0.008333 1.12213 C -0.007986 1.126451 -0.006597 1.132623 -0.00625 1.136944 C -0.005903 1.141265 -0.00625 1.143735 -0.00625 1.148056 C -0.00625 1.152377 -0.00625 1.158549 -0.00625 1.16287 C -0.00625 1.167191 -0.00625 1.170278 -0.00625 1.173981 C -0.00625 1.177685 -0.00625 1.180154 -0.00625 1.185093 C -0.00625 1.190031 -0.00625 1.198673 -0.00625 1.203611 C -0.00625 1.208549 -0.006944 1.214722 -0.00625 1.214722 C -0.005556 1.214722 -0.002778 1.207315 -0.002083 1.203611 C -0.001389 1.199907 -0.002778 1.196204 -0.002083 1.1925 C -0.001389 1.188796 0.001042 1.18571 0.002083 1.181389 C 0.003125 1.177068 0.003125 1.171512 0.004167 1.166574 C 0.005208 1.161636 0.007639 1.156698 0.008333 1.151759 C 0.009028 1.146821 0.008333 1.143117 0.008333 1.136944 C 0.008333 1.130772 0.008333 1.12213 0.008333 1.114722 C 0.008333 1.107315 0.008333 1.09929 0.008333 1.0925 C 0.008333 1.08571 0.008333 1.079537 0.008333 1.073982 C 0.008333 1.068426 0.008333 1.064105 0.008333 1.059167 C 0.008333 1.054228 0.008333 1.049907 0.008333 1.044352 C 0.008333 1.038796 0.008333 1.035092 0.008333 1.025833 C 0.008333 1.016574 0.008333 0.998055 0.008333 0.988796 C 0.008333 0.979537 0.007986 0.977685 0.008333 0.970278 C 0.008681 0.96287 0.009722 0.951759 0.010417 0.944352 C 0.011111 0.936944 0.011806 0.930772 0.0125 0.925833 C 0.013194 0.920895 0.014236 0.919645 0.014583 0.914722 C 0.014931 0.909799 0.014583 0.902454 0.014583 0.896296 C 0.014583 0.890139 0.014583 0.882716 0.014583 0.877778 C 0.014583 0.872839 0.014583 0.871605 0.014583 0.866667 C 0.014583 0.861728 0.014583 0.854321 0.014583 0.848148 C 0.014583 0.841975 0.014931 0.835185 0.014583 0.82963 C 0.014236 0.824074 0.013194 0.822839 0.0125 0.814815 C 0.011806 0.80679 0.010764 0.788889 0.010417 0.781482 C 0.010069 0.774074 0.010764 0.775309 0.010417 0.77037 C 0.010069 0.765432 0.009028 0.758025 0.008333 0.751852 C 0.007639 0.745679 0.006597 0.738889 0.00625 0.733333 C 0.005903 0.727778 0.00625 0.723457 0.00625 0.718518 C 0.00625 0.71358 0.00625 0.709259 0.00625 0.703704 C 0.00625 0.698148 0.00625 0.692593 0.00625 0.685185 C 0.00625 0.677778 0.00625 0.667284 0.00625 0.659259 C 0.00625 0.651235 0.00625 0.644444 0.00625 0.637037 C 0.00625 0.62963 0.00625 0.629012 0.00625 0.614815 C 0.00625 0.600617 0.006597 0.565432 0.00625 0.551852 C 0.005903 0.538272 0.004861 0.538904 0.004167 0.533333 C 0.003472 0.527762 0.002431 0.522762 0.002083 0.518426 C 0.001736 0.514089 0.002083 0.511018 0.002083 0.507315 C 0.002083 0.503611 0.002083 0.501759 0.002083 0.496204 C 0.002083 0.490648 0.001736 0.480772 0.002083 0.473981 C 0.002431 0.467191 0.003472 0.461018 0.004167 0.455463 C 0.004861 0.449907 0.005903 0.445586 0.00625 0.440648 C 0.006597 0.43571 0.00625 0.432006 0.00625 0.425833 C 0.00625 0.41966 0.00625 0.410401 0.00625 0.403611 C 0.00625 0.396821 0.00625 0.396188 0.00625 0.385093 C 0.00625 0.373997 0.00625 0.346898 0.00625 0.337037 C 0.00625 0.327176 0.00625 0.330247 0.00625 0.325926 C 0.00625 0.321605 0.00625 0.316667 0.00625 0.311111 C 0.00625 0.305556 0.006597 0.298148 0.00625 0.292593 C 0.005903 0.287037 0.004514 0.282099 0.004167 0.277778 C 0.003819 0.273457 0.004167 0.27037 0.004167 0.266667 C 0.004167 0.262963 0.004514 0.259259 0.004167 0.255556 C 0.003819 0.251852 0.002778 0.248148 0.002083 0.244444 C 0.001389 0.240741 0.000347 0.237037 0 0.233333 C -0.000347 0.22963 0.000347 0.228395 0 0.222222 C -0.000347 0.216049 -0.001389 0.203704 -0.002083 0.196296 C -0.002778 0.188889 -0.003472 0.183333 -0.004167 0.177778 C -0.004861 0.172222 -0.005903 0.167917 -0.00625 0.162963 C -0.006597 0.158009 -0.005903 0.152392 -0.00625 0.148056 C -0.006597 0.143719 -0.007639 0.141265 -0.008333 0.136944 C -0.009028 0.132623 -0.010069 0.127685 -0.010417 0.12213 C -0.010764 0.116574 -0.010069 0.109167 -0.010417 0.103611 C -0.010764 0.098056 -0.012153 0.094352 -0.0125 0.088796 C -0.012847 0.083241 -0.0125 0.075833 -0.0125 0.070278 C -0.0125 0.064722 -0.012153 0.059768 -0.0125 0.055463 C -0.012847 0.051157 -0.014236 0.04875 -0.014583 0.044444 C -0.014931 0.040139 -0.014236 0.034568 -0.014583 0.02963 C -0.014931 0.024691 -0.016319 0.019753 -0.016667 0.014815 C -0.017014 0.009877 -0.016667 0.004321 -0.016667 0 C -0.016667 -0.004321 -0.016667 -0.007407 -0.016667 -0.011111 C -0.016667 -0.014815 -0.016667 -0.018519 -0.016667 -0.022222 C -0.016667 -0.025926 -0.016667 -0.029614 -0.016667 -0.033333 C -0.016667 -0.037052 -0.017708 -0.046389 -0.016667 -0.044537 C -0.015625 -0.042685 -0.011806 -0.027793 -0.010417 -0.022222 C -0.009028 -0.016651 -0.009028 -0.014815 -0.008333 -0.011111 C -0.007639 -0.007407 -0.007292 -0.004321 -0.00625 0 C -0.005208 0.004321 -0.003125 0.010494 -0.002083 0.014815 C -0.001042 0.019136 -0.001042 0.020988 0 0.025926 C 0.001042 0.030864 0.002778 0.038904 0.004167 0.044444 C 0.005556 0.049985 0.006597 0.053627 0.008333 0.059167 C 0.010069 0.064707 0.0125 0.07213 0.014583 0.077685 C 0.016667 0.083241 0.018403 0.086327 0.020833 0.0925 C 0.023264 0.098673 0.026042 0.106698 0.029167 0.114722 C 0.032292 0.122747 0.035764 0.133225 0.039583 0.140648 C 0.043403 0.148071 0.047222 0.147515 0.052083 0.159259 C 0.056944 0.171003 0.064583 0.198148 0.06875 0.211111 C 0.072917 0.224074 0.072561 0.224074 0.077083 0.237037 C 0.081606 0.25 0.091363 0.274691 0.095885 0.288889 C 0.100408 0.303086 0.100399 0.306188 0.104219 0.322222 C 0.108038 0.338256 0.11533 0.369676 0.118802 0.385093 C 0.122274 0.400509 0.121927 0.39929 0.125052 0.414722 C 0.128177 0.430154 0.134774 0.462253 0.137552 0.477685 C 0.14033 0.493117 0.139635 0.498657 0.141719 0.507315 C 0.143802 0.515972 0.146927 0.516651 0.150052 0.52963 C 0.153177 0.542608 0.157691 0.572222 0.160469 0.585185 C 0.163246 0.598148 0.164635 0.598765 0.166719 0.607407 C 0.168802 0.616049 0.170538 0.62716 0.172969 0.637037 C 0.175399 0.646914 0.179219 0.65679 0.181302 0.666667 C 0.183385 0.676543 0.18408 0.687654 0.185469 0.696296 C 0.186858 0.704938 0.187552 0.709876 0.189635 0.718518 C 0.191719 0.72716 0.195885 0.738889 0.197969 0.748148 C 0.200052 0.757407 0.200399 0.766049 0.202135 0.774074 C 0.203871 0.782099 0.206302 0.789506 0.208385 0.796296 C 0.210469 0.803086 0.212552 0.808025 0.214635 0.814815 C 0.216719 0.821605 0.218455 0.830247 0.220885 0.837037 C 0.223316 0.843827 0.226441 0.848765 0.229219 0.855556 C 0.231996 0.862346 0.235121 0.87037 0.237552 0.877778 C 0.239983 0.885185 0.241719 0.892608 0.243802 0.9 C 0.245885 0.907392 0.247274 0.910417 0.250052 0.92213 C 0.25283 0.933842 0.257344 0.957315 0.260469 0.970278 C 0.263594 0.983241 0.266024 0.987562 0.268802 0.999907 C 0.27158 1.012253 0.274705 1.035093 0.277135 1.044352 C 0.279566 1.053611 0.280955 1.051142 0.283385 1.055463 C 0.285816 1.059784 0.289288 1.065339 0.291719 1.070278 C 0.294149 1.075216 0.296233 1.080154 0.297969 1.085093 C 0.299705 1.090031 0.300399 1.093735 0.302135 1.099907 C 0.303871 1.10608 0.306302 1.114105 0.308385 1.12213 C 0.310469 1.130154 0.312899 1.139413 0.314635 1.148056 C 0.316371 1.156698 0.316719 1.166574 0.318802 1.173981 C 0.320885 1.181389 0.324705 1.18571 0.327135 1.1925 C 0.329566 1.19929 0.330955 1.207932 0.333385 1.214722 C 0.335816 1.221512 0.338246 1.224599 0.341719 1.233241 C 0.345191 1.241883 0.351441 1.259167 0.354219 1.266574 C 0.356996 1.273981 0.357344 1.273966 0.358385 1.277685 C 0.359427 1.281404 0.35908 1.285787 0.360469 1.288889 C 0.361858 1.291991 0.366371 1.296929 0.366719 1.296296 C 0.367066 1.295663 0.363941 1.290046 0.362552 1.285093 C 0.361163 1.280139 0.359774 1.27213 0.358385 1.266574 C 0.356996 1.261019 0.355608 1.257932 0.354219 1.251759 C 0.35283 1.245586 0.351788 1.236327 0.350052 1.229537 C 0.348316 1.222747 0.346233 1.216574 0.343802 1.211019 C 0.341371 1.205463 0.338594 1.202376 0.335469 1.196204 C 0.332344 1.190031 0.328524 1.182006 0.325052 1.173981 C 0.32158 1.165957 0.318108 1.155463 0.314635 1.148056 C 0.311163 1.140648 0.307344 1.136327 0.304219 1.129537 C 0.301094 1.122747 0.299358 1.117191 0.295885 1.107315 C 0.292413 1.097438 0.28651 1.079537 0.283385 1.070278 C 0.28026 1.061018 0.278524 1.057315 0.277135 1.051759 C 0.275746 1.046204 0.276094 1.0425 0.275052 1.036944 C 0.27401 1.031389 0.271927 1.023981 0.270885 1.018426 C 0.269844 1.01287 0.269496 1.007932 0.268802 1.003611 C 0.268108 0.99929 0.268108 0.997438 0.266719 0.9925 C 0.26533 0.987562 0.262205 0.980154 0.260469 0.973981 C 0.258733 0.967809 0.257691 0.961636 0.256302 0.955463 C 0.254913 0.94929 0.253524 0.9425 0.252135 0.936944 C 0.250746 0.931389 0.249358 0.92767 0.247969 0.92213 C 0.24658 0.916589 0.245191 0.909861 0.243802 0.903704 C 0.242413 0.897546 0.242413 0.893827 0.239635 0.885185 C 0.236858 0.876543 0.229913 0.859876 0.227135 0.851852 C 0.224358 0.843827 0.225052 0.841975 0.222969 0.837037 C 0.220885 0.832099 0.217066 0.82716 0.214635 0.822222 C 0.212205 0.817284 0.209774 0.812346 0.208385 0.807407 C 0.206996 0.802469 0.207344 0.798148 0.206302 0.792593 C 0.20526 0.787037 0.203871 0.77963 0.202135 0.774074 C 0.200399 0.768519 0.197969 0.764198 0.195885 0.759259 C 0.193802 0.754321 0.191719 0.748765 0.189635 0.744444 C 0.187552 0.740123 0.185469 0.738272 0.183385 0.733333 C 0.181302 0.728395 0.179566 0.720988 0.177135 0.714815 C 0.174705 0.708642 0.173316 0.707407 0.168802 0.696296 C 0.164288 0.685185 0.154566 0.659259 0.150052 0.648148 C 0.145538 0.637037 0.144149 0.635185 0.141719 0.62963 C 0.139288 0.624074 0.137552 0.619753 0.135469 0.614815 C 0.133385 0.609876 0.130955 0.604321 0.129219 0.6 C 0.127483 0.595679 0.126441 0.59321 0.125052 0.588889 C 0.123663 0.584568 0.121927 0.579012 0.120885 0.574074 C 0.119844 0.569136 0.119844 0.564815 0.118802 0.559259 C 0.11776 0.553704 0.116024 0.546929 0.114635 0.540741 C 0.113246 0.534552 0.112205 0.528935 0.110469 0.52213 C 0.108733 0.515324 0.106302 0.507315 0.104219 0.499907 C 0.102135 0.4925 0.10145 0.494969 0.097969 0.477685 C 0.094488 0.460401 0.086814 0.413488 0.083333 0.396204 C 0.079852 0.37892 0.078819 0.382006 0.077083 0.373981 C 0.075347 0.365957 0.074306 0.356065 0.072917 0.348056 C 0.071528 0.340046 0.070139 0.332083 0.06875 0.325926 C 0.067361 0.319769 0.065972 0.316667 0.064583 0.311111 C 0.063194 0.305556 0.061806 0.297531 0.060417 0.292593 C 0.059028 0.287654 0.056944 0.285185 0.05625 0.281481 C 0.055556 0.277778 0.057292 0.274691 0.05625 0.27037 C 0.055208 0.266049 0.052083 0.260494 0.05 0.255556 C 0.047917 0.250617 0.045486 0.245062 0.04375 0.240741 C 0.042014 0.23642 0.041319 0.23642 0.039583 0.22963 C 0.037847 0.222839 0.035069 0.207407 0.033333 0.2 C 0.031597 0.192593 0.030556 0.189506 0.029167 0.185185 C 0.027778 0.180864 0.026389 0.177778 0.025 0.174074 C 0.023611 0.17037 0.023611 0.168534 0.020833 0.162963 C 0.018056 0.157392 0.011111 0.146836 0.008333 0.140648 C 0.005556 0.13446 0.00625 0.130154 0.004167 0.125833 C 0.002083 0.121512 -0.001389 0.11966 -0.004167 0.114722 C -0.006944 0.109784 -0.010417 0.102377 -0.0125 0.096204 C -0.014583 0.090031 -0.015278 0.082623 -0.016667 0.077685 C -0.018056 0.072747 -0.020139 0.070278 -0.020833 0.066574 C -0.021528 0.06287 -0.020139 0.06162 -0.020833 0.055463 C -0.021528 0.049306 -0.023958 0.037022 -0.025 0.02963 C -0.026042 0.022238 -0.026389 0.018518 -0.027083 0.011111 C -0.027778 0.003704 -0.028472 -0.008025 -0.029167 -0.014815 C -0.029861 -0.021605 -0.030208 -0.024676 -0.03125 -0.02963 C -0.032292 -0.034583 -0.034028 -0.039583 -0.035417 -0.044537 C -0.036806 -0.049491 -0.0375 -0.053796 -0.039583 -0.059352 C -0.041667 -0.064907 -0.045486 -0.072948 -0.047917 -0.07787 C -0.050347 -0.082793 -0.052083 -0.084583 -0.054167 -0.088889 C -0.05625 -0.093194 -0.058681 -0.098765 -0.060417 -0.103704 C -0.062153 -0.108642 -0.063194 -0.112948 -0.064583 -0.118519 C -0.065972 -0.12409 -0.068056 -0.134028 -0.06875 -0.13713 E">
                                      <p:cBhvr>
                                        <p:cTn id="419" dur="2000" fill="hold"/>
                                        <p:tgtEl>
                                          <p:spTgt spid="861"/>
                                        </p:tgtEl>
                                      </p:cBhvr>
                                    </p:animMotion>
                                  </p:childTnLst>
                                </p:cTn>
                              </p:par>
                            </p:childTnLst>
                          </p:cTn>
                        </p:par>
                        <p:par>
                          <p:cTn id="420" nodeType="afterEffect" fill="hold">
                            <p:stCondLst>
                              <p:cond delay="22000"/>
                            </p:stCondLst>
                            <p:childTnLst>
                              <p:par>
                                <p:cTn id="421" nodeType="afterEffect" fill="hold" presetClass="path" presetID="0">
                                  <p:stCondLst>
                                    <p:cond delay="0"/>
                                  </p:stCondLst>
                                  <p:childTnLst>
                                    <p:animMotion origin="layout" path="M 0 0 C 0 0.003086 0 0.013596 0 0.018519 C 0 0.023441 0 0.024614 0 0.029537 C 0 0.03446 0 0.041883 0 0.048056 C 0 0.054228 0.000347 0.059167 0 0.066574 C -0.000347 0.073981 -0.001042 0.078287 -0.002083 0.0925 C -0.003125 0.106713 -0.004861 0.136404 -0.00625 0.151852 C -0.007639 0.167299 -0.008681 0.167284 -0.010417 0.185185 C -0.012153 0.203086 -0.014931 0.241358 -0.016667 0.259259 C -0.018403 0.27716 -0.019097 0.274089 -0.020833 0.292593 C -0.022569 0.311096 -0.025694 0.352392 -0.027083 0.370278 C -0.028472 0.388164 -0.027431 0.383241 -0.029167 0.399907 C -0.030903 0.416574 -0.035764 0.452978 -0.0375 0.470278 C -0.039236 0.487577 -0.038889 0.492577 -0.039583 0.503704 C -0.040278 0.51483 -0.039583 0.518519 -0.041667 0.537037 C -0.04375 0.555555 -0.049991 0.596296 -0.052083 0.614815 C -0.054175 0.633333 -0.053516 0.637037 -0.054219 0.648148 C -0.054922 0.659259 -0.055608 0.669136 -0.056302 0.681481 C -0.056997 0.693827 -0.057344 0.709259 -0.058385 0.722222 C -0.059427 0.735185 -0.061163 0.748148 -0.062552 0.759259 C -0.063941 0.77037 -0.065677 0.779012 -0.066719 0.788889 C -0.06776 0.798765 -0.06776 0.808642 -0.068802 0.818519 C -0.069844 0.828395 -0.071927 0.838889 -0.072969 0.848148 C -0.07401 0.857407 -0.074705 0.866065 -0.075052 0.874074 C -0.075399 0.882083 -0.074705 0.889429 -0.075052 0.896204 C -0.075399 0.902978 -0.075747 0.903611 -0.077135 0.914722 C -0.078524 0.925833 -0.081997 0.950525 -0.083385 0.96287 C -0.084774 0.975216 -0.084427 0.976451 -0.085469 0.988796 C -0.08651 1.001142 -0.088247 1.023981 -0.089635 1.036944 C -0.091024 1.049907 -0.093108 1.057932 -0.093802 1.066574 C -0.094497 1.075216 -0.093108 1.079537 -0.093802 1.088796 C -0.094497 1.098055 -0.097274 1.114105 -0.097969 1.12213 C -0.098663 1.130154 -0.097622 1.131389 -0.097969 1.136944 C -0.098316 1.1425 -0.099705 1.150525 -0.100052 1.155463 C -0.100399 1.160401 -0.100052 1.16287 -0.100052 1.166574 C -0.100052 1.170278 -0.100052 1.173364 -0.100052 1.177685 C -0.100052 1.182006 -0.101788 1.190648 -0.100052 1.1925 C -0.098316 1.194352 -0.093802 1.193117 -0.089635 1.188796 C -0.085469 1.184475 -0.078872 1.17213 -0.075052 1.166574 C -0.071233 1.161018 -0.068802 1.159784 -0.066719 1.155463 C -0.064635 1.151142 -0.063941 1.144969 -0.062552 1.140648 C -0.061163 1.136327 -0.059427 1.135092 -0.058385 1.129537 C -0.057344 1.123981 -0.057352 1.114105 -0.056302 1.107315 C -0.055252 1.100525 -0.052786 1.095586 -0.052083 1.088796 C -0.05138 1.082006 -0.052083 1.073981 -0.052083 1.066574 C -0.052083 1.059167 -0.052083 1.052377 -0.052083 1.044352 C -0.052083 1.036327 -0.052083 1.025833 -0.052083 1.018426 C -0.052083 1.011019 -0.05138 1.00608 -0.052083 0.999907 C -0.052786 0.993735 -0.054557 0.988179 -0.056302 0.981389 C -0.058047 0.974599 -0.06151 0.965339 -0.062552 0.959167 C -0.063594 0.952994 -0.062552 0.948673 -0.062552 0.944352 C -0.062552 0.940031 -0.062552 0.939414 -0.062552 0.933241 C -0.062552 0.927068 -0.062205 0.914105 -0.062552 0.907315 C -0.062899 0.900525 -0.063941 0.896821 -0.064635 0.8925 C -0.06533 0.888179 -0.066372 0.885694 -0.066719 0.881389 C -0.067066 0.877083 -0.066719 0.870972 -0.066719 0.866667 C -0.066719 0.862361 -0.066719 0.859259 -0.066719 0.855556 C -0.066719 0.851852 -0.066719 0.848148 -0.066719 0.844444 C -0.066719 0.840741 -0.066719 0.838272 -0.066719 0.833333 C -0.066719 0.828395 -0.066719 0.819753 -0.066719 0.814815 C -0.066719 0.809877 -0.067066 0.807407 -0.066719 0.803704 C -0.066372 0.8 -0.064983 0.796914 -0.064635 0.792593 C -0.064288 0.788272 -0.06533 0.782716 -0.064635 0.777778 C -0.063941 0.772839 -0.062205 0.770988 -0.060469 0.762963 C -0.058733 0.754938 -0.055616 0.738272 -0.054219 0.72963 C -0.052821 0.720988 -0.053134 0.717901 -0.052083 0.711111 C -0.051033 0.704321 -0.048958 0.694444 -0.047917 0.688889 C -0.046875 0.683333 -0.046875 0.682716 -0.045833 0.677778 C -0.044792 0.672839 -0.043403 0.665432 -0.041667 0.659259 C -0.039931 0.653086 -0.037153 0.646296 -0.035417 0.640741 C -0.033681 0.635185 -0.032292 0.630864 -0.03125 0.625926 C -0.030208 0.620988 -0.030556 0.617901 -0.029167 0.611111 C -0.027778 0.604321 -0.024306 0.592592 -0.022917 0.585185 C -0.021528 0.577778 -0.021875 0.572839 -0.020833 0.566667 C -0.019792 0.560494 -0.017708 0.556173 -0.016667 0.548148 C -0.015625 0.540123 -0.015625 0.534583 -0.014583 0.518519 C -0.013542 0.502454 -0.011458 0.467207 -0.010417 0.451759 C -0.009375 0.436312 -0.008681 0.435093 -0.008333 0.425833 C -0.007986 0.416574 -0.008681 0.404846 -0.008333 0.396204 C -0.007986 0.387562 -0.006944 0.380154 -0.00625 0.373981 C -0.005556 0.367809 -0.004861 0.365339 -0.004167 0.359167 C -0.003472 0.352994 -0.002431 0.343117 -0.002083 0.336944 C -0.001736 0.330772 -0.002083 0.326451 -0.002083 0.32213 C -0.002083 0.317809 -0.002083 0.315324 -0.002083 0.311019 C -0.002083 0.306713 -0.002083 0.300602 -0.002083 0.296296 C -0.002083 0.291991 -0.002083 0.288889 -0.002083 0.285185 C -0.002083 0.281481 -0.002083 0.279012 -0.002083 0.274074 C -0.002083 0.269136 -0.002083 0.264815 -0.002083 0.255556 C -0.002083 0.246296 -0.002083 0.22716 -0.002083 0.218519 C -0.002083 0.209877 -0.002083 0.208025 -0.002083 0.203704 C -0.002083 0.199383 -0.002083 0.198765 -0.002083 0.192593 C -0.002083 0.18642 -0.002083 0.174074 -0.002083 0.166667 C -0.002083 0.159259 -0.002083 0.153704 -0.002083 0.148148 C -0.002083 0.142593 -0.002083 0.137654 -0.002083 0.133333 C -0.002083 0.129012 -0.002083 0.127176 -0.002083 0.122222 C -0.002083 0.117269 -0.002431 0.109182 -0.002083 0.103611 C -0.001736 0.09804 -0.000694 0.093735 0 0.088796 C 0.000694 0.083858 0.001389 0.07892 0.002083 0.073981 C 0.002778 0.069043 0.003819 0.063488 0.004167 0.059167 C 0.004514 0.054846 0.003819 0.051759 0.004167 0.048056 C 0.004514 0.044352 0.005903 0.040648 0.00625 0.036944 C 0.006597 0.033241 0.00625 0.030139 0.00625 0.025833 C 0.00625 0.021528 0.00625 0.015417 0.00625 0.011111 C 0.00625 0.006806 0.00625 0.003704 0.00625 0 C 0.00625 -0.003704 0.005903 -0.007407 0.00625 -0.011111 C 0.006597 -0.014815 0.005903 -0.02037 0.008333 -0.022222 C 0.010764 -0.024074 0.017361 -0.024074 0.020833 -0.022222 C 0.024306 -0.02037 0.026042 -0.014815 0.029167 -0.011111 C 0.032292 -0.007407 0.035764 -0.003704 0.039583 0 C 0.043403 0.003704 0.048264 0.007407 0.052083 0.011111 C 0.055903 0.014815 0.059028 0.017917 0.0625 0.022222 C 0.065972 0.026528 0.069097 0.031404 0.072917 0.036944 C 0.076736 0.042485 0.081597 0.048673 0.085417 0.055463 C 0.089236 0.062253 0.092708 0.070895 0.095833 0.077685 C 0.098958 0.084475 0.101389 0.089414 0.104167 0.096204 C 0.106944 0.102994 0.109722 0.111003 0.1125 0.118426 C 0.115278 0.125849 0.118403 0.134552 0.120833 0.140741 C 0.123264 0.146929 0.123958 0.147531 0.127083 0.155556 C 0.130208 0.16358 0.136111 0.180864 0.139583 0.188889 C 0.143056 0.196914 0.143759 0.196296 0.147917 0.203704 C 0.152075 0.211111 0.160026 0.225926 0.164531 0.233333 C 0.169036 0.240741 0.170781 0.242593 0.174948 0.248148 C 0.179115 0.253704 0.18467 0.260494 0.189531 0.266667 C 0.194392 0.272839 0.199253 0.278395 0.204115 0.285185 C 0.208976 0.291975 0.21349 0.298781 0.218698 0.307407 C 0.223906 0.316034 0.229809 0.326466 0.235365 0.336944 C 0.24092 0.347423 0.245781 0.359784 0.252031 0.370278 C 0.258281 0.380772 0.266267 0.390648 0.272865 0.399907 C 0.279462 0.409167 0.285017 0.416574 0.291615 0.425833 C 0.298212 0.435093 0.305156 0.446204 0.312448 0.455463 C 0.31974 0.464722 0.329115 0.473966 0.335365 0.481389 C 0.341615 0.488812 0.341953 0.489491 0.349948 0.5 C 0.357943 0.510509 0.375339 0.533951 0.383333 0.544444 C 0.391328 0.554938 0.389236 0.553704 0.397917 0.562963 C 0.406597 0.572222 0.426736 0.590123 0.435417 0.6 C 0.444097 0.609876 0.442708 0.611728 0.45 0.622222 C 0.457292 0.632716 0.471875 0.653704 0.479167 0.662963 C 0.486458 0.672222 0.487153 0.67037 0.49375 0.677778 C 0.500347 0.685185 0.513194 0.7 0.51875 0.707407 C 0.524306 0.714815 0.523958 0.717284 0.527083 0.722222 C 0.530208 0.72716 0.532292 0.729012 0.5375 0.737037 C 0.542708 0.745062 0.552431 0.761728 0.558333 0.77037 C 0.564236 0.779012 0.565625 0.77963 0.572917 0.788889 C 0.580208 0.798148 0.594097 0.816667 0.602083 0.825926 C 0.610069 0.835185 0.614931 0.837654 0.620833 0.844444 C 0.626736 0.851235 0.632639 0.859275 0.6375 0.866667 C 0.642361 0.874059 0.645486 0.882022 0.65 0.888796 C 0.654514 0.895571 0.660069 0.901759 0.664583 0.907315 C 0.669097 0.91287 0.673264 0.917809 0.677083 0.92213 C 0.680903 0.926451 0.683681 0.92892 0.6875 0.933241 C 0.691319 0.937562 0.696528 0.943117 0.7 0.948056 C 0.703472 0.952994 0.704861 0.957932 0.708333 0.96287 C 0.711806 0.967809 0.717361 0.973364 0.720833 0.977685 C 0.724306 0.982006 0.722569 0.979537 0.729167 0.988796 C 0.735764 0.998055 0.753472 1.023364 0.760417 1.033241 C 0.767361 1.043117 0.766319 1.041883 0.770833 1.048056 C 0.775347 1.054228 0.782986 1.065339 0.7875 1.070278 C 0.792014 1.075216 0.794453 1.075833 0.797917 1.077685 C 0.80138 1.079537 0.805512 1.079537 0.808281 1.081389 C 0.81105 1.083241 0.814531 1.086944 0.814531 1.088796 C 0.814531 1.090648 0.81105 1.094352 0.808281 1.0925 C 0.805512 1.090648 0.800686 1.081389 0.797917 1.077685 C 0.795147 1.073982 0.794097 1.073364 0.791667 1.070278 C 0.789236 1.067191 0.789236 1.065957 0.783333 1.059167 C 0.777431 1.052377 0.761806 1.03571 0.75625 1.029537 C 0.750694 1.023364 0.75243 1.025216 0.75 1.02213 C 0.747569 1.019043 0.744792 1.014105 0.741667 1.011019 C 0.738542 1.007932 0.734375 1.006698 0.73125 1.003611 C 0.728125 1.000525 0.726042 0.996204 0.722917 0.9925 C 0.719792 0.988796 0.715972 0.98571 0.7125 0.981389 C 0.709028 0.977068 0.705555 0.971512 0.702083 0.966574 C 0.698611 0.961636 0.695833 0.957315 0.691667 0.951759 C 0.6875 0.946204 0.681944 0.940031 0.677083 0.933241 C 0.672222 0.926451 0.667361 0.917809 0.6625 0.911018 C 0.657639 0.904228 0.653125 0.899275 0.647917 0.8925 C 0.642708 0.885725 0.638542 0.880231 0.63125 0.87037 C 0.623958 0.860509 0.610764 0.841975 0.604167 0.833333 C 0.597569 0.824691 0.596528 0.825309 0.591667 0.818519 C 0.586806 0.811728 0.579514 0.799383 0.575 0.792593 C 0.570486 0.785802 0.568403 0.782716 0.564583 0.777778 C 0.560764 0.772839 0.557986 0.77037 0.552083 0.762963 C 0.54618 0.755556 0.535069 0.740741 0.529167 0.733333 C 0.523264 0.725926 0.521181 0.724691 0.516667 0.718518 C 0.512153 0.712346 0.507292 0.703704 0.502083 0.696296 C 0.496875 0.688889 0.490625 0.680864 0.485417 0.674074 C 0.480208 0.667284 0.475694 0.661728 0.470833 0.655556 C 0.465972 0.649383 0.461111 0.64321 0.45625 0.637037 C 0.451389 0.630864 0.445486 0.624074 0.441667 0.618519 C 0.437847 0.612963 0.436458 0.608025 0.433333 0.603704 C 0.430208 0.599383 0.426389 0.596914 0.422917 0.592593 C 0.419444 0.588272 0.418403 0.584568 0.4125 0.577778 C 0.406597 0.570988 0.39375 0.558642 0.3875 0.551852 C 0.38125 0.545062 0.378828 0.541975 0.375 0.537037 C 0.371172 0.532099 0.368359 0.52716 0.364531 0.522222 C 0.360703 0.517284 0.355851 0.512361 0.352031 0.507407 C 0.348212 0.502454 0.345087 0.496836 0.341615 0.4925 C 0.338142 0.488164 0.33467 0.48571 0.331198 0.481389 C 0.327726 0.477068 0.324253 0.471512 0.320781 0.466574 C 0.317309 0.461636 0.31349 0.45608 0.310365 0.451759 C 0.30724 0.447438 0.304809 0.444352 0.302031 0.440648 C 0.299253 0.436944 0.296823 0.433858 0.293698 0.429537 C 0.290573 0.425216 0.286406 0.41966 0.283281 0.414722 C 0.280156 0.409784 0.278073 0.404228 0.274948 0.399907 C 0.271823 0.395586 0.270434 0.395586 0.264531 0.388796 C 0.258628 0.382006 0.245781 0.366574 0.239531 0.359167 C 0.233281 0.351759 0.232934 0.352377 0.227031 0.344352 C 0.221128 0.336327 0.20967 0.31841 0.204115 0.311019 C 0.198559 0.303627 0.198212 0.304923 0.193698 0.3 C 0.189184 0.295077 0.180851 0.285802 0.177031 0.281481 C 0.173212 0.27716 0.174245 0.279012 0.170781 0.274074 C 0.167318 0.269136 0.160061 0.257407 0.15625 0.251852 C 0.152439 0.246296 0.150694 0.243827 0.147917 0.240741 C 0.145139 0.237654 0.143403 0.237654 0.139583 0.233333 C 0.135764 0.229012 0.130208 0.222222 0.125 0.214815 C 0.119792 0.207407 0.111806 0.195062 0.108333 0.188889 C 0.104861 0.182716 0.105903 0.181481 0.104167 0.177778 C 0.102431 0.174074 0.1 0.17037 0.097917 0.166667 C 0.095833 0.162963 0.094792 0.161111 0.091667 0.155556 C 0.088542 0.15 0.082986 0.138889 0.079167 0.133333 C 0.075347 0.127778 0.071528 0.125941 0.06875 0.122222 C 0.065972 0.118503 0.064583 0.11412 0.0625 0.111019 C 0.060417 0.107917 0.058333 0.106698 0.05625 0.103611 C 0.054167 0.100525 0.051736 0.096204 0.05 0.0925 C 0.048264 0.088796 0.047222 0.085093 0.045833 0.081389 C 0.044444 0.077685 0.043056 0.073981 0.041667 0.070278 C 0.040278 0.066574 0.039236 0.06287 0.0375 0.059167 C 0.035764 0.055463 0.032986 0.051759 0.03125 0.048056 C 0.029514 0.044352 0.028472 0.04125 0.027083 0.036944 C 0.025694 0.032639 0.024653 0.02591 0.022917 0.022222 C 0.021181 0.018534 0.018056 0.018518 0.016667 0.014815 C 0.015278 0.011111 0.015972 0.004321 0.014583 0 C 0.013194 -0.004321 0.009722 -0.007407 0.008333 -0.011111 C 0.006944 -0.014815 0.007639 -0.018519 0.00625 -0.022222 C 0.004861 -0.025926 0.001736 -0.02963 0 -0.033333 C -0.001736 -0.037037 -0.002778 -0.040741 -0.004167 -0.044444 C -0.005556 -0.048148 -0.005556 -0.051852 -0.008333 -0.055556 C -0.011111 -0.059259 -0.01875 -0.064815 -0.020833 -0.066667 E">
                                      <p:cBhvr>
                                        <p:cTn id="422" dur="2000" fill="hold"/>
                                        <p:tgtEl>
                                          <p:spTgt spid="8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Picture 2" descr=""/>
          <p:cNvPicPr/>
          <p:nvPr/>
        </p:nvPicPr>
        <p:blipFill>
          <a:blip r:embed="rId1"/>
          <a:stretch/>
        </p:blipFill>
        <p:spPr>
          <a:xfrm>
            <a:off x="-136440" y="-122400"/>
            <a:ext cx="12677760" cy="7483680"/>
          </a:xfrm>
          <a:prstGeom prst="rect">
            <a:avLst/>
          </a:prstGeom>
          <a:ln w="0">
            <a:noFill/>
          </a:ln>
        </p:spPr>
      </p:pic>
      <p:pic>
        <p:nvPicPr>
          <p:cNvPr id="871" name="Picture 3" descr="F:\wps ppt work\imgs\tb-houtui.pngtb-houtui">
            <a:hlinkClick r:id="" action="ppaction://hlinkshowjump?jump=previousslide"/>
          </p:cNvPr>
          <p:cNvPicPr/>
          <p:nvPr/>
        </p:nvPicPr>
        <p:blipFill>
          <a:blip r:embed="rId2"/>
          <a:stretch/>
        </p:blipFill>
        <p:spPr>
          <a:xfrm>
            <a:off x="10401480" y="6383160"/>
            <a:ext cx="615600" cy="524160"/>
          </a:xfrm>
          <a:prstGeom prst="rect">
            <a:avLst/>
          </a:prstGeom>
          <a:ln w="0">
            <a:noFill/>
          </a:ln>
        </p:spPr>
      </p:pic>
      <p:pic>
        <p:nvPicPr>
          <p:cNvPr id="872" name="Picture 4" descr="F:\wps ppt work\imgs\tb-tuichu.pngtb-tuichu">
            <a:hlinkClick r:id="" action="ppaction://hlinkshowjump?jump=endshow"/>
          </p:cNvPr>
          <p:cNvPicPr/>
          <p:nvPr/>
        </p:nvPicPr>
        <p:blipFill>
          <a:blip r:embed="rId3"/>
          <a:stretch/>
        </p:blipFill>
        <p:spPr>
          <a:xfrm>
            <a:off x="11320560" y="6383160"/>
            <a:ext cx="615960" cy="524160"/>
          </a:xfrm>
          <a:prstGeom prst="rect">
            <a:avLst/>
          </a:prstGeom>
          <a:ln w="0">
            <a:noFill/>
          </a:ln>
        </p:spPr>
      </p:pic>
      <p:sp>
        <p:nvSpPr>
          <p:cNvPr id="873" name="Text Box 5"/>
          <p:cNvSpPr/>
          <p:nvPr/>
        </p:nvSpPr>
        <p:spPr>
          <a:xfrm>
            <a:off x="3835440" y="2646360"/>
            <a:ext cx="426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请跟随飞鸟运动轨迹，结合背景，运动眼球，模拟远近视觉变化</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thanksgiving watching</a:t>
            </a:r>
            <a:endParaRPr b="0" lang="en-US" sz="1800" spc="-1" strike="noStrike">
              <a:solidFill>
                <a:srgbClr val="000000"/>
              </a:solidFill>
              <a:latin typeface="Calibri"/>
            </a:endParaRPr>
          </a:p>
        </p:txBody>
      </p:sp>
      <p:pic>
        <p:nvPicPr>
          <p:cNvPr id="874" name="Picture 6" descr="b"/>
          <p:cNvPicPr/>
          <p:nvPr/>
        </p:nvPicPr>
        <p:blipFill>
          <a:blip r:embed="rId4"/>
          <a:stretch/>
        </p:blipFill>
        <p:spPr>
          <a:xfrm>
            <a:off x="7950240" y="2540160"/>
            <a:ext cx="217440" cy="126720"/>
          </a:xfrm>
          <a:prstGeom prst="rect">
            <a:avLst/>
          </a:prstGeom>
          <a:ln w="0">
            <a:noFill/>
          </a:ln>
        </p:spPr>
      </p:pic>
      <p:pic>
        <p:nvPicPr>
          <p:cNvPr id="875" name="Picture 7" descr="F:\wps ppt work\imgs\tb-xiuxi.pngtb-xiuxi"/>
          <p:cNvPicPr/>
          <p:nvPr/>
        </p:nvPicPr>
        <p:blipFill>
          <a:blip r:embed="rId5"/>
          <a:stretch/>
        </p:blipFill>
        <p:spPr>
          <a:xfrm>
            <a:off x="949968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autoRev="1" nodeType="afterEffect" fill="hold" presetClass="emph" presetID="6">
                                  <p:stCondLst>
                                    <p:cond delay="0"/>
                                  </p:stCondLst>
                                  <p:childTnLst>
                                    <p:animScale>
                                      <p:cBhvr>
                                        <p:cTn id="428" dur="9450" fill="hold"/>
                                        <p:tgtEl>
                                          <p:spTgt spid="874"/>
                                        </p:tgtEl>
                                      </p:cBhvr>
                                      <p:to x="400000" y="400000"/>
                                    </p:animScale>
                                  </p:childTnLst>
                                </p:cTn>
                              </p:par>
                              <p:par>
                                <p:cTn id="429" nodeType="withEffect" fill="hold" presetClass="path" presetID="0" repeatCount="indefinite">
                                  <p:stCondLst>
                                    <p:cond delay="0"/>
                                  </p:stCondLst>
                                  <p:childTnLst>
                                    <p:animMotion origin="layout" path="M 0 0 C 0.001389 0 0.005556 0 0.008333 0 C 0.011111 0 0.013194 -0.000617 0.016667 0 C 0.020139 0.000617 0.025347 0.002469 0.029167 0.003704 C 0.032986 0.004938 0.036458 0.00679 0.039583 0.007407 C 0.042708 0.008025 0.045486 0.007407 0.047917 0.007407 C 0.050347 0.007407 0.052083 0.00679 0.054167 0.007407 C 0.05625 0.008025 0.057986 0.010494 0.060417 0.011111 C 0.062847 0.011728 0.063889 0.014815 0.06875 0.011111 C 0.073611 0.007407 0.084722 -0.004938 0.089583 -0.011111 C 0.094444 -0.017284 0.095139 -0.022222 0.097917 -0.025926 C 0.100694 -0.02963 0.103472 -0.030864 0.10625 -0.033333 C 0.109028 -0.035802 0.111806 -0.037654 0.114583 -0.040741 C 0.117361 -0.043827 0.119792 -0.049383 0.122917 -0.051852 C 0.126042 -0.054321 0.130556 -0.053704 0.133333 -0.055556 C 0.136111 -0.057407 0.1375 -0.060494 0.139583 -0.062963 C 0.141667 -0.065432 0.143403 -0.067284 0.145833 -0.07037 C 0.148264 -0.073457 0.151389 -0.077778 0.154167 -0.081481 C 0.156944 -0.085185 0.160069 -0.088889 0.1625 -0.092593 C 0.164931 -0.096296 0.166667 -0.100617 0.16875 -0.103704 C 0.170833 -0.10679 0.172917 -0.108025 0.175 -0.111111 C 0.177083 -0.114198 0.179167 -0.119136 0.18125 -0.122222 C 0.183333 -0.125309 0.185417 -0.127161 0.1875 -0.12963 C 0.189583 -0.132099 0.191319 -0.135185 0.19375 -0.137037 C 0.196181 -0.138889 0.199653 -0.139522 0.202083 -0.140741 C 0.204514 -0.14196 0.205903 -0.142515 0.208333 -0.144352 C 0.210764 -0.146188 0.214236 -0.150525 0.216667 -0.151759 C 0.219097 -0.152994 0.220833 -0.151759 0.222917 -0.151759 C 0.225 -0.151759 0.227083 -0.151759 0.229167 -0.151759 C 0.23125 -0.151759 0.232986 -0.153596 0.235417 -0.151759 C 0.237847 -0.149923 0.240625 -0.144429 0.24375 -0.140741 C 0.246875 -0.137053 0.251389 -0.132716 0.254167 -0.12963 C 0.256944 -0.126543 0.257639 -0.125926 0.260417 -0.122222 C 0.263194 -0.118519 0.268055 -0.110494 0.270833 -0.107407 C 0.273611 -0.104321 0.274653 -0.105556 0.277083 -0.103704 C 0.279514 -0.101852 0.282986 -0.097531 0.285417 -0.096296 C 0.287847 -0.095062 0.289236 -0.096914 0.291667 -0.096296 C 0.294097 -0.095679 0.297569 -0.093827 0.3 -0.092593 C 0.302431 -0.091358 0.304167 -0.089506 0.30625 -0.088889 C 0.308333 -0.088272 0.309375 -0.087654 0.3125 -0.088889 C 0.315625 -0.090123 0.321875 -0.094444 0.325 -0.096296 C 0.328125 -0.098148 0.329167 -0.098765 0.33125 -0.1 C 0.333333 -0.101235 0.335069 -0.101852 0.3375 -0.103704 C 0.339931 -0.105556 0.343056 -0.109259 0.345833 -0.111111 C 0.348611 -0.112963 0.351389 -0.112963 0.354167 -0.114815 C 0.356944 -0.116667 0.360069 -0.119753 0.3625 -0.122222 C 0.364931 -0.124691 0.366667 -0.127778 0.36875 -0.12963 C 0.370833 -0.131481 0.372569 -0.132099 0.375 -0.133333 C 0.37743 -0.134568 0.380208 -0.134583 0.383333 -0.137037 C 0.386458 -0.139491 0.390972 -0.144985 0.39375 -0.148056 C 0.396528 -0.151127 0.397917 -0.152994 0.4 -0.155463 C 0.402083 -0.157932 0.404167 -0.159784 0.40625 -0.16287 C 0.408333 -0.165957 0.410425 -0.169661 0.4125 -0.173981 C 0.414575 -0.178302 0.416623 -0.184475 0.418698 -0.188796 C 0.420772 -0.193117 0.423906 -0.196204 0.424948 -0.199907 C 0.425989 -0.203611 0.424601 -0.207315 0.424948 -0.211019 C 0.425295 -0.214722 0.427031 -0.218426 0.427031 -0.22213 C 0.427031 -0.225833 0.426675 -0.229537 0.424948 -0.233241 C 0.42322 -0.236944 0.419436 -0.241265 0.416667 -0.244352 C 0.413897 -0.247438 0.410764 -0.248673 0.408333 -0.251759 C 0.405903 -0.254846 0.404861 -0.260401 0.402083 -0.26287 C 0.399306 -0.26534 0.394444 -0.264722 0.391667 -0.266574 C 0.388889 -0.268426 0.3875 -0.272747 0.385417 -0.273981 C 0.383333 -0.275216 0.381597 -0.273981 0.379167 -0.273981 C 0.376736 -0.273981 0.373611 -0.274599 0.370833 -0.273981 C 0.368056 -0.273364 0.364931 -0.271512 0.3625 -0.270278 C 0.360069 -0.269043 0.359375 -0.269043 0.35625 -0.266574 C 0.353125 -0.264105 0.346875 -0.257932 0.34375 -0.255463 C 0.340625 -0.252994 0.339583 -0.252994 0.3375 -0.251759 C 0.335417 -0.250525 0.333681 -0.249907 0.33125 -0.248056 C 0.328819 -0.246204 0.325694 -0.244352 0.322917 -0.240648 C 0.320139 -0.236944 0.317361 -0.22892 0.314583 -0.225833 C 0.311806 -0.222747 0.308681 -0.223364 0.30625 -0.22213 C 0.303819 -0.220895 0.302778 -0.220895 0.3 -0.218426 C 0.297222 -0.215957 0.292708 -0.211019 0.289583 -0.207315 C 0.286458 -0.203611 0.284028 -0.198673 0.28125 -0.196204 C 0.278472 -0.193735 0.275347 -0.193735 0.272917 -0.1925 C 0.270486 -0.191265 0.269097 -0.191265 0.266667 -0.188796 C 0.264236 -0.186327 0.261458 -0.181389 0.258333 -0.177685 C 0.255208 -0.173982 0.250694 -0.170278 0.247917 -0.166574 C 0.245139 -0.16287 0.24375 -0.158549 0.241667 -0.155463 C 0.239583 -0.152377 0.237847 -0.150509 0.235417 -0.148056 C 0.232986 -0.145602 0.229514 -0.143812 0.227083 -0.140741 C 0.224653 -0.13767 0.223264 -0.133333 0.220833 -0.12963 C 0.218403 -0.125926 0.215625 -0.122222 0.2125 -0.118519 C 0.209375 -0.114815 0.205208 -0.111728 0.202083 -0.107407 C 0.198958 -0.103086 0.196875 -0.097531 0.19375 -0.092593 C 0.190625 -0.087654 0.186806 -0.082099 0.183333 -0.077778 C 0.179861 -0.073457 0.176389 -0.070988 0.172917 -0.066667 C 0.169444 -0.062346 0.166319 -0.05679 0.1625 -0.051852 C 0.158681 -0.046914 0.153819 -0.041975 0.15 -0.037037 C 0.146181 -0.032099 0.142361 -0.026543 0.139583 -0.022222 C 0.136806 -0.017901 0.135417 -0.014198 0.133333 -0.011111 C 0.13125 -0.008025 0.129167 -0.00679 0.127083 -0.003704 C 0.125 -0.000617 0.122917 0.004321 0.120833 0.007407 C 0.11875 0.010494 0.117708 0.010494 0.114583 0.014815 C 0.111458 0.019136 0.105556 0.029012 0.102083 0.033333 C 0.098611 0.037654 0.095833 0.037639 0.09375 0.040741 C 0.091667 0.043843 0.091319 0.048225 0.089583 0.051944 C 0.087847 0.055664 0.085764 0.058735 0.083333 0.063056 C 0.080903 0.067376 0.077778 0.073549 0.075 0.07787 C 0.072222 0.082191 0.069792 0.08466 0.066667 0.088981 C 0.063542 0.093302 0.059028 0.100093 0.05625 0.103796 C 0.053472 0.1075 0.052778 0.108735 0.05 0.111204 C 0.047222 0.113673 0.042708 0.116142 0.039583 0.118611 C 0.036458 0.12108 0.034375 0.123549 0.03125 0.126019 C 0.028125 0.128488 0.023611 0.130957 0.020833 0.133426 C 0.018056 0.135895 0.016667 0.138981 0.014583 0.140833 C 0.0125 0.142685 0.011111 0.142068 0.008333 0.144537 C 0.005556 0.147006 0.000694 0.152562 -0.002083 0.155648 C -0.004861 0.158735 -0.005894 0.161204 -0.008333 0.163056 C -0.010773 0.164907 -0.01428 0.164907 -0.016719 0.166759 C -0.019158 0.168611 -0.020885 0.172932 -0.022969 0.174167 C -0.025052 0.175401 -0.026441 0.173549 -0.029219 0.174167 C -0.031997 0.174784 -0.036858 0.176636 -0.039635 0.17787 C -0.042413 0.179105 -0.043802 0.180339 -0.045885 0.181574 C -0.047969 0.182809 -0.049358 0.18466 -0.052135 0.185278 C -0.054913 0.185895 -0.059774 0.185278 -0.062552 0.185278 C -0.06533 0.185278 -0.066719 0.18466 -0.068802 0.185278 C -0.070885 0.185895 -0.072622 0.187747 -0.075052 0.188981 C -0.077483 0.190216 -0.080955 0.192068 -0.083385 0.192685 C -0.085816 0.193302 -0.087205 0.192685 -0.089635 0.192685 C -0.092066 0.192685 -0.095191 0.192685 -0.097969 0.192685 C -0.100747 0.192685 -0.103872 0.192685 -0.106302 0.192685 C -0.108733 0.192685 -0.110469 0.192685 -0.112552 0.192685 C -0.114635 0.192685 -0.116372 0.192685 -0.118802 0.192685 C -0.121233 0.192685 -0.124358 0.192685 -0.127135 0.192685 C -0.129913 0.192685 -0.133038 0.193302 -0.135469 0.192685 C -0.137899 0.192068 -0.138247 0.192068 -0.141719 0.188981 C -0.145191 0.185895 -0.15283 0.177253 -0.156302 0.174167 C -0.159774 0.17108 -0.160469 0.172315 -0.162552 0.170463 C -0.164635 0.168611 -0.166372 0.166142 -0.168802 0.163056 C -0.171233 0.159969 -0.174705 0.155648 -0.177135 0.151944 C -0.179566 0.148241 -0.181302 0.145154 -0.183385 0.140833 C -0.185469 0.136512 -0.187899 0.131574 -0.189635 0.126019 C -0.191372 0.120463 -0.19276 0.113055 -0.193802 0.1075 C -0.194844 0.101944 -0.194844 0.097006 -0.195885 0.092685 C -0.196927 0.088364 -0.198316 0.085278 -0.200052 0.081574 C -0.201788 0.07787 -0.204566 0.074167 -0.206302 0.070463 C -0.208038 0.066759 -0.20908 0.063055 -0.210469 0.059352 C -0.211858 0.055648 -0.212214 0.051343 -0.214635 0.048241 C -0.217057 0.045139 -0.222231 0.043225 -0.225 0.040741 C -0.227769 0.038256 -0.228125 0.035185 -0.23125 0.033333 C -0.234375 0.031481 -0.240278 0.031481 -0.24375 0.02963 C -0.247222 0.027778 -0.249653 0.024074 -0.252083 0.022222 C -0.254514 0.02037 -0.25625 0.019136 -0.258333 0.018519 C -0.260417 0.017901 -0.262153 0.019136 -0.264583 0.018519 C -0.267014 0.017901 -0.270486 0.015432 -0.272917 0.014815 C -0.275347 0.014198 -0.276736 0.014815 -0.279167 0.014815 C -0.281597 0.014815 -0.284028 0.014815 -0.2875 0.014815 C -0.290972 0.014815 -0.296528 0.014815 -0.3 0.014815 C -0.303472 0.014815 -0.305556 0.014815 -0.308333 0.014815 C -0.311111 0.014815 -0.313542 0.014815 -0.316667 0.014815 C -0.319792 0.014815 -0.323958 0.014815 -0.327083 0.014815 C -0.330208 0.014815 -0.332986 0.014815 -0.335417 0.014815 C -0.337847 0.014815 -0.339583 0.014815 -0.341667 0.014815 C -0.34375 0.014815 -0.345139 0.014198 -0.347917 0.014815 C -0.350694 0.015432 -0.355208 0.016667 -0.358333 0.018519 C -0.361458 0.02037 -0.363542 0.023457 -0.366667 0.025926 C -0.369792 0.028395 -0.374306 0.030864 -0.377083 0.033333 C -0.379861 0.035802 -0.38125 0.038256 -0.383333 0.040741 C -0.385417 0.043225 -0.387153 0.045139 -0.389583 0.048241 C -0.392014 0.051343 -0.395139 0.056883 -0.397917 0.059352 C -0.400694 0.061821 -0.403125 0.059969 -0.40625 0.063056 C -0.409375 0.066142 -0.413194 0.073549 -0.416667 0.07787 C -0.420139 0.082191 -0.424306 0.085895 -0.427083 0.088981 C -0.429861 0.092068 -0.431241 0.094537 -0.433333 0.096389 C -0.435425 0.098241 -0.437543 0.098241 -0.439635 0.100093 C -0.441727 0.101944 -0.443802 0.104414 -0.445885 0.1075 C -0.447969 0.110586 -0.450052 0.115525 -0.452135 0.118611 C -0.454219 0.121698 -0.455608 0.122315 -0.458385 0.126019 C -0.461163 0.129722 -0.465677 0.13713 -0.468802 0.140833 C -0.471927 0.144537 -0.47401 0.144537 -0.477135 0.148241 C -0.48026 0.151944 -0.484774 0.159352 -0.487552 0.163056 C -0.49033 0.166759 -0.491372 0.167994 -0.493802 0.170463 C -0.496233 0.172932 -0.499705 0.175401 -0.502135 0.17787 C -0.504566 0.180339 -0.505955 0.182809 -0.508385 0.185278 C -0.510816 0.187747 -0.513247 0.188981 -0.516719 0.192685 C -0.520191 0.196389 -0.526094 0.204414 -0.529219 0.2075 C -0.532344 0.210586 -0.533047 0.209969 -0.535469 0.211204 C -0.537891 0.212438 -0.541328 0.213056 -0.54375 0.214907 C -0.546172 0.216759 -0.548264 0.222932 -0.55 0.222315 C -0.551736 0.221697 -0.553472 0.214907 -0.554167 0.211204 C -0.554861 0.2075 -0.554514 0.203796 -0.554167 0.200093 C -0.553819 0.196389 -0.553125 0.193302 -0.552083 0.188981 C -0.551042 0.18466 -0.548958 0.179722 -0.547917 0.174167 C -0.546875 0.168611 -0.546866 0.161821 -0.545833 0.155648 C -0.5448 0.149475 -0.543446 0.142068 -0.541719 0.13713 C -0.539991 0.132191 -0.537552 0.129722 -0.535469 0.126019 C -0.533385 0.122315 -0.531302 0.118611 -0.529219 0.114907 C -0.527135 0.111204 -0.525052 0.1075 -0.522969 0.103796 C -0.520885 0.100093 -0.519497 0.096389 -0.516719 0.092685 C -0.513941 0.088981 -0.50908 0.084043 -0.506302 0.081574 C -0.503524 0.079105 -0.50283 0.079722 -0.500052 0.07787 C -0.497274 0.076019 -0.492413 0.072315 -0.489635 0.070463 C -0.486858 0.068611 -0.485469 0.067376 -0.483385 0.066759 C -0.481302 0.066142 -0.479219 0.066759 -0.477135 0.066759 C -0.475052 0.066759 -0.473316 0.066759 -0.470885 0.066759 C -0.468455 0.066759 -0.46533 0.066759 -0.462552 0.066759 C -0.459774 0.066759 -0.457344 0.066142 -0.454219 0.066759 C -0.451094 0.067376 -0.447283 0.069228 -0.443802 0.070463 C -0.440321 0.071698 -0.436814 0.073549 -0.433333 0.074167 C -0.429852 0.074784 -0.426736 0.073549 -0.422917 0.074167 C -0.419097 0.074784 -0.413889 0.076636 -0.410417 0.07787 C -0.406944 0.079105 -0.404514 0.080339 -0.402083 0.081574 C -0.399653 0.082809 -0.398264 0.08466 -0.395833 0.085278 C -0.393403 0.085895 -0.389931 0.085278 -0.3875 0.085278 C -0.385069 0.085278 -0.383333 0.08466 -0.38125 0.085278 C -0.379167 0.085895 -0.377431 0.087747 -0.375 0.088981 C -0.37257 0.090216 -0.369792 0.092068 -0.366667 0.092685 C -0.363542 0.093302 -0.359722 0.092685 -0.35625 0.092685 C -0.352778 0.092685 -0.349653 0.092685 -0.345833 0.092685 C -0.342014 0.092685 -0.3375 0.091451 -0.333333 0.092685 C -0.329167 0.09392 -0.325347 0.097623 -0.320833 0.100093 C -0.316319 0.102562 -0.310764 0.105648 -0.30625 0.1075 C -0.301736 0.109352 -0.297917 0.109352 -0.29375 0.111204 C -0.289583 0.113055 -0.284375 0.116759 -0.28125 0.118611 C -0.278125 0.120463 -0.277083 0.12108 -0.275 0.122315 C -0.272917 0.123549 -0.271528 0.123549 -0.26875 0.126019 C -0.265972 0.128488 -0.261458 0.13466 -0.258333 0.13713 C -0.255208 0.139599 -0.252778 0.139599 -0.25 0.140833 C -0.247222 0.142068 -0.244444 0.142685 -0.241667 0.144537 C -0.238889 0.146389 -0.236111 0.150093 -0.233333 0.151944 C -0.230556 0.153796 -0.227422 0.153796 -0.225 0.155648 C -0.222578 0.1575 -0.221571 0.159969 -0.218802 0.163056 C -0.216033 0.166142 -0.21151 0.171697 -0.208385 0.174167 C -0.20526 0.176636 -0.20283 0.176019 -0.200052 0.17787 C -0.197274 0.179722 -0.194149 0.183426 -0.191719 0.185278 C -0.189288 0.18713 -0.188247 0.187747 -0.185469 0.188981 C -0.182691 0.190216 -0.178177 0.190833 -0.175052 0.192685 C -0.171927 0.194537 -0.169497 0.198241 -0.166719 0.200093 C -0.163941 0.201944 -0.160816 0.201944 -0.158385 0.203796 C -0.155955 0.205648 -0.154566 0.209352 -0.152135 0.211204 C -0.149705 0.213055 -0.146927 0.213056 -0.143802 0.214907 C -0.140677 0.216759 -0.13651 0.219846 -0.133385 0.222315 C -0.13026 0.224784 -0.128177 0.227253 -0.125052 0.229722 C -0.121927 0.232191 -0.11776 0.23466 -0.114635 0.23713 C -0.11151 0.239599 -0.109427 0.242685 -0.106302 0.244537 C -0.103177 0.246389 -0.09901 0.246389 -0.095885 0.248241 C -0.09276 0.250093 -0.090677 0.253796 -0.087552 0.255648 C -0.084427 0.2575 -0.08026 0.258117 -0.077135 0.259352 C -0.07401 0.260586 -0.071233 0.261821 -0.068802 0.263056 C -0.066372 0.26429 -0.064983 0.264907 -0.062552 0.266759 C -0.060122 0.268611 -0.056649 0.272315 -0.054219 0.274167 C -0.051788 0.276018 -0.050052 0.276636 -0.047969 0.27787 C -0.045885 0.279105 -0.043802 0.280339 -0.041719 0.281574 C -0.039635 0.282809 -0.038247 0.284043 -0.035469 0.285278 C -0.032691 0.286512 -0.028177 0.288364 -0.025052 0.288981 C -0.021927 0.289599 -0.019852 0.288364 -0.016719 0.288981 C -0.013585 0.289599 -0.009384 0.291451 -0.00625 0.292685 C -0.003116 0.29392 -0.000694 0.295154 0.002083 0.296389 C 0.004861 0.297623 0.007986 0.299475 0.010417 0.300093 C 0.012847 0.30071 0.014236 0.299475 0.016667 0.300093 C 0.019097 0.30071 0.021875 0.302562 0.025 0.303796 C 0.028125 0.305031 0.032639 0.306883 0.035417 0.3075 C 0.038194 0.308117 0.039236 0.306883 0.041667 0.3075 C 0.044097 0.308117 0.046875 0.309969 0.05 0.311204 C 0.053125 0.312438 0.057639 0.31429 0.060417 0.314907 C 0.063194 0.315525 0.064583 0.31429 0.066667 0.314907 C 0.06875 0.315525 0.070486 0.317994 0.072917 0.318611 C 0.075347 0.319228 0.078472 0.317994 0.08125 0.318611 C 0.084028 0.319228 0.087153 0.321698 0.089583 0.322315 C 0.092014 0.322932 0.09375 0.322315 0.095833 0.322315 C 0.097917 0.322315 0.1 0.321698 0.102083 0.322315 C 0.104167 0.322932 0.10625 0.324784 0.108333 0.326019 C 0.110417 0.327253 0.1125 0.329105 0.114583 0.329722 C 0.116667 0.330339 0.118056 0.329722 0.120833 0.329722 C 0.123611 0.329722 0.128125 0.329722 0.13125 0.329722 C 0.134375 0.329722 0.137153 0.329722 0.139583 0.329722 C 0.142014 0.329722 0.14375 0.329722 0.145833 0.329722 C 0.147917 0.329722 0.149653 0.329722 0.152083 0.329722 C 0.154514 0.329722 0.157639 0.329722 0.160417 0.329722 C 0.163194 0.329722 0.165972 0.329722 0.16875 0.329722 C 0.171528 0.329722 0.174306 0.329722 0.177083 0.329722 C 0.179861 0.329722 0.182986 0.330339 0.185417 0.329722 C 0.187847 0.329105 0.189583 0.32787 0.191667 0.326019 C 0.19375 0.324167 0.195833 0.320463 0.197917 0.318611 C 0.2 0.316759 0.202083 0.316759 0.204167 0.314907 C 0.20625 0.313056 0.208333 0.309352 0.210417 0.3075 C 0.2125 0.305648 0.214583 0.305648 0.216667 0.303796 C 0.21875 0.301944 0.220833 0.298858 0.222917 0.296389 C 0.225 0.29392 0.227083 0.291451 0.229167 0.288981 C 0.23125 0.286512 0.234028 0.28466 0.235417 0.281574 C 0.236806 0.278488 0.236458 0.274167 0.2375 0.270463 C 0.238542 0.266759 0.239931 0.263055 0.241667 0.259352 C 0.243403 0.255648 0.246875 0.251944 0.247917 0.248241 C 0.248958 0.244537 0.247917 0.241451 0.247917 0.23713 C 0.247917 0.232809 0.248611 0.226636 0.247917 0.222315 C 0.247222 0.217994 0.245833 0.214907 0.24375 0.211204 C 0.241667 0.2075 0.237847 0.203796 0.235417 0.200093 C 0.232986 0.196389 0.23125 0.192068 0.229167 0.188981 C 0.227083 0.185895 0.225 0.184043 0.222917 0.181574 C 0.220833 0.179105 0.21875 0.176636 0.216667 0.174167 C 0.214583 0.171697 0.212847 0.169846 0.210417 0.166759 C 0.207986 0.163673 0.204514 0.158117 0.202083 0.155648 C 0.199653 0.153179 0.197917 0.153796 0.195833 0.151944 C 0.19375 0.150093 0.192014 0.147006 0.189583 0.144537 C 0.187153 0.142068 0.183681 0.139599 0.18125 0.13713 C 0.178819 0.13466 0.177083 0.130957 0.175 0.129722 C 0.172917 0.128488 0.171181 0.130339 0.16875 0.129722 C 0.166319 0.129105 0.162847 0.12787 0.160417 0.126019 C 0.157986 0.124167 0.15625 0.120463 0.154167 0.118611 C 0.152083 0.116759 0.148958 0.115525 0.147917 0.114907 E">
                                      <p:cBhvr>
                                        <p:cTn id="430" dur="16000" fill="hold"/>
                                        <p:tgtEl>
                                          <p:spTgt spid="8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bg"/>
          <p:cNvPicPr/>
          <p:nvPr/>
        </p:nvPicPr>
        <p:blipFill>
          <a:blip r:embed="rId1"/>
          <a:stretch/>
        </p:blipFill>
        <p:spPr>
          <a:xfrm>
            <a:off x="-46080" y="-11160"/>
            <a:ext cx="12250800" cy="6918480"/>
          </a:xfrm>
          <a:prstGeom prst="rect">
            <a:avLst/>
          </a:prstGeom>
          <a:ln w="0">
            <a:noFill/>
          </a:ln>
        </p:spPr>
      </p:pic>
      <p:sp>
        <p:nvSpPr>
          <p:cNvPr id="177"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78" name="Picture 4" descr="board"/>
          <p:cNvPicPr/>
          <p:nvPr/>
        </p:nvPicPr>
        <p:blipFill>
          <a:blip r:embed="rId2"/>
          <a:stretch/>
        </p:blipFill>
        <p:spPr>
          <a:xfrm>
            <a:off x="-44280" y="0"/>
            <a:ext cx="12228480" cy="6886440"/>
          </a:xfrm>
          <a:prstGeom prst="rect">
            <a:avLst/>
          </a:prstGeom>
          <a:ln w="0">
            <a:noFill/>
          </a:ln>
        </p:spPr>
      </p:pic>
      <p:sp>
        <p:nvSpPr>
          <p:cNvPr id="179"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要求</a:t>
            </a:r>
            <a:endParaRPr b="0" lang="en-US" sz="2600" spc="-1" strike="noStrike">
              <a:solidFill>
                <a:srgbClr val="000000"/>
              </a:solidFill>
              <a:latin typeface="Calibri"/>
            </a:endParaRPr>
          </a:p>
        </p:txBody>
      </p:sp>
      <p:graphicFrame>
        <p:nvGraphicFramePr>
          <p:cNvPr id="180"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81" name="Picture 37" descr="3"/>
          <p:cNvPicPr/>
          <p:nvPr/>
        </p:nvPicPr>
        <p:blipFill>
          <a:blip r:embed="rId3"/>
          <a:stretch/>
        </p:blipFill>
        <p:spPr>
          <a:xfrm>
            <a:off x="1938240" y="6273720"/>
            <a:ext cx="4603680" cy="490680"/>
          </a:xfrm>
          <a:prstGeom prst="rect">
            <a:avLst/>
          </a:prstGeom>
          <a:ln w="0">
            <a:noFill/>
          </a:ln>
        </p:spPr>
      </p:pic>
      <p:pic>
        <p:nvPicPr>
          <p:cNvPr id="18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83" name="铅笔" descr="qianbi"/>
          <p:cNvPicPr/>
          <p:nvPr/>
        </p:nvPicPr>
        <p:blipFill>
          <a:blip r:embed="rId5"/>
          <a:stretch/>
        </p:blipFill>
        <p:spPr>
          <a:xfrm>
            <a:off x="88920" y="6105600"/>
            <a:ext cx="847800" cy="720720"/>
          </a:xfrm>
          <a:prstGeom prst="rect">
            <a:avLst/>
          </a:prstGeom>
          <a:ln w="0">
            <a:noFill/>
          </a:ln>
        </p:spPr>
      </p:pic>
      <p:pic>
        <p:nvPicPr>
          <p:cNvPr id="184" name="Picture 40" descr="jindu-lan"/>
          <p:cNvPicPr/>
          <p:nvPr/>
        </p:nvPicPr>
        <p:blipFill>
          <a:blip r:embed="rId6"/>
          <a:stretch/>
        </p:blipFill>
        <p:spPr>
          <a:xfrm>
            <a:off x="5981760" y="6369120"/>
            <a:ext cx="264960" cy="303120"/>
          </a:xfrm>
          <a:prstGeom prst="rect">
            <a:avLst/>
          </a:prstGeom>
          <a:ln w="0">
            <a:noFill/>
          </a:ln>
        </p:spPr>
      </p:pic>
      <p:pic>
        <p:nvPicPr>
          <p:cNvPr id="185"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186" name="Picture 42"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187" name="Picture 43"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188"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189"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190"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44" dur="1000" fill="hold"/>
                                        <p:tgtEl>
                                          <p:spTgt spid="182"/>
                                        </p:tgtEl>
                                      </p:cBhvr>
                                    </p:animMotion>
                                  </p:childTnLst>
                                </p:cTn>
                              </p:par>
                            </p:childTnLst>
                          </p:cTn>
                        </p:par>
                        <p:par>
                          <p:cTn id="45" nodeType="afterEffect" fill="hold">
                            <p:stCondLst>
                              <p:cond delay="1000"/>
                            </p:stCondLst>
                            <p:childTnLst>
                              <p:par>
                                <p:cTn id="4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47" dur="1000" fill="hold"/>
                                        <p:tgtEl>
                                          <p:spTgt spid="1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g"/>
          <p:cNvPicPr/>
          <p:nvPr/>
        </p:nvPicPr>
        <p:blipFill>
          <a:blip r:embed="rId1"/>
          <a:stretch/>
        </p:blipFill>
        <p:spPr>
          <a:xfrm>
            <a:off x="-46080" y="-11160"/>
            <a:ext cx="12250800" cy="6918480"/>
          </a:xfrm>
          <a:prstGeom prst="rect">
            <a:avLst/>
          </a:prstGeom>
          <a:ln w="0">
            <a:noFill/>
          </a:ln>
        </p:spPr>
      </p:pic>
      <p:sp>
        <p:nvSpPr>
          <p:cNvPr id="19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93" name="Picture 4" descr="board"/>
          <p:cNvPicPr/>
          <p:nvPr/>
        </p:nvPicPr>
        <p:blipFill>
          <a:blip r:embed="rId2"/>
          <a:stretch/>
        </p:blipFill>
        <p:spPr>
          <a:xfrm>
            <a:off x="-44280" y="0"/>
            <a:ext cx="12228480" cy="6886440"/>
          </a:xfrm>
          <a:prstGeom prst="rect">
            <a:avLst/>
          </a:prstGeom>
          <a:ln w="0">
            <a:noFill/>
          </a:ln>
        </p:spPr>
      </p:pic>
      <p:sp>
        <p:nvSpPr>
          <p:cNvPr id="194"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目的</a:t>
            </a:r>
            <a:endParaRPr b="0" lang="en-US" sz="2600" spc="-1" strike="noStrike">
              <a:solidFill>
                <a:srgbClr val="000000"/>
              </a:solidFill>
              <a:latin typeface="Calibri"/>
            </a:endParaRPr>
          </a:p>
        </p:txBody>
      </p:sp>
      <p:graphicFrame>
        <p:nvGraphicFramePr>
          <p:cNvPr id="195"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96" name="Picture 37" descr="3"/>
          <p:cNvPicPr/>
          <p:nvPr/>
        </p:nvPicPr>
        <p:blipFill>
          <a:blip r:embed="rId3"/>
          <a:stretch/>
        </p:blipFill>
        <p:spPr>
          <a:xfrm>
            <a:off x="1938240" y="6273720"/>
            <a:ext cx="4603680" cy="490680"/>
          </a:xfrm>
          <a:prstGeom prst="rect">
            <a:avLst/>
          </a:prstGeom>
          <a:ln w="0">
            <a:noFill/>
          </a:ln>
        </p:spPr>
      </p:pic>
      <p:pic>
        <p:nvPicPr>
          <p:cNvPr id="19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98" name="铅笔" descr="qianbi"/>
          <p:cNvPicPr/>
          <p:nvPr/>
        </p:nvPicPr>
        <p:blipFill>
          <a:blip r:embed="rId5"/>
          <a:stretch/>
        </p:blipFill>
        <p:spPr>
          <a:xfrm>
            <a:off x="88920" y="6105600"/>
            <a:ext cx="847800" cy="720720"/>
          </a:xfrm>
          <a:prstGeom prst="rect">
            <a:avLst/>
          </a:prstGeom>
          <a:ln w="0">
            <a:noFill/>
          </a:ln>
        </p:spPr>
      </p:pic>
      <p:pic>
        <p:nvPicPr>
          <p:cNvPr id="199" name="Picture 40" descr="jindu-lan"/>
          <p:cNvPicPr/>
          <p:nvPr/>
        </p:nvPicPr>
        <p:blipFill>
          <a:blip r:embed="rId6"/>
          <a:stretch/>
        </p:blipFill>
        <p:spPr>
          <a:xfrm>
            <a:off x="5981760" y="6369120"/>
            <a:ext cx="264960" cy="303120"/>
          </a:xfrm>
          <a:prstGeom prst="rect">
            <a:avLst/>
          </a:prstGeom>
          <a:ln w="0">
            <a:noFill/>
          </a:ln>
        </p:spPr>
      </p:pic>
      <p:pic>
        <p:nvPicPr>
          <p:cNvPr id="200"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01" name="Picture 42"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02" name="Picture 43"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203"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204"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205"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53" dur="1000" fill="hold"/>
                                        <p:tgtEl>
                                          <p:spTgt spid="197"/>
                                        </p:tgtEl>
                                      </p:cBhvr>
                                    </p:animMotion>
                                  </p:childTnLst>
                                </p:cTn>
                              </p:par>
                            </p:childTnLst>
                          </p:cTn>
                        </p:par>
                        <p:par>
                          <p:cTn id="54" nodeType="afterEffect" fill="hold">
                            <p:stCondLst>
                              <p:cond delay="1000"/>
                            </p:stCondLst>
                            <p:childTnLst>
                              <p:par>
                                <p:cTn id="5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56" dur="1000" fill="hold"/>
                                        <p:tgtEl>
                                          <p:spTgt spid="2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bg"/>
          <p:cNvPicPr/>
          <p:nvPr/>
        </p:nvPicPr>
        <p:blipFill>
          <a:blip r:embed="rId1"/>
          <a:stretch/>
        </p:blipFill>
        <p:spPr>
          <a:xfrm>
            <a:off x="-46080" y="-11160"/>
            <a:ext cx="12250800" cy="6918480"/>
          </a:xfrm>
          <a:prstGeom prst="rect">
            <a:avLst/>
          </a:prstGeom>
          <a:ln w="0">
            <a:noFill/>
          </a:ln>
        </p:spPr>
      </p:pic>
      <p:pic>
        <p:nvPicPr>
          <p:cNvPr id="207" name="Picture 3" descr="board"/>
          <p:cNvPicPr/>
          <p:nvPr/>
        </p:nvPicPr>
        <p:blipFill>
          <a:blip r:embed="rId2"/>
          <a:stretch/>
        </p:blipFill>
        <p:spPr>
          <a:xfrm>
            <a:off x="-44280" y="0"/>
            <a:ext cx="12228480" cy="6886440"/>
          </a:xfrm>
          <a:prstGeom prst="rect">
            <a:avLst/>
          </a:prstGeom>
          <a:ln w="0">
            <a:noFill/>
          </a:ln>
        </p:spPr>
      </p:pic>
      <p:sp>
        <p:nvSpPr>
          <p:cNvPr id="208"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总工作范围</a:t>
            </a:r>
            <a:endParaRPr b="0" lang="en-US" sz="2600" spc="-1" strike="noStrike">
              <a:solidFill>
                <a:srgbClr val="000000"/>
              </a:solidFill>
              <a:latin typeface="Calibri"/>
            </a:endParaRPr>
          </a:p>
        </p:txBody>
      </p:sp>
      <p:pic>
        <p:nvPicPr>
          <p:cNvPr id="209" name="图片 2" descr="gray-point"/>
          <p:cNvPicPr/>
          <p:nvPr/>
        </p:nvPicPr>
        <p:blipFill>
          <a:blip r:embed="rId4"/>
          <a:stretch/>
        </p:blipFill>
        <p:spPr>
          <a:xfrm>
            <a:off x="1557360" y="2470320"/>
            <a:ext cx="517680" cy="431640"/>
          </a:xfrm>
          <a:prstGeom prst="rect">
            <a:avLst/>
          </a:prstGeom>
          <a:ln w="0">
            <a:noFill/>
          </a:ln>
        </p:spPr>
      </p:pic>
      <p:sp>
        <p:nvSpPr>
          <p:cNvPr id="210"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211" name="Picture 7" descr="2"/>
          <p:cNvPicPr/>
          <p:nvPr/>
        </p:nvPicPr>
        <p:blipFill>
          <a:blip r:embed="rId5"/>
          <a:stretch/>
        </p:blipFill>
        <p:spPr>
          <a:xfrm>
            <a:off x="1938240" y="6273720"/>
            <a:ext cx="4603680" cy="490680"/>
          </a:xfrm>
          <a:prstGeom prst="rect">
            <a:avLst/>
          </a:prstGeom>
          <a:ln w="0">
            <a:noFill/>
          </a:ln>
        </p:spPr>
      </p:pic>
      <p:pic>
        <p:nvPicPr>
          <p:cNvPr id="212"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213" name="铅笔" descr="qianbi"/>
          <p:cNvPicPr/>
          <p:nvPr/>
        </p:nvPicPr>
        <p:blipFill>
          <a:blip r:embed="rId7"/>
          <a:stretch/>
        </p:blipFill>
        <p:spPr>
          <a:xfrm>
            <a:off x="88920" y="6105600"/>
            <a:ext cx="847800" cy="720720"/>
          </a:xfrm>
          <a:prstGeom prst="rect">
            <a:avLst/>
          </a:prstGeom>
          <a:ln w="0">
            <a:noFill/>
          </a:ln>
        </p:spPr>
      </p:pic>
      <p:pic>
        <p:nvPicPr>
          <p:cNvPr id="214" name="Picture 10" descr="jindu-hui"/>
          <p:cNvPicPr/>
          <p:nvPr/>
        </p:nvPicPr>
        <p:blipFill>
          <a:blip r:embed="rId8"/>
          <a:stretch/>
        </p:blipFill>
        <p:spPr>
          <a:xfrm>
            <a:off x="5981760" y="6369120"/>
            <a:ext cx="264960" cy="304560"/>
          </a:xfrm>
          <a:prstGeom prst="rect">
            <a:avLst/>
          </a:prstGeom>
          <a:ln w="0">
            <a:noFill/>
          </a:ln>
        </p:spPr>
      </p:pic>
      <p:pic>
        <p:nvPicPr>
          <p:cNvPr id="215"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216" name="Picture 12" descr="cloud1"/>
          <p:cNvPicPr/>
          <p:nvPr/>
        </p:nvPicPr>
        <p:blipFill>
          <a:blip r:embed="rId10"/>
          <a:stretch/>
        </p:blipFill>
        <p:spPr>
          <a:xfrm>
            <a:off x="163440" y="133200"/>
            <a:ext cx="4510080" cy="1960560"/>
          </a:xfrm>
          <a:prstGeom prst="rect">
            <a:avLst/>
          </a:prstGeom>
          <a:ln w="0">
            <a:noFill/>
          </a:ln>
        </p:spPr>
      </p:pic>
      <p:pic>
        <p:nvPicPr>
          <p:cNvPr id="217" name="Picture 13" descr="cloud1"/>
          <p:cNvPicPr/>
          <p:nvPr/>
        </p:nvPicPr>
        <p:blipFill>
          <a:blip r:embed="rId11"/>
          <a:stretch/>
        </p:blipFill>
        <p:spPr>
          <a:xfrm>
            <a:off x="833400" y="-49320"/>
            <a:ext cx="3144960" cy="1363680"/>
          </a:xfrm>
          <a:prstGeom prst="rect">
            <a:avLst/>
          </a:prstGeom>
          <a:ln w="0">
            <a:noFill/>
          </a:ln>
        </p:spPr>
      </p:pic>
      <p:sp>
        <p:nvSpPr>
          <p:cNvPr id="218"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内容</a:t>
            </a:r>
            <a:endParaRPr b="0" lang="en-US" sz="2600" spc="-1" strike="noStrike">
              <a:solidFill>
                <a:srgbClr val="000000"/>
              </a:solidFill>
              <a:latin typeface="Calibri"/>
            </a:endParaRPr>
          </a:p>
        </p:txBody>
      </p:sp>
      <p:grpSp>
        <p:nvGrpSpPr>
          <p:cNvPr id="219" name="Group 15"/>
          <p:cNvGrpSpPr/>
          <p:nvPr/>
        </p:nvGrpSpPr>
        <p:grpSpPr>
          <a:xfrm>
            <a:off x="673200" y="790560"/>
            <a:ext cx="517320" cy="438120"/>
            <a:chOff x="673200" y="790560"/>
            <a:chExt cx="517320" cy="438120"/>
          </a:xfrm>
        </p:grpSpPr>
        <p:pic>
          <p:nvPicPr>
            <p:cNvPr id="220" name="图片 2" descr=""/>
            <p:cNvPicPr/>
            <p:nvPr/>
          </p:nvPicPr>
          <p:blipFill>
            <a:blip r:embed="rId12"/>
            <a:stretch/>
          </p:blipFill>
          <p:spPr>
            <a:xfrm>
              <a:off x="673200" y="795240"/>
              <a:ext cx="517320" cy="433440"/>
            </a:xfrm>
            <a:prstGeom prst="rect">
              <a:avLst/>
            </a:prstGeom>
            <a:ln w="0">
              <a:noFill/>
            </a:ln>
          </p:spPr>
        </p:pic>
        <p:sp>
          <p:nvSpPr>
            <p:cNvPr id="221"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grpSp>
      <p:pic>
        <p:nvPicPr>
          <p:cNvPr id="222"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223"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pic>
        <p:nvPicPr>
          <p:cNvPr id="224" name="Picture 20" descr="tb-xiuxi">
            <a:hlinkClick r:id="rId15" action="ppaction://hlinksldjump"/>
          </p:cNvPr>
          <p:cNvPicPr/>
          <p:nvPr/>
        </p:nvPicPr>
        <p:blipFill>
          <a:blip r:embed="rId16"/>
          <a:stretch/>
        </p:blipFill>
        <p:spPr>
          <a:xfrm>
            <a:off x="9499680" y="6383160"/>
            <a:ext cx="615960" cy="524160"/>
          </a:xfrm>
          <a:prstGeom prst="rect">
            <a:avLst/>
          </a:prstGeom>
          <a:ln w="0">
            <a:noFill/>
          </a:ln>
        </p:spPr>
      </p:pic>
      <p:sp>
        <p:nvSpPr>
          <p:cNvPr id="225" name="Text Box 14"/>
          <p:cNvSpPr/>
          <p:nvPr/>
        </p:nvSpPr>
        <p:spPr>
          <a:xfrm>
            <a:off x="2125080" y="318780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分部工作范围</a:t>
            </a:r>
            <a:endParaRPr b="0" lang="en-US" sz="2600" spc="-1" strike="noStrike">
              <a:solidFill>
                <a:srgbClr val="000000"/>
              </a:solidFill>
              <a:latin typeface="Calibri"/>
            </a:endParaRPr>
          </a:p>
        </p:txBody>
      </p:sp>
      <p:pic>
        <p:nvPicPr>
          <p:cNvPr id="226" name="图片 2" descr="gray-point"/>
          <p:cNvPicPr/>
          <p:nvPr/>
        </p:nvPicPr>
        <p:blipFill>
          <a:blip r:embed="rId17"/>
          <a:stretch/>
        </p:blipFill>
        <p:spPr>
          <a:xfrm>
            <a:off x="1557360" y="3219480"/>
            <a:ext cx="517680" cy="431640"/>
          </a:xfrm>
          <a:prstGeom prst="rect">
            <a:avLst/>
          </a:prstGeom>
          <a:ln w="0">
            <a:noFill/>
          </a:ln>
        </p:spPr>
      </p:pic>
      <p:sp>
        <p:nvSpPr>
          <p:cNvPr id="227"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228" name="Text Box 14"/>
          <p:cNvSpPr/>
          <p:nvPr/>
        </p:nvSpPr>
        <p:spPr>
          <a:xfrm>
            <a:off x="5412240" y="3203640"/>
            <a:ext cx="511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一部分</a:t>
            </a:r>
            <a:endParaRPr b="0" lang="en-US" sz="2600" spc="-1" strike="noStrike">
              <a:solidFill>
                <a:srgbClr val="000000"/>
              </a:solidFill>
              <a:latin typeface="Calibri"/>
            </a:endParaRPr>
          </a:p>
        </p:txBody>
      </p:sp>
      <p:pic>
        <p:nvPicPr>
          <p:cNvPr id="229" name="图片 2" descr="red-point"/>
          <p:cNvPicPr/>
          <p:nvPr/>
        </p:nvPicPr>
        <p:blipFill>
          <a:blip r:embed="rId18"/>
          <a:stretch/>
        </p:blipFill>
        <p:spPr>
          <a:xfrm>
            <a:off x="4619520" y="3235320"/>
            <a:ext cx="517680" cy="431640"/>
          </a:xfrm>
          <a:prstGeom prst="rect">
            <a:avLst/>
          </a:prstGeom>
          <a:ln w="0">
            <a:noFill/>
          </a:ln>
        </p:spPr>
      </p:pic>
      <p:sp>
        <p:nvSpPr>
          <p:cNvPr id="230" name="TextBox 3"/>
          <p:cNvSpPr/>
          <p:nvPr/>
        </p:nvSpPr>
        <p:spPr>
          <a:xfrm>
            <a:off x="4645080" y="32288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231" name="Text Box 14">
            <a:hlinkClick r:id="rId19" action="ppaction://hlinksldjump"/>
          </p:cNvPr>
          <p:cNvSpPr/>
          <p:nvPr/>
        </p:nvSpPr>
        <p:spPr>
          <a:xfrm>
            <a:off x="5181480" y="383076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二部分</a:t>
            </a:r>
            <a:endParaRPr b="0" lang="en-US" sz="2600" spc="-1" strike="noStrike">
              <a:solidFill>
                <a:srgbClr val="000000"/>
              </a:solidFill>
              <a:latin typeface="Calibri"/>
            </a:endParaRPr>
          </a:p>
        </p:txBody>
      </p:sp>
      <p:pic>
        <p:nvPicPr>
          <p:cNvPr id="232" name="图片 2" descr="red-point"/>
          <p:cNvPicPr/>
          <p:nvPr/>
        </p:nvPicPr>
        <p:blipFill>
          <a:blip r:embed="rId20"/>
          <a:stretch/>
        </p:blipFill>
        <p:spPr>
          <a:xfrm>
            <a:off x="4619520" y="3862440"/>
            <a:ext cx="517680" cy="430200"/>
          </a:xfrm>
          <a:prstGeom prst="rect">
            <a:avLst/>
          </a:prstGeom>
          <a:ln w="0">
            <a:noFill/>
          </a:ln>
        </p:spPr>
      </p:pic>
      <p:sp>
        <p:nvSpPr>
          <p:cNvPr id="233" name="TextBox 3"/>
          <p:cNvSpPr/>
          <p:nvPr/>
        </p:nvSpPr>
        <p:spPr>
          <a:xfrm>
            <a:off x="4645080" y="385452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234" name="Text Box 14">
            <a:hlinkClick r:id="rId21" action="ppaction://hlinksldjump"/>
          </p:cNvPr>
          <p:cNvSpPr/>
          <p:nvPr/>
        </p:nvSpPr>
        <p:spPr>
          <a:xfrm>
            <a:off x="5181480" y="445788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三部分</a:t>
            </a:r>
            <a:endParaRPr b="0" lang="en-US" sz="2600" spc="-1" strike="noStrike">
              <a:solidFill>
                <a:srgbClr val="000000"/>
              </a:solidFill>
              <a:latin typeface="Calibri"/>
            </a:endParaRPr>
          </a:p>
        </p:txBody>
      </p:sp>
      <p:pic>
        <p:nvPicPr>
          <p:cNvPr id="235" name="图片 2" descr="red-point"/>
          <p:cNvPicPr/>
          <p:nvPr/>
        </p:nvPicPr>
        <p:blipFill>
          <a:blip r:embed="rId22"/>
          <a:stretch/>
        </p:blipFill>
        <p:spPr>
          <a:xfrm>
            <a:off x="4619520" y="4489560"/>
            <a:ext cx="517680" cy="431640"/>
          </a:xfrm>
          <a:prstGeom prst="rect">
            <a:avLst/>
          </a:prstGeom>
          <a:ln w="0">
            <a:noFill/>
          </a:ln>
        </p:spPr>
      </p:pic>
      <p:sp>
        <p:nvSpPr>
          <p:cNvPr id="236" name="TextBox 3"/>
          <p:cNvSpPr/>
          <p:nvPr/>
        </p:nvSpPr>
        <p:spPr>
          <a:xfrm>
            <a:off x="4645080" y="448308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237" name="Text Box 14">
            <a:hlinkClick r:id="rId23" action="ppaction://hlinksldjump"/>
          </p:cNvPr>
          <p:cNvSpPr/>
          <p:nvPr/>
        </p:nvSpPr>
        <p:spPr>
          <a:xfrm>
            <a:off x="5181480" y="508320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四部分</a:t>
            </a:r>
            <a:endParaRPr b="0" lang="en-US" sz="2600" spc="-1" strike="noStrike">
              <a:solidFill>
                <a:srgbClr val="000000"/>
              </a:solidFill>
              <a:latin typeface="Calibri"/>
            </a:endParaRPr>
          </a:p>
        </p:txBody>
      </p:sp>
      <p:pic>
        <p:nvPicPr>
          <p:cNvPr id="238" name="图片 2" descr="red-point"/>
          <p:cNvPicPr/>
          <p:nvPr/>
        </p:nvPicPr>
        <p:blipFill>
          <a:blip r:embed="rId24"/>
          <a:stretch/>
        </p:blipFill>
        <p:spPr>
          <a:xfrm>
            <a:off x="4619520" y="5114880"/>
            <a:ext cx="517680" cy="432000"/>
          </a:xfrm>
          <a:prstGeom prst="rect">
            <a:avLst/>
          </a:prstGeom>
          <a:ln w="0">
            <a:noFill/>
          </a:ln>
        </p:spPr>
      </p:pic>
      <p:sp>
        <p:nvSpPr>
          <p:cNvPr id="239" name="TextBox 3"/>
          <p:cNvSpPr/>
          <p:nvPr/>
        </p:nvSpPr>
        <p:spPr>
          <a:xfrm>
            <a:off x="4645080" y="51084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pic>
        <p:nvPicPr>
          <p:cNvPr id="240" name="Picture 36" descr="jindu-lan">
            <a:hlinkClick r:id="rId25" action="ppaction://hlinksldjump"/>
          </p:cNvPr>
          <p:cNvPicPr/>
          <p:nvPr/>
        </p:nvPicPr>
        <p:blipFill>
          <a:blip r:embed="rId26"/>
          <a:stretch/>
        </p:blipFill>
        <p:spPr>
          <a:xfrm>
            <a:off x="4106880" y="6370560"/>
            <a:ext cx="264960" cy="301680"/>
          </a:xfrm>
          <a:prstGeom prst="rect">
            <a:avLst/>
          </a:prstGeom>
          <a:ln w="0">
            <a:noFill/>
          </a:ln>
        </p:spPr>
      </p:pic>
      <p:pic>
        <p:nvPicPr>
          <p:cNvPr id="241" name="Picture 37" descr="jindu-lan">
            <a:hlinkClick r:id="rId27" action="ppaction://hlinksldjump"/>
          </p:cNvPr>
          <p:cNvPicPr/>
          <p:nvPr/>
        </p:nvPicPr>
        <p:blipFill>
          <a:blip r:embed="rId28"/>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62" dur="1000" fill="hold"/>
                                        <p:tgtEl>
                                          <p:spTgt spid="212"/>
                                        </p:tgtEl>
                                      </p:cBhvr>
                                    </p:animMotion>
                                  </p:childTnLst>
                                </p:cTn>
                              </p:par>
                            </p:childTnLst>
                          </p:cTn>
                        </p:par>
                        <p:par>
                          <p:cTn id="63" nodeType="afterEffect" fill="hold">
                            <p:stCondLst>
                              <p:cond delay="1000"/>
                            </p:stCondLst>
                            <p:childTnLst>
                              <p:par>
                                <p:cTn id="6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65" dur="1000" fill="hold"/>
                                        <p:tgtEl>
                                          <p:spTgt spid="2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bg"/>
          <p:cNvPicPr/>
          <p:nvPr/>
        </p:nvPicPr>
        <p:blipFill>
          <a:blip r:embed="rId1"/>
          <a:stretch/>
        </p:blipFill>
        <p:spPr>
          <a:xfrm>
            <a:off x="-46080" y="-11160"/>
            <a:ext cx="12250800" cy="6918480"/>
          </a:xfrm>
          <a:prstGeom prst="rect">
            <a:avLst/>
          </a:prstGeom>
          <a:ln w="0">
            <a:noFill/>
          </a:ln>
        </p:spPr>
      </p:pic>
      <p:sp>
        <p:nvSpPr>
          <p:cNvPr id="243"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44" name="Picture 4" descr="board"/>
          <p:cNvPicPr/>
          <p:nvPr/>
        </p:nvPicPr>
        <p:blipFill>
          <a:blip r:embed="rId2"/>
          <a:stretch/>
        </p:blipFill>
        <p:spPr>
          <a:xfrm>
            <a:off x="-44280" y="0"/>
            <a:ext cx="12228480" cy="6886440"/>
          </a:xfrm>
          <a:prstGeom prst="rect">
            <a:avLst/>
          </a:prstGeom>
          <a:ln w="0">
            <a:noFill/>
          </a:ln>
        </p:spPr>
      </p:pic>
      <p:sp>
        <p:nvSpPr>
          <p:cNvPr id="245"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总工作范围</a:t>
            </a:r>
            <a:endParaRPr b="0" lang="en-US" sz="2600" spc="-1" strike="noStrike">
              <a:solidFill>
                <a:srgbClr val="000000"/>
              </a:solidFill>
              <a:latin typeface="Calibri"/>
            </a:endParaRPr>
          </a:p>
        </p:txBody>
      </p:sp>
      <p:pic>
        <p:nvPicPr>
          <p:cNvPr id="246" name="Picture 6" descr="3"/>
          <p:cNvPicPr/>
          <p:nvPr/>
        </p:nvPicPr>
        <p:blipFill>
          <a:blip r:embed="rId3"/>
          <a:stretch/>
        </p:blipFill>
        <p:spPr>
          <a:xfrm>
            <a:off x="1938240" y="6273720"/>
            <a:ext cx="4603680" cy="490680"/>
          </a:xfrm>
          <a:prstGeom prst="rect">
            <a:avLst/>
          </a:prstGeom>
          <a:ln w="0">
            <a:noFill/>
          </a:ln>
        </p:spPr>
      </p:pic>
      <p:pic>
        <p:nvPicPr>
          <p:cNvPr id="24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48" name="铅笔" descr="qianbi"/>
          <p:cNvPicPr/>
          <p:nvPr/>
        </p:nvPicPr>
        <p:blipFill>
          <a:blip r:embed="rId5"/>
          <a:stretch/>
        </p:blipFill>
        <p:spPr>
          <a:xfrm>
            <a:off x="88920" y="6105600"/>
            <a:ext cx="847800" cy="720720"/>
          </a:xfrm>
          <a:prstGeom prst="rect">
            <a:avLst/>
          </a:prstGeom>
          <a:ln w="0">
            <a:noFill/>
          </a:ln>
        </p:spPr>
      </p:pic>
      <p:pic>
        <p:nvPicPr>
          <p:cNvPr id="249" name="Picture 9" descr="jindu-lan"/>
          <p:cNvPicPr/>
          <p:nvPr/>
        </p:nvPicPr>
        <p:blipFill>
          <a:blip r:embed="rId6"/>
          <a:stretch/>
        </p:blipFill>
        <p:spPr>
          <a:xfrm>
            <a:off x="5981760" y="6369120"/>
            <a:ext cx="264960" cy="303120"/>
          </a:xfrm>
          <a:prstGeom prst="rect">
            <a:avLst/>
          </a:prstGeom>
          <a:ln w="0">
            <a:noFill/>
          </a:ln>
        </p:spPr>
      </p:pic>
      <p:pic>
        <p:nvPicPr>
          <p:cNvPr id="250"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51"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52"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253"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graphicFrame>
        <p:nvGraphicFramePr>
          <p:cNvPr id="254" name=""/>
          <p:cNvGraphicFramePr/>
          <p:nvPr/>
        </p:nvGraphicFramePr>
        <p:xfrm>
          <a:off x="857160" y="1835280"/>
          <a:ext cx="5627880" cy="3054240"/>
        </p:xfrm>
        <a:graphic>
          <a:graphicData uri="http://schemas.openxmlformats.org/drawingml/2006/table">
            <a:tbl>
              <a:tblPr/>
              <a:tblGrid>
                <a:gridCol w="1535040"/>
                <a:gridCol w="2008440"/>
                <a:gridCol w="2084400"/>
              </a:tblGrid>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55" name="Picture 54" descr=""/>
          <p:cNvPicPr/>
          <p:nvPr/>
        </p:nvPicPr>
        <p:blipFill>
          <a:blip r:embed="rId12"/>
          <a:stretch/>
        </p:blipFill>
        <p:spPr>
          <a:xfrm>
            <a:off x="6603840" y="2028960"/>
            <a:ext cx="4826160" cy="2867040"/>
          </a:xfrm>
          <a:prstGeom prst="rect">
            <a:avLst/>
          </a:prstGeom>
          <a:ln w="0">
            <a:noFill/>
          </a:ln>
        </p:spPr>
      </p:pic>
      <p:pic>
        <p:nvPicPr>
          <p:cNvPr id="256" name="Picture 5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257" name="Picture 5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71" dur="1000" fill="hold"/>
                                        <p:tgtEl>
                                          <p:spTgt spid="247"/>
                                        </p:tgtEl>
                                      </p:cBhvr>
                                    </p:animMotion>
                                  </p:childTnLst>
                                </p:cTn>
                              </p:par>
                            </p:childTnLst>
                          </p:cTn>
                        </p:par>
                        <p:par>
                          <p:cTn id="72" nodeType="afterEffect" fill="hold">
                            <p:stCondLst>
                              <p:cond delay="1000"/>
                            </p:stCondLst>
                            <p:childTnLst>
                              <p:par>
                                <p:cTn id="7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74" dur="1000" fill="hold"/>
                                        <p:tgtEl>
                                          <p:spTgt spid="2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bg"/>
          <p:cNvPicPr/>
          <p:nvPr/>
        </p:nvPicPr>
        <p:blipFill>
          <a:blip r:embed="rId1"/>
          <a:stretch/>
        </p:blipFill>
        <p:spPr>
          <a:xfrm>
            <a:off x="-46080" y="-11160"/>
            <a:ext cx="12250800" cy="6918480"/>
          </a:xfrm>
          <a:prstGeom prst="rect">
            <a:avLst/>
          </a:prstGeom>
          <a:ln w="0">
            <a:noFill/>
          </a:ln>
        </p:spPr>
      </p:pic>
      <p:sp>
        <p:nvSpPr>
          <p:cNvPr id="25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60" name="Picture 4" descr="board"/>
          <p:cNvPicPr/>
          <p:nvPr/>
        </p:nvPicPr>
        <p:blipFill>
          <a:blip r:embed="rId2"/>
          <a:stretch/>
        </p:blipFill>
        <p:spPr>
          <a:xfrm>
            <a:off x="-44280" y="0"/>
            <a:ext cx="12228480" cy="6886440"/>
          </a:xfrm>
          <a:prstGeom prst="rect">
            <a:avLst/>
          </a:prstGeom>
          <a:ln w="0">
            <a:noFill/>
          </a:ln>
        </p:spPr>
      </p:pic>
      <p:sp>
        <p:nvSpPr>
          <p:cNvPr id="261" name="Text Box 14"/>
          <p:cNvSpPr/>
          <p:nvPr/>
        </p:nvSpPr>
        <p:spPr>
          <a:xfrm>
            <a:off x="1099800" y="0"/>
            <a:ext cx="3056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一部分</a:t>
            </a:r>
            <a:endParaRPr b="0" lang="en-US" sz="2600" spc="-1" strike="noStrike">
              <a:solidFill>
                <a:srgbClr val="000000"/>
              </a:solidFill>
              <a:latin typeface="Calibri"/>
            </a:endParaRPr>
          </a:p>
        </p:txBody>
      </p:sp>
      <p:pic>
        <p:nvPicPr>
          <p:cNvPr id="262" name="Picture 6" descr="3"/>
          <p:cNvPicPr/>
          <p:nvPr/>
        </p:nvPicPr>
        <p:blipFill>
          <a:blip r:embed="rId3"/>
          <a:stretch/>
        </p:blipFill>
        <p:spPr>
          <a:xfrm>
            <a:off x="1938240" y="6273720"/>
            <a:ext cx="4603680" cy="490680"/>
          </a:xfrm>
          <a:prstGeom prst="rect">
            <a:avLst/>
          </a:prstGeom>
          <a:ln w="0">
            <a:noFill/>
          </a:ln>
        </p:spPr>
      </p:pic>
      <p:pic>
        <p:nvPicPr>
          <p:cNvPr id="26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64" name="铅笔" descr="qianbi"/>
          <p:cNvPicPr/>
          <p:nvPr/>
        </p:nvPicPr>
        <p:blipFill>
          <a:blip r:embed="rId5"/>
          <a:stretch/>
        </p:blipFill>
        <p:spPr>
          <a:xfrm>
            <a:off x="88920" y="6105600"/>
            <a:ext cx="847800" cy="720720"/>
          </a:xfrm>
          <a:prstGeom prst="rect">
            <a:avLst/>
          </a:prstGeom>
          <a:ln w="0">
            <a:noFill/>
          </a:ln>
        </p:spPr>
      </p:pic>
      <p:pic>
        <p:nvPicPr>
          <p:cNvPr id="265" name="Picture 9" descr="jindu-lan"/>
          <p:cNvPicPr/>
          <p:nvPr/>
        </p:nvPicPr>
        <p:blipFill>
          <a:blip r:embed="rId6"/>
          <a:stretch/>
        </p:blipFill>
        <p:spPr>
          <a:xfrm>
            <a:off x="5981760" y="6369120"/>
            <a:ext cx="264960" cy="303120"/>
          </a:xfrm>
          <a:prstGeom prst="rect">
            <a:avLst/>
          </a:prstGeom>
          <a:ln w="0">
            <a:noFill/>
          </a:ln>
        </p:spPr>
      </p:pic>
      <p:pic>
        <p:nvPicPr>
          <p:cNvPr id="26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67"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68"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269"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70" name="Picture 44" descr=""/>
          <p:cNvPicPr/>
          <p:nvPr/>
        </p:nvPicPr>
        <p:blipFill>
          <a:blip r:embed="rId10"/>
          <a:stretch/>
        </p:blipFill>
        <p:spPr>
          <a:xfrm>
            <a:off x="8756640" y="4726080"/>
            <a:ext cx="2030400" cy="1220760"/>
          </a:xfrm>
          <a:prstGeom prst="rect">
            <a:avLst/>
          </a:prstGeom>
          <a:ln w="0">
            <a:noFill/>
          </a:ln>
        </p:spPr>
      </p:pic>
      <p:pic>
        <p:nvPicPr>
          <p:cNvPr id="271" name="Picture 45" descr=""/>
          <p:cNvPicPr/>
          <p:nvPr/>
        </p:nvPicPr>
        <p:blipFill>
          <a:blip r:embed="rId11"/>
          <a:stretch/>
        </p:blipFill>
        <p:spPr>
          <a:xfrm>
            <a:off x="646200" y="1747800"/>
            <a:ext cx="4489200" cy="2658960"/>
          </a:xfrm>
          <a:prstGeom prst="rect">
            <a:avLst/>
          </a:prstGeom>
          <a:ln w="0">
            <a:noFill/>
          </a:ln>
        </p:spPr>
      </p:pic>
      <p:pic>
        <p:nvPicPr>
          <p:cNvPr id="272"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273"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274"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80" dur="1000" fill="hold"/>
                                        <p:tgtEl>
                                          <p:spTgt spid="263"/>
                                        </p:tgtEl>
                                      </p:cBhvr>
                                    </p:animMotion>
                                  </p:childTnLst>
                                </p:cTn>
                              </p:par>
                            </p:childTnLst>
                          </p:cTn>
                        </p:par>
                        <p:par>
                          <p:cTn id="81" nodeType="afterEffect" fill="hold">
                            <p:stCondLst>
                              <p:cond delay="1000"/>
                            </p:stCondLst>
                            <p:childTnLst>
                              <p:par>
                                <p:cTn id="8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83" dur="1000" fill="hold"/>
                                        <p:tgtEl>
                                          <p:spTgt spid="26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cp:keywords/>
  <dc:language>en-US</dc:language>
  <cp:lastModifiedBy>Administrator</cp:lastModifiedBy>
  <dcterms:modified xsi:type="dcterms:W3CDTF">2015-03-03T01:35:3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