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ulim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0527-26CF-4B8E-973A-93CB2710D49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6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6AEC-E2D5-44B6-839F-3CD3C6C5F4A1}" type="slidenum">
              <a:rPr b="0" lang="zh-CN" sz="1200" spc="-1" strike="noStrike">
                <a:solidFill>
                  <a:srgbClr val="003300"/>
                </a:solidFill>
                <a:latin typeface="Gulim"/>
              </a:rPr>
              <a:t>&lt;number&gt;</a:t>
            </a:fld>
            <a:endParaRPr b="0" i="1" lang="en-US" sz="1200" spc="-1" strike="noStrike">
              <a:solidFill>
                <a:srgbClr val="003300"/>
              </a:solidFill>
              <a:latin typeface="Guli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45E8D-C7A8-4001-A98C-367B198718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1280" y="1523880"/>
            <a:ext cx="8076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11280" y="3952080"/>
            <a:ext cx="8076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D94FE-D95E-4363-8AB8-9A71169ADD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1280" y="1523880"/>
            <a:ext cx="3941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9840" y="1523880"/>
            <a:ext cx="3941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11280" y="3952080"/>
            <a:ext cx="3941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49840" y="3952080"/>
            <a:ext cx="3941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84602-C201-42D4-9B53-9EC8E23513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1280" y="152388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42240" y="152388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3560" y="152388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11280" y="395208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42240" y="395208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3560" y="395208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E6F55-A5BB-43BD-92E8-D2B0546ED5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85CDF-53AD-4B48-998D-E7208911B5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11280" y="152388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AD911-E81F-4080-B590-2FFA16B71C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1280" y="152388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2DB88-8ADD-4EAA-A9C1-8CDECF9884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1280" y="1523880"/>
            <a:ext cx="3941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49840" y="1523880"/>
            <a:ext cx="3941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1EF5B-2B06-47AC-B3F1-99D2D93B68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5ECD8-5972-4A0C-ACCC-A8C7F9EE07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28240" y="304920"/>
            <a:ext cx="79707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45342-2BCB-4A99-815D-248934A45D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523880"/>
            <a:ext cx="3941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9840" y="1523880"/>
            <a:ext cx="3941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11280" y="3952080"/>
            <a:ext cx="3941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BAC39-5D90-4B7A-8E4A-4271F50EF2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11280" y="152388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26350-D850-48A2-94E6-1857BD8E54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523880"/>
            <a:ext cx="3941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9840" y="1523880"/>
            <a:ext cx="3941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49840" y="3952080"/>
            <a:ext cx="3941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11A29-A5C0-498C-B343-323EA5F26F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523880"/>
            <a:ext cx="3941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9840" y="1523880"/>
            <a:ext cx="3941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1280" y="3952080"/>
            <a:ext cx="8076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3F154-6173-4812-BEC8-AF33CC23D3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523880"/>
            <a:ext cx="8076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11280" y="3952080"/>
            <a:ext cx="8076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C61A1-31E8-4D8C-94E6-48D415F0BE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523880"/>
            <a:ext cx="3941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9840" y="1523880"/>
            <a:ext cx="3941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1280" y="3952080"/>
            <a:ext cx="3941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49840" y="3952080"/>
            <a:ext cx="3941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B1DD4-29E4-4DAB-8D4F-3642E7AA75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152388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42240" y="152388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3560" y="152388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11280" y="395208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42240" y="395208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3560" y="395208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93B2B-E686-4BD3-950A-D897D62973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11280" y="152388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6DB7B-1900-4490-9E59-C653809491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1280" y="1523880"/>
            <a:ext cx="3941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49840" y="1523880"/>
            <a:ext cx="3941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0F50F-9665-4A51-A09A-09E00DA29B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D46C3-4583-45A7-A9BD-81B0D5BCF7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240" y="304920"/>
            <a:ext cx="79707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3E2AA-B7A6-40E3-8780-6A0BB0A92E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1280" y="1523880"/>
            <a:ext cx="3941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9840" y="1523880"/>
            <a:ext cx="3941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11280" y="3952080"/>
            <a:ext cx="3941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52942-F4B5-4BD2-A549-51D2FAC8C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1280" y="1523880"/>
            <a:ext cx="3941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9840" y="1523880"/>
            <a:ext cx="3941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49840" y="3952080"/>
            <a:ext cx="3941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09F63-4452-4949-A78B-E5E49773E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1280" y="1523880"/>
            <a:ext cx="3941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9840" y="1523880"/>
            <a:ext cx="39412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11280" y="3952080"/>
            <a:ext cx="8076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4E903-A792-403D-A957-BB903BFF12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52388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5620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19810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1981080" indent="-22860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1981080" indent="-22860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285040" y="6543720"/>
            <a:ext cx="765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41C8-5BF1-4550-AD18-97060D007B05}" type="slidenum">
              <a:rPr b="1" lang="zh-CN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11280" y="152388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5620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19810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1981080" indent="-22860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1981080" indent="-228600">
              <a:spcBef>
                <a:spcPts val="700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485200" y="6552720"/>
            <a:ext cx="658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7711-C22D-45F7-B415-222F0C75CC29}" type="slidenum">
              <a:rPr b="1" lang="zh-CN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920" y="1161360"/>
            <a:ext cx="7344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0" y="6324480"/>
            <a:ext cx="914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 Black"/>
              </a:rPr>
              <a:t>LOGO</a:t>
            </a:r>
            <a:endParaRPr b="0" i="1" lang="en-US" sz="1800" spc="-1" strike="noStrike">
              <a:solidFill>
                <a:srgbClr val="0033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11280" y="1523880"/>
            <a:ext cx="8075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33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Title 1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33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Title 2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33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Title 3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33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Title 4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33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Title 5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33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Title 6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33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Title 7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33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Title 8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33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Title 9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1280" y="152388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Competitors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You may want to allocate one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slide per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Strengths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Your strengths relative to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competi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Verdana"/>
              </a:rPr>
              <a:t>Weaknesses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Your weaknesses relative to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7467480" y="762120"/>
            <a:ext cx="1524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 Black"/>
              </a:rPr>
              <a:t>LOGO</a:t>
            </a:r>
            <a:endParaRPr b="0" i="1" lang="en-US" sz="1800" spc="-1" strike="noStrike">
              <a:solidFill>
                <a:srgbClr val="0033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Chart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3" name="Object 3"/>
          <p:cNvGraphicFramePr/>
          <p:nvPr/>
        </p:nvGraphicFramePr>
        <p:xfrm>
          <a:off x="2016000" y="1598760"/>
          <a:ext cx="557388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6000" y="1598760"/>
                    <a:ext cx="557388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Rectangle 4"/>
          <p:cNvSpPr/>
          <p:nvPr/>
        </p:nvSpPr>
        <p:spPr>
          <a:xfrm>
            <a:off x="7467480" y="762120"/>
            <a:ext cx="1524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 Black"/>
              </a:rPr>
              <a:t>LOGO</a:t>
            </a:r>
            <a:endParaRPr b="0" i="1" lang="en-US" sz="1800" spc="-1" strike="noStrike">
              <a:solidFill>
                <a:srgbClr val="0033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Diagram 1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AutoShape 3"/>
          <p:cNvSpPr/>
          <p:nvPr/>
        </p:nvSpPr>
        <p:spPr>
          <a:xfrm>
            <a:off x="533520" y="1676520"/>
            <a:ext cx="1752480" cy="45720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00b0f0"/>
              </a:gs>
            </a:gsLst>
            <a:lin ang="0"/>
          </a:gradFill>
          <a:ln w="316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Verdana"/>
                <a:ea typeface="바탕"/>
              </a:rPr>
              <a:t>TITLE</a:t>
            </a:r>
            <a:endParaRPr b="0" i="1" lang="en-US" sz="13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1905120" y="1676520"/>
            <a:ext cx="2514600" cy="45720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00b0f0"/>
              </a:gs>
            </a:gsLst>
            <a:lin ang="0"/>
          </a:gradFill>
          <a:ln w="316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zh-CN" sz="1300" spc="-1" strike="noStrike">
                <a:solidFill>
                  <a:srgbClr val="000000"/>
                </a:solidFill>
                <a:latin typeface="Verdana"/>
                <a:ea typeface="바탕"/>
              </a:rPr>
              <a:t>TITLE</a:t>
            </a:r>
            <a:endParaRPr b="0" i="1" lang="en-US" sz="13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4038480" y="1676520"/>
            <a:ext cx="2514600" cy="45720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00b0f0"/>
              </a:gs>
            </a:gsLst>
            <a:lin ang="0"/>
          </a:gradFill>
          <a:ln w="316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zh-CN" sz="1300" spc="-1" strike="noStrike">
                <a:solidFill>
                  <a:srgbClr val="000000"/>
                </a:solidFill>
                <a:latin typeface="Verdana"/>
                <a:ea typeface="바탕"/>
              </a:rPr>
              <a:t>TITLE</a:t>
            </a:r>
            <a:endParaRPr b="0" i="1" lang="en-US" sz="13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6172200" y="1676520"/>
            <a:ext cx="2514600" cy="45720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00b0f0"/>
              </a:gs>
            </a:gsLst>
            <a:lin ang="0"/>
          </a:gradFill>
          <a:ln w="316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zh-CN" sz="1300" spc="-1" strike="noStrike">
                <a:solidFill>
                  <a:srgbClr val="000000"/>
                </a:solidFill>
                <a:latin typeface="Verdana"/>
                <a:ea typeface="바탕"/>
              </a:rPr>
              <a:t>TITLE</a:t>
            </a:r>
            <a:endParaRPr b="0" i="1" lang="en-US" sz="13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01" name="Line 7"/>
          <p:cNvSpPr/>
          <p:nvPr/>
        </p:nvSpPr>
        <p:spPr>
          <a:xfrm>
            <a:off x="533520" y="2209680"/>
            <a:ext cx="0" cy="3276720"/>
          </a:xfrm>
          <a:prstGeom prst="line">
            <a:avLst/>
          </a:prstGeom>
          <a:ln w="28440">
            <a:solidFill>
              <a:srgbClr val="878fa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1981080" y="2209680"/>
            <a:ext cx="0" cy="3276720"/>
          </a:xfrm>
          <a:prstGeom prst="line">
            <a:avLst/>
          </a:prstGeom>
          <a:ln w="28440">
            <a:solidFill>
              <a:srgbClr val="878fa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4038480" y="2209680"/>
            <a:ext cx="0" cy="3276720"/>
          </a:xfrm>
          <a:prstGeom prst="line">
            <a:avLst/>
          </a:prstGeom>
          <a:ln w="28440">
            <a:solidFill>
              <a:srgbClr val="878fa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04" name="Line 10"/>
          <p:cNvSpPr/>
          <p:nvPr/>
        </p:nvSpPr>
        <p:spPr>
          <a:xfrm>
            <a:off x="6172200" y="2209680"/>
            <a:ext cx="0" cy="3276720"/>
          </a:xfrm>
          <a:prstGeom prst="line">
            <a:avLst/>
          </a:prstGeom>
          <a:ln w="28440">
            <a:solidFill>
              <a:srgbClr val="878fa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8686800" y="1981080"/>
            <a:ext cx="0" cy="3505320"/>
          </a:xfrm>
          <a:prstGeom prst="line">
            <a:avLst/>
          </a:prstGeom>
          <a:ln w="28440">
            <a:solidFill>
              <a:srgbClr val="878fa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762120" y="2362320"/>
            <a:ext cx="106668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i="1" lang="en-US" sz="1500" spc="-1" strike="noStrike">
              <a:solidFill>
                <a:srgbClr val="0033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i="1" lang="en-US" sz="1500" spc="-1" strike="noStrike">
              <a:solidFill>
                <a:srgbClr val="0033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i="1" lang="en-US" sz="1500" spc="-1" strike="noStrike">
              <a:solidFill>
                <a:srgbClr val="0033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i="1" lang="en-US" sz="1500" spc="-1" strike="noStrike">
              <a:solidFill>
                <a:srgbClr val="0033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i="1" lang="en-US" sz="1500" spc="-1" strike="noStrike">
              <a:solidFill>
                <a:srgbClr val="0033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i="1" lang="en-US" sz="1500" spc="-1" strike="noStrike">
              <a:solidFill>
                <a:srgbClr val="0033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2209680" y="2362320"/>
            <a:ext cx="106704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i="1" lang="en-US" sz="1500" spc="-1" strike="noStrike">
              <a:solidFill>
                <a:srgbClr val="0033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i="1" lang="en-US" sz="1500" spc="-1" strike="noStrike">
              <a:solidFill>
                <a:srgbClr val="0033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i="1" lang="en-US" sz="1500" spc="-1" strike="noStrike">
              <a:solidFill>
                <a:srgbClr val="0033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i="1" lang="en-US" sz="1500" spc="-1" strike="noStrike">
              <a:solidFill>
                <a:srgbClr val="0033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i="1" lang="en-US" sz="1500" spc="-1" strike="noStrike">
              <a:solidFill>
                <a:srgbClr val="0033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i="1" lang="en-US" sz="1500" spc="-1" strike="noStrike">
              <a:solidFill>
                <a:srgbClr val="0033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4267080" y="2362320"/>
            <a:ext cx="106704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i="1" lang="en-US" sz="1500" spc="-1" strike="noStrike">
              <a:solidFill>
                <a:srgbClr val="0033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i="1" lang="en-US" sz="1500" spc="-1" strike="noStrike">
              <a:solidFill>
                <a:srgbClr val="0033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i="1" lang="en-US" sz="1500" spc="-1" strike="noStrike">
              <a:solidFill>
                <a:srgbClr val="0033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i="1" lang="en-US" sz="1500" spc="-1" strike="noStrike">
              <a:solidFill>
                <a:srgbClr val="0033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i="1" lang="en-US" sz="1500" spc="-1" strike="noStrike">
              <a:solidFill>
                <a:srgbClr val="0033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i="1" lang="en-US" sz="1500" spc="-1" strike="noStrike">
              <a:solidFill>
                <a:srgbClr val="0033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6386400" y="2362320"/>
            <a:ext cx="106704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i="1" lang="en-US" sz="1500" spc="-1" strike="noStrike">
              <a:solidFill>
                <a:srgbClr val="0033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i="1" lang="en-US" sz="1500" spc="-1" strike="noStrike">
              <a:solidFill>
                <a:srgbClr val="0033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i="1" lang="en-US" sz="1500" spc="-1" strike="noStrike">
              <a:solidFill>
                <a:srgbClr val="0033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i="1" lang="en-US" sz="1500" spc="-1" strike="noStrike">
              <a:solidFill>
                <a:srgbClr val="0033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i="1" lang="en-US" sz="1500" spc="-1" strike="noStrike">
              <a:solidFill>
                <a:srgbClr val="0033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i="1" lang="en-US" sz="1500" spc="-1" strike="noStrike">
              <a:solidFill>
                <a:srgbClr val="003300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7467480" y="762120"/>
            <a:ext cx="1524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 Black"/>
              </a:rPr>
              <a:t>LOGO</a:t>
            </a:r>
            <a:endParaRPr b="0" i="1" lang="en-US" sz="18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11" name="Line 17"/>
          <p:cNvSpPr/>
          <p:nvPr/>
        </p:nvSpPr>
        <p:spPr>
          <a:xfrm>
            <a:off x="533520" y="5486400"/>
            <a:ext cx="8153280" cy="0"/>
          </a:xfrm>
          <a:prstGeom prst="line">
            <a:avLst/>
          </a:prstGeom>
          <a:ln w="25560">
            <a:solidFill>
              <a:srgbClr val="878f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33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79707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Diagram 2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Oval 3"/>
          <p:cNvSpPr/>
          <p:nvPr/>
        </p:nvSpPr>
        <p:spPr>
          <a:xfrm>
            <a:off x="3200400" y="2666880"/>
            <a:ext cx="2362320" cy="236232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14" name="Oval 4"/>
          <p:cNvSpPr/>
          <p:nvPr/>
        </p:nvSpPr>
        <p:spPr>
          <a:xfrm>
            <a:off x="3657600" y="1905120"/>
            <a:ext cx="1447920" cy="144756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00b0f0"/>
              </a:gs>
            </a:gsLst>
            <a:lin ang="2700000"/>
          </a:gra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2514600" y="3809880"/>
            <a:ext cx="1447920" cy="144792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00b0f0"/>
              </a:gs>
            </a:gsLst>
            <a:lin ang="2700000"/>
          </a:gra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4952880" y="3809880"/>
            <a:ext cx="1447920" cy="144792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00b0f0"/>
              </a:gs>
            </a:gsLst>
            <a:lin ang="2700000"/>
          </a:gra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961800" y="24433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Title 1</a:t>
            </a:r>
            <a:endParaRPr b="0" i="1" lang="en-US" sz="18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2795040" y="43178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Title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2</a:t>
            </a:r>
            <a:endParaRPr b="0" i="1" lang="en-US" sz="18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5260320" y="4335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Title 3</a:t>
            </a:r>
            <a:endParaRPr b="0" i="1" lang="en-US" sz="18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257800" y="2057400"/>
            <a:ext cx="2895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Sub Title 1</a:t>
            </a:r>
            <a:endParaRPr b="0" i="1" lang="en-US" sz="1800" spc="-1" strike="noStrike">
              <a:solidFill>
                <a:srgbClr val="0033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lick to edit sub text</a:t>
            </a:r>
            <a:endParaRPr b="0" i="1" lang="en-US" sz="1800" spc="-1" strike="noStrike">
              <a:solidFill>
                <a:srgbClr val="0033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14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152280" y="472428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Sub Title 2</a:t>
            </a:r>
            <a:endParaRPr b="0" i="1" lang="en-US" sz="1800" spc="-1" strike="noStrike">
              <a:solidFill>
                <a:srgbClr val="0033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lick to edit sub text</a:t>
            </a:r>
            <a:endParaRPr b="0" i="1" lang="en-US" sz="1800" spc="-1" strike="noStrike">
              <a:solidFill>
                <a:srgbClr val="0033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14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6477120" y="464832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Sub Title 3</a:t>
            </a:r>
            <a:endParaRPr b="0" i="1" lang="en-US" sz="1800" spc="-1" strike="noStrike">
              <a:solidFill>
                <a:srgbClr val="0033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lick to edit sub text</a:t>
            </a:r>
            <a:endParaRPr b="0" i="1" lang="en-US" sz="1800" spc="-1" strike="noStrike">
              <a:solidFill>
                <a:srgbClr val="0033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14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7467480" y="762120"/>
            <a:ext cx="1524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 Black"/>
              </a:rPr>
              <a:t>LOGO</a:t>
            </a:r>
            <a:endParaRPr b="0" i="1" lang="en-US" sz="1800" spc="-1" strike="noStrike">
              <a:solidFill>
                <a:srgbClr val="0033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30"/>
          <p:cNvSpPr/>
          <p:nvPr/>
        </p:nvSpPr>
        <p:spPr>
          <a:xfrm>
            <a:off x="1450800" y="3954600"/>
            <a:ext cx="46080" cy="1684080"/>
          </a:xfrm>
          <a:prstGeom prst="rect">
            <a:avLst/>
          </a:prstGeom>
          <a:solidFill>
            <a:srgbClr val="30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25" name="矩形 31"/>
          <p:cNvSpPr/>
          <p:nvPr/>
        </p:nvSpPr>
        <p:spPr>
          <a:xfrm>
            <a:off x="2495520" y="3638520"/>
            <a:ext cx="44640" cy="2000160"/>
          </a:xfrm>
          <a:prstGeom prst="rect">
            <a:avLst/>
          </a:prstGeom>
          <a:solidFill>
            <a:srgbClr val="30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26" name="矩形 32"/>
          <p:cNvSpPr/>
          <p:nvPr/>
        </p:nvSpPr>
        <p:spPr>
          <a:xfrm>
            <a:off x="3537000" y="2876400"/>
            <a:ext cx="44280" cy="2762280"/>
          </a:xfrm>
          <a:prstGeom prst="rect">
            <a:avLst/>
          </a:prstGeom>
          <a:solidFill>
            <a:srgbClr val="30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27" name="矩形 33"/>
          <p:cNvSpPr/>
          <p:nvPr/>
        </p:nvSpPr>
        <p:spPr>
          <a:xfrm>
            <a:off x="4579920" y="3382920"/>
            <a:ext cx="46080" cy="2255760"/>
          </a:xfrm>
          <a:prstGeom prst="rect">
            <a:avLst/>
          </a:prstGeom>
          <a:solidFill>
            <a:srgbClr val="30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28" name="矩形 34"/>
          <p:cNvSpPr/>
          <p:nvPr/>
        </p:nvSpPr>
        <p:spPr>
          <a:xfrm>
            <a:off x="5626080" y="3265560"/>
            <a:ext cx="44640" cy="2373120"/>
          </a:xfrm>
          <a:prstGeom prst="rect">
            <a:avLst/>
          </a:prstGeom>
          <a:solidFill>
            <a:srgbClr val="30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29" name="矩形 35"/>
          <p:cNvSpPr/>
          <p:nvPr/>
        </p:nvSpPr>
        <p:spPr>
          <a:xfrm>
            <a:off x="6669000" y="2854440"/>
            <a:ext cx="46080" cy="2784240"/>
          </a:xfrm>
          <a:prstGeom prst="rect">
            <a:avLst/>
          </a:prstGeom>
          <a:solidFill>
            <a:srgbClr val="30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30" name="矩形 39"/>
          <p:cNvSpPr/>
          <p:nvPr/>
        </p:nvSpPr>
        <p:spPr>
          <a:xfrm>
            <a:off x="7711920" y="2416320"/>
            <a:ext cx="46080" cy="3222360"/>
          </a:xfrm>
          <a:prstGeom prst="rect">
            <a:avLst/>
          </a:prstGeom>
          <a:solidFill>
            <a:srgbClr val="30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31" name="圆角矩形 26"/>
          <p:cNvSpPr/>
          <p:nvPr/>
        </p:nvSpPr>
        <p:spPr>
          <a:xfrm>
            <a:off x="1122480" y="3624120"/>
            <a:ext cx="698400" cy="698760"/>
          </a:xfrm>
          <a:custGeom>
            <a:avLst/>
            <a:gdLst>
              <a:gd name="textAreaLeft" fmla="*/ 20520 w 698400"/>
              <a:gd name="textAreaRight" fmla="*/ 677880 w 698400"/>
              <a:gd name="textAreaTop" fmla="*/ 20520 h 698760"/>
              <a:gd name="textAreaBottom" fmla="*/ 678240 h 698760"/>
            </a:gdLst>
            <a:ahLst/>
            <a:rect l="textAreaLeft" t="textAreaTop" r="textAreaRight" b="textAreaBottom"/>
            <a:pathLst>
              <a:path w="21600" h="21611">
                <a:moveTo>
                  <a:pt x="2203" y="0"/>
                </a:moveTo>
                <a:arcTo wR="2203" hR="2203" stAng="16200000" swAng="-5400000"/>
                <a:lnTo>
                  <a:pt x="0" y="19408"/>
                </a:lnTo>
                <a:arcTo wR="2203" hR="2203" stAng="10800000" swAng="-5400000"/>
                <a:lnTo>
                  <a:pt x="19397" y="21611"/>
                </a:lnTo>
                <a:arcTo wR="2203" hR="2203" stAng="5400000" swAng="-5400000"/>
                <a:lnTo>
                  <a:pt x="21600" y="2203"/>
                </a:lnTo>
                <a:arcTo wR="2203" hR="2203" stAng="0" swAng="-5400000"/>
                <a:close/>
              </a:path>
            </a:pathLst>
          </a:custGeom>
          <a:solidFill>
            <a:srgbClr val="30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32" name="圆角矩形 27"/>
          <p:cNvSpPr/>
          <p:nvPr/>
        </p:nvSpPr>
        <p:spPr>
          <a:xfrm>
            <a:off x="1166760" y="3668760"/>
            <a:ext cx="609480" cy="609480"/>
          </a:xfrm>
          <a:prstGeom prst="roundRect">
            <a:avLst>
              <a:gd name="adj" fmla="val 10199"/>
            </a:avLst>
          </a:prstGeom>
          <a:solidFill>
            <a:srgbClr val="30c6c6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微软雅黑"/>
              </a:rPr>
              <a:t>27</a:t>
            </a:r>
            <a:endParaRPr b="0" i="1" lang="en-US" sz="24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33" name="圆角矩形 37"/>
          <p:cNvSpPr/>
          <p:nvPr/>
        </p:nvSpPr>
        <p:spPr>
          <a:xfrm>
            <a:off x="2166840" y="3191040"/>
            <a:ext cx="698760" cy="698400"/>
          </a:xfrm>
          <a:prstGeom prst="roundRect">
            <a:avLst>
              <a:gd name="adj" fmla="val 10199"/>
            </a:avLst>
          </a:prstGeom>
          <a:solidFill>
            <a:srgbClr val="30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34" name="圆角矩形 38"/>
          <p:cNvSpPr/>
          <p:nvPr/>
        </p:nvSpPr>
        <p:spPr>
          <a:xfrm>
            <a:off x="2211480" y="3235320"/>
            <a:ext cx="609480" cy="609480"/>
          </a:xfrm>
          <a:prstGeom prst="roundRect">
            <a:avLst>
              <a:gd name="adj" fmla="val 10199"/>
            </a:avLst>
          </a:prstGeom>
          <a:solidFill>
            <a:srgbClr val="30c6c6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微软雅黑"/>
              </a:rPr>
              <a:t>33</a:t>
            </a:r>
            <a:endParaRPr b="0" i="1" lang="en-US" sz="24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35" name="圆角矩形 41"/>
          <p:cNvSpPr/>
          <p:nvPr/>
        </p:nvSpPr>
        <p:spPr>
          <a:xfrm>
            <a:off x="3209760" y="2432160"/>
            <a:ext cx="698760" cy="698400"/>
          </a:xfrm>
          <a:prstGeom prst="roundRect">
            <a:avLst>
              <a:gd name="adj" fmla="val 10199"/>
            </a:avLst>
          </a:prstGeom>
          <a:solidFill>
            <a:srgbClr val="30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36" name="圆角矩形 42"/>
          <p:cNvSpPr/>
          <p:nvPr/>
        </p:nvSpPr>
        <p:spPr>
          <a:xfrm>
            <a:off x="3254400" y="2476440"/>
            <a:ext cx="609480" cy="609840"/>
          </a:xfrm>
          <a:custGeom>
            <a:avLst/>
            <a:gdLst>
              <a:gd name="textAreaLeft" fmla="*/ 18000 w 609480"/>
              <a:gd name="textAreaRight" fmla="*/ 591480 w 609480"/>
              <a:gd name="textAreaTop" fmla="*/ 18000 h 609840"/>
              <a:gd name="textAreaBottom" fmla="*/ 591840 h 609840"/>
            </a:gdLst>
            <a:ahLst/>
            <a:rect l="textAreaLeft" t="textAreaTop" r="textAreaRight" b="textAreaBottom"/>
            <a:pathLst>
              <a:path w="21600" h="21613">
                <a:moveTo>
                  <a:pt x="2203" y="0"/>
                </a:moveTo>
                <a:arcTo wR="2203" hR="2203" stAng="16200000" swAng="-5400000"/>
                <a:lnTo>
                  <a:pt x="0" y="19410"/>
                </a:lnTo>
                <a:arcTo wR="2203" hR="2203" stAng="10800000" swAng="-5400000"/>
                <a:lnTo>
                  <a:pt x="19397" y="21613"/>
                </a:lnTo>
                <a:arcTo wR="2203" hR="2203" stAng="5400000" swAng="-5400000"/>
                <a:lnTo>
                  <a:pt x="21600" y="2203"/>
                </a:lnTo>
                <a:arcTo wR="2203" hR="2203" stAng="0" swAng="-5400000"/>
                <a:close/>
              </a:path>
            </a:pathLst>
          </a:custGeom>
          <a:solidFill>
            <a:srgbClr val="30c6c6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微软雅黑"/>
              </a:rPr>
              <a:t>45</a:t>
            </a:r>
            <a:endParaRPr b="0" i="1" lang="en-US" sz="24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37" name="圆角矩形 45"/>
          <p:cNvSpPr/>
          <p:nvPr/>
        </p:nvSpPr>
        <p:spPr>
          <a:xfrm>
            <a:off x="4253040" y="2859120"/>
            <a:ext cx="698400" cy="698400"/>
          </a:xfrm>
          <a:prstGeom prst="roundRect">
            <a:avLst>
              <a:gd name="adj" fmla="val 10199"/>
            </a:avLst>
          </a:prstGeom>
          <a:solidFill>
            <a:srgbClr val="30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38" name="圆角矩形 46"/>
          <p:cNvSpPr/>
          <p:nvPr/>
        </p:nvSpPr>
        <p:spPr>
          <a:xfrm>
            <a:off x="4297320" y="2903400"/>
            <a:ext cx="609480" cy="609840"/>
          </a:xfrm>
          <a:custGeom>
            <a:avLst/>
            <a:gdLst>
              <a:gd name="textAreaLeft" fmla="*/ 18000 w 609480"/>
              <a:gd name="textAreaRight" fmla="*/ 591480 w 609480"/>
              <a:gd name="textAreaTop" fmla="*/ 18000 h 609840"/>
              <a:gd name="textAreaBottom" fmla="*/ 591840 h 609840"/>
            </a:gdLst>
            <a:ahLst/>
            <a:rect l="textAreaLeft" t="textAreaTop" r="textAreaRight" b="textAreaBottom"/>
            <a:pathLst>
              <a:path w="21600" h="21613">
                <a:moveTo>
                  <a:pt x="2203" y="0"/>
                </a:moveTo>
                <a:arcTo wR="2203" hR="2203" stAng="16200000" swAng="-5400000"/>
                <a:lnTo>
                  <a:pt x="0" y="19410"/>
                </a:lnTo>
                <a:arcTo wR="2203" hR="2203" stAng="10800000" swAng="-5400000"/>
                <a:lnTo>
                  <a:pt x="19397" y="21613"/>
                </a:lnTo>
                <a:arcTo wR="2203" hR="2203" stAng="5400000" swAng="-5400000"/>
                <a:lnTo>
                  <a:pt x="21600" y="2203"/>
                </a:lnTo>
                <a:arcTo wR="2203" hR="2203" stAng="0" swAng="-5400000"/>
                <a:close/>
              </a:path>
            </a:pathLst>
          </a:custGeom>
          <a:solidFill>
            <a:srgbClr val="30c6c6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微软雅黑"/>
              </a:rPr>
              <a:t>38</a:t>
            </a:r>
            <a:endParaRPr b="0" i="1" lang="en-US" sz="24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39" name="圆角矩形 49"/>
          <p:cNvSpPr/>
          <p:nvPr/>
        </p:nvSpPr>
        <p:spPr>
          <a:xfrm>
            <a:off x="5297400" y="2700360"/>
            <a:ext cx="698760" cy="698400"/>
          </a:xfrm>
          <a:prstGeom prst="roundRect">
            <a:avLst>
              <a:gd name="adj" fmla="val 10199"/>
            </a:avLst>
          </a:prstGeom>
          <a:solidFill>
            <a:srgbClr val="30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40" name="圆角矩形 50"/>
          <p:cNvSpPr/>
          <p:nvPr/>
        </p:nvSpPr>
        <p:spPr>
          <a:xfrm>
            <a:off x="5342040" y="2744640"/>
            <a:ext cx="609480" cy="609840"/>
          </a:xfrm>
          <a:custGeom>
            <a:avLst/>
            <a:gdLst>
              <a:gd name="textAreaLeft" fmla="*/ 18000 w 609480"/>
              <a:gd name="textAreaRight" fmla="*/ 591480 w 609480"/>
              <a:gd name="textAreaTop" fmla="*/ 18000 h 609840"/>
              <a:gd name="textAreaBottom" fmla="*/ 591840 h 609840"/>
            </a:gdLst>
            <a:ahLst/>
            <a:rect l="textAreaLeft" t="textAreaTop" r="textAreaRight" b="textAreaBottom"/>
            <a:pathLst>
              <a:path w="21600" h="21613">
                <a:moveTo>
                  <a:pt x="2203" y="0"/>
                </a:moveTo>
                <a:arcTo wR="2203" hR="2203" stAng="16200000" swAng="-5400000"/>
                <a:lnTo>
                  <a:pt x="0" y="19410"/>
                </a:lnTo>
                <a:arcTo wR="2203" hR="2203" stAng="10800000" swAng="-5400000"/>
                <a:lnTo>
                  <a:pt x="19397" y="21613"/>
                </a:lnTo>
                <a:arcTo wR="2203" hR="2203" stAng="5400000" swAng="-5400000"/>
                <a:lnTo>
                  <a:pt x="21600" y="2203"/>
                </a:lnTo>
                <a:arcTo wR="2203" hR="2203" stAng="0" swAng="-5400000"/>
                <a:close/>
              </a:path>
            </a:pathLst>
          </a:custGeom>
          <a:solidFill>
            <a:srgbClr val="30c6c6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微软雅黑"/>
              </a:rPr>
              <a:t>40</a:t>
            </a:r>
            <a:endParaRPr b="0" i="1" lang="en-US" sz="24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41" name="圆角矩形 53"/>
          <p:cNvSpPr/>
          <p:nvPr/>
        </p:nvSpPr>
        <p:spPr>
          <a:xfrm>
            <a:off x="6340320" y="2367000"/>
            <a:ext cx="698760" cy="698400"/>
          </a:xfrm>
          <a:prstGeom prst="roundRect">
            <a:avLst>
              <a:gd name="adj" fmla="val 10199"/>
            </a:avLst>
          </a:prstGeom>
          <a:solidFill>
            <a:srgbClr val="30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42" name="圆角矩形 54"/>
          <p:cNvSpPr/>
          <p:nvPr/>
        </p:nvSpPr>
        <p:spPr>
          <a:xfrm>
            <a:off x="6384960" y="2411280"/>
            <a:ext cx="609480" cy="609840"/>
          </a:xfrm>
          <a:custGeom>
            <a:avLst/>
            <a:gdLst>
              <a:gd name="textAreaLeft" fmla="*/ 18000 w 609480"/>
              <a:gd name="textAreaRight" fmla="*/ 591480 w 609480"/>
              <a:gd name="textAreaTop" fmla="*/ 18000 h 609840"/>
              <a:gd name="textAreaBottom" fmla="*/ 591840 h 609840"/>
            </a:gdLst>
            <a:ahLst/>
            <a:rect l="textAreaLeft" t="textAreaTop" r="textAreaRight" b="textAreaBottom"/>
            <a:pathLst>
              <a:path w="21600" h="21613">
                <a:moveTo>
                  <a:pt x="2203" y="0"/>
                </a:moveTo>
                <a:arcTo wR="2203" hR="2203" stAng="16200000" swAng="-5400000"/>
                <a:lnTo>
                  <a:pt x="0" y="19410"/>
                </a:lnTo>
                <a:arcTo wR="2203" hR="2203" stAng="10800000" swAng="-5400000"/>
                <a:lnTo>
                  <a:pt x="19397" y="21613"/>
                </a:lnTo>
                <a:arcTo wR="2203" hR="2203" stAng="5400000" swAng="-5400000"/>
                <a:lnTo>
                  <a:pt x="21600" y="2203"/>
                </a:lnTo>
                <a:arcTo wR="2203" hR="2203" stAng="0" swAng="-5400000"/>
                <a:close/>
              </a:path>
            </a:pathLst>
          </a:custGeom>
          <a:solidFill>
            <a:srgbClr val="30c6c6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微软雅黑"/>
              </a:rPr>
              <a:t>45</a:t>
            </a:r>
            <a:endParaRPr b="0" i="1" lang="en-US" sz="24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43" name="圆角矩形 57"/>
          <p:cNvSpPr/>
          <p:nvPr/>
        </p:nvSpPr>
        <p:spPr>
          <a:xfrm>
            <a:off x="7383600" y="1862280"/>
            <a:ext cx="698400" cy="698400"/>
          </a:xfrm>
          <a:prstGeom prst="roundRect">
            <a:avLst>
              <a:gd name="adj" fmla="val 10199"/>
            </a:avLst>
          </a:prstGeom>
          <a:solidFill>
            <a:srgbClr val="30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44" name="圆角矩形 58"/>
          <p:cNvSpPr/>
          <p:nvPr/>
        </p:nvSpPr>
        <p:spPr>
          <a:xfrm>
            <a:off x="7427880" y="1906560"/>
            <a:ext cx="609480" cy="609480"/>
          </a:xfrm>
          <a:prstGeom prst="roundRect">
            <a:avLst>
              <a:gd name="adj" fmla="val 10199"/>
            </a:avLst>
          </a:prstGeom>
          <a:solidFill>
            <a:srgbClr val="30c6c6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微软雅黑"/>
              </a:rPr>
              <a:t>52</a:t>
            </a:r>
            <a:endParaRPr b="0" i="1" lang="en-US" sz="24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45" name="文本框 61"/>
          <p:cNvSpPr/>
          <p:nvPr/>
        </p:nvSpPr>
        <p:spPr>
          <a:xfrm>
            <a:off x="1042920" y="570708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3918e"/>
                </a:solidFill>
                <a:latin typeface="微软雅黑"/>
                <a:ea typeface="宋体"/>
              </a:rPr>
              <a:t>number7</a:t>
            </a:r>
            <a:endParaRPr b="0" i="1" lang="en-US" sz="1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46" name="文本框 63"/>
          <p:cNvSpPr/>
          <p:nvPr/>
        </p:nvSpPr>
        <p:spPr>
          <a:xfrm>
            <a:off x="2168640" y="5707080"/>
            <a:ext cx="96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3918e"/>
                </a:solidFill>
                <a:latin typeface="微软雅黑"/>
                <a:ea typeface="宋体"/>
              </a:rPr>
              <a:t>number6</a:t>
            </a:r>
            <a:endParaRPr b="0" i="1" lang="en-US" sz="1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47" name="文本框 64"/>
          <p:cNvSpPr/>
          <p:nvPr/>
        </p:nvSpPr>
        <p:spPr>
          <a:xfrm>
            <a:off x="3209760" y="5707080"/>
            <a:ext cx="93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3918e"/>
                </a:solidFill>
                <a:latin typeface="微软雅黑"/>
                <a:ea typeface="宋体"/>
              </a:rPr>
              <a:t>number5</a:t>
            </a:r>
            <a:endParaRPr b="0" i="1" lang="en-US" sz="1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48" name="文本框 65"/>
          <p:cNvSpPr/>
          <p:nvPr/>
        </p:nvSpPr>
        <p:spPr>
          <a:xfrm>
            <a:off x="4253040" y="5707080"/>
            <a:ext cx="89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3918e"/>
                </a:solidFill>
                <a:latin typeface="微软雅黑"/>
                <a:ea typeface="宋体"/>
              </a:rPr>
              <a:t>number4</a:t>
            </a:r>
            <a:endParaRPr b="0" i="1" lang="en-US" sz="1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49" name="文本框 66"/>
          <p:cNvSpPr/>
          <p:nvPr/>
        </p:nvSpPr>
        <p:spPr>
          <a:xfrm>
            <a:off x="5299200" y="5707080"/>
            <a:ext cx="85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3918e"/>
                </a:solidFill>
                <a:latin typeface="微软雅黑"/>
                <a:ea typeface="宋体"/>
              </a:rPr>
              <a:t>number3</a:t>
            </a:r>
            <a:endParaRPr b="0" i="1" lang="en-US" sz="1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50" name="文本框 67"/>
          <p:cNvSpPr/>
          <p:nvPr/>
        </p:nvSpPr>
        <p:spPr>
          <a:xfrm>
            <a:off x="6342120" y="5707080"/>
            <a:ext cx="89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3918e"/>
                </a:solidFill>
                <a:latin typeface="微软雅黑"/>
                <a:ea typeface="宋体"/>
              </a:rPr>
              <a:t>number2</a:t>
            </a:r>
            <a:endParaRPr b="0" i="1" lang="en-US" sz="1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51" name="文本框 68"/>
          <p:cNvSpPr/>
          <p:nvPr/>
        </p:nvSpPr>
        <p:spPr>
          <a:xfrm>
            <a:off x="7385040" y="570708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3918e"/>
                </a:solidFill>
                <a:latin typeface="微软雅黑"/>
                <a:ea typeface="宋体"/>
              </a:rPr>
              <a:t>number1</a:t>
            </a:r>
            <a:endParaRPr b="0" i="1" lang="en-US" sz="1200" spc="-1" strike="noStrike">
              <a:solidFill>
                <a:srgbClr val="003300"/>
              </a:solidFill>
              <a:latin typeface="Gulim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Diagram 2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152280" y="3048120"/>
            <a:ext cx="883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Thank you </a:t>
            </a:r>
            <a:endParaRPr b="0" i="1" lang="en-US" sz="4800" spc="-1" strike="noStrike">
              <a:solidFill>
                <a:srgbClr val="0033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06:41:56Z</dcterms:created>
  <dc:creator>微软用户</dc:creator>
  <dc:description/>
  <cp:keywords/>
  <dc:language>en-US</dc:language>
  <cp:lastModifiedBy>Administrator</cp:lastModifiedBy>
  <dcterms:modified xsi:type="dcterms:W3CDTF">2015-03-02T09:12:17Z</dcterms:modified>
  <cp:revision>4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64</vt:lpwstr>
  </property>
</Properties>
</file>