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2DB-3D40-47D9-919F-2CDA11D9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67A-8BF1-4133-9A20-39FB58F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696-90EA-4F5C-98BD-CC782739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A56-9475-4BD8-AE61-BED09900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A180-E8C9-4F99-A54B-F014FB22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84C4-2271-4A35-8633-1091A22E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705-29D9-4C12-A739-39498E8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716-30CA-4A2C-B9F6-9CEF3FFC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713-A842-4CB8-91AA-24AD87DB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DC7-D268-4BDE-9D90-3B6063B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C37F-8232-4465-AF8E-8FA383D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4EC-FC9A-4B4C-838A-5109323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6900-7FF9-4436-99A2-5CD8B20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6B14-A7AC-4A7D-B5F2-2308874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64F4-FE5C-42C8-B99B-E94ACF7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FF4-EEE4-430B-A788-1E531DC8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C0DC-FAAE-47E2-B532-650E3869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118-2EF5-4B52-85C1-DE5452A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599-290C-48DD-BA83-391E6CF0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F79-A2D8-4E7F-9D56-A050E7E8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6F2-97D1-45D2-8EFF-E82ADF9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ED-D7B9-42FC-ADEC-BB6CAA8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8C-EB3F-456E-A389-AB62A3D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839-F08B-481E-8B59-5DFABC7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142-15D7-4B56-A454-17708B95E6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E:\Collage of Wedding Images7.jpg"/>
          <p:cNvPicPr/>
          <p:nvPr/>
        </p:nvPicPr>
        <p:blipFill>
          <a:blip r:embed="rId2"/>
          <a:srcRect l="23268" t="0" r="0" b="0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42" name="Rectangle 11"/>
          <p:cNvGrpSpPr/>
          <p:nvPr/>
        </p:nvGrpSpPr>
        <p:grpSpPr>
          <a:xfrm>
            <a:off x="-6480" y="-6480"/>
            <a:ext cx="9156960" cy="5158080"/>
            <a:chOff x="-6480" y="-6480"/>
            <a:chExt cx="9156960" cy="5158080"/>
          </a:xfrm>
        </p:grpSpPr>
        <p:pic>
          <p:nvPicPr>
            <p:cNvPr id="43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组合 8"/>
          <p:cNvGrpSpPr/>
          <p:nvPr/>
        </p:nvGrpSpPr>
        <p:grpSpPr>
          <a:xfrm>
            <a:off x="50760" y="4230720"/>
            <a:ext cx="2049480" cy="947880"/>
            <a:chOff x="50760" y="4230720"/>
            <a:chExt cx="2049480" cy="947880"/>
          </a:xfrm>
        </p:grpSpPr>
        <p:pic>
          <p:nvPicPr>
            <p:cNvPr id="46" name="TextBox 9" descr=""/>
            <p:cNvPicPr/>
            <p:nvPr/>
          </p:nvPicPr>
          <p:blipFill>
            <a:blip r:embed="rId4"/>
            <a:stretch/>
          </p:blipFill>
          <p:spPr>
            <a:xfrm>
              <a:off x="50760" y="4230720"/>
              <a:ext cx="174312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6"/>
            <p:cNvSpPr/>
            <p:nvPr/>
          </p:nvSpPr>
          <p:spPr>
            <a:xfrm>
              <a:off x="1740960" y="4287600"/>
              <a:ext cx="359280" cy="40752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380" h="403">
                  <a:moveTo>
                    <a:pt x="0" y="297"/>
                  </a:moveTo>
                  <a:cubicBezTo>
                    <a:pt x="0" y="297"/>
                    <a:pt x="114" y="0"/>
                    <a:pt x="187" y="197"/>
                  </a:cubicBezTo>
                  <a:cubicBezTo>
                    <a:pt x="380" y="248"/>
                    <a:pt x="163" y="403"/>
                    <a:pt x="0" y="297"/>
                  </a:cubicBezTo>
                  <a:close/>
                </a:path>
              </a:pathLst>
            </a:custGeom>
            <a:solidFill>
              <a:srgbClr val="d46eab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1611720" y="4573440"/>
              <a:ext cx="130320" cy="1990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53" h="220">
                  <a:moveTo>
                    <a:pt x="107" y="23"/>
                  </a:moveTo>
                  <a:cubicBezTo>
                    <a:pt x="107" y="23"/>
                    <a:pt x="0" y="72"/>
                    <a:pt x="38" y="146"/>
                  </a:cubicBezTo>
                  <a:cubicBezTo>
                    <a:pt x="76" y="220"/>
                    <a:pt x="67" y="135"/>
                    <a:pt x="68" y="117"/>
                  </a:cubicBezTo>
                  <a:cubicBezTo>
                    <a:pt x="71" y="69"/>
                    <a:pt x="153" y="0"/>
                    <a:pt x="107" y="23"/>
                  </a:cubicBezTo>
                  <a:close/>
                </a:path>
              </a:pathLst>
            </a:custGeom>
            <a:solidFill>
              <a:srgbClr val="d46eab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Group 16" descr=""/>
          <p:cNvPicPr/>
          <p:nvPr/>
        </p:nvPicPr>
        <p:blipFill>
          <a:blip r:embed="rId5"/>
          <a:stretch/>
        </p:blipFill>
        <p:spPr>
          <a:xfrm>
            <a:off x="8296200" y="4022640"/>
            <a:ext cx="83520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Group 41" descr=""/>
          <p:cNvPicPr/>
          <p:nvPr/>
        </p:nvPicPr>
        <p:blipFill>
          <a:blip r:embed="rId6"/>
          <a:stretch/>
        </p:blipFill>
        <p:spPr>
          <a:xfrm>
            <a:off x="8375760" y="4645080"/>
            <a:ext cx="689040" cy="49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957-C5DE-4F37-ADE0-994D50948C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3" descr="E:\Collage of Wedding Images7.jpg"/>
          <p:cNvPicPr/>
          <p:nvPr/>
        </p:nvPicPr>
        <p:blipFill>
          <a:blip r:embed="rId1"/>
          <a:srcRect l="23268" t="0" r="0" b="0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93" name="Rectangle 11"/>
          <p:cNvGrpSpPr/>
          <p:nvPr/>
        </p:nvGrpSpPr>
        <p:grpSpPr>
          <a:xfrm>
            <a:off x="-6480" y="-6480"/>
            <a:ext cx="9156960" cy="5158080"/>
            <a:chOff x="-6480" y="-6480"/>
            <a:chExt cx="9156960" cy="5158080"/>
          </a:xfrm>
        </p:grpSpPr>
        <p:pic>
          <p:nvPicPr>
            <p:cNvPr id="94" name="Rectangle 11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TextBox 22" descr=""/>
          <p:cNvPicPr/>
          <p:nvPr/>
        </p:nvPicPr>
        <p:blipFill>
          <a:blip r:embed="rId3"/>
          <a:stretch/>
        </p:blipFill>
        <p:spPr>
          <a:xfrm>
            <a:off x="208080" y="3176640"/>
            <a:ext cx="636408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23" descr=""/>
          <p:cNvPicPr/>
          <p:nvPr/>
        </p:nvPicPr>
        <p:blipFill>
          <a:blip r:embed="rId4"/>
          <a:stretch/>
        </p:blipFill>
        <p:spPr>
          <a:xfrm>
            <a:off x="396720" y="4048200"/>
            <a:ext cx="6034320" cy="5364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4" descr=""/>
          <p:cNvPicPr/>
          <p:nvPr/>
        </p:nvPicPr>
        <p:blipFill>
          <a:blip r:embed="rId5"/>
          <a:stretch/>
        </p:blipFill>
        <p:spPr>
          <a:xfrm>
            <a:off x="-328680" y="1341360"/>
            <a:ext cx="4314960" cy="23655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6"/>
          <p:cNvSpPr/>
          <p:nvPr/>
        </p:nvSpPr>
        <p:spPr>
          <a:xfrm>
            <a:off x="4135320" y="1582560"/>
            <a:ext cx="847800" cy="897120"/>
          </a:xfrm>
          <a:custGeom>
            <a:avLst/>
            <a:gdLst>
              <a:gd name="textAreaLeft" fmla="*/ 0 w 847800"/>
              <a:gd name="textAreaRight" fmla="*/ 848160 w 84780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380" h="403">
                <a:moveTo>
                  <a:pt x="0" y="297"/>
                </a:moveTo>
                <a:cubicBezTo>
                  <a:pt x="0" y="297"/>
                  <a:pt x="114" y="0"/>
                  <a:pt x="187" y="197"/>
                </a:cubicBezTo>
                <a:cubicBezTo>
                  <a:pt x="380" y="248"/>
                  <a:pt x="163" y="403"/>
                  <a:pt x="0" y="297"/>
                </a:cubicBezTo>
                <a:close/>
              </a:path>
            </a:pathLst>
          </a:custGeom>
          <a:solidFill>
            <a:srgbClr val="d46ea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832200" y="2209680"/>
            <a:ext cx="306360" cy="439920"/>
          </a:xfrm>
          <a:custGeom>
            <a:avLst/>
            <a:gdLst>
              <a:gd name="textAreaLeft" fmla="*/ 0 w 306360"/>
              <a:gd name="textAreaRight" fmla="*/ 306720 w 30636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53" h="220">
                <a:moveTo>
                  <a:pt x="107" y="23"/>
                </a:moveTo>
                <a:cubicBezTo>
                  <a:pt x="107" y="23"/>
                  <a:pt x="0" y="72"/>
                  <a:pt x="38" y="146"/>
                </a:cubicBezTo>
                <a:cubicBezTo>
                  <a:pt x="76" y="220"/>
                  <a:pt x="67" y="135"/>
                  <a:pt x="68" y="117"/>
                </a:cubicBezTo>
                <a:cubicBezTo>
                  <a:pt x="71" y="69"/>
                  <a:pt x="153" y="0"/>
                  <a:pt x="107" y="23"/>
                </a:cubicBezTo>
                <a:close/>
              </a:path>
            </a:pathLst>
          </a:custGeom>
          <a:solidFill>
            <a:srgbClr val="d46ea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oup 16" descr=""/>
          <p:cNvPicPr/>
          <p:nvPr/>
        </p:nvPicPr>
        <p:blipFill>
          <a:blip r:embed="rId6"/>
          <a:stretch/>
        </p:blipFill>
        <p:spPr>
          <a:xfrm>
            <a:off x="6656400" y="2494080"/>
            <a:ext cx="1963800" cy="2663640"/>
          </a:xfrm>
          <a:prstGeom prst="rect">
            <a:avLst/>
          </a:prstGeom>
          <a:ln w="0">
            <a:noFill/>
          </a:ln>
        </p:spPr>
      </p:pic>
      <p:pic>
        <p:nvPicPr>
          <p:cNvPr id="102" name="Group 41" descr=""/>
          <p:cNvPicPr/>
          <p:nvPr/>
        </p:nvPicPr>
        <p:blipFill>
          <a:blip r:embed="rId7"/>
          <a:stretch/>
        </p:blipFill>
        <p:spPr>
          <a:xfrm>
            <a:off x="7693200" y="3809880"/>
            <a:ext cx="8902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1160640" y="1319040"/>
            <a:ext cx="68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57"/>
          <p:cNvSpPr/>
          <p:nvPr/>
        </p:nvSpPr>
        <p:spPr>
          <a:xfrm>
            <a:off x="1160640" y="2417760"/>
            <a:ext cx="6822720" cy="0"/>
          </a:xfrm>
          <a:prstGeom prst="line">
            <a:avLst/>
          </a:prstGeom>
          <a:ln w="9360">
            <a:solidFill>
              <a:srgbClr val="d46ea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877920" y="2141640"/>
            <a:ext cx="138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遇见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，是一种机缘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347120" y="1157400"/>
            <a:ext cx="159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轻轻的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 rot="19759800">
            <a:off x="1824480" y="204048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你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132640" y="3214800"/>
            <a:ext cx="21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出现在</a:t>
            </a: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我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的视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E:\Collage of Wedding Images2.jpg"/>
          <p:cNvPicPr/>
          <p:nvPr/>
        </p:nvPicPr>
        <p:blipFill>
          <a:blip r:embed="rId1"/>
          <a:stretch/>
        </p:blipFill>
        <p:spPr>
          <a:xfrm>
            <a:off x="5065560" y="212760"/>
            <a:ext cx="28227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:\052_4800x3200_zcool.com.cn.jpg"/>
          <p:cNvPicPr/>
          <p:nvPr/>
        </p:nvPicPr>
        <p:blipFill>
          <a:blip r:embed="rId1"/>
          <a:stretch/>
        </p:blipFill>
        <p:spPr>
          <a:xfrm>
            <a:off x="3859200" y="208080"/>
            <a:ext cx="511956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 rot="21061800">
            <a:off x="1226880" y="1247760"/>
            <a:ext cx="124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霎那间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 rot="20868600">
            <a:off x="1726200" y="1848960"/>
            <a:ext cx="159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霎那间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 rot="20569200">
            <a:off x="1490400" y="2746440"/>
            <a:ext cx="200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温暖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融化寒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039_3888x2592_zcool.com.cn_18102988.jpg"/>
          <p:cNvPicPr/>
          <p:nvPr/>
        </p:nvPicPr>
        <p:blipFill>
          <a:blip r:embed="rId1"/>
          <a:stretch/>
        </p:blipFill>
        <p:spPr>
          <a:xfrm>
            <a:off x="3328920" y="36360"/>
            <a:ext cx="5052960" cy="3949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1372320" y="1892160"/>
            <a:ext cx="1628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执</a:t>
            </a: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子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之手</a:t>
            </a:r>
            <a:r>
              <a:rPr b="0" lang="en-US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4323600" y="3656160"/>
            <a:ext cx="1628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与</a:t>
            </a: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子</a:t>
            </a: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偕老</a:t>
            </a:r>
            <a:r>
              <a:rPr b="0" lang="en-US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081320" y="129528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从此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548160" y="23115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我们海誓山盟</a:t>
            </a:r>
            <a:r>
              <a:rPr b="0" lang="en-US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53120" y="3314880"/>
            <a:ext cx="2237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永不分离</a:t>
            </a:r>
            <a:r>
              <a:rPr b="0" lang="en-US" sz="50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E:\Collage of Wedding Images7.jpg"/>
          <p:cNvPicPr/>
          <p:nvPr/>
        </p:nvPicPr>
        <p:blipFill>
          <a:blip r:embed="rId1"/>
          <a:srcRect l="23268" t="0" r="0" b="0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121" name="Rectangle 11"/>
          <p:cNvGrpSpPr/>
          <p:nvPr/>
        </p:nvGrpSpPr>
        <p:grpSpPr>
          <a:xfrm>
            <a:off x="-6480" y="-6480"/>
            <a:ext cx="9156960" cy="5158080"/>
            <a:chOff x="-6480" y="-6480"/>
            <a:chExt cx="9156960" cy="5158080"/>
          </a:xfrm>
        </p:grpSpPr>
        <p:pic>
          <p:nvPicPr>
            <p:cNvPr id="122" name="Rectangle 11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TextBox 25" descr=""/>
          <p:cNvPicPr/>
          <p:nvPr/>
        </p:nvPicPr>
        <p:blipFill>
          <a:blip r:embed="rId3"/>
          <a:stretch/>
        </p:blipFill>
        <p:spPr>
          <a:xfrm>
            <a:off x="171360" y="1657440"/>
            <a:ext cx="6265800" cy="2360520"/>
          </a:xfrm>
          <a:prstGeom prst="rect">
            <a:avLst/>
          </a:prstGeom>
          <a:ln w="0">
            <a:noFill/>
          </a:ln>
        </p:spPr>
      </p:pic>
      <p:sp>
        <p:nvSpPr>
          <p:cNvPr id="125" name="Freeform 6"/>
          <p:cNvSpPr/>
          <p:nvPr/>
        </p:nvSpPr>
        <p:spPr>
          <a:xfrm>
            <a:off x="6262560" y="1897200"/>
            <a:ext cx="846360" cy="896760"/>
          </a:xfrm>
          <a:custGeom>
            <a:avLst/>
            <a:gdLst>
              <a:gd name="textAreaLeft" fmla="*/ 0 w 846360"/>
              <a:gd name="textAreaRight" fmla="*/ 846720 w 846360"/>
              <a:gd name="textAreaTop" fmla="*/ 0 h 896760"/>
              <a:gd name="textAreaBottom" fmla="*/ 897120 h 896760"/>
            </a:gdLst>
            <a:ahLst/>
            <a:rect l="textAreaLeft" t="textAreaTop" r="textAreaRight" b="textAreaBottom"/>
            <a:pathLst>
              <a:path w="380" h="403">
                <a:moveTo>
                  <a:pt x="0" y="297"/>
                </a:moveTo>
                <a:cubicBezTo>
                  <a:pt x="0" y="297"/>
                  <a:pt x="114" y="0"/>
                  <a:pt x="187" y="197"/>
                </a:cubicBezTo>
                <a:cubicBezTo>
                  <a:pt x="380" y="248"/>
                  <a:pt x="163" y="403"/>
                  <a:pt x="0" y="297"/>
                </a:cubicBezTo>
                <a:close/>
              </a:path>
            </a:pathLst>
          </a:custGeom>
          <a:solidFill>
            <a:srgbClr val="d46ea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5959440" y="2523960"/>
            <a:ext cx="304920" cy="439920"/>
          </a:xfrm>
          <a:custGeom>
            <a:avLst/>
            <a:gdLst>
              <a:gd name="textAreaLeft" fmla="*/ 0 w 304920"/>
              <a:gd name="textAreaRight" fmla="*/ 305280 w 3049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153" h="220">
                <a:moveTo>
                  <a:pt x="107" y="23"/>
                </a:moveTo>
                <a:cubicBezTo>
                  <a:pt x="107" y="23"/>
                  <a:pt x="0" y="72"/>
                  <a:pt x="38" y="146"/>
                </a:cubicBezTo>
                <a:cubicBezTo>
                  <a:pt x="76" y="220"/>
                  <a:pt x="67" y="135"/>
                  <a:pt x="68" y="117"/>
                </a:cubicBezTo>
                <a:cubicBezTo>
                  <a:pt x="71" y="69"/>
                  <a:pt x="153" y="0"/>
                  <a:pt x="107" y="23"/>
                </a:cubicBezTo>
                <a:close/>
              </a:path>
            </a:pathLst>
          </a:custGeom>
          <a:solidFill>
            <a:srgbClr val="d46ea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6" descr=""/>
          <p:cNvPicPr/>
          <p:nvPr/>
        </p:nvPicPr>
        <p:blipFill>
          <a:blip r:embed="rId4"/>
          <a:stretch/>
        </p:blipFill>
        <p:spPr>
          <a:xfrm>
            <a:off x="6656400" y="2494080"/>
            <a:ext cx="1963800" cy="26636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41" descr=""/>
          <p:cNvPicPr/>
          <p:nvPr/>
        </p:nvPicPr>
        <p:blipFill>
          <a:blip r:embed="rId5"/>
          <a:stretch/>
        </p:blipFill>
        <p:spPr>
          <a:xfrm>
            <a:off x="7693200" y="3809880"/>
            <a:ext cx="890280" cy="1347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1130400" y="168444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幸福是生生不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947880" y="2316240"/>
            <a:ext cx="151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d46eab"/>
                </a:solidFill>
                <a:latin typeface="方正舒体简体"/>
                <a:ea typeface="方正舒体简体"/>
              </a:rPr>
              <a:t>是彼此相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03:39Z</dcterms:created>
  <dc:creator/>
  <dc:description/>
  <dc:language>en-US</dc:language>
  <cp:lastModifiedBy>Administrator</cp:lastModifiedBy>
  <dcterms:modified xsi:type="dcterms:W3CDTF">2015-02-26T02:53:01Z</dcterms:modified>
  <cp:revision>25</cp:revision>
  <dc:subject/>
  <dc:title>PowerPoint 演示文稿</dc:title>
</cp:coreProperties>
</file>