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0856-2FA3-4216-88A5-CA38AA81F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E670-4FC7-4F51-AD06-8C24BE9E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6EEF-E780-4ADE-BE5F-301E679F7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A820-1E24-4FEC-9928-640FF8943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A14B-803E-44BC-9A6D-65A5D535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9EDA-610F-4447-B517-69480D4A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A271-D3B2-4A2B-B82F-3D68317C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2680-9DE7-43F8-83D9-3DA41254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65A9-3D51-4EC7-8E1A-12BC1A9F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DB3B-45E6-475D-B5DF-634259F9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C758-8D85-425E-ABD7-FB4628A5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A144-A163-4129-830E-9BE97D2C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D4F6-BA4C-48EE-8FCD-F1E93E228E9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1ppt.com/xiazai/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幻灯片与两菜一汤pdf.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1"/>
          <p:cNvSpPr/>
          <p:nvPr/>
        </p:nvSpPr>
        <p:spPr>
          <a:xfrm>
            <a:off x="2725920" y="3244680"/>
            <a:ext cx="369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4a452a"/>
                </a:solidFill>
                <a:latin typeface="Arial"/>
              </a:rPr>
              <a:t>作品下载：</a:t>
            </a:r>
            <a:r>
              <a:rPr b="0" lang="en-US" sz="1800" spc="-1" strike="noStrike" u="sng">
                <a:solidFill>
                  <a:srgbClr val="00b0f0"/>
                </a:solidFill>
                <a:uFillTx/>
                <a:latin typeface="Arial"/>
                <a:hlinkClick r:id="rId1"/>
              </a:rPr>
              <a:t>www.1ppt.com/xiazai/</a:t>
            </a:r>
            <a:r>
              <a:rPr b="0" lang="en-US" sz="18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1" descr="幻灯片与两菜一汤pdf.01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幻灯片与两菜一汤pdf.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" descr="幻灯片与两菜一汤pdf.0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幻灯片与两菜一汤pdf.0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幻灯片与两菜一汤pdf.0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1" descr="幻灯片与两菜一汤pdf.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" descr="幻灯片与两菜一汤pdf.0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幻灯片与两菜一汤pdf.0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幻灯片与两菜一汤pdf.0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幻灯片与两菜一汤pdf.0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幻灯片与两菜一汤pdf.0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幻灯片与两菜一汤pdf.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幻灯片与两菜一汤pdf.0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2T13:14:55Z</dcterms:created>
  <dc:creator>甘磊（ganlei240@gmail.com）</dc:creator>
  <dc:description/>
  <cp:keywords/>
  <dc:language>en-US</dc:language>
  <cp:lastModifiedBy>Administrator</cp:lastModifiedBy>
  <dcterms:modified xsi:type="dcterms:W3CDTF">2015-03-05T07:21:36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