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ABA-110F-4324-B67C-76550467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C6D-C53C-4F95-83AE-7CDA45E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546-C259-4840-B80D-60CF1304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5D6-635E-4794-947F-722F7970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815-2E82-4724-BBA7-ABD36A5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DF9-AD95-4128-A0EE-7CFC61F4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53C-E427-449B-AADA-19D88B4C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719-2B39-4640-9A59-A157D91F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B65-4770-4F07-8C31-11A9F07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A79-EA48-4854-8219-4A2984D3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B3C-8F1F-4BBB-A16D-2F76235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CAA-0818-4311-8EC9-C8E534A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6105-55AA-44AB-A519-8CDE6DE2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-324000" y="462276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12720" y="50022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99"/>
              </a:solidFill>
              <a:latin typeface="汉仪行楷繁"/>
              <a:ea typeface="汉仪行楷繁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粗活意简体"/>
              <a:ea typeface="方正粗活意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7:54:16Z</dcterms:created>
  <dc:creator>chinaz</dc:creator>
  <dc:description/>
  <dc:language>en-US</dc:language>
  <cp:lastModifiedBy>Administrator</cp:lastModifiedBy>
  <dcterms:modified xsi:type="dcterms:W3CDTF">2015-03-04T02:27:54Z</dcterms:modified>
  <cp:revision>5</cp:revision>
  <dc:subject/>
  <dc:title>站长素材设计sc.chinaz.com</dc:title>
</cp:coreProperties>
</file>