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821-8439-4DC9-8DA2-3B7B848F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B63-42AE-4EC1-9103-49BD6006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FBBDB-4FEF-4753-AD2A-4D4BA9F2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CBFAA-A995-478C-AC28-96B032DD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262FF-014E-4611-BA98-6A9BD824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818CB-3120-4C3A-9364-B74B907F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B4AF9-83D5-4A0A-B939-6EC91044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02EA2-2D15-408E-8AF2-217DC9F9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742B1-2AF3-4F93-BA82-C9DA5D29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8D0B3-2DE6-42CC-97DA-09E22AFC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E23E6-ECE0-4685-87CD-EC510F81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60690-01E0-4829-ABD9-C58EFB61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AD0-A997-4481-BC68-C31D26D2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69F71-F323-4409-AF57-B1EA613E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64A18-FFD9-4BEE-A707-9DE288C6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B6DF2-8460-4EE2-830D-9B60183E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F9AF0-B0FE-4276-9EC9-C42483E8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C22B4-52EB-462F-BF20-4ED5ED85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21EA1-E80D-4C19-8305-1B20AC85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AB75E-AB48-4C02-A4B9-AAE74D2A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77B39-CC95-4DA2-9C08-0B365E7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2F98F-3444-4D00-99EE-347CF2E4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731DD-AFCA-40FE-AEE3-CC2F9C40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E1B-61CF-461D-BDB2-816368E5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8EA26-A498-43AA-945E-58B5A1C9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90FEA-C61F-44B2-BD36-A097DC5C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6A306-73CC-4565-96DD-F4AD1D8C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51DED-BA78-4EFD-8131-86FACDA2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152AA-1EDE-4BCA-AC5A-3F21D47D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6B0F8-A184-47AB-829C-6F5EFD93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8F8EA-754B-45D0-813E-043867F4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770CD-413D-4ABC-A92C-19709D03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EC37C-82C7-443C-8CA4-F0935E2C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0ABEE-7F61-41CE-AFFA-5910579C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A48C-F07C-4054-93B4-FF8E8608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BB319-CD1A-48B9-B7AF-663CB149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11C73-A0D4-45AA-8432-33C7D4BE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0434C-3B27-4258-A968-71622F89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26035-E306-46FD-9B12-29736693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E1E84-70E4-404E-A36F-A8B5C99A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A5561-F760-45EA-BF38-46D58794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8C715-D999-4D0A-AC7E-0AE738B1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37535-D6BB-429F-80AD-BF5457E3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E66A6-C07C-4F3D-96EF-776BC36F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1C95E-D23C-4187-B875-84E6360F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A4B8-B009-419E-90C5-D77BABF7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2ABF6-B654-4FB1-A690-C932594F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18561-DA2E-401F-960D-5D0B5C4B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63B17-9924-432B-9035-D413D4FA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297F6-E9BE-4C89-9921-1681E4AD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E4E41-76BC-4DD2-94E2-AA31F2DD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99A1-D550-425C-BC23-8044E778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A581-D391-461A-970E-8A53AC1E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778A-9C91-4EEA-9FDE-F0FBDCD0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597E-6091-4372-A837-B11868D0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0097-8DDC-4F77-A07D-AC4EF95C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D1D-D3F8-4682-B86B-8D9969D3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1B7D-5364-4933-BC4A-DE90530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AA83-AED9-4B3D-9152-23C6E9C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9828-6797-4CF5-AB9B-B73B8652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9257-03D8-4F58-BC13-4046BCC9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2B57-F693-4D0B-B9AC-B36BA9C9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CC4E-4EA5-42EB-9B0C-67584AF7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F40F-CB91-4EB7-B115-B7A0FC2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6EB78-69B6-4568-84F4-EFD917D4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5B66-486B-469C-8188-F6DEC7B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BE2F-8D1D-4EB6-8E65-FBBB0DFA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37B-299B-4690-B4A3-0F813B1C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8C7A-0AFB-4F42-A100-205114A6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5F95-A978-4493-841A-D3ECB290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82D6-0B0D-4913-A693-79B95722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28E9-8AE3-47EE-858F-5320E70F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BB3D-3C5E-403F-840D-7B6A0A45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BCC1-DDA1-41D3-92A0-722DA8A0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33B0-0A1E-4010-8176-834D3658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C216-B8EC-4DCF-A8C0-9FF4DDFA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8404D-6132-4F4C-80BF-F826EEE5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A631-2514-44EC-B319-9753973C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C71-8456-4921-B852-A292A769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ECE1C-1293-4CA2-841F-2464D220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8047-C0CF-4EDB-B38B-AE24588D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8E84C-0578-4072-B1B0-5471B0C9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7B1C5-8B55-4BB7-B587-482C924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D4DF9-A228-4595-AD4D-92E2F8F3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3C79-E47D-4F7A-8189-49485A6F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04C0-0B28-4A06-8B24-EEFF55CD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BBF6-66BD-47EF-BE5D-3511A56C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E27C-CD0C-49D4-8965-9783CC50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6C43A-EA20-42FE-AB4C-E853C36D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06A-A579-47B7-ABC5-B9B0ECD8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7C1F2-822C-4295-8DB6-88351DAB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05851-0254-4365-8B1D-C30B4E88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A714-E987-450A-8B0E-E8ED4B82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4B1CD-53D2-477B-84AF-D8B45535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763CE-DE5E-41D6-B119-08F68F3C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C12F-682D-4B6C-9393-7DE073A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A6DEC-EC3C-4FA1-A009-47C5373F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B3FB7-310E-4C2A-84E5-7715BC9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82710-66BB-49A8-9E4D-84722F7B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91B89-D287-41D9-973A-E493E39F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145-F9B3-4E16-91AF-675DB3B4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F5433-B855-4532-BA03-E8104C31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38E87-FE93-48E8-AF92-A1E83B4A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EEB73-7D59-4B29-B02E-C09B6AB1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07A13-DB4E-4195-8C75-34C45574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00F90-F15B-43C8-A345-C330BE59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88794-D6D1-48B3-963E-CF48C1AC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7F8AE-ACEA-492B-A8AE-4E11F8D5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D5009-90AC-4FBB-84EA-4B93EA89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42EDB-6DD6-4894-9781-0DA373E6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709D9-1CDB-43B5-B3A3-4B661F7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26C-30D5-4666-B6D8-AEBF3142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55247-DDAE-42CC-A7B7-C0A36BAF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DC6A6-6EB4-4D67-A497-6EEC955A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B64FA-2496-4CA0-925B-5020E579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D2B06-2CEF-43EF-8A35-89CC54A0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A3B60-B25D-4F5D-94D6-402AF31A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F5CC6-D695-4187-9DC3-52A3DF4D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37214-07F4-4333-B51C-8030FE86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AC415-1180-4A4A-950E-D0B6FA24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B0FE6-8ABD-4626-91F7-6091AEAD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18BD6-BC00-4643-908B-56DAB0D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CB7-E963-4D62-8343-71F2317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A29B2-4FD9-46C2-BFEF-1D80DCE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4D3E0-0A0B-4305-A7C5-3DA19B3F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BE277-2A4D-45C6-BFCA-BD33AC1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4D1D9-F441-4E79-BD92-B0D3B22F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A391C-A4FF-4D9A-A0E7-89DCA2D7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BC8E4-60BB-4BB4-9299-80BF3320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6627F-E445-4268-9688-927E8808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53385-7A9B-4EBC-9149-B02F950E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6FA7B-AD57-4ED5-AA42-F2ED62FC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2E97F-CBA3-451A-A15B-C086A56A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1D6-6C74-46F4-B684-91DD7C03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EBFE0-3441-46F3-830F-259151A7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3B17F-0266-4D13-AF6B-E709EC8B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ABD9B-27A1-4FA0-AA01-FA5F3DFA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F687-82F1-434A-8180-E9A7503D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18B0B-B6C1-4CE1-BFEB-14FEC536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3C935-1C48-44A1-A538-B88B8CE5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185C9-A1B1-47B2-8C2E-82A5B876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EAC2C-9EA5-4D5A-AD0C-603315C6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B8AFD-FE50-43DF-87B5-DC7693A0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E4C45-A151-48E4-846C-05085B2C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F994-B4F9-43F1-8372-5C5F32C5F7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0455-6D97-45F8-A6B4-37F604F526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8D47-EE69-4E86-8EB5-159CEA1EEF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D8EA-A824-4864-96B4-B79B18E6CD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DA91-7F55-4929-91F3-3116433C89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1373-B641-45E2-A4EF-B71AF8E196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8D6F-511B-41BD-9218-6AEFB8E6424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B1EB-CB53-4C3C-A916-B7F2B73D6A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F5DA-A68B-4249-B681-34C39202A3C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3C99-29CD-4562-81BA-67FD4769F7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335D-24AA-4110-A1C4-2044EE2C06C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A2F7-CDD7-4131-9B0B-06D4E456BC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2CBD-CDC3-4A2F-9F44-8D0705866E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7575-F3BD-4D22-9578-6648B3296D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798-BF93-4409-8319-11F43C5446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4C16-6C07-42B4-91B6-7256F2CACA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6D6B-FF29-4A31-8D18-583CD7824A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E174-4286-4FA9-B08B-0991947A40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DF97-9323-46F8-8667-F2149E865D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A764-3B36-454D-971D-F2934F5EA3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F4E1-F963-451D-9305-AE9773F5A5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1B34-8DD8-44CF-B5F1-DB1A695E8F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2FCA-137C-497E-94A4-9C0919DED6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6FF5-BA9D-4DAA-AE78-708416F439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4"/>
          <p:cNvSpPr/>
          <p:nvPr/>
        </p:nvSpPr>
        <p:spPr>
          <a:xfrm>
            <a:off x="1835280" y="347184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1" descr=""/>
          <p:cNvPicPr/>
          <p:nvPr/>
        </p:nvPicPr>
        <p:blipFill>
          <a:blip r:embed="rId16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sp>
        <p:nvSpPr>
          <p:cNvPr id="494" name="TextBox 2"/>
          <p:cNvSpPr/>
          <p:nvPr/>
        </p:nvSpPr>
        <p:spPr>
          <a:xfrm>
            <a:off x="5083200" y="1222200"/>
            <a:ext cx="25210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名字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Shane Steven Filan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生日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1979.7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月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5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星座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巨蟹座 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身高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175cm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爱好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音乐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职业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音乐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联系地址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爱尔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4" descr=""/>
          <p:cNvPicPr/>
          <p:nvPr/>
        </p:nvPicPr>
        <p:blipFill>
          <a:blip r:embed="rId17"/>
          <a:stretch/>
        </p:blipFill>
        <p:spPr>
          <a:xfrm rot="20852400">
            <a:off x="1785600" y="1222200"/>
            <a:ext cx="2376360" cy="1336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1" descr=""/>
          <p:cNvPicPr/>
          <p:nvPr/>
        </p:nvPicPr>
        <p:blipFill>
          <a:blip r:embed="rId2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3" descr=""/>
          <p:cNvPicPr/>
          <p:nvPr/>
        </p:nvPicPr>
        <p:blipFill>
          <a:blip r:embed="rId3"/>
          <a:stretch/>
        </p:blipFill>
        <p:spPr>
          <a:xfrm>
            <a:off x="1692360" y="1254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98" name="矩形 5"/>
          <p:cNvSpPr/>
          <p:nvPr/>
        </p:nvSpPr>
        <p:spPr>
          <a:xfrm>
            <a:off x="2989440" y="1131840"/>
            <a:ext cx="16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547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09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2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6"/>
          <p:cNvSpPr/>
          <p:nvPr/>
        </p:nvSpPr>
        <p:spPr>
          <a:xfrm>
            <a:off x="1793160" y="2419200"/>
            <a:ext cx="104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Wos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方正舒体"/>
                <a:ea typeface="方正舒体"/>
              </a:rPr>
              <a:t>水大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7"/>
          <p:cNvSpPr/>
          <p:nvPr/>
        </p:nvSpPr>
        <p:spPr>
          <a:xfrm>
            <a:off x="6281640" y="1133640"/>
            <a:ext cx="16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902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817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4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8" descr=""/>
          <p:cNvPicPr/>
          <p:nvPr/>
        </p:nvPicPr>
        <p:blipFill>
          <a:blip r:embed="rId4"/>
          <a:stretch/>
        </p:blipFill>
        <p:spPr>
          <a:xfrm>
            <a:off x="5230800" y="1222200"/>
            <a:ext cx="1009800" cy="1143000"/>
          </a:xfrm>
          <a:prstGeom prst="rect">
            <a:avLst/>
          </a:prstGeom>
          <a:ln w="0">
            <a:noFill/>
          </a:ln>
        </p:spPr>
      </p:pic>
      <p:sp>
        <p:nvSpPr>
          <p:cNvPr id="502" name="矩形 9"/>
          <p:cNvSpPr/>
          <p:nvPr/>
        </p:nvSpPr>
        <p:spPr>
          <a:xfrm>
            <a:off x="5275440" y="23385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sun_zh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1" descr=""/>
          <p:cNvPicPr/>
          <p:nvPr/>
        </p:nvPicPr>
        <p:blipFill>
          <a:blip r:embed="rId2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3" descr=""/>
          <p:cNvPicPr/>
          <p:nvPr/>
        </p:nvPicPr>
        <p:blipFill>
          <a:blip r:embed="rId3"/>
          <a:stretch/>
        </p:blipFill>
        <p:spPr>
          <a:xfrm>
            <a:off x="1746360" y="1251000"/>
            <a:ext cx="1143000" cy="1114200"/>
          </a:xfrm>
          <a:prstGeom prst="rect">
            <a:avLst/>
          </a:prstGeom>
          <a:ln w="0">
            <a:noFill/>
          </a:ln>
        </p:spPr>
      </p:pic>
      <p:sp>
        <p:nvSpPr>
          <p:cNvPr id="505" name="矩形 6"/>
          <p:cNvSpPr/>
          <p:nvPr/>
        </p:nvSpPr>
        <p:spPr>
          <a:xfrm>
            <a:off x="1817640" y="24192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本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8" descr=""/>
          <p:cNvPicPr/>
          <p:nvPr/>
        </p:nvPicPr>
        <p:blipFill>
          <a:blip r:embed="rId4"/>
          <a:stretch/>
        </p:blipFill>
        <p:spPr>
          <a:xfrm>
            <a:off x="5230800" y="1289160"/>
            <a:ext cx="1009800" cy="1009440"/>
          </a:xfrm>
          <a:prstGeom prst="rect">
            <a:avLst/>
          </a:prstGeom>
          <a:ln w="0">
            <a:noFill/>
          </a:ln>
        </p:spPr>
      </p:pic>
      <p:sp>
        <p:nvSpPr>
          <p:cNvPr id="507" name="矩形 9"/>
          <p:cNvSpPr/>
          <p:nvPr/>
        </p:nvSpPr>
        <p:spPr>
          <a:xfrm>
            <a:off x="5021280" y="233856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yonneyc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2"/>
          <p:cNvSpPr/>
          <p:nvPr/>
        </p:nvSpPr>
        <p:spPr>
          <a:xfrm>
            <a:off x="2941560" y="1131840"/>
            <a:ext cx="168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88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4827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639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4"/>
          <p:cNvSpPr/>
          <p:nvPr/>
        </p:nvSpPr>
        <p:spPr>
          <a:xfrm>
            <a:off x="6281640" y="113184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752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64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8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5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1" descr=""/>
          <p:cNvPicPr/>
          <p:nvPr/>
        </p:nvPicPr>
        <p:blipFill>
          <a:blip r:embed="rId2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3" descr=""/>
          <p:cNvPicPr/>
          <p:nvPr/>
        </p:nvPicPr>
        <p:blipFill>
          <a:blip r:embed="rId3"/>
          <a:stretch/>
        </p:blipFill>
        <p:spPr>
          <a:xfrm>
            <a:off x="1746360" y="1266840"/>
            <a:ext cx="1143000" cy="1008000"/>
          </a:xfrm>
          <a:prstGeom prst="rect">
            <a:avLst/>
          </a:prstGeom>
          <a:ln w="0">
            <a:noFill/>
          </a:ln>
        </p:spPr>
      </p:pic>
      <p:sp>
        <p:nvSpPr>
          <p:cNvPr id="512" name="矩形 6"/>
          <p:cNvSpPr/>
          <p:nvPr/>
        </p:nvSpPr>
        <p:spPr>
          <a:xfrm>
            <a:off x="1817640" y="2292480"/>
            <a:ext cx="107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Yz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方正舒体"/>
                <a:ea typeface="方正舒体"/>
              </a:rPr>
              <a:t>灰师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图片 8" descr=""/>
          <p:cNvPicPr/>
          <p:nvPr/>
        </p:nvPicPr>
        <p:blipFill>
          <a:blip r:embed="rId4"/>
          <a:stretch/>
        </p:blipFill>
        <p:spPr>
          <a:xfrm>
            <a:off x="5230800" y="1266840"/>
            <a:ext cx="1009800" cy="930240"/>
          </a:xfrm>
          <a:prstGeom prst="rect">
            <a:avLst/>
          </a:prstGeom>
          <a:ln w="0">
            <a:noFill/>
          </a:ln>
        </p:spPr>
      </p:pic>
      <p:sp>
        <p:nvSpPr>
          <p:cNvPr id="514" name="矩形 9"/>
          <p:cNvSpPr/>
          <p:nvPr/>
        </p:nvSpPr>
        <p:spPr>
          <a:xfrm>
            <a:off x="5021280" y="22003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debug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5"/>
          <p:cNvSpPr/>
          <p:nvPr/>
        </p:nvSpPr>
        <p:spPr>
          <a:xfrm>
            <a:off x="2889360" y="1131840"/>
            <a:ext cx="168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690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5668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915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7"/>
          <p:cNvSpPr/>
          <p:nvPr/>
        </p:nvSpPr>
        <p:spPr>
          <a:xfrm>
            <a:off x="6240600" y="1147680"/>
            <a:ext cx="169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68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78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0:02:00Z</dcterms:created>
  <dc:creator>微软中国</dc:creator>
  <dc:description/>
  <dc:language>en-US</dc:language>
  <cp:lastModifiedBy>lenovo</cp:lastModifiedBy>
  <dcterms:modified xsi:type="dcterms:W3CDTF">2015-02-05T08:19:2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