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C1D-A3A3-4051-94EB-A0C0DA1F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047-17D1-48E7-99EE-46521101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F42-FA5E-41BB-BE64-51FE08CE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629-F23C-431C-81DD-6B240201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0D7-EBE7-41BC-8907-47AD25A6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C1A-8DED-48B4-9855-E1EE78E5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0ED-5EA7-41ED-80AB-189EC1AB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8BB-8423-473D-9237-B88775DC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681-6DE0-4AFE-9819-6ECC6CBC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283-6E06-44A7-9CE1-7C087AC9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816-6965-449D-82D0-5B8158F7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BAF-9914-4255-A15F-2895DF99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4C30-C643-48C4-B6F8-A2268A68CB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3" descr=""/>
          <p:cNvPicPr/>
          <p:nvPr/>
        </p:nvPicPr>
        <p:blipFill>
          <a:blip r:embed="rId2"/>
          <a:stretch/>
        </p:blipFill>
        <p:spPr>
          <a:xfrm>
            <a:off x="1573200" y="2176560"/>
            <a:ext cx="65232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5508720" y="66279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09:49:14Z</dcterms:created>
  <dc:creator>雨林木风</dc:creator>
  <dc:description/>
  <dc:language>en-US</dc:language>
  <cp:lastModifiedBy>Administrator</cp:lastModifiedBy>
  <dcterms:modified xsi:type="dcterms:W3CDTF">2015-03-03T03:22:59Z</dcterms:modified>
  <cp:revision>7</cp:revision>
  <dc:subject/>
  <dc:title>幻灯片 1</dc:title>
</cp:coreProperties>
</file>