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4055-FF27-4FD2-96CF-79C4690D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88E2-15C0-40EA-9567-10793D33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46BE-6BBB-43F7-9586-48B76FEB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0FF8-2CF4-447B-90E6-B99C420C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332B-6B42-4770-B9D0-DBB0EB45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1694-052C-4C54-A0E2-D9995336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7A9B-1337-46F7-8CBF-E3549397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89C8-E1F3-4533-9398-F8CE95C1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3935-0533-4AD8-AF37-74F614B3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E1C1-94B1-4119-BA33-A95CC2C2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B151-46CD-413A-AA11-74569377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EF56-1AFD-4E41-8E20-BD629ED5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7090-B2FE-4EE7-A33D-D76909F6A15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FC82-D7B6-46A7-BED7-33EDBE433FD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276120" y="2187720"/>
            <a:ext cx="8545680" cy="3711600"/>
          </a:xfrm>
          <a:prstGeom prst="rect">
            <a:avLst/>
          </a:prstGeom>
          <a:noFill/>
          <a:ln w="76320">
            <a:solidFill>
              <a:srgbClr val="4bacc6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-22320" y="774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责任公司商业计划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Administrator\AppData\Local\Microsoft\Windows\Temporary Internet Files\Content.IE5\3TQDNN8Z\5793231_151035245103_2[1].jpg"/>
          <p:cNvPicPr/>
          <p:nvPr/>
        </p:nvPicPr>
        <p:blipFill>
          <a:blip r:embed="rId2"/>
          <a:srcRect l="647" t="1160" r="-643" b="16157"/>
          <a:stretch/>
        </p:blipFill>
        <p:spPr>
          <a:xfrm>
            <a:off x="419040" y="2281320"/>
            <a:ext cx="4130640" cy="3524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3924360" y="249228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组成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716360" y="3110040"/>
            <a:ext cx="4897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"/>
          <p:cNvSpPr/>
          <p:nvPr/>
        </p:nvSpPr>
        <p:spPr>
          <a:xfrm>
            <a:off x="826920" y="2349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您的观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554040" y="4194000"/>
            <a:ext cx="8209080" cy="582840"/>
          </a:xfrm>
          <a:prstGeom prst="rect">
            <a:avLst/>
          </a:prstGeom>
          <a:noFill/>
          <a:ln cap="rnd" w="63360">
            <a:solidFill>
              <a:srgbClr val="7030a0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0" y="97164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285840" y="2038320"/>
            <a:ext cx="8497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-1647720" y="5013360"/>
            <a:ext cx="122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经营休闲服饰，致力于设计符合年轻人的休闲服饰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9"/>
          <p:cNvSpPr/>
          <p:nvPr/>
        </p:nvSpPr>
        <p:spPr>
          <a:xfrm flipV="1">
            <a:off x="0" y="1555920"/>
            <a:ext cx="2556000" cy="2880"/>
          </a:xfrm>
          <a:prstGeom prst="line">
            <a:avLst/>
          </a:prstGeom>
          <a:ln w="7632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笑脸大图 点击还原"/>
          <p:cNvPicPr/>
          <p:nvPr/>
        </p:nvPicPr>
        <p:blipFill>
          <a:blip r:embed="rId2"/>
          <a:srcRect l="0" t="2595" r="0" b="2595"/>
          <a:stretch/>
        </p:blipFill>
        <p:spPr>
          <a:xfrm>
            <a:off x="139680" y="1992240"/>
            <a:ext cx="3724200" cy="358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0" y="960480"/>
            <a:ext cx="38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衣无缺经营模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4140360" y="1917720"/>
            <a:ext cx="4679640" cy="398880"/>
          </a:xfrm>
          <a:prstGeom prst="rect">
            <a:avLst/>
          </a:prstGeom>
          <a:noFill/>
          <a:ln w="76320">
            <a:solidFill>
              <a:srgbClr val="7030a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微笑嘴型的一条曲线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端朝上，在产业链中，附加值更多体现在两端，设计和销售，处于中间环节的制造附加值最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4140360" y="3429000"/>
            <a:ext cx="4679640" cy="703800"/>
          </a:xfrm>
          <a:prstGeom prst="rect">
            <a:avLst/>
          </a:prstGeom>
          <a:noFill/>
          <a:ln w="76320">
            <a:solidFill>
              <a:srgbClr val="ff0000">
                <a:alpha val="69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衣无缺主要通过直销渠道和加盟商销售给最终客户，集中精力于新产品的研发设计，推广和销售渠道的拓展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4140360" y="4869000"/>
            <a:ext cx="4679640" cy="703800"/>
          </a:xfrm>
          <a:prstGeom prst="rect">
            <a:avLst/>
          </a:prstGeom>
          <a:noFill/>
          <a:ln w="76320">
            <a:solidFill>
              <a:srgbClr val="5f497a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衣无缺采取自营中心、二级分销、特许加盟、网店营销建设进行渠道推广，重点营销区域和拓展目标区域相结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0"/>
          <p:cNvSpPr/>
          <p:nvPr/>
        </p:nvSpPr>
        <p:spPr>
          <a:xfrm flipV="1">
            <a:off x="0" y="1450440"/>
            <a:ext cx="3016080" cy="32040"/>
          </a:xfrm>
          <a:prstGeom prst="line">
            <a:avLst/>
          </a:prstGeom>
          <a:ln w="7632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554200" y="2092320"/>
            <a:ext cx="4537080" cy="520560"/>
          </a:xfrm>
          <a:prstGeom prst="rect">
            <a:avLst/>
          </a:prstGeom>
          <a:noFill/>
          <a:ln w="92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经理：马进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2"/>
          <p:cNvGrpSpPr/>
          <p:nvPr/>
        </p:nvGrpSpPr>
        <p:grpSpPr>
          <a:xfrm>
            <a:off x="466560" y="4078440"/>
            <a:ext cx="2305080" cy="1655640"/>
            <a:chOff x="466560" y="4078440"/>
            <a:chExt cx="2305080" cy="1655640"/>
          </a:xfrm>
        </p:grpSpPr>
        <p:sp>
          <p:nvSpPr>
            <p:cNvPr id="58" name="圆角矩形 3"/>
            <p:cNvSpPr/>
            <p:nvPr/>
          </p:nvSpPr>
          <p:spPr>
            <a:xfrm>
              <a:off x="466560" y="4078440"/>
              <a:ext cx="2305080" cy="1655640"/>
            </a:xfrm>
            <a:prstGeom prst="roundRect">
              <a:avLst>
                <a:gd name="adj" fmla="val 16667"/>
              </a:avLst>
            </a:prstGeom>
            <a:solidFill>
              <a:srgbClr val="595959">
                <a:alpha val="14000"/>
              </a:srgbClr>
            </a:solidFill>
            <a:ln w="3816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20"/>
            <p:cNvSpPr/>
            <p:nvPr/>
          </p:nvSpPr>
          <p:spPr>
            <a:xfrm>
              <a:off x="682920" y="4509000"/>
              <a:ext cx="187200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运营部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孙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5"/>
          <p:cNvGrpSpPr/>
          <p:nvPr/>
        </p:nvGrpSpPr>
        <p:grpSpPr>
          <a:xfrm>
            <a:off x="1633680" y="2616120"/>
            <a:ext cx="6279840" cy="1462320"/>
            <a:chOff x="1633680" y="2616120"/>
            <a:chExt cx="6279840" cy="1462320"/>
          </a:xfrm>
        </p:grpSpPr>
        <p:sp>
          <p:nvSpPr>
            <p:cNvPr id="61" name="直接连接符 6"/>
            <p:cNvSpPr/>
            <p:nvPr/>
          </p:nvSpPr>
          <p:spPr>
            <a:xfrm>
              <a:off x="4822560" y="2616120"/>
              <a:ext cx="0" cy="597240"/>
            </a:xfrm>
            <a:prstGeom prst="line">
              <a:avLst/>
            </a:prstGeom>
            <a:ln w="50760">
              <a:solidFill>
                <a:srgbClr val="ffc000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直接连接符 7"/>
            <p:cNvSpPr/>
            <p:nvPr/>
          </p:nvSpPr>
          <p:spPr>
            <a:xfrm>
              <a:off x="1633680" y="3213360"/>
              <a:ext cx="6279840" cy="0"/>
            </a:xfrm>
            <a:prstGeom prst="line">
              <a:avLst/>
            </a:prstGeom>
            <a:ln w="50760">
              <a:solidFill>
                <a:srgbClr val="ffc000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 8"/>
            <p:cNvSpPr/>
            <p:nvPr/>
          </p:nvSpPr>
          <p:spPr>
            <a:xfrm>
              <a:off x="1633680" y="3213360"/>
              <a:ext cx="0" cy="865080"/>
            </a:xfrm>
            <a:prstGeom prst="line">
              <a:avLst/>
            </a:prstGeom>
            <a:ln w="50760">
              <a:solidFill>
                <a:srgbClr val="ffc000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9"/>
            <p:cNvSpPr/>
            <p:nvPr/>
          </p:nvSpPr>
          <p:spPr>
            <a:xfrm>
              <a:off x="4110120" y="3213360"/>
              <a:ext cx="0" cy="695880"/>
            </a:xfrm>
            <a:prstGeom prst="line">
              <a:avLst/>
            </a:prstGeom>
            <a:ln w="50760">
              <a:solidFill>
                <a:srgbClr val="ffc000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直接连接符 10"/>
            <p:cNvSpPr/>
            <p:nvPr/>
          </p:nvSpPr>
          <p:spPr>
            <a:xfrm>
              <a:off x="6122880" y="3213360"/>
              <a:ext cx="0" cy="740520"/>
            </a:xfrm>
            <a:prstGeom prst="line">
              <a:avLst/>
            </a:prstGeom>
            <a:ln w="50760">
              <a:solidFill>
                <a:srgbClr val="ffc000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11"/>
            <p:cNvSpPr/>
            <p:nvPr/>
          </p:nvSpPr>
          <p:spPr>
            <a:xfrm>
              <a:off x="7913520" y="3213360"/>
              <a:ext cx="0" cy="713160"/>
            </a:xfrm>
            <a:prstGeom prst="line">
              <a:avLst/>
            </a:prstGeom>
            <a:ln w="50760">
              <a:solidFill>
                <a:srgbClr val="ffc000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12"/>
          <p:cNvGrpSpPr/>
          <p:nvPr/>
        </p:nvGrpSpPr>
        <p:grpSpPr>
          <a:xfrm>
            <a:off x="7569360" y="3925800"/>
            <a:ext cx="688680" cy="2336760"/>
            <a:chOff x="7569360" y="3925800"/>
            <a:chExt cx="688680" cy="2336760"/>
          </a:xfrm>
        </p:grpSpPr>
        <p:sp>
          <p:nvSpPr>
            <p:cNvPr id="68" name="TextBox 24"/>
            <p:cNvSpPr/>
            <p:nvPr/>
          </p:nvSpPr>
          <p:spPr>
            <a:xfrm>
              <a:off x="7682760" y="4077720"/>
              <a:ext cx="461520" cy="1191240"/>
            </a:xfrm>
            <a:prstGeom prst="rect">
              <a:avLst/>
            </a:prstGeom>
            <a:solidFill>
              <a:srgbClr val="92d05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销售部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彭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14"/>
            <p:cNvSpPr/>
            <p:nvPr/>
          </p:nvSpPr>
          <p:spPr>
            <a:xfrm>
              <a:off x="7569360" y="3925800"/>
              <a:ext cx="688680" cy="2336760"/>
            </a:xfrm>
            <a:prstGeom prst="rect">
              <a:avLst/>
            </a:prstGeom>
            <a:noFill/>
            <a:ln w="50760">
              <a:solidFill>
                <a:srgbClr val="000000">
                  <a:alpha val="83000"/>
                </a:srgbClr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15"/>
          <p:cNvGrpSpPr/>
          <p:nvPr/>
        </p:nvGrpSpPr>
        <p:grpSpPr>
          <a:xfrm>
            <a:off x="3765600" y="3908520"/>
            <a:ext cx="689040" cy="2336760"/>
            <a:chOff x="3765600" y="3908520"/>
            <a:chExt cx="689040" cy="2336760"/>
          </a:xfrm>
        </p:grpSpPr>
        <p:sp>
          <p:nvSpPr>
            <p:cNvPr id="71" name="TextBox 16"/>
            <p:cNvSpPr/>
            <p:nvPr/>
          </p:nvSpPr>
          <p:spPr>
            <a:xfrm>
              <a:off x="3879720" y="4078080"/>
              <a:ext cx="460440" cy="1465560"/>
            </a:xfrm>
            <a:prstGeom prst="rect">
              <a:avLst/>
            </a:prstGeom>
            <a:solidFill>
              <a:srgbClr val="00b0f0">
                <a:alpha val="9000"/>
              </a:srgbClr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研发设计部 刘俊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17"/>
            <p:cNvSpPr/>
            <p:nvPr/>
          </p:nvSpPr>
          <p:spPr>
            <a:xfrm>
              <a:off x="3765600" y="3908520"/>
              <a:ext cx="689040" cy="2336760"/>
            </a:xfrm>
            <a:prstGeom prst="rect">
              <a:avLst/>
            </a:prstGeom>
            <a:noFill/>
            <a:ln w="50760">
              <a:solidFill>
                <a:srgbClr val="000000">
                  <a:alpha val="83000"/>
                </a:srgbClr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18"/>
          <p:cNvGrpSpPr/>
          <p:nvPr/>
        </p:nvGrpSpPr>
        <p:grpSpPr>
          <a:xfrm>
            <a:off x="5778360" y="3954600"/>
            <a:ext cx="689040" cy="2334960"/>
            <a:chOff x="5778360" y="3954600"/>
            <a:chExt cx="689040" cy="2334960"/>
          </a:xfrm>
        </p:grpSpPr>
        <p:sp>
          <p:nvSpPr>
            <p:cNvPr id="74" name="TextBox 23"/>
            <p:cNvSpPr/>
            <p:nvPr/>
          </p:nvSpPr>
          <p:spPr>
            <a:xfrm>
              <a:off x="5891760" y="4078800"/>
              <a:ext cx="461880" cy="1191240"/>
            </a:xfrm>
            <a:prstGeom prst="rect">
              <a:avLst/>
            </a:prstGeom>
            <a:solidFill>
              <a:srgbClr val="00b0f0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行政部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陈飞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20"/>
            <p:cNvSpPr/>
            <p:nvPr/>
          </p:nvSpPr>
          <p:spPr>
            <a:xfrm>
              <a:off x="5778360" y="3954600"/>
              <a:ext cx="689040" cy="2334960"/>
            </a:xfrm>
            <a:prstGeom prst="rect">
              <a:avLst/>
            </a:prstGeom>
            <a:noFill/>
            <a:ln w="50760">
              <a:solidFill>
                <a:srgbClr val="000000">
                  <a:alpha val="83000"/>
                </a:srgbClr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Box 21"/>
          <p:cNvSpPr/>
          <p:nvPr/>
        </p:nvSpPr>
        <p:spPr>
          <a:xfrm>
            <a:off x="-20520" y="882720"/>
            <a:ext cx="37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队及相应管理人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24"/>
          <p:cNvSpPr/>
          <p:nvPr/>
        </p:nvSpPr>
        <p:spPr>
          <a:xfrm>
            <a:off x="0" y="1425600"/>
            <a:ext cx="3348000" cy="0"/>
          </a:xfrm>
          <a:prstGeom prst="line">
            <a:avLst/>
          </a:prstGeom>
          <a:ln w="7632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250"/>
                            </p:stCondLst>
                            <p:childTnLst>
                              <p:par>
                                <p:cTn id="1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750"/>
                            </p:stCondLst>
                            <p:childTnLst>
                              <p:par>
                                <p:cTn id="1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Freeform 7" descr=""/>
          <p:cNvPicPr/>
          <p:nvPr/>
        </p:nvPicPr>
        <p:blipFill>
          <a:blip r:embed="rId2"/>
          <a:stretch/>
        </p:blipFill>
        <p:spPr>
          <a:xfrm>
            <a:off x="-520560" y="1190520"/>
            <a:ext cx="7584840" cy="5856480"/>
          </a:xfrm>
          <a:prstGeom prst="rect">
            <a:avLst/>
          </a:prstGeom>
          <a:ln w="0">
            <a:noFill/>
          </a:ln>
        </p:spPr>
      </p:pic>
      <p:sp>
        <p:nvSpPr>
          <p:cNvPr id="79" name="TextBox 1"/>
          <p:cNvSpPr/>
          <p:nvPr/>
        </p:nvSpPr>
        <p:spPr>
          <a:xfrm>
            <a:off x="6480" y="100188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总结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2"/>
          <p:cNvSpPr/>
          <p:nvPr/>
        </p:nvSpPr>
        <p:spPr>
          <a:xfrm flipV="1">
            <a:off x="0" y="1566360"/>
            <a:ext cx="2556000" cy="1800"/>
          </a:xfrm>
          <a:prstGeom prst="line">
            <a:avLst/>
          </a:prstGeom>
          <a:ln w="7632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9"/>
          <p:cNvGrpSpPr/>
          <p:nvPr/>
        </p:nvGrpSpPr>
        <p:grpSpPr>
          <a:xfrm>
            <a:off x="1278000" y="4427640"/>
            <a:ext cx="1530360" cy="716040"/>
            <a:chOff x="1278000" y="4427640"/>
            <a:chExt cx="1530360" cy="716040"/>
          </a:xfrm>
        </p:grpSpPr>
        <p:pic>
          <p:nvPicPr>
            <p:cNvPr id="82" name="直接连接符 60" descr=""/>
            <p:cNvPicPr/>
            <p:nvPr/>
          </p:nvPicPr>
          <p:blipFill>
            <a:blip r:embed="rId3"/>
            <a:stretch/>
          </p:blipFill>
          <p:spPr>
            <a:xfrm>
              <a:off x="1350000" y="4777200"/>
              <a:ext cx="138636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Box 8"/>
            <p:cNvSpPr/>
            <p:nvPr/>
          </p:nvSpPr>
          <p:spPr>
            <a:xfrm>
              <a:off x="1278000" y="4427640"/>
              <a:ext cx="153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行业分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10"/>
          <p:cNvGrpSpPr/>
          <p:nvPr/>
        </p:nvGrpSpPr>
        <p:grpSpPr>
          <a:xfrm>
            <a:off x="-60480" y="5527800"/>
            <a:ext cx="1528920" cy="715680"/>
            <a:chOff x="-60480" y="5527800"/>
            <a:chExt cx="1528920" cy="715680"/>
          </a:xfrm>
        </p:grpSpPr>
        <p:pic>
          <p:nvPicPr>
            <p:cNvPr id="85" name="直接连接符 60" descr=""/>
            <p:cNvPicPr/>
            <p:nvPr/>
          </p:nvPicPr>
          <p:blipFill>
            <a:blip r:embed="rId4"/>
            <a:stretch/>
          </p:blipFill>
          <p:spPr>
            <a:xfrm>
              <a:off x="11160" y="5877000"/>
              <a:ext cx="138528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Box 12"/>
            <p:cNvSpPr/>
            <p:nvPr/>
          </p:nvSpPr>
          <p:spPr>
            <a:xfrm>
              <a:off x="-60480" y="5527800"/>
              <a:ext cx="15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容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14"/>
          <p:cNvGrpSpPr/>
          <p:nvPr/>
        </p:nvGrpSpPr>
        <p:grpSpPr>
          <a:xfrm>
            <a:off x="2506680" y="3232080"/>
            <a:ext cx="1530360" cy="714600"/>
            <a:chOff x="2506680" y="3232080"/>
            <a:chExt cx="1530360" cy="714600"/>
          </a:xfrm>
        </p:grpSpPr>
        <p:pic>
          <p:nvPicPr>
            <p:cNvPr id="88" name="直接连接符 60" descr=""/>
            <p:cNvPicPr/>
            <p:nvPr/>
          </p:nvPicPr>
          <p:blipFill>
            <a:blip r:embed="rId5"/>
            <a:stretch/>
          </p:blipFill>
          <p:spPr>
            <a:xfrm>
              <a:off x="2578680" y="3580920"/>
              <a:ext cx="1386360" cy="3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16"/>
            <p:cNvSpPr/>
            <p:nvPr/>
          </p:nvSpPr>
          <p:spPr>
            <a:xfrm>
              <a:off x="2506680" y="3232080"/>
              <a:ext cx="153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标市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17"/>
          <p:cNvGrpSpPr/>
          <p:nvPr/>
        </p:nvGrpSpPr>
        <p:grpSpPr>
          <a:xfrm>
            <a:off x="3726000" y="1935000"/>
            <a:ext cx="2190600" cy="766800"/>
            <a:chOff x="3726000" y="1935000"/>
            <a:chExt cx="2190600" cy="766800"/>
          </a:xfrm>
        </p:grpSpPr>
        <p:pic>
          <p:nvPicPr>
            <p:cNvPr id="91" name="直接连接符 60" descr=""/>
            <p:cNvPicPr/>
            <p:nvPr/>
          </p:nvPicPr>
          <p:blipFill>
            <a:blip r:embed="rId6"/>
            <a:stretch/>
          </p:blipFill>
          <p:spPr>
            <a:xfrm>
              <a:off x="3965400" y="2335320"/>
              <a:ext cx="183168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19"/>
            <p:cNvSpPr/>
            <p:nvPr/>
          </p:nvSpPr>
          <p:spPr>
            <a:xfrm>
              <a:off x="3726000" y="1935000"/>
              <a:ext cx="21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预计占有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Box 20"/>
          <p:cNvSpPr/>
          <p:nvPr/>
        </p:nvSpPr>
        <p:spPr>
          <a:xfrm>
            <a:off x="2027160" y="595620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休闲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将服装续保持高速增长，年增幅将保持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%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1"/>
          <p:cNvSpPr/>
          <p:nvPr/>
        </p:nvSpPr>
        <p:spPr>
          <a:xfrm>
            <a:off x="3273480" y="4627440"/>
            <a:ext cx="559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休闲服装市场空间和发展潜力巨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2"/>
          <p:cNvSpPr/>
          <p:nvPr/>
        </p:nvSpPr>
        <p:spPr>
          <a:xfrm>
            <a:off x="4483080" y="3409920"/>
            <a:ext cx="444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锁定在年龄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－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学生、上班族及喜欢时尚的人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3"/>
          <p:cNvSpPr/>
          <p:nvPr/>
        </p:nvSpPr>
        <p:spPr>
          <a:xfrm>
            <a:off x="6372360" y="2347920"/>
            <a:ext cx="28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三级市场覆盖率达到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-76320" y="96192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竞争者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2"/>
          <p:cNvSpPr/>
          <p:nvPr/>
        </p:nvSpPr>
        <p:spPr>
          <a:xfrm flipV="1">
            <a:off x="0" y="1628280"/>
            <a:ext cx="2556000" cy="3240"/>
          </a:xfrm>
          <a:prstGeom prst="line">
            <a:avLst/>
          </a:prstGeom>
          <a:ln w="7632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10"/>
          <p:cNvSpPr/>
          <p:nvPr/>
        </p:nvSpPr>
        <p:spPr>
          <a:xfrm>
            <a:off x="525600" y="5972040"/>
            <a:ext cx="5222880" cy="108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等腰三角形 6"/>
          <p:cNvSpPr/>
          <p:nvPr/>
        </p:nvSpPr>
        <p:spPr>
          <a:xfrm>
            <a:off x="2246400" y="3021120"/>
            <a:ext cx="1797120" cy="1468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等腰三角形 7"/>
          <p:cNvSpPr/>
          <p:nvPr/>
        </p:nvSpPr>
        <p:spPr>
          <a:xfrm>
            <a:off x="3240000" y="4681440"/>
            <a:ext cx="1765440" cy="1500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等腰三角形 6"/>
          <p:cNvSpPr/>
          <p:nvPr/>
        </p:nvSpPr>
        <p:spPr>
          <a:xfrm rot="10800000">
            <a:off x="2211480" y="4578480"/>
            <a:ext cx="1822320" cy="1550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等腰三角形 11"/>
          <p:cNvSpPr/>
          <p:nvPr/>
        </p:nvSpPr>
        <p:spPr>
          <a:xfrm>
            <a:off x="1278000" y="4681440"/>
            <a:ext cx="1765080" cy="1500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2752560" y="478476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主要竞争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3982320" y="53467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Calibri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2918880" y="35416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Calibri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1865520" y="53467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Calibri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 flipH="1">
            <a:off x="-527760" y="519912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c0c0c"/>
                </a:solidFill>
                <a:latin typeface="微软雅黑"/>
                <a:ea typeface="微软雅黑"/>
              </a:rPr>
              <a:t>以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 flipH="1">
            <a:off x="-129240" y="556884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名度不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 flipH="1">
            <a:off x="-129240" y="584532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才匮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 flipH="1">
            <a:off x="4739400" y="5199120"/>
            <a:ext cx="20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c0c0c"/>
                </a:solidFill>
                <a:latin typeface="微软雅黑"/>
                <a:ea typeface="微软雅黑"/>
              </a:rPr>
              <a:t>唐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1"/>
          <p:cNvSpPr/>
          <p:nvPr/>
        </p:nvSpPr>
        <p:spPr>
          <a:xfrm flipH="1">
            <a:off x="5138640" y="556884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忠诚度不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 flipH="1">
            <a:off x="5138640" y="58341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运营能力不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 flipH="1">
            <a:off x="2082240" y="208296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c0c0c"/>
                </a:solidFill>
                <a:latin typeface="微软雅黑"/>
                <a:ea typeface="微软雅黑"/>
              </a:rPr>
              <a:t>美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 flipH="1">
            <a:off x="2482200" y="2451240"/>
            <a:ext cx="125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新设计不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1"/>
          <p:cNvSpPr/>
          <p:nvPr/>
        </p:nvSpPr>
        <p:spPr>
          <a:xfrm flipH="1">
            <a:off x="2482200" y="2728800"/>
            <a:ext cx="125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形式单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1"/>
          <p:cNvSpPr/>
          <p:nvPr/>
        </p:nvSpPr>
        <p:spPr>
          <a:xfrm>
            <a:off x="4344840" y="1743120"/>
            <a:ext cx="464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三线城市消费者处于品牌消费觉醒初期，我们具有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竞争优势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这是因为我们的产品还处于起步阶段，有很大的发展空间，以二三线城市为切入点进入市场的速度较快，再运用相应的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竞争策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消除消除壁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0" y="97488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与服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2"/>
          <p:cNvSpPr/>
          <p:nvPr/>
        </p:nvSpPr>
        <p:spPr>
          <a:xfrm flipV="1">
            <a:off x="0" y="1628280"/>
            <a:ext cx="2556000" cy="3240"/>
          </a:xfrm>
          <a:prstGeom prst="line">
            <a:avLst/>
          </a:prstGeom>
          <a:ln w="7632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50920" y="1724040"/>
            <a:ext cx="8642160" cy="5138640"/>
            <a:chOff x="250920" y="1724040"/>
            <a:chExt cx="8642160" cy="5138640"/>
          </a:xfrm>
        </p:grpSpPr>
        <p:sp>
          <p:nvSpPr>
            <p:cNvPr id="121" name=""/>
            <p:cNvSpPr/>
            <p:nvPr/>
          </p:nvSpPr>
          <p:spPr>
            <a:xfrm>
              <a:off x="250920" y="1724040"/>
              <a:ext cx="2700720" cy="2371680"/>
            </a:xfrm>
            <a:prstGeom prst="rect">
              <a:avLst/>
            </a:prstGeom>
            <a:solidFill>
              <a:srgbClr val="c0504c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0920" y="1724040"/>
              <a:ext cx="2700720" cy="23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前卫派休闲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21640" y="1724040"/>
              <a:ext cx="2700720" cy="2371680"/>
            </a:xfrm>
            <a:prstGeom prst="rect">
              <a:avLst/>
            </a:prstGeom>
            <a:solidFill>
              <a:srgbClr val="9bbb59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21640" y="1724040"/>
              <a:ext cx="2700720" cy="23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运动派休闲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92360" y="1724040"/>
              <a:ext cx="2700720" cy="2371680"/>
            </a:xfrm>
            <a:prstGeom prst="rect">
              <a:avLst/>
            </a:prstGeom>
            <a:solidFill>
              <a:srgbClr val="8064a2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92360" y="1724040"/>
              <a:ext cx="2700720" cy="23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浪漫派休闲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36280" y="4491000"/>
              <a:ext cx="2700720" cy="2371680"/>
            </a:xfrm>
            <a:prstGeom prst="rect">
              <a:avLst/>
            </a:prstGeom>
            <a:solidFill>
              <a:srgbClr val="4aacc6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36280" y="4491000"/>
              <a:ext cx="2700720" cy="23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民俗派休闲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07000" y="4491000"/>
              <a:ext cx="2700720" cy="2371680"/>
            </a:xfrm>
            <a:prstGeom prst="rect">
              <a:avLst/>
            </a:prstGeom>
            <a:solidFill>
              <a:srgbClr val="f79645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07000" y="4491000"/>
              <a:ext cx="2700720" cy="23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牛仔派休闲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50920" y="836640"/>
            <a:ext cx="8569080" cy="6189480"/>
            <a:chOff x="250920" y="836640"/>
            <a:chExt cx="8569080" cy="6189480"/>
          </a:xfrm>
        </p:grpSpPr>
        <p:sp>
          <p:nvSpPr>
            <p:cNvPr id="132" name=""/>
            <p:cNvSpPr/>
            <p:nvPr/>
          </p:nvSpPr>
          <p:spPr>
            <a:xfrm>
              <a:off x="250920" y="836640"/>
              <a:ext cx="1862640" cy="6189480"/>
            </a:xfrm>
            <a:custGeom>
              <a:avLst/>
              <a:gdLst>
                <a:gd name="textAreaLeft" fmla="*/ 0 w 1862640"/>
                <a:gd name="textAreaRight" fmla="*/ 1863000 w 1862640"/>
                <a:gd name="textAreaTop" fmla="*/ 0 h 6189480"/>
                <a:gd name="textAreaBottom" fmla="*/ 6189840 h 618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1" y="0"/>
                  </a:lnTo>
                  <a:lnTo>
                    <a:pt x="21600" y="10800"/>
                  </a:lnTo>
                  <a:lnTo>
                    <a:pt x="17281" y="21600"/>
                  </a:lnTo>
                  <a:lnTo>
                    <a:pt x="0" y="21600"/>
                  </a:lnTo>
                  <a:lnTo>
                    <a:pt x="4319" y="10800"/>
                  </a:lnTo>
                  <a:close/>
                </a:path>
              </a:pathLst>
            </a:custGeom>
            <a:solidFill>
              <a:srgbClr val="c0504c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3160" y="836640"/>
              <a:ext cx="1117440" cy="61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22680" bIns="2268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规划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27440" y="836640"/>
              <a:ext cx="1862640" cy="6189480"/>
            </a:xfrm>
            <a:custGeom>
              <a:avLst/>
              <a:gdLst>
                <a:gd name="textAreaLeft" fmla="*/ 0 w 1862640"/>
                <a:gd name="textAreaRight" fmla="*/ 1863000 w 1862640"/>
                <a:gd name="textAreaTop" fmla="*/ 0 h 6189480"/>
                <a:gd name="textAreaBottom" fmla="*/ 6189840 h 618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1" y="0"/>
                  </a:lnTo>
                  <a:lnTo>
                    <a:pt x="21600" y="10800"/>
                  </a:lnTo>
                  <a:lnTo>
                    <a:pt x="17281" y="21600"/>
                  </a:lnTo>
                  <a:lnTo>
                    <a:pt x="0" y="21600"/>
                  </a:lnTo>
                  <a:lnTo>
                    <a:pt x="4319" y="10800"/>
                  </a:lnTo>
                  <a:close/>
                </a:path>
              </a:pathLst>
            </a:custGeom>
            <a:solidFill>
              <a:srgbClr val="9bbb59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00040" y="836640"/>
              <a:ext cx="1117440" cy="61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22680" bIns="2268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研究与开发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03960" y="836640"/>
              <a:ext cx="1862640" cy="6189480"/>
            </a:xfrm>
            <a:custGeom>
              <a:avLst/>
              <a:gdLst>
                <a:gd name="textAreaLeft" fmla="*/ 0 w 1862640"/>
                <a:gd name="textAreaRight" fmla="*/ 1863000 w 1862640"/>
                <a:gd name="textAreaTop" fmla="*/ 0 h 6189480"/>
                <a:gd name="textAreaBottom" fmla="*/ 6189840 h 618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1" y="0"/>
                  </a:lnTo>
                  <a:lnTo>
                    <a:pt x="21600" y="10800"/>
                  </a:lnTo>
                  <a:lnTo>
                    <a:pt x="17281" y="21600"/>
                  </a:lnTo>
                  <a:lnTo>
                    <a:pt x="0" y="21600"/>
                  </a:lnTo>
                  <a:lnTo>
                    <a:pt x="4319" y="10800"/>
                  </a:lnTo>
                  <a:close/>
                </a:path>
              </a:pathLst>
            </a:custGeom>
            <a:solidFill>
              <a:srgbClr val="8064a2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76560" y="836640"/>
              <a:ext cx="1117440" cy="61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22680" bIns="2268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生产与储运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80480" y="836640"/>
              <a:ext cx="1862640" cy="6189480"/>
            </a:xfrm>
            <a:custGeom>
              <a:avLst/>
              <a:gdLst>
                <a:gd name="textAreaLeft" fmla="*/ 0 w 1862640"/>
                <a:gd name="textAreaRight" fmla="*/ 1863000 w 1862640"/>
                <a:gd name="textAreaTop" fmla="*/ 0 h 6189480"/>
                <a:gd name="textAreaBottom" fmla="*/ 6189840 h 618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1" y="0"/>
                  </a:lnTo>
                  <a:lnTo>
                    <a:pt x="21600" y="10800"/>
                  </a:lnTo>
                  <a:lnTo>
                    <a:pt x="17281" y="21600"/>
                  </a:lnTo>
                  <a:lnTo>
                    <a:pt x="0" y="21600"/>
                  </a:lnTo>
                  <a:lnTo>
                    <a:pt x="4319" y="10800"/>
                  </a:lnTo>
                  <a:close/>
                </a:path>
              </a:pathLst>
            </a:custGeom>
            <a:solidFill>
              <a:srgbClr val="4aacc6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53080" y="836640"/>
              <a:ext cx="1117440" cy="61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22680" bIns="2268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包装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57360" y="836640"/>
              <a:ext cx="1862640" cy="6189480"/>
            </a:xfrm>
            <a:custGeom>
              <a:avLst/>
              <a:gdLst>
                <a:gd name="textAreaLeft" fmla="*/ 0 w 1862640"/>
                <a:gd name="textAreaRight" fmla="*/ 1863000 w 1862640"/>
                <a:gd name="textAreaTop" fmla="*/ 0 h 6189480"/>
                <a:gd name="textAreaBottom" fmla="*/ 6189840 h 618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1" y="0"/>
                  </a:lnTo>
                  <a:lnTo>
                    <a:pt x="21600" y="10800"/>
                  </a:lnTo>
                  <a:lnTo>
                    <a:pt x="17281" y="21600"/>
                  </a:lnTo>
                  <a:lnTo>
                    <a:pt x="0" y="21600"/>
                  </a:lnTo>
                  <a:lnTo>
                    <a:pt x="4319" y="10800"/>
                  </a:lnTo>
                  <a:close/>
                </a:path>
              </a:pathLst>
            </a:custGeom>
            <a:solidFill>
              <a:srgbClr val="f79645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29960" y="836640"/>
              <a:ext cx="1117440" cy="61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22680" bIns="2268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支持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直接连接符 1"/>
          <p:cNvSpPr/>
          <p:nvPr/>
        </p:nvSpPr>
        <p:spPr>
          <a:xfrm flipV="1">
            <a:off x="0" y="1566360"/>
            <a:ext cx="2556000" cy="1800"/>
          </a:xfrm>
          <a:prstGeom prst="line">
            <a:avLst/>
          </a:prstGeom>
          <a:ln w="7632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-14400" y="1022400"/>
            <a:ext cx="24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财务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168120" y="1917720"/>
            <a:ext cx="8641080" cy="368280"/>
          </a:xfrm>
          <a:prstGeom prst="rect">
            <a:avLst/>
          </a:prstGeom>
          <a:noFill/>
          <a:ln w="63360">
            <a:solidFill>
              <a:srgbClr val="ffff00">
                <a:alpha val="98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正在寻找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0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元的商业贷款，长期贷款主要用于未来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本公司的发展。到那时，我们还需要增加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元的资金使我们超过现金平衡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8120" y="3429000"/>
          <a:ext cx="3816360" cy="2282760"/>
        </p:xfrm>
        <a:graphic>
          <a:graphicData uri="http://schemas.openxmlformats.org/drawingml/2006/table">
            <a:tbl>
              <a:tblPr/>
              <a:tblGrid>
                <a:gridCol w="1908000"/>
                <a:gridCol w="1908360"/>
              </a:tblGrid>
              <a:tr h="447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ccc5d7"/>
                      </a:solidFill>
                    </a:lnL>
                    <a:lnR>
                      <a:noFill/>
                    </a:lnR>
                    <a:lnT w="4320">
                      <a:solidFill>
                        <a:srgbClr val="ccc5d7"/>
                      </a:solidFill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资金（万元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ccc5d7"/>
                      </a:solidFill>
                    </a:lnR>
                    <a:lnT w="4320">
                      <a:solidFill>
                        <a:srgbClr val="ccc5d7"/>
                      </a:solidFill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</a:tr>
              <a:tr h="458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开设直营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ccc5d7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ccc5d7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</a:tr>
              <a:tr h="458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设备、研发团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ccc5d7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ccc5d7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</a:tr>
              <a:tr h="459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完成新开发项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ccc5d7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ccc5d7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</a:tr>
              <a:tr h="458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流动资金投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ccc5d7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ccc5d7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ccc5d7"/>
                      </a:solidFill>
                    </a:lnR>
                    <a:lnT>
                      <a:noFill/>
                    </a:lnT>
                    <a:lnB w="4320">
                      <a:solidFill>
                        <a:srgbClr val="ccc5d7"/>
                      </a:solidFill>
                    </a:lnB>
                    <a:solidFill>
                      <a:srgbClr val="8064a2"/>
                    </a:solidFill>
                  </a:tcPr>
                </a:tc>
              </a:tr>
            </a:tbl>
          </a:graphicData>
        </a:graphic>
      </p:graphicFrame>
      <p:sp>
        <p:nvSpPr>
          <p:cNvPr id="146" name="TextBox 7"/>
          <p:cNvSpPr/>
          <p:nvPr/>
        </p:nvSpPr>
        <p:spPr>
          <a:xfrm>
            <a:off x="4329000" y="3429000"/>
            <a:ext cx="4464000" cy="1739880"/>
          </a:xfrm>
          <a:prstGeom prst="rect">
            <a:avLst/>
          </a:prstGeom>
          <a:noFill/>
          <a:ln w="63360">
            <a:solidFill>
              <a:srgbClr val="5f49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测最近三年，公司可能取得的经营业绩，主营业务综合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毛利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年平均为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9.40%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净资产收益率平均为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1.51%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销售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净利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均为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.40%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盈利能力处于同行业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领先水平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度、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度和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度，公司实现营业收入依次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0.60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元、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.09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元和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80.16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元，年复合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长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到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.9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直接连接符 1"/>
          <p:cNvSpPr/>
          <p:nvPr/>
        </p:nvSpPr>
        <p:spPr>
          <a:xfrm flipV="1">
            <a:off x="0" y="1566360"/>
            <a:ext cx="2556000" cy="1800"/>
          </a:xfrm>
          <a:prstGeom prst="line">
            <a:avLst/>
          </a:prstGeom>
          <a:ln w="7632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71280" y="1004760"/>
            <a:ext cx="24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0760" y="765000"/>
            <a:ext cx="8821800" cy="5268960"/>
            <a:chOff x="50760" y="765000"/>
            <a:chExt cx="8821800" cy="5268960"/>
          </a:xfrm>
        </p:grpSpPr>
        <p:sp>
          <p:nvSpPr>
            <p:cNvPr id="150" name=""/>
            <p:cNvSpPr/>
            <p:nvPr/>
          </p:nvSpPr>
          <p:spPr>
            <a:xfrm>
              <a:off x="50760" y="765000"/>
              <a:ext cx="1764360" cy="5268960"/>
            </a:xfrm>
            <a:prstGeom prst="ellipse">
              <a:avLst/>
            </a:prstGeom>
            <a:solidFill>
              <a:srgbClr val="4aacc6">
                <a:alpha val="50000"/>
              </a:srgbClr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8880" y="1536480"/>
              <a:ext cx="1247400" cy="37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产品生产依赖于外包的风险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61960" y="765000"/>
              <a:ext cx="1764360" cy="5268960"/>
            </a:xfrm>
            <a:prstGeom prst="ellipse">
              <a:avLst/>
            </a:prstGeom>
            <a:solidFill>
              <a:srgbClr val="45cfa0">
                <a:alpha val="50000"/>
              </a:srgbClr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20440" y="1536480"/>
              <a:ext cx="1247400" cy="37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产品运输及仓储的风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73520" y="765000"/>
              <a:ext cx="1764360" cy="5268960"/>
            </a:xfrm>
            <a:prstGeom prst="ellipse">
              <a:avLst/>
            </a:prstGeom>
            <a:solidFill>
              <a:srgbClr val="44d955">
                <a:alpha val="50000"/>
              </a:srgbClr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32000" y="1536480"/>
              <a:ext cx="1247400" cy="37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成本和委托加工成本增加的风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85080" y="765000"/>
              <a:ext cx="1764360" cy="5268960"/>
            </a:xfrm>
            <a:prstGeom prst="ellipse">
              <a:avLst/>
            </a:prstGeom>
            <a:solidFill>
              <a:srgbClr val="8ae444">
                <a:alpha val="50000"/>
              </a:srgbClr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43560" y="1536480"/>
              <a:ext cx="1247400" cy="37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公司经营业绩季节性波动的风险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96640" y="765000"/>
              <a:ext cx="1764360" cy="5268960"/>
            </a:xfrm>
            <a:prstGeom prst="ellipse">
              <a:avLst/>
            </a:prstGeom>
            <a:solidFill>
              <a:srgbClr val="ebec40">
                <a:alpha val="50000"/>
              </a:srgbClr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55120" y="1536480"/>
              <a:ext cx="1247400" cy="37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行业竞争激烈的风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08200" y="765000"/>
              <a:ext cx="1764360" cy="5268960"/>
            </a:xfrm>
            <a:prstGeom prst="ellipse">
              <a:avLst/>
            </a:prstGeom>
            <a:solidFill>
              <a:srgbClr val="f59341">
                <a:alpha val="50000"/>
              </a:srgbClr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66680" y="1536480"/>
              <a:ext cx="1247400" cy="37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休闲服饰的流行趋势的风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4"/>
          <p:cNvSpPr/>
          <p:nvPr/>
        </p:nvSpPr>
        <p:spPr>
          <a:xfrm>
            <a:off x="243000" y="5340240"/>
            <a:ext cx="8640720" cy="398880"/>
          </a:xfrm>
          <a:prstGeom prst="rect">
            <a:avLst/>
          </a:prstGeom>
          <a:noFill/>
          <a:ln w="633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衣无缺充分考虑风险因素，运用相应的规避风险策略维护投资者权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09:04:00Z</dcterms:created>
  <dc:creator>Administrator</dc:creator>
  <dc:description/>
  <dc:language>en-US</dc:language>
  <cp:lastModifiedBy>SkyUN.Org</cp:lastModifiedBy>
  <dcterms:modified xsi:type="dcterms:W3CDTF">2015-02-19T02:49:43Z</dcterms:modified>
  <cp:revision>2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