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722D1-3A99-404E-985E-11B2E09E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726C4-2B10-4D71-8E53-027091D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663A-8BE7-47F1-884C-6E790E18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D7B7F-954A-4D35-BF26-B480F649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A77A-CDCE-4BD0-834B-3193B1A6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24E2-97E6-4366-9488-8D816D9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2826E-7062-440E-ACFB-D0856BB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E575-B597-40DB-A9F4-604260D1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F3C0-D296-4608-9F97-BEF4B6E0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F25B5-F0B1-40A1-91E9-313590B4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F355-9ED8-4E54-8A78-70E0163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64C65-55F1-4D85-8A37-DC052FDA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C3BF-209C-4540-8BD4-1F64DFBC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301FB-1D1E-4140-9275-88BAE690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F221E-27C1-4224-89FC-509A0D67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9099-1CF3-438F-8D40-04AC52A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0FB68-52BF-465F-9AC7-1938E1B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FC36C-590D-4736-8DD2-1940376C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B987-F841-4018-8583-BFE62B41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93EE0-B546-48DF-A1C9-3407287D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93B4-2DFB-4A68-BA27-810392BA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1A55-FEB7-4219-A6B6-6C92E5A0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79670-48AB-4B01-B7EF-EC01EDF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5D19D-8783-4948-9F6A-3C39204A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F646A-C73C-471A-8463-ED916DB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A2B59-6365-4E9A-8FE3-28BDB90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BA573-8793-4639-8198-8963B6E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268D6-C736-4E3D-B7CD-28AFA243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E050D-8EFC-4230-8FFF-3F9458E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6548C-91D1-4AE7-B4B8-695AA2C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D35-08C3-4182-90FA-E3434AFC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C8867-5009-44DD-9CB6-E248E81F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A65F9-2E6A-4D71-A134-3BCDDFA8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D1867-FF99-4F6D-8B3E-B485FDA6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7C72C-4D4A-41D6-97B0-1674CAFA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F15D2-95A9-46DD-B560-B5D91A23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03309-14A0-4E45-A9E5-EE4CD83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4E9F5-0765-4E3A-B7EF-A0E5F9E0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67C10-97C3-412E-9E60-F702BA6B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D3880-741B-452E-99CC-6954CF8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4ED5C-4DB3-4F01-9E4E-F75A9A56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A82-384F-41DD-94E2-A66A3E5D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9C50C-2DEF-45E6-951C-E4E483F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D49A1-E97C-45E7-979D-2D6762DC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AF8D0-06CB-4A26-A528-71980943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89831-4062-4307-A362-87F2B9C5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58979-BD91-4D96-B412-DE202F61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67E02-9484-46CE-95BF-16CCC9D6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3745-1E11-4782-B28D-F9B8DF7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9801C-44CC-4052-BD57-876C410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5D556-A76C-4A8B-B473-F6941DE8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4E71F-96BB-4276-82E3-60A9B67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67B-09F6-439F-827E-DAAA8086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F18F0-31E2-4AE7-91C9-11223ED9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78B84-8927-4163-B306-8D53B748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5EACD-9DAE-47D0-B5BE-B22260F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22673-8C3F-46A6-ABB8-6755943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9DCBA-E76A-4F91-B79E-FBCFB2E5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8D1CD-05C0-4643-B82B-0D99F089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C5728-FAB1-41EA-B5B3-4066FCCA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C3646-292A-408E-8D5B-3C9C2B1C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ACB13-20DA-484B-89F1-3A04E251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B2C46-1E97-4FF3-B729-1E337645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3B4-548C-4192-88D0-CB01823E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0E8EF-7BA0-4D56-AE46-92340E00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B7618-089A-4AF1-81E7-A997C91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26647-6FA8-4A5E-A650-1AB38BB0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594A6-4581-451E-8CB5-C283CA8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3B585-7E66-4AC2-89D3-FDD8405F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6ACD8-000F-4E5D-81D5-E5FD5B5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CEE99-99B2-4115-A64F-5F8CD1E2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04B04-980A-4292-8E67-F9937B87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F2416-1E4F-4446-96F7-97F1131E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3A43B-C658-464C-B21F-1CA7BA2B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39A-242E-48CD-9282-A8D7291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A2AE7-93FC-47E7-974F-F3113B83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9342F-35C5-4FAE-BD0F-767AB15E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A81E6-D7FE-4D86-8005-FD6F7B9F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C9F13-FA62-4B53-8D93-2826A5EB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4FD9C-48FA-4675-BD12-ADC5856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AFADE-1189-43A8-A522-AF0553B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FA59D-F201-4DD1-8838-C8B314A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37914-1CAB-45B3-8497-0559314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6FFB1-9A10-4AF9-A698-87AC7ED4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6A360-27BF-4611-93E7-3017CBD6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683-ABFE-40C0-9C55-76242CE8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39D7B-7822-42B4-BC33-891D4876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485A5-7262-46BD-87E7-5A730E8F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0FA61-62C7-4700-8312-6BF0FA68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3E0B9-250D-4537-A537-3250ED8E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2E6DD-7DC5-4C09-BA45-54C0C0C0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A46A8-24B4-48DC-93EC-34D64E0B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108A4-781B-4FB1-A19E-8F1CA2B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DDE60-2D59-4BEB-9C4A-C346A0E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E8F7E-D8A2-44D5-9F2C-07A1047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790C3-43F9-44F3-9B81-782EFA41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2CE-8A04-4AFB-B520-46A7474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5A9FA-65A3-4E8C-8F31-09666739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85B53-B3B7-4CAD-8F05-9AD478FB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322A4-5085-4D61-8853-116BD142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DB0-7553-4074-988C-C01DC49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1B8-25B2-40C4-8190-81356DA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7F7-958B-4183-A4E7-61EDAFE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F0F-5ECF-40D3-852A-D32FE217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EBF-E2BA-452D-A1F9-86AF44C9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B2FB-1079-466C-A2AA-A22D67C0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F1A9-43B6-4757-97F0-B47D9D75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7D9C-3FC8-4695-8BC7-0F57B1B3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F514-4AC1-4497-93A5-4ADF0EC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1A2B-008E-45F8-A987-D363795A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1E22-34B5-4CD1-BD9B-69FC6D34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9824-5F4F-44D4-A4FE-E102666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D992-932C-4A02-91F5-6FD24906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3665-4831-44FA-8ECB-B1A43EB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C707-54C9-4925-BE2E-A04BBB5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307E-4643-4CBE-99ED-9B265C5C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034A-0200-494D-8F1C-C6260970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8076-B2F1-42B6-8F7D-040CFA36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A9A9-A07B-4198-BA5C-14F69F3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6B52-732C-4782-AEAF-F15E49E7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F485-01DA-4A39-BC75-41ADAA62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460A-498D-4CAB-B4EC-E240E90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DAD3-0596-4F03-9D4B-F3378BB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E864-8C3D-407B-874D-D6C1E5A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49EE-5D15-406B-8CB0-36C415B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4112-5C69-4908-8905-60A578B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9615-AC39-4F6E-BA19-59DC550D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13E3-A9B3-4C55-A802-84B1C423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6856-D2B7-4899-99DA-B9D87AED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1D88-51E7-4FBB-8449-0E5EE733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D5A5-A89C-4914-B85C-15721932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DFB3-EC16-4C4D-AC1D-B7806572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042AC-BBC8-4AEC-B656-2F1F684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584D-D080-4BF2-9741-3F4C151B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2E46-EC3C-4486-9A91-37146CE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1AE5-BDF2-459B-940E-EA87E8F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A15E-5A46-479B-9CAB-47B601A3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8D0A-DEFA-4FAC-95E0-A1EE2D9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59D6-7452-4236-AFA2-ED23D9C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A58B-AEC0-4C44-AB46-B489C36C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20B2-6AEE-4D0D-BF7F-CBF1DFFF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3183-6388-4F32-B28E-762C96EF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7BE0-2680-4345-943B-2DAFF28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5F401-60D3-42A4-94D1-5423C4BE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4066-FE0F-4C12-928E-4DE82C7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59B04-476B-4A0E-9A37-1EE933AC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FED76-3270-41A6-9163-538DB8B3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1D6D-A16D-41DB-8DE1-9259BB4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A17F-1543-411A-B7C3-C0DB78A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A035-EE85-4243-91DF-5F045CC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006F0-9549-4973-ACFA-ECD09C0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E3102-F766-4845-871C-702EFADE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0AE24-7B66-4B46-8015-CA7B1E52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CC0C-8B30-4645-9FFD-E5070820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7ED5-FC44-43B0-B696-B549F874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30620-B1AC-4280-9460-98D89C5A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39A48-552F-4B4C-B49B-E3DBC068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03AAD-0004-4F87-9258-E12A3E5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C9AD-9BD4-4A26-9E9E-108F17BA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9AD9A-4ACF-4BEB-A37C-75E8244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7260F-783B-4838-8B25-F53A879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949F-D749-4767-9D29-6C593AB1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55133-8C29-4FE8-BE63-BF6B742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A243-AF83-460F-9FF3-E2334DB8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7D5C-238A-45E1-9DE8-10B64C9F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CBB0-C8C3-4303-823B-6EDEEEFC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CE46-C4EE-4136-BFFF-736D1F29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85172-1A46-4792-BDC0-78CA6AEC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198-8C2E-46F8-873B-6C308E4F5A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7397-D013-4D48-821B-0531459B40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1CEC-59CB-4568-A0A2-39A8B083E6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0E49-DBF3-460C-B4B7-9DEB11DBD4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CF5D-D876-4F71-BBC6-5CE63E36C7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659-C2F9-4952-BCFF-2B51726F2E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D25C-5E1E-4012-AA93-5688EF1BCA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F989-C9E5-48B7-B75E-CC9C2D57C1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:\2013会议\20130129政情交流会\政情交流会ppt\政协PPT-1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CA41-F29D-458C-A049-621F2489A0D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D3D-950E-468F-AF62-E8BE802F3FE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23C0-4FFC-47DB-B43B-9251B39385F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95DE-3320-4ADA-868B-5E63E28120A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7F1A-5750-4ED8-AEC8-452B8B1D49C9}" type="slidenum">
              <a:rPr b="0" lang="zh-CN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E2D1-5F7D-411F-B856-9E98548CE2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0705-7EE5-440C-84A4-20195AAEA1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E13-1C68-48DE-A196-03029180E6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786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食品安全监管情况报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0" y="3359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食品安全委员会办公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5-01-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959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962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11"/>
          <p:cNvGrpSpPr/>
          <p:nvPr/>
        </p:nvGrpSpPr>
        <p:grpSpPr>
          <a:xfrm>
            <a:off x="714240" y="2000160"/>
            <a:ext cx="5158080" cy="3786120"/>
            <a:chOff x="714240" y="2000160"/>
            <a:chExt cx="5158080" cy="3786120"/>
          </a:xfrm>
        </p:grpSpPr>
        <p:grpSp>
          <p:nvGrpSpPr>
            <p:cNvPr id="967" name="Group 12"/>
            <p:cNvGrpSpPr/>
            <p:nvPr/>
          </p:nvGrpSpPr>
          <p:grpSpPr>
            <a:xfrm>
              <a:off x="2261160" y="2000160"/>
              <a:ext cx="2145960" cy="3786120"/>
              <a:chOff x="2261160" y="2000160"/>
              <a:chExt cx="2145960" cy="3786120"/>
            </a:xfrm>
          </p:grpSpPr>
          <p:sp>
            <p:nvSpPr>
              <p:cNvPr id="968" name="圆角矩形 2"/>
              <p:cNvSpPr/>
              <p:nvPr/>
            </p:nvSpPr>
            <p:spPr>
              <a:xfrm>
                <a:off x="3243240" y="2000160"/>
                <a:ext cx="107640" cy="3757320"/>
              </a:xfrm>
              <a:custGeom>
                <a:avLst/>
                <a:gdLst>
                  <a:gd name="textAreaLeft" fmla="*/ 15480 w 107640"/>
                  <a:gd name="textAreaRight" fmla="*/ 92160 w 107640"/>
                  <a:gd name="textAreaTop" fmla="*/ 15480 h 3757320"/>
                  <a:gd name="textAreaBottom" fmla="*/ 3741840 h 3757320"/>
                </a:gdLst>
                <a:ahLst/>
                <a:rect l="textAreaLeft" t="textAreaTop" r="textAreaRight" b="textAreaBottom"/>
                <a:pathLst>
                  <a:path w="21600" h="751536">
                    <a:moveTo>
                      <a:pt x="10800" y="0"/>
                    </a:moveTo>
                    <a:arcTo wR="10800" hR="10800" stAng="16200000" swAng="-5400000"/>
                    <a:lnTo>
                      <a:pt x="0" y="740736"/>
                    </a:lnTo>
                    <a:arcTo wR="10800" hR="10800" stAng="10800000" swAng="-5400000"/>
                    <a:lnTo>
                      <a:pt x="10800" y="75153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62626"/>
                  </a:gs>
                  <a:gs pos="100000">
                    <a:srgbClr val="7f7f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65"/>
              <p:cNvSpPr/>
              <p:nvPr/>
            </p:nvSpPr>
            <p:spPr>
              <a:xfrm>
                <a:off x="3039120" y="5631480"/>
                <a:ext cx="503640" cy="154800"/>
              </a:xfrm>
              <a:prstGeom prst="ellipse">
                <a:avLst/>
              </a:prstGeom>
              <a:gradFill rotWithShape="0">
                <a:gsLst>
                  <a:gs pos="0">
                    <a:srgbClr val="6d6c66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Group 15"/>
              <p:cNvGrpSpPr/>
              <p:nvPr/>
            </p:nvGrpSpPr>
            <p:grpSpPr>
              <a:xfrm>
                <a:off x="2802240" y="2445480"/>
                <a:ext cx="915840" cy="503640"/>
                <a:chOff x="2802240" y="2445480"/>
                <a:chExt cx="915840" cy="503640"/>
              </a:xfrm>
            </p:grpSpPr>
            <p:sp>
              <p:nvSpPr>
                <p:cNvPr id="971" name="任意多边形 7"/>
                <p:cNvSpPr/>
                <p:nvPr/>
              </p:nvSpPr>
              <p:spPr>
                <a:xfrm>
                  <a:off x="2802240" y="2522880"/>
                  <a:ext cx="915840" cy="426240"/>
                </a:xfrm>
                <a:custGeom>
                  <a:avLst/>
                  <a:gdLst>
                    <a:gd name="textAreaLeft" fmla="*/ 0 w 915840"/>
                    <a:gd name="textAreaRight" fmla="*/ 916200 w 915840"/>
                    <a:gd name="textAreaTop" fmla="*/ 0 h 426240"/>
                    <a:gd name="textAreaBottom" fmla="*/ 426600 h 426240"/>
                  </a:gdLst>
                  <a:ahLst/>
                  <a:rect l="textAreaLeft" t="textAreaTop" r="textAreaRight" b="textAreaBottom"/>
                  <a:pathLst>
                    <a:path w="2025165" h="814204">
                      <a:moveTo>
                        <a:pt x="0" y="814204"/>
                      </a:moveTo>
                      <a:lnTo>
                        <a:pt x="1110765" y="0"/>
                      </a:lnTo>
                      <a:lnTo>
                        <a:pt x="2025165" y="543698"/>
                      </a:lnTo>
                    </a:path>
                  </a:pathLst>
                </a:custGeom>
                <a:noFill/>
                <a:ln w="255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2" name="Group 17"/>
                <p:cNvGrpSpPr/>
                <p:nvPr/>
              </p:nvGrpSpPr>
              <p:grpSpPr>
                <a:xfrm>
                  <a:off x="3241800" y="2445480"/>
                  <a:ext cx="138960" cy="160200"/>
                  <a:chOff x="3241800" y="2445480"/>
                  <a:chExt cx="138960" cy="160200"/>
                </a:xfrm>
              </p:grpSpPr>
              <p:sp>
                <p:nvSpPr>
                  <p:cNvPr id="973" name="椭圆 18"/>
                  <p:cNvSpPr/>
                  <p:nvPr/>
                </p:nvSpPr>
                <p:spPr>
                  <a:xfrm>
                    <a:off x="3241800" y="2445480"/>
                    <a:ext cx="138240" cy="160200"/>
                  </a:xfrm>
                  <a:prstGeom prst="ellipse">
                    <a:avLst/>
                  </a:prstGeom>
                  <a:solidFill>
                    <a:srgbClr val="d8d8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4" name="Group 19"/>
                  <p:cNvGrpSpPr/>
                  <p:nvPr/>
                </p:nvGrpSpPr>
                <p:grpSpPr>
                  <a:xfrm>
                    <a:off x="3243240" y="2451240"/>
                    <a:ext cx="137520" cy="146880"/>
                    <a:chOff x="3243240" y="2451240"/>
                    <a:chExt cx="137520" cy="146880"/>
                  </a:xfrm>
                </p:grpSpPr>
                <p:sp>
                  <p:nvSpPr>
                    <p:cNvPr id="975" name="椭圆 20"/>
                    <p:cNvSpPr/>
                    <p:nvPr/>
                  </p:nvSpPr>
                  <p:spPr>
                    <a:xfrm rot="1267200">
                      <a:off x="3260880" y="2465280"/>
                      <a:ext cx="101880" cy="11808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6480">
                      <a:solidFill>
                        <a:srgbClr val="a5a5a5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椭圆 21"/>
                    <p:cNvSpPr/>
                    <p:nvPr/>
                  </p:nvSpPr>
                  <p:spPr>
                    <a:xfrm rot="21390000">
                      <a:off x="3279960" y="2559960"/>
                      <a:ext cx="61920" cy="24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4d4d4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椭圆 13"/>
                    <p:cNvSpPr/>
                    <p:nvPr/>
                  </p:nvSpPr>
                  <p:spPr>
                    <a:xfrm rot="2179200">
                      <a:off x="3292200" y="2470320"/>
                      <a:ext cx="57600" cy="39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788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78" name="五边形 5"/>
              <p:cNvSpPr/>
              <p:nvPr/>
            </p:nvSpPr>
            <p:spPr>
              <a:xfrm rot="21119400">
                <a:off x="2281320" y="2857320"/>
                <a:ext cx="2105640" cy="437400"/>
              </a:xfrm>
              <a:custGeom>
                <a:avLst/>
                <a:gdLst>
                  <a:gd name="textAreaLeft" fmla="*/ 0 w 2105640"/>
                  <a:gd name="textAreaRight" fmla="*/ 2106000 w 210564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6c1f"/>
                  </a:gs>
                  <a:gs pos="100000">
                    <a:srgbClr val="ff8f35"/>
                  </a:gs>
                </a:gsLst>
                <a:lin ang="16680000"/>
              </a:gradFill>
              <a:ln w="936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TextBox 6"/>
              <p:cNvSpPr/>
              <p:nvPr/>
            </p:nvSpPr>
            <p:spPr>
              <a:xfrm rot="21127200">
                <a:off x="2338560" y="2883960"/>
                <a:ext cx="188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深层次问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25"/>
            <p:cNvGrpSpPr/>
            <p:nvPr/>
          </p:nvGrpSpPr>
          <p:grpSpPr>
            <a:xfrm>
              <a:off x="714240" y="3906360"/>
              <a:ext cx="2088000" cy="1469520"/>
              <a:chOff x="714240" y="3906360"/>
              <a:chExt cx="2088000" cy="1469520"/>
            </a:xfrm>
          </p:grpSpPr>
          <p:sp>
            <p:nvSpPr>
              <p:cNvPr id="981" name="圆角矩形 8"/>
              <p:cNvSpPr/>
              <p:nvPr/>
            </p:nvSpPr>
            <p:spPr>
              <a:xfrm>
                <a:off x="714240" y="3906360"/>
                <a:ext cx="2088000" cy="1469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f2f2f2"/>
                  </a:gs>
                </a:gsLst>
                <a:lin ang="16200000"/>
              </a:gradFill>
              <a:ln w="9360">
                <a:solidFill>
                  <a:srgbClr val="bfbfb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TextBox 9"/>
              <p:cNvSpPr/>
              <p:nvPr/>
            </p:nvSpPr>
            <p:spPr>
              <a:xfrm>
                <a:off x="856800" y="4174920"/>
                <a:ext cx="1943640" cy="80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外部环境导致风险高发、矛盾凸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特殊国情导致防不胜防、避无可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TextBox 10"/>
              <p:cNvSpPr/>
              <p:nvPr/>
            </p:nvSpPr>
            <p:spPr>
              <a:xfrm>
                <a:off x="856800" y="3933000"/>
                <a:ext cx="140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68426"/>
                    </a:solidFill>
                    <a:latin typeface="微软雅黑"/>
                    <a:ea typeface="微软雅黑"/>
                  </a:rPr>
                  <a:t>宏观环境不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29"/>
            <p:cNvGrpSpPr/>
            <p:nvPr/>
          </p:nvGrpSpPr>
          <p:grpSpPr>
            <a:xfrm>
              <a:off x="3780000" y="3906360"/>
              <a:ext cx="2092320" cy="1469520"/>
              <a:chOff x="3780000" y="3906360"/>
              <a:chExt cx="2092320" cy="1469520"/>
            </a:xfrm>
          </p:grpSpPr>
          <p:sp>
            <p:nvSpPr>
              <p:cNvPr id="985" name="圆角矩形 5"/>
              <p:cNvSpPr/>
              <p:nvPr/>
            </p:nvSpPr>
            <p:spPr>
              <a:xfrm>
                <a:off x="3780000" y="3906360"/>
                <a:ext cx="2088360" cy="1469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f2f2f2"/>
                  </a:gs>
                </a:gsLst>
                <a:lin ang="16200000"/>
              </a:gradFill>
              <a:ln w="9360">
                <a:solidFill>
                  <a:srgbClr val="bfbfb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TextBox 6"/>
              <p:cNvSpPr/>
              <p:nvPr/>
            </p:nvSpPr>
            <p:spPr>
              <a:xfrm>
                <a:off x="3928680" y="4255200"/>
                <a:ext cx="19436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客观上源头难控、加工难管、隐患难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主观上法律滞后、力量不足、信息繁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TextBox 7"/>
              <p:cNvSpPr/>
              <p:nvPr/>
            </p:nvSpPr>
            <p:spPr>
              <a:xfrm>
                <a:off x="3928680" y="3933000"/>
                <a:ext cx="141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68426"/>
                    </a:solidFill>
                    <a:latin typeface="微软雅黑"/>
                    <a:ea typeface="微软雅黑"/>
                  </a:rPr>
                  <a:t>我区现实问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8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989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992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11"/>
          <p:cNvGrpSpPr/>
          <p:nvPr/>
        </p:nvGrpSpPr>
        <p:grpSpPr>
          <a:xfrm>
            <a:off x="2261160" y="2000160"/>
            <a:ext cx="2146680" cy="3786120"/>
            <a:chOff x="2261160" y="2000160"/>
            <a:chExt cx="2146680" cy="3786120"/>
          </a:xfrm>
        </p:grpSpPr>
        <p:sp>
          <p:nvSpPr>
            <p:cNvPr id="997" name="圆角矩形 2"/>
            <p:cNvSpPr/>
            <p:nvPr/>
          </p:nvSpPr>
          <p:spPr>
            <a:xfrm>
              <a:off x="3243600" y="2000160"/>
              <a:ext cx="108000" cy="3757320"/>
            </a:xfrm>
            <a:custGeom>
              <a:avLst/>
              <a:gdLst>
                <a:gd name="textAreaLeft" fmla="*/ 15840 w 108000"/>
                <a:gd name="textAreaRight" fmla="*/ 92160 w 108000"/>
                <a:gd name="textAreaTop" fmla="*/ 15840 h 3757320"/>
                <a:gd name="textAreaBottom" fmla="*/ 3741480 h 3757320"/>
              </a:gdLst>
              <a:ahLst/>
              <a:rect l="textAreaLeft" t="textAreaTop" r="textAreaRight" b="textAreaBottom"/>
              <a:pathLst>
                <a:path w="21600" h="749039">
                  <a:moveTo>
                    <a:pt x="10800" y="0"/>
                  </a:moveTo>
                  <a:arcTo wR="10800" hR="10800" stAng="16200000" swAng="-5400000"/>
                  <a:lnTo>
                    <a:pt x="0" y="738239"/>
                  </a:lnTo>
                  <a:arcTo wR="10800" hR="10800" stAng="10800000" swAng="-5400000"/>
                  <a:lnTo>
                    <a:pt x="10800" y="74903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65"/>
            <p:cNvSpPr/>
            <p:nvPr/>
          </p:nvSpPr>
          <p:spPr>
            <a:xfrm>
              <a:off x="3039120" y="5631480"/>
              <a:ext cx="503640" cy="15480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14"/>
            <p:cNvGrpSpPr/>
            <p:nvPr/>
          </p:nvGrpSpPr>
          <p:grpSpPr>
            <a:xfrm>
              <a:off x="2802240" y="2445480"/>
              <a:ext cx="916200" cy="503640"/>
              <a:chOff x="2802240" y="2445480"/>
              <a:chExt cx="916200" cy="503640"/>
            </a:xfrm>
          </p:grpSpPr>
          <p:sp>
            <p:nvSpPr>
              <p:cNvPr id="1000" name="任意多边形 7"/>
              <p:cNvSpPr/>
              <p:nvPr/>
            </p:nvSpPr>
            <p:spPr>
              <a:xfrm>
                <a:off x="2802240" y="2522880"/>
                <a:ext cx="916200" cy="426240"/>
              </a:xfrm>
              <a:custGeom>
                <a:avLst/>
                <a:gdLst>
                  <a:gd name="textAreaLeft" fmla="*/ 0 w 916200"/>
                  <a:gd name="textAreaRight" fmla="*/ 916560 w 916200"/>
                  <a:gd name="textAreaTop" fmla="*/ 0 h 426240"/>
                  <a:gd name="textAreaBottom" fmla="*/ 426600 h 426240"/>
                </a:gdLst>
                <a:ahLst/>
                <a:rect l="textAreaLeft" t="textAreaTop" r="textAreaRight" b="textAreaBottom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Group 16"/>
              <p:cNvGrpSpPr/>
              <p:nvPr/>
            </p:nvGrpSpPr>
            <p:grpSpPr>
              <a:xfrm>
                <a:off x="3241800" y="2445480"/>
                <a:ext cx="138960" cy="160200"/>
                <a:chOff x="3241800" y="2445480"/>
                <a:chExt cx="138960" cy="160200"/>
              </a:xfrm>
            </p:grpSpPr>
            <p:sp>
              <p:nvSpPr>
                <p:cNvPr id="1002" name="椭圆 9"/>
                <p:cNvSpPr/>
                <p:nvPr/>
              </p:nvSpPr>
              <p:spPr>
                <a:xfrm>
                  <a:off x="3241800" y="2445480"/>
                  <a:ext cx="138600" cy="16020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3" name="Group 18"/>
                <p:cNvGrpSpPr/>
                <p:nvPr/>
              </p:nvGrpSpPr>
              <p:grpSpPr>
                <a:xfrm>
                  <a:off x="3243240" y="2451240"/>
                  <a:ext cx="137520" cy="146880"/>
                  <a:chOff x="3243240" y="2451240"/>
                  <a:chExt cx="137520" cy="146880"/>
                </a:xfrm>
              </p:grpSpPr>
              <p:sp>
                <p:nvSpPr>
                  <p:cNvPr id="1004" name="椭圆 11"/>
                  <p:cNvSpPr/>
                  <p:nvPr/>
                </p:nvSpPr>
                <p:spPr>
                  <a:xfrm rot="1267200">
                    <a:off x="3260880" y="2465280"/>
                    <a:ext cx="101880" cy="11808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6480">
                    <a:solidFill>
                      <a:srgbClr val="a5a5a5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椭圆 12"/>
                  <p:cNvSpPr/>
                  <p:nvPr/>
                </p:nvSpPr>
                <p:spPr>
                  <a:xfrm rot="21390000">
                    <a:off x="3279960" y="2559960"/>
                    <a:ext cx="61920" cy="2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椭圆 13"/>
                  <p:cNvSpPr/>
                  <p:nvPr/>
                </p:nvSpPr>
                <p:spPr>
                  <a:xfrm rot="2179200">
                    <a:off x="3292200" y="2470320"/>
                    <a:ext cx="57600" cy="3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7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07" name="五边形 5"/>
            <p:cNvSpPr/>
            <p:nvPr/>
          </p:nvSpPr>
          <p:spPr>
            <a:xfrm rot="21119400">
              <a:off x="2281320" y="2857680"/>
              <a:ext cx="2106360" cy="437400"/>
            </a:xfrm>
            <a:custGeom>
              <a:avLst/>
              <a:gdLst>
                <a:gd name="textAreaLeft" fmla="*/ 0 w 2106360"/>
                <a:gd name="textAreaRight" fmla="*/ 2106360 w 21063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680000"/>
            </a:gradFill>
            <a:ln w="936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Box 6"/>
            <p:cNvSpPr/>
            <p:nvPr/>
          </p:nvSpPr>
          <p:spPr>
            <a:xfrm rot="21127200">
              <a:off x="2338560" y="2883960"/>
              <a:ext cx="18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层次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24"/>
          <p:cNvGrpSpPr/>
          <p:nvPr/>
        </p:nvGrpSpPr>
        <p:grpSpPr>
          <a:xfrm>
            <a:off x="714240" y="3906720"/>
            <a:ext cx="2089440" cy="1469160"/>
            <a:chOff x="714240" y="3906720"/>
            <a:chExt cx="2089440" cy="1469160"/>
          </a:xfrm>
        </p:grpSpPr>
        <p:sp>
          <p:nvSpPr>
            <p:cNvPr id="1010" name="圆角矩形 15"/>
            <p:cNvSpPr/>
            <p:nvPr/>
          </p:nvSpPr>
          <p:spPr>
            <a:xfrm>
              <a:off x="714240" y="3906720"/>
              <a:ext cx="208944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162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16"/>
            <p:cNvSpPr/>
            <p:nvPr/>
          </p:nvSpPr>
          <p:spPr>
            <a:xfrm>
              <a:off x="857160" y="4174920"/>
              <a:ext cx="19450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外部环境导致风险高发、矛盾凸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殊国情导致防不胜防、避无可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Box 17"/>
            <p:cNvSpPr/>
            <p:nvPr/>
          </p:nvSpPr>
          <p:spPr>
            <a:xfrm>
              <a:off x="857160" y="393336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宏观环境不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28"/>
          <p:cNvGrpSpPr/>
          <p:nvPr/>
        </p:nvGrpSpPr>
        <p:grpSpPr>
          <a:xfrm>
            <a:off x="3780000" y="3906720"/>
            <a:ext cx="2092320" cy="1469160"/>
            <a:chOff x="3780000" y="3906720"/>
            <a:chExt cx="2092320" cy="1469160"/>
          </a:xfrm>
        </p:grpSpPr>
        <p:sp>
          <p:nvSpPr>
            <p:cNvPr id="1014" name="圆角矩形 19"/>
            <p:cNvSpPr/>
            <p:nvPr/>
          </p:nvSpPr>
          <p:spPr>
            <a:xfrm>
              <a:off x="3780000" y="3906720"/>
              <a:ext cx="208836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162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Box 20"/>
            <p:cNvSpPr/>
            <p:nvPr/>
          </p:nvSpPr>
          <p:spPr>
            <a:xfrm>
              <a:off x="3928680" y="4255560"/>
              <a:ext cx="1943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客观上源头难控、加工难管、隐患难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主观上法律滞后、力量不足、信息繁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Box 21"/>
            <p:cNvSpPr/>
            <p:nvPr/>
          </p:nvSpPr>
          <p:spPr>
            <a:xfrm>
              <a:off x="3928680" y="39333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我区现实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Text Box 44"/>
          <p:cNvSpPr/>
          <p:nvPr/>
        </p:nvSpPr>
        <p:spPr>
          <a:xfrm>
            <a:off x="5072040" y="1357200"/>
            <a:ext cx="35719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严重的环境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道德体系的崩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监管不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货膨胀的冲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媒体时代的挑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1019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1022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11"/>
          <p:cNvGrpSpPr/>
          <p:nvPr/>
        </p:nvGrpSpPr>
        <p:grpSpPr>
          <a:xfrm>
            <a:off x="2261160" y="2000160"/>
            <a:ext cx="2146680" cy="3786120"/>
            <a:chOff x="2261160" y="2000160"/>
            <a:chExt cx="2146680" cy="3786120"/>
          </a:xfrm>
        </p:grpSpPr>
        <p:sp>
          <p:nvSpPr>
            <p:cNvPr id="1027" name="圆角矩形 2"/>
            <p:cNvSpPr/>
            <p:nvPr/>
          </p:nvSpPr>
          <p:spPr>
            <a:xfrm>
              <a:off x="3243600" y="2000160"/>
              <a:ext cx="108000" cy="3757320"/>
            </a:xfrm>
            <a:custGeom>
              <a:avLst/>
              <a:gdLst>
                <a:gd name="textAreaLeft" fmla="*/ 15840 w 108000"/>
                <a:gd name="textAreaRight" fmla="*/ 92160 w 108000"/>
                <a:gd name="textAreaTop" fmla="*/ 15840 h 3757320"/>
                <a:gd name="textAreaBottom" fmla="*/ 3741480 h 3757320"/>
              </a:gdLst>
              <a:ahLst/>
              <a:rect l="textAreaLeft" t="textAreaTop" r="textAreaRight" b="textAreaBottom"/>
              <a:pathLst>
                <a:path w="21600" h="749039">
                  <a:moveTo>
                    <a:pt x="10800" y="0"/>
                  </a:moveTo>
                  <a:arcTo wR="10800" hR="10800" stAng="16200000" swAng="-5400000"/>
                  <a:lnTo>
                    <a:pt x="0" y="738239"/>
                  </a:lnTo>
                  <a:arcTo wR="10800" hR="10800" stAng="10800000" swAng="-5400000"/>
                  <a:lnTo>
                    <a:pt x="10800" y="74903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65"/>
            <p:cNvSpPr/>
            <p:nvPr/>
          </p:nvSpPr>
          <p:spPr>
            <a:xfrm>
              <a:off x="3039120" y="5631480"/>
              <a:ext cx="503640" cy="15480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4"/>
            <p:cNvGrpSpPr/>
            <p:nvPr/>
          </p:nvGrpSpPr>
          <p:grpSpPr>
            <a:xfrm>
              <a:off x="2802240" y="2445480"/>
              <a:ext cx="916200" cy="503640"/>
              <a:chOff x="2802240" y="2445480"/>
              <a:chExt cx="916200" cy="503640"/>
            </a:xfrm>
          </p:grpSpPr>
          <p:sp>
            <p:nvSpPr>
              <p:cNvPr id="1030" name="任意多边形 7"/>
              <p:cNvSpPr/>
              <p:nvPr/>
            </p:nvSpPr>
            <p:spPr>
              <a:xfrm>
                <a:off x="2802240" y="2522880"/>
                <a:ext cx="916200" cy="426240"/>
              </a:xfrm>
              <a:custGeom>
                <a:avLst/>
                <a:gdLst>
                  <a:gd name="textAreaLeft" fmla="*/ 0 w 916200"/>
                  <a:gd name="textAreaRight" fmla="*/ 916560 w 916200"/>
                  <a:gd name="textAreaTop" fmla="*/ 0 h 426240"/>
                  <a:gd name="textAreaBottom" fmla="*/ 426600 h 426240"/>
                </a:gdLst>
                <a:ahLst/>
                <a:rect l="textAreaLeft" t="textAreaTop" r="textAreaRight" b="textAreaBottom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Group 16"/>
              <p:cNvGrpSpPr/>
              <p:nvPr/>
            </p:nvGrpSpPr>
            <p:grpSpPr>
              <a:xfrm>
                <a:off x="3241800" y="2445480"/>
                <a:ext cx="138960" cy="160200"/>
                <a:chOff x="3241800" y="2445480"/>
                <a:chExt cx="138960" cy="160200"/>
              </a:xfrm>
            </p:grpSpPr>
            <p:sp>
              <p:nvSpPr>
                <p:cNvPr id="1032" name="椭圆 18"/>
                <p:cNvSpPr/>
                <p:nvPr/>
              </p:nvSpPr>
              <p:spPr>
                <a:xfrm>
                  <a:off x="3241800" y="2445480"/>
                  <a:ext cx="138600" cy="16020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3" name="Group 18"/>
                <p:cNvGrpSpPr/>
                <p:nvPr/>
              </p:nvGrpSpPr>
              <p:grpSpPr>
                <a:xfrm>
                  <a:off x="3243240" y="2451240"/>
                  <a:ext cx="137520" cy="146880"/>
                  <a:chOff x="3243240" y="2451240"/>
                  <a:chExt cx="137520" cy="146880"/>
                </a:xfrm>
              </p:grpSpPr>
              <p:sp>
                <p:nvSpPr>
                  <p:cNvPr id="1034" name="椭圆 20"/>
                  <p:cNvSpPr/>
                  <p:nvPr/>
                </p:nvSpPr>
                <p:spPr>
                  <a:xfrm rot="1267200">
                    <a:off x="3260880" y="2465280"/>
                    <a:ext cx="101880" cy="11808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6480">
                    <a:solidFill>
                      <a:srgbClr val="a5a5a5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椭圆 21"/>
                  <p:cNvSpPr/>
                  <p:nvPr/>
                </p:nvSpPr>
                <p:spPr>
                  <a:xfrm rot="21390000">
                    <a:off x="3279960" y="2559960"/>
                    <a:ext cx="61920" cy="2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椭圆 13"/>
                  <p:cNvSpPr/>
                  <p:nvPr/>
                </p:nvSpPr>
                <p:spPr>
                  <a:xfrm rot="2179200">
                    <a:off x="3292200" y="2470320"/>
                    <a:ext cx="57600" cy="3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7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37" name="五边形 5"/>
            <p:cNvSpPr/>
            <p:nvPr/>
          </p:nvSpPr>
          <p:spPr>
            <a:xfrm rot="21119400">
              <a:off x="2281320" y="2857680"/>
              <a:ext cx="2106360" cy="437400"/>
            </a:xfrm>
            <a:custGeom>
              <a:avLst/>
              <a:gdLst>
                <a:gd name="textAreaLeft" fmla="*/ 0 w 2106360"/>
                <a:gd name="textAreaRight" fmla="*/ 2106360 w 21063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680000"/>
            </a:gradFill>
            <a:ln w="936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Box 6"/>
            <p:cNvSpPr/>
            <p:nvPr/>
          </p:nvSpPr>
          <p:spPr>
            <a:xfrm rot="21127200">
              <a:off x="2338560" y="2883960"/>
              <a:ext cx="18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层次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24"/>
          <p:cNvGrpSpPr/>
          <p:nvPr/>
        </p:nvGrpSpPr>
        <p:grpSpPr>
          <a:xfrm>
            <a:off x="714240" y="3906720"/>
            <a:ext cx="2089440" cy="1469160"/>
            <a:chOff x="714240" y="3906720"/>
            <a:chExt cx="2089440" cy="1469160"/>
          </a:xfrm>
        </p:grpSpPr>
        <p:sp>
          <p:nvSpPr>
            <p:cNvPr id="1040" name="圆角矩形 8"/>
            <p:cNvSpPr/>
            <p:nvPr/>
          </p:nvSpPr>
          <p:spPr>
            <a:xfrm>
              <a:off x="714240" y="3906720"/>
              <a:ext cx="208944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162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9"/>
            <p:cNvSpPr/>
            <p:nvPr/>
          </p:nvSpPr>
          <p:spPr>
            <a:xfrm>
              <a:off x="857160" y="4174920"/>
              <a:ext cx="19450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外部环境导致风险高发、矛盾凸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殊国情导致防不胜防、避无可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10"/>
            <p:cNvSpPr/>
            <p:nvPr/>
          </p:nvSpPr>
          <p:spPr>
            <a:xfrm>
              <a:off x="857160" y="393336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宏观环境不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28"/>
          <p:cNvGrpSpPr/>
          <p:nvPr/>
        </p:nvGrpSpPr>
        <p:grpSpPr>
          <a:xfrm>
            <a:off x="3780000" y="3906720"/>
            <a:ext cx="2092320" cy="1469160"/>
            <a:chOff x="3780000" y="3906720"/>
            <a:chExt cx="2092320" cy="1469160"/>
          </a:xfrm>
        </p:grpSpPr>
        <p:sp>
          <p:nvSpPr>
            <p:cNvPr id="1044" name="圆角矩形 5"/>
            <p:cNvSpPr/>
            <p:nvPr/>
          </p:nvSpPr>
          <p:spPr>
            <a:xfrm>
              <a:off x="3780000" y="3906720"/>
              <a:ext cx="208836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162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Box 6"/>
            <p:cNvSpPr/>
            <p:nvPr/>
          </p:nvSpPr>
          <p:spPr>
            <a:xfrm>
              <a:off x="3928680" y="4255560"/>
              <a:ext cx="1943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客观上源头难控、加工难管、隐患难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主观上法律滞后、力量不足、信息繁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7"/>
            <p:cNvSpPr/>
            <p:nvPr/>
          </p:nvSpPr>
          <p:spPr>
            <a:xfrm>
              <a:off x="3928680" y="39333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我区现实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直接连接符 23"/>
          <p:cNvSpPr/>
          <p:nvPr/>
        </p:nvSpPr>
        <p:spPr>
          <a:xfrm flipH="1">
            <a:off x="5068440" y="1428840"/>
            <a:ext cx="4680" cy="287280"/>
          </a:xfrm>
          <a:prstGeom prst="line">
            <a:avLst/>
          </a:prstGeom>
          <a:ln w="48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25"/>
          <p:cNvSpPr/>
          <p:nvPr/>
        </p:nvSpPr>
        <p:spPr>
          <a:xfrm>
            <a:off x="5060880" y="1390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44"/>
          <p:cNvSpPr/>
          <p:nvPr/>
        </p:nvSpPr>
        <p:spPr>
          <a:xfrm>
            <a:off x="5357880" y="1785960"/>
            <a:ext cx="35719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头难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工难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患难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8"/>
          <p:cNvSpPr/>
          <p:nvPr/>
        </p:nvSpPr>
        <p:spPr>
          <a:xfrm>
            <a:off x="5060880" y="1390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44"/>
          <p:cNvSpPr/>
          <p:nvPr/>
        </p:nvSpPr>
        <p:spPr>
          <a:xfrm>
            <a:off x="5072040" y="1785960"/>
            <a:ext cx="385776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法律滞后，监管体制不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力量不足，能力有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繁杂，真假难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3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1053" name="Group 4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1054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7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1057" name="Group 8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1058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abf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0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1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1062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1063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1066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1067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9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0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1071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1072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1075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1076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8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1080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1083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1086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1089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一步工作打算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0"/>
          <p:cNvGrpSpPr/>
          <p:nvPr/>
        </p:nvGrpSpPr>
        <p:grpSpPr>
          <a:xfrm>
            <a:off x="714240" y="1917720"/>
            <a:ext cx="6000840" cy="380880"/>
            <a:chOff x="714240" y="1917720"/>
            <a:chExt cx="6000840" cy="380880"/>
          </a:xfrm>
        </p:grpSpPr>
        <p:grpSp>
          <p:nvGrpSpPr>
            <p:cNvPr id="1093" name="Group 11"/>
            <p:cNvGrpSpPr/>
            <p:nvPr/>
          </p:nvGrpSpPr>
          <p:grpSpPr>
            <a:xfrm>
              <a:off x="714240" y="1917720"/>
              <a:ext cx="461880" cy="380880"/>
              <a:chOff x="714240" y="1917720"/>
              <a:chExt cx="461880" cy="380880"/>
            </a:xfrm>
          </p:grpSpPr>
          <p:sp>
            <p:nvSpPr>
              <p:cNvPr id="1094" name="矩形 17"/>
              <p:cNvSpPr/>
              <p:nvPr/>
            </p:nvSpPr>
            <p:spPr>
              <a:xfrm>
                <a:off x="747360" y="194148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矩形 18"/>
              <p:cNvSpPr/>
              <p:nvPr/>
            </p:nvSpPr>
            <p:spPr>
              <a:xfrm>
                <a:off x="714240" y="191772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Cambria Math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圆角矩形 37"/>
            <p:cNvSpPr/>
            <p:nvPr/>
          </p:nvSpPr>
          <p:spPr>
            <a:xfrm>
              <a:off x="1357200" y="191772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进一步理顺监管体系，提升监管效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5"/>
          <p:cNvGrpSpPr/>
          <p:nvPr/>
        </p:nvGrpSpPr>
        <p:grpSpPr>
          <a:xfrm>
            <a:off x="714240" y="2476440"/>
            <a:ext cx="6000840" cy="381240"/>
            <a:chOff x="714240" y="2476440"/>
            <a:chExt cx="6000840" cy="381240"/>
          </a:xfrm>
        </p:grpSpPr>
        <p:grpSp>
          <p:nvGrpSpPr>
            <p:cNvPr id="1098" name="Group 16"/>
            <p:cNvGrpSpPr/>
            <p:nvPr/>
          </p:nvGrpSpPr>
          <p:grpSpPr>
            <a:xfrm>
              <a:off x="714240" y="2476440"/>
              <a:ext cx="461880" cy="381240"/>
              <a:chOff x="714240" y="2476440"/>
              <a:chExt cx="461880" cy="381240"/>
            </a:xfrm>
          </p:grpSpPr>
          <p:sp>
            <p:nvSpPr>
              <p:cNvPr id="1099" name="矩形 20"/>
              <p:cNvSpPr/>
              <p:nvPr/>
            </p:nvSpPr>
            <p:spPr>
              <a:xfrm>
                <a:off x="747360" y="2500200"/>
                <a:ext cx="428760" cy="357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矩形 21"/>
              <p:cNvSpPr/>
              <p:nvPr/>
            </p:nvSpPr>
            <p:spPr>
              <a:xfrm>
                <a:off x="714240" y="2476440"/>
                <a:ext cx="428760" cy="35748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Cambria Math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圆角矩形 38"/>
            <p:cNvSpPr/>
            <p:nvPr/>
          </p:nvSpPr>
          <p:spPr>
            <a:xfrm>
              <a:off x="1357200" y="2476440"/>
              <a:ext cx="5357880" cy="35748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做好实事工程，确保行业水平整体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Group 20"/>
          <p:cNvGrpSpPr/>
          <p:nvPr/>
        </p:nvGrpSpPr>
        <p:grpSpPr>
          <a:xfrm>
            <a:off x="714240" y="3035160"/>
            <a:ext cx="6000840" cy="381240"/>
            <a:chOff x="714240" y="3035160"/>
            <a:chExt cx="6000840" cy="381240"/>
          </a:xfrm>
        </p:grpSpPr>
        <p:grpSp>
          <p:nvGrpSpPr>
            <p:cNvPr id="1103" name="Group 21"/>
            <p:cNvGrpSpPr/>
            <p:nvPr/>
          </p:nvGrpSpPr>
          <p:grpSpPr>
            <a:xfrm>
              <a:off x="714240" y="3035160"/>
              <a:ext cx="461880" cy="381240"/>
              <a:chOff x="714240" y="3035160"/>
              <a:chExt cx="461880" cy="381240"/>
            </a:xfrm>
          </p:grpSpPr>
          <p:sp>
            <p:nvSpPr>
              <p:cNvPr id="1104" name="矩形 23"/>
              <p:cNvSpPr/>
              <p:nvPr/>
            </p:nvSpPr>
            <p:spPr>
              <a:xfrm>
                <a:off x="747360" y="3058920"/>
                <a:ext cx="428760" cy="357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矩形 24"/>
              <p:cNvSpPr/>
              <p:nvPr/>
            </p:nvSpPr>
            <p:spPr>
              <a:xfrm>
                <a:off x="714240" y="3035160"/>
                <a:ext cx="428760" cy="35748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Cambria Math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圆角矩形 39"/>
            <p:cNvSpPr/>
            <p:nvPr/>
          </p:nvSpPr>
          <p:spPr>
            <a:xfrm>
              <a:off x="1357200" y="3035160"/>
              <a:ext cx="5357880" cy="35748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推进诚信体系建设，提高企业第一责任人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5"/>
          <p:cNvGrpSpPr/>
          <p:nvPr/>
        </p:nvGrpSpPr>
        <p:grpSpPr>
          <a:xfrm>
            <a:off x="714240" y="3595680"/>
            <a:ext cx="6000840" cy="380880"/>
            <a:chOff x="714240" y="3595680"/>
            <a:chExt cx="6000840" cy="380880"/>
          </a:xfrm>
        </p:grpSpPr>
        <p:grpSp>
          <p:nvGrpSpPr>
            <p:cNvPr id="1108" name="Group 26"/>
            <p:cNvGrpSpPr/>
            <p:nvPr/>
          </p:nvGrpSpPr>
          <p:grpSpPr>
            <a:xfrm>
              <a:off x="714240" y="3595680"/>
              <a:ext cx="461880" cy="380880"/>
              <a:chOff x="714240" y="3595680"/>
              <a:chExt cx="461880" cy="380880"/>
            </a:xfrm>
          </p:grpSpPr>
          <p:sp>
            <p:nvSpPr>
              <p:cNvPr id="1109" name="矩形 29"/>
              <p:cNvSpPr/>
              <p:nvPr/>
            </p:nvSpPr>
            <p:spPr>
              <a:xfrm>
                <a:off x="747360" y="361944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矩形 30"/>
              <p:cNvSpPr/>
              <p:nvPr/>
            </p:nvSpPr>
            <p:spPr>
              <a:xfrm>
                <a:off x="714240" y="359568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Cambria Math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圆角矩形 40"/>
            <p:cNvSpPr/>
            <p:nvPr/>
          </p:nvSpPr>
          <p:spPr>
            <a:xfrm>
              <a:off x="1357200" y="359568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大教育培训力度，提高从业人员素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30"/>
          <p:cNvGrpSpPr/>
          <p:nvPr/>
        </p:nvGrpSpPr>
        <p:grpSpPr>
          <a:xfrm>
            <a:off x="714240" y="4156200"/>
            <a:ext cx="6000840" cy="380880"/>
            <a:chOff x="714240" y="4156200"/>
            <a:chExt cx="6000840" cy="380880"/>
          </a:xfrm>
        </p:grpSpPr>
        <p:grpSp>
          <p:nvGrpSpPr>
            <p:cNvPr id="1113" name="Group 31"/>
            <p:cNvGrpSpPr/>
            <p:nvPr/>
          </p:nvGrpSpPr>
          <p:grpSpPr>
            <a:xfrm>
              <a:off x="714240" y="4156200"/>
              <a:ext cx="461880" cy="380880"/>
              <a:chOff x="714240" y="4156200"/>
              <a:chExt cx="461880" cy="380880"/>
            </a:xfrm>
          </p:grpSpPr>
          <p:sp>
            <p:nvSpPr>
              <p:cNvPr id="1114" name="矩形 26"/>
              <p:cNvSpPr/>
              <p:nvPr/>
            </p:nvSpPr>
            <p:spPr>
              <a:xfrm>
                <a:off x="747360" y="417996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矩形 27"/>
              <p:cNvSpPr/>
              <p:nvPr/>
            </p:nvSpPr>
            <p:spPr>
              <a:xfrm>
                <a:off x="714240" y="415620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Cambria Math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圆角矩形 41"/>
            <p:cNvSpPr/>
            <p:nvPr/>
          </p:nvSpPr>
          <p:spPr>
            <a:xfrm>
              <a:off x="1357200" y="415620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保持高压严打态势，加大违法犯罪行为查处力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35"/>
          <p:cNvGrpSpPr/>
          <p:nvPr/>
        </p:nvGrpSpPr>
        <p:grpSpPr>
          <a:xfrm>
            <a:off x="714240" y="4714920"/>
            <a:ext cx="6000840" cy="380880"/>
            <a:chOff x="714240" y="4714920"/>
            <a:chExt cx="6000840" cy="380880"/>
          </a:xfrm>
        </p:grpSpPr>
        <p:grpSp>
          <p:nvGrpSpPr>
            <p:cNvPr id="1118" name="Group 36"/>
            <p:cNvGrpSpPr/>
            <p:nvPr/>
          </p:nvGrpSpPr>
          <p:grpSpPr>
            <a:xfrm>
              <a:off x="714240" y="4714920"/>
              <a:ext cx="461880" cy="380880"/>
              <a:chOff x="714240" y="4714920"/>
              <a:chExt cx="461880" cy="380880"/>
            </a:xfrm>
          </p:grpSpPr>
          <p:sp>
            <p:nvSpPr>
              <p:cNvPr id="1119" name="矩形 32"/>
              <p:cNvSpPr/>
              <p:nvPr/>
            </p:nvSpPr>
            <p:spPr>
              <a:xfrm>
                <a:off x="747360" y="473868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矩形 33"/>
              <p:cNvSpPr/>
              <p:nvPr/>
            </p:nvSpPr>
            <p:spPr>
              <a:xfrm>
                <a:off x="714240" y="471492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Cambria Math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圆角矩形 42"/>
            <p:cNvSpPr/>
            <p:nvPr/>
          </p:nvSpPr>
          <p:spPr>
            <a:xfrm>
              <a:off x="1357200" y="471492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风险监测与交流，强化信息互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14240" y="5273640"/>
            <a:ext cx="6000840" cy="380880"/>
            <a:chOff x="714240" y="5273640"/>
            <a:chExt cx="6000840" cy="380880"/>
          </a:xfrm>
        </p:grpSpPr>
        <p:grpSp>
          <p:nvGrpSpPr>
            <p:cNvPr id="1123" name="Group 41"/>
            <p:cNvGrpSpPr/>
            <p:nvPr/>
          </p:nvGrpSpPr>
          <p:grpSpPr>
            <a:xfrm>
              <a:off x="714240" y="5273640"/>
              <a:ext cx="461880" cy="380880"/>
              <a:chOff x="714240" y="5273640"/>
              <a:chExt cx="461880" cy="380880"/>
            </a:xfrm>
          </p:grpSpPr>
          <p:sp>
            <p:nvSpPr>
              <p:cNvPr id="1124" name="矩形 35"/>
              <p:cNvSpPr/>
              <p:nvPr/>
            </p:nvSpPr>
            <p:spPr>
              <a:xfrm>
                <a:off x="747360" y="529740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矩形 36"/>
              <p:cNvSpPr/>
              <p:nvPr/>
            </p:nvSpPr>
            <p:spPr>
              <a:xfrm>
                <a:off x="714240" y="527364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Cambria Math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6" name="圆角矩形 43"/>
            <p:cNvSpPr/>
            <p:nvPr/>
          </p:nvSpPr>
          <p:spPr>
            <a:xfrm>
              <a:off x="1357200" y="527364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宣传教育，提高消费者安全意识和防护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TextBox 44"/>
          <p:cNvSpPr/>
          <p:nvPr/>
        </p:nvSpPr>
        <p:spPr>
          <a:xfrm>
            <a:off x="7358040" y="5715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EVER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矩形 3"/>
          <p:cNvSpPr/>
          <p:nvPr/>
        </p:nvSpPr>
        <p:spPr>
          <a:xfrm>
            <a:off x="4071960" y="1928880"/>
            <a:ext cx="2103480" cy="1896840"/>
          </a:xfrm>
          <a:prstGeom prst="rect">
            <a:avLst/>
          </a:prstGeom>
          <a:gradFill rotWithShape="0">
            <a:gsLst>
              <a:gs pos="0">
                <a:srgbClr val="fab47a"/>
              </a:gs>
              <a:gs pos="100000">
                <a:srgbClr val="f684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"/>
          <p:cNvSpPr/>
          <p:nvPr/>
        </p:nvSpPr>
        <p:spPr>
          <a:xfrm>
            <a:off x="4857840" y="19288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各位委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5"/>
          <p:cNvSpPr/>
          <p:nvPr/>
        </p:nvSpPr>
        <p:spPr>
          <a:xfrm>
            <a:off x="3357720" y="2247840"/>
            <a:ext cx="27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6"/>
          <p:cNvSpPr/>
          <p:nvPr/>
        </p:nvSpPr>
        <p:spPr>
          <a:xfrm>
            <a:off x="3357720" y="2857680"/>
            <a:ext cx="26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我们提供宝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见和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571920" y="342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请大家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Picture 2" descr="D:\Teliss_Tong\Copy\定期备份\工作备份\！PPT图片及版面资源\06-PPT精选插图\11-风景\pic5093.jpg"/>
          <p:cNvPicPr/>
          <p:nvPr/>
        </p:nvPicPr>
        <p:blipFill>
          <a:blip r:embed="rId1"/>
          <a:stretch/>
        </p:blipFill>
        <p:spPr>
          <a:xfrm>
            <a:off x="0" y="1928880"/>
            <a:ext cx="4071960" cy="1898640"/>
          </a:xfrm>
          <a:prstGeom prst="rect">
            <a:avLst/>
          </a:prstGeom>
          <a:ln w="0">
            <a:noFill/>
          </a:ln>
        </p:spPr>
      </p:pic>
      <p:sp>
        <p:nvSpPr>
          <p:cNvPr id="1134" name="TextBox 11"/>
          <p:cNvSpPr/>
          <p:nvPr/>
        </p:nvSpPr>
        <p:spPr>
          <a:xfrm>
            <a:off x="3286080" y="4643280"/>
            <a:ext cx="55720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不放松   毫不懈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外合力驱逐“劣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下齐心保卫“餐桌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全区人民饮食健康再作贡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12"/>
          <p:cNvSpPr/>
          <p:nvPr/>
        </p:nvSpPr>
        <p:spPr>
          <a:xfrm>
            <a:off x="758880" y="60339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05425"/>
                </a:solidFill>
                <a:latin typeface="微软雅黑"/>
                <a:ea typeface="微软雅黑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13"/>
          <p:cNvSpPr/>
          <p:nvPr/>
        </p:nvSpPr>
        <p:spPr>
          <a:xfrm>
            <a:off x="0" y="6219720"/>
            <a:ext cx="696960" cy="0"/>
          </a:xfrm>
          <a:prstGeom prst="line">
            <a:avLst/>
          </a:prstGeom>
          <a:ln w="93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直接连接符 15"/>
          <p:cNvSpPr/>
          <p:nvPr/>
        </p:nvSpPr>
        <p:spPr>
          <a:xfrm flipV="1">
            <a:off x="1643040" y="6214680"/>
            <a:ext cx="7500960" cy="11160"/>
          </a:xfrm>
          <a:prstGeom prst="line">
            <a:avLst/>
          </a:prstGeom>
          <a:ln w="93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85185E-006 L 2.5E-006 1.85185E-006 E">
                                      <p:cBhvr>
                                        <p:cTn id="380" dur="2000" fill="hold"/>
                                        <p:tgtEl>
                                          <p:spTgt spid="1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2.22222E-006 L -4.72222E-006 2.22222E-006 E">
                                      <p:cBhvr>
                                        <p:cTn id="385" dur="2000" fill="hold"/>
                                        <p:tgtEl>
                                          <p:spTgt spid="1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矩形 3"/>
          <p:cNvSpPr/>
          <p:nvPr/>
        </p:nvSpPr>
        <p:spPr>
          <a:xfrm>
            <a:off x="3754080" y="264312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651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6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654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9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657" name="Group 10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658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13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661" name="Group 14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662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Group 18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666" name="Group 19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667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22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670" name="Group 23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671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Group 27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675" name="Group 28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676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31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679" name="Group 32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680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3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684" name="Group 4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685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7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688" name="Group 8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689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2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693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694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697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698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702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703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706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707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0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711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714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717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720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圆角矩形 2"/>
          <p:cNvSpPr/>
          <p:nvPr/>
        </p:nvSpPr>
        <p:spPr>
          <a:xfrm>
            <a:off x="571680" y="1714680"/>
            <a:ext cx="7786440" cy="4143240"/>
          </a:xfrm>
          <a:prstGeom prst="roundRect">
            <a:avLst>
              <a:gd name="adj" fmla="val 7130"/>
            </a:avLst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"/>
          <p:cNvSpPr/>
          <p:nvPr/>
        </p:nvSpPr>
        <p:spPr>
          <a:xfrm>
            <a:off x="1285920" y="2571840"/>
            <a:ext cx="1643040" cy="20001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7"/>
          <p:cNvSpPr/>
          <p:nvPr/>
        </p:nvSpPr>
        <p:spPr>
          <a:xfrm flipH="1">
            <a:off x="3069720" y="2571840"/>
            <a:ext cx="1800" cy="200016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8"/>
          <p:cNvSpPr/>
          <p:nvPr/>
        </p:nvSpPr>
        <p:spPr>
          <a:xfrm>
            <a:off x="135720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 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9"/>
          <p:cNvSpPr/>
          <p:nvPr/>
        </p:nvSpPr>
        <p:spPr>
          <a:xfrm>
            <a:off x="128592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0"/>
          <p:cNvSpPr/>
          <p:nvPr/>
        </p:nvSpPr>
        <p:spPr>
          <a:xfrm>
            <a:off x="3286080" y="264312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63300"/>
                </a:solidFill>
                <a:latin typeface="微软雅黑"/>
                <a:ea typeface="微软雅黑"/>
              </a:rPr>
              <a:t>食品安全监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1"/>
          <p:cNvSpPr/>
          <p:nvPr/>
        </p:nvSpPr>
        <p:spPr>
          <a:xfrm>
            <a:off x="3357720" y="3000240"/>
            <a:ext cx="4286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安全是政府市场监管职能中非常重要的一项内容。包括两方面：一方面是数量安全，另一方面是质量安全。食品安全实行地方政府负总责，监管部门各负其责，企业是第一责任人的安全责任体系。政府监管体系的特点是实施统一协调与分段监管相结合的体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4C7B-45E2-4B33-80B5-412C5E3338B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732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735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79"/>
          <p:cNvSpPr/>
          <p:nvPr/>
        </p:nvSpPr>
        <p:spPr>
          <a:xfrm>
            <a:off x="1019160" y="2854440"/>
            <a:ext cx="3240" cy="1458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80"/>
          <p:cNvSpPr/>
          <p:nvPr/>
        </p:nvSpPr>
        <p:spPr>
          <a:xfrm flipH="1" flipV="1">
            <a:off x="1526760" y="285912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81"/>
          <p:cNvSpPr/>
          <p:nvPr/>
        </p:nvSpPr>
        <p:spPr>
          <a:xfrm flipH="1" flipV="1">
            <a:off x="2037960" y="284904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82"/>
          <p:cNvSpPr/>
          <p:nvPr/>
        </p:nvSpPr>
        <p:spPr>
          <a:xfrm flipH="1" flipV="1">
            <a:off x="2997000" y="28432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83"/>
          <p:cNvSpPr/>
          <p:nvPr/>
        </p:nvSpPr>
        <p:spPr>
          <a:xfrm flipH="1" flipV="1">
            <a:off x="2491920" y="2867040"/>
            <a:ext cx="324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84"/>
          <p:cNvSpPr/>
          <p:nvPr/>
        </p:nvSpPr>
        <p:spPr>
          <a:xfrm flipH="1" flipV="1">
            <a:off x="3517560" y="284760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85"/>
          <p:cNvSpPr/>
          <p:nvPr/>
        </p:nvSpPr>
        <p:spPr>
          <a:xfrm flipH="1" flipV="1">
            <a:off x="4057200" y="285228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86"/>
          <p:cNvSpPr/>
          <p:nvPr/>
        </p:nvSpPr>
        <p:spPr>
          <a:xfrm flipH="1" flipV="1">
            <a:off x="4533480" y="2847600"/>
            <a:ext cx="4680" cy="1414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87"/>
          <p:cNvSpPr/>
          <p:nvPr/>
        </p:nvSpPr>
        <p:spPr>
          <a:xfrm flipH="1" flipV="1">
            <a:off x="5047920" y="28576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88"/>
          <p:cNvSpPr/>
          <p:nvPr/>
        </p:nvSpPr>
        <p:spPr>
          <a:xfrm flipH="1" flipV="1">
            <a:off x="5559120" y="28576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89"/>
          <p:cNvSpPr/>
          <p:nvPr/>
        </p:nvSpPr>
        <p:spPr>
          <a:xfrm flipH="1" flipV="1">
            <a:off x="6055920" y="2852280"/>
            <a:ext cx="4680" cy="1414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90"/>
          <p:cNvSpPr/>
          <p:nvPr/>
        </p:nvSpPr>
        <p:spPr>
          <a:xfrm flipH="1" flipV="1">
            <a:off x="6595920" y="2847600"/>
            <a:ext cx="5040" cy="1414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91"/>
          <p:cNvSpPr/>
          <p:nvPr/>
        </p:nvSpPr>
        <p:spPr>
          <a:xfrm flipH="1" flipV="1">
            <a:off x="7654680" y="2851200"/>
            <a:ext cx="4680" cy="1396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92"/>
          <p:cNvSpPr/>
          <p:nvPr/>
        </p:nvSpPr>
        <p:spPr>
          <a:xfrm flipH="1" flipV="1">
            <a:off x="8165880" y="28432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93"/>
          <p:cNvSpPr/>
          <p:nvPr/>
        </p:nvSpPr>
        <p:spPr>
          <a:xfrm flipH="1" flipV="1">
            <a:off x="8677440" y="2851200"/>
            <a:ext cx="288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94"/>
          <p:cNvSpPr/>
          <p:nvPr/>
        </p:nvSpPr>
        <p:spPr>
          <a:xfrm flipH="1" flipV="1">
            <a:off x="7143480" y="285120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99"/>
          <p:cNvSpPr/>
          <p:nvPr/>
        </p:nvSpPr>
        <p:spPr>
          <a:xfrm>
            <a:off x="509760" y="2844720"/>
            <a:ext cx="2880" cy="1461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27"/>
          <p:cNvGrpSpPr/>
          <p:nvPr/>
        </p:nvGrpSpPr>
        <p:grpSpPr>
          <a:xfrm>
            <a:off x="5659560" y="2043000"/>
            <a:ext cx="2781000" cy="532080"/>
            <a:chOff x="5659560" y="2043000"/>
            <a:chExt cx="2781000" cy="532080"/>
          </a:xfrm>
        </p:grpSpPr>
        <p:sp>
          <p:nvSpPr>
            <p:cNvPr id="756" name="矩形​​ 15"/>
            <p:cNvSpPr/>
            <p:nvPr/>
          </p:nvSpPr>
          <p:spPr>
            <a:xfrm>
              <a:off x="5911920" y="2529000"/>
              <a:ext cx="2528640" cy="4608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3a3a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圆角矩形​​ 16"/>
            <p:cNvSpPr/>
            <p:nvPr/>
          </p:nvSpPr>
          <p:spPr>
            <a:xfrm>
              <a:off x="5659560" y="2043000"/>
              <a:ext cx="2781000" cy="47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区食品安全委员会办公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设在区食品药品监管局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30"/>
          <p:cNvGrpSpPr/>
          <p:nvPr/>
        </p:nvGrpSpPr>
        <p:grpSpPr>
          <a:xfrm>
            <a:off x="2214720" y="1357200"/>
            <a:ext cx="3350880" cy="549360"/>
            <a:chOff x="2214720" y="1357200"/>
            <a:chExt cx="3350880" cy="549360"/>
          </a:xfrm>
        </p:grpSpPr>
        <p:sp>
          <p:nvSpPr>
            <p:cNvPr id="759" name="矩形​​ 6"/>
            <p:cNvSpPr/>
            <p:nvPr/>
          </p:nvSpPr>
          <p:spPr>
            <a:xfrm>
              <a:off x="2366640" y="1860840"/>
              <a:ext cx="3046680" cy="457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3a3a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圆角矩形​​ 5"/>
            <p:cNvSpPr/>
            <p:nvPr/>
          </p:nvSpPr>
          <p:spPr>
            <a:xfrm>
              <a:off x="2214720" y="1357200"/>
              <a:ext cx="3350880" cy="465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食品安全委员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       副区长任主任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直接连接符 7"/>
          <p:cNvSpPr/>
          <p:nvPr/>
        </p:nvSpPr>
        <p:spPr>
          <a:xfrm flipH="1">
            <a:off x="3784680" y="1857240"/>
            <a:ext cx="1440" cy="1000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4"/>
          <p:cNvGrpSpPr/>
          <p:nvPr/>
        </p:nvGrpSpPr>
        <p:grpSpPr>
          <a:xfrm>
            <a:off x="816120" y="3000240"/>
            <a:ext cx="434880" cy="1717920"/>
            <a:chOff x="816120" y="3000240"/>
            <a:chExt cx="434880" cy="1717920"/>
          </a:xfrm>
        </p:grpSpPr>
        <p:sp>
          <p:nvSpPr>
            <p:cNvPr id="763" name="圆角矩形​​ 5"/>
            <p:cNvSpPr/>
            <p:nvPr/>
          </p:nvSpPr>
          <p:spPr>
            <a:xfrm rot="5400000">
              <a:off x="16452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Box 13"/>
            <p:cNvSpPr/>
            <p:nvPr/>
          </p:nvSpPr>
          <p:spPr>
            <a:xfrm>
              <a:off x="851400" y="3096720"/>
              <a:ext cx="39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委宣传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37"/>
          <p:cNvGrpSpPr/>
          <p:nvPr/>
        </p:nvGrpSpPr>
        <p:grpSpPr>
          <a:xfrm>
            <a:off x="1320840" y="3000240"/>
            <a:ext cx="434880" cy="1717920"/>
            <a:chOff x="1320840" y="3000240"/>
            <a:chExt cx="434880" cy="1717920"/>
          </a:xfrm>
        </p:grpSpPr>
        <p:sp>
          <p:nvSpPr>
            <p:cNvPr id="766" name="圆角矩形​​ 5"/>
            <p:cNvSpPr/>
            <p:nvPr/>
          </p:nvSpPr>
          <p:spPr>
            <a:xfrm rot="5400000">
              <a:off x="66924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Box 16"/>
            <p:cNvSpPr/>
            <p:nvPr/>
          </p:nvSpPr>
          <p:spPr>
            <a:xfrm>
              <a:off x="1356120" y="309672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发改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40"/>
          <p:cNvGrpSpPr/>
          <p:nvPr/>
        </p:nvGrpSpPr>
        <p:grpSpPr>
          <a:xfrm>
            <a:off x="1824120" y="3000240"/>
            <a:ext cx="434880" cy="1717920"/>
            <a:chOff x="1824120" y="3000240"/>
            <a:chExt cx="434880" cy="1717920"/>
          </a:xfrm>
        </p:grpSpPr>
        <p:sp>
          <p:nvSpPr>
            <p:cNvPr id="769" name="圆角矩形​​ 5"/>
            <p:cNvSpPr/>
            <p:nvPr/>
          </p:nvSpPr>
          <p:spPr>
            <a:xfrm rot="5400000">
              <a:off x="117252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Box 19"/>
            <p:cNvSpPr/>
            <p:nvPr/>
          </p:nvSpPr>
          <p:spPr>
            <a:xfrm>
              <a:off x="1859400" y="309672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教育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3"/>
          <p:cNvGrpSpPr/>
          <p:nvPr/>
        </p:nvGrpSpPr>
        <p:grpSpPr>
          <a:xfrm>
            <a:off x="2327400" y="3000240"/>
            <a:ext cx="434880" cy="1717920"/>
            <a:chOff x="2327400" y="3000240"/>
            <a:chExt cx="434880" cy="1717920"/>
          </a:xfrm>
        </p:grpSpPr>
        <p:sp>
          <p:nvSpPr>
            <p:cNvPr id="772" name="圆角矩形​​ 5"/>
            <p:cNvSpPr/>
            <p:nvPr/>
          </p:nvSpPr>
          <p:spPr>
            <a:xfrm rot="5400000">
              <a:off x="167616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Box 22"/>
            <p:cNvSpPr/>
            <p:nvPr/>
          </p:nvSpPr>
          <p:spPr>
            <a:xfrm>
              <a:off x="2362680" y="309672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科技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46"/>
          <p:cNvGrpSpPr/>
          <p:nvPr/>
        </p:nvGrpSpPr>
        <p:grpSpPr>
          <a:xfrm>
            <a:off x="2832120" y="3000240"/>
            <a:ext cx="434880" cy="1717920"/>
            <a:chOff x="2832120" y="3000240"/>
            <a:chExt cx="434880" cy="1717920"/>
          </a:xfrm>
        </p:grpSpPr>
        <p:sp>
          <p:nvSpPr>
            <p:cNvPr id="775" name="圆角矩形​​ 5"/>
            <p:cNvSpPr/>
            <p:nvPr/>
          </p:nvSpPr>
          <p:spPr>
            <a:xfrm rot="5400000">
              <a:off x="218088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25"/>
            <p:cNvSpPr/>
            <p:nvPr/>
          </p:nvSpPr>
          <p:spPr>
            <a:xfrm>
              <a:off x="2867400" y="309672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监察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49"/>
          <p:cNvGrpSpPr/>
          <p:nvPr/>
        </p:nvGrpSpPr>
        <p:grpSpPr>
          <a:xfrm>
            <a:off x="3335400" y="3000240"/>
            <a:ext cx="434880" cy="1717920"/>
            <a:chOff x="3335400" y="3000240"/>
            <a:chExt cx="434880" cy="1717920"/>
          </a:xfrm>
        </p:grpSpPr>
        <p:sp>
          <p:nvSpPr>
            <p:cNvPr id="778" name="圆角矩形​​ 5"/>
            <p:cNvSpPr/>
            <p:nvPr/>
          </p:nvSpPr>
          <p:spPr>
            <a:xfrm rot="5400000">
              <a:off x="268416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Box 28"/>
            <p:cNvSpPr/>
            <p:nvPr/>
          </p:nvSpPr>
          <p:spPr>
            <a:xfrm>
              <a:off x="3370680" y="309672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财政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52"/>
          <p:cNvGrpSpPr/>
          <p:nvPr/>
        </p:nvGrpSpPr>
        <p:grpSpPr>
          <a:xfrm>
            <a:off x="3838680" y="3000240"/>
            <a:ext cx="434880" cy="1717920"/>
            <a:chOff x="3838680" y="3000240"/>
            <a:chExt cx="434880" cy="1717920"/>
          </a:xfrm>
        </p:grpSpPr>
        <p:sp>
          <p:nvSpPr>
            <p:cNvPr id="781" name="圆角矩形​​ 5"/>
            <p:cNvSpPr/>
            <p:nvPr/>
          </p:nvSpPr>
          <p:spPr>
            <a:xfrm rot="5400000">
              <a:off x="318744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31"/>
            <p:cNvSpPr/>
            <p:nvPr/>
          </p:nvSpPr>
          <p:spPr>
            <a:xfrm>
              <a:off x="3873960" y="3096720"/>
              <a:ext cx="39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文广新闻出版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55"/>
          <p:cNvGrpSpPr/>
          <p:nvPr/>
        </p:nvGrpSpPr>
        <p:grpSpPr>
          <a:xfrm>
            <a:off x="4846320" y="2970360"/>
            <a:ext cx="449640" cy="1716480"/>
            <a:chOff x="4846320" y="2970360"/>
            <a:chExt cx="449640" cy="1716480"/>
          </a:xfrm>
        </p:grpSpPr>
        <p:sp>
          <p:nvSpPr>
            <p:cNvPr id="784" name="圆角矩形​​ 16"/>
            <p:cNvSpPr/>
            <p:nvPr/>
          </p:nvSpPr>
          <p:spPr>
            <a:xfrm rot="5400000">
              <a:off x="419652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34"/>
            <p:cNvSpPr/>
            <p:nvPr/>
          </p:nvSpPr>
          <p:spPr>
            <a:xfrm>
              <a:off x="489600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经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58"/>
          <p:cNvGrpSpPr/>
          <p:nvPr/>
        </p:nvGrpSpPr>
        <p:grpSpPr>
          <a:xfrm>
            <a:off x="5363640" y="2970360"/>
            <a:ext cx="449640" cy="1716480"/>
            <a:chOff x="5363640" y="2970360"/>
            <a:chExt cx="449640" cy="1716480"/>
          </a:xfrm>
        </p:grpSpPr>
        <p:sp>
          <p:nvSpPr>
            <p:cNvPr id="787" name="圆角矩形​​ 16"/>
            <p:cNvSpPr/>
            <p:nvPr/>
          </p:nvSpPr>
          <p:spPr>
            <a:xfrm rot="5400000">
              <a:off x="471384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37"/>
            <p:cNvSpPr/>
            <p:nvPr/>
          </p:nvSpPr>
          <p:spPr>
            <a:xfrm>
              <a:off x="541332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城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61"/>
          <p:cNvGrpSpPr/>
          <p:nvPr/>
        </p:nvGrpSpPr>
        <p:grpSpPr>
          <a:xfrm>
            <a:off x="5882760" y="2970360"/>
            <a:ext cx="449640" cy="1716480"/>
            <a:chOff x="5882760" y="2970360"/>
            <a:chExt cx="449640" cy="1716480"/>
          </a:xfrm>
        </p:grpSpPr>
        <p:sp>
          <p:nvSpPr>
            <p:cNvPr id="790" name="圆角矩形​​ 16"/>
            <p:cNvSpPr/>
            <p:nvPr/>
          </p:nvSpPr>
          <p:spPr>
            <a:xfrm rot="5400000">
              <a:off x="523296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Box 40"/>
            <p:cNvSpPr/>
            <p:nvPr/>
          </p:nvSpPr>
          <p:spPr>
            <a:xfrm>
              <a:off x="593244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商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64"/>
          <p:cNvGrpSpPr/>
          <p:nvPr/>
        </p:nvGrpSpPr>
        <p:grpSpPr>
          <a:xfrm>
            <a:off x="6400440" y="2970360"/>
            <a:ext cx="449640" cy="1716480"/>
            <a:chOff x="6400440" y="2970360"/>
            <a:chExt cx="449640" cy="1716480"/>
          </a:xfrm>
        </p:grpSpPr>
        <p:sp>
          <p:nvSpPr>
            <p:cNvPr id="793" name="圆角矩形​​ 16"/>
            <p:cNvSpPr/>
            <p:nvPr/>
          </p:nvSpPr>
          <p:spPr>
            <a:xfrm rot="5400000">
              <a:off x="575064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43"/>
            <p:cNvSpPr/>
            <p:nvPr/>
          </p:nvSpPr>
          <p:spPr>
            <a:xfrm>
              <a:off x="645012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卫生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67"/>
          <p:cNvGrpSpPr/>
          <p:nvPr/>
        </p:nvGrpSpPr>
        <p:grpSpPr>
          <a:xfrm>
            <a:off x="6918120" y="2909880"/>
            <a:ext cx="438480" cy="2014560"/>
            <a:chOff x="6918120" y="2909880"/>
            <a:chExt cx="438480" cy="2014560"/>
          </a:xfrm>
        </p:grpSpPr>
        <p:sp>
          <p:nvSpPr>
            <p:cNvPr id="796" name="圆角矩形​​ 16"/>
            <p:cNvSpPr/>
            <p:nvPr/>
          </p:nvSpPr>
          <p:spPr>
            <a:xfrm rot="5400000">
              <a:off x="6268680" y="3640320"/>
              <a:ext cx="1716480" cy="41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Box 46"/>
            <p:cNvSpPr/>
            <p:nvPr/>
          </p:nvSpPr>
          <p:spPr>
            <a:xfrm>
              <a:off x="6956280" y="2909880"/>
              <a:ext cx="40032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70"/>
          <p:cNvGrpSpPr/>
          <p:nvPr/>
        </p:nvGrpSpPr>
        <p:grpSpPr>
          <a:xfrm>
            <a:off x="7424280" y="2970360"/>
            <a:ext cx="449640" cy="1716480"/>
            <a:chOff x="7424280" y="2970360"/>
            <a:chExt cx="449640" cy="1716480"/>
          </a:xfrm>
        </p:grpSpPr>
        <p:sp>
          <p:nvSpPr>
            <p:cNvPr id="799" name="圆角矩形​​ 16"/>
            <p:cNvSpPr/>
            <p:nvPr/>
          </p:nvSpPr>
          <p:spPr>
            <a:xfrm rot="5400000">
              <a:off x="677448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Box 49"/>
            <p:cNvSpPr/>
            <p:nvPr/>
          </p:nvSpPr>
          <p:spPr>
            <a:xfrm>
              <a:off x="747396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公安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73"/>
          <p:cNvGrpSpPr/>
          <p:nvPr/>
        </p:nvGrpSpPr>
        <p:grpSpPr>
          <a:xfrm>
            <a:off x="7941960" y="2970360"/>
            <a:ext cx="449640" cy="1716480"/>
            <a:chOff x="7941960" y="2970360"/>
            <a:chExt cx="449640" cy="1716480"/>
          </a:xfrm>
        </p:grpSpPr>
        <p:sp>
          <p:nvSpPr>
            <p:cNvPr id="802" name="圆角矩形​​ 16"/>
            <p:cNvSpPr/>
            <p:nvPr/>
          </p:nvSpPr>
          <p:spPr>
            <a:xfrm rot="5400000">
              <a:off x="729216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52"/>
            <p:cNvSpPr/>
            <p:nvPr/>
          </p:nvSpPr>
          <p:spPr>
            <a:xfrm>
              <a:off x="799164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工商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76"/>
          <p:cNvGrpSpPr/>
          <p:nvPr/>
        </p:nvGrpSpPr>
        <p:grpSpPr>
          <a:xfrm>
            <a:off x="8461080" y="2970360"/>
            <a:ext cx="449640" cy="1716480"/>
            <a:chOff x="8461080" y="2970360"/>
            <a:chExt cx="449640" cy="1716480"/>
          </a:xfrm>
        </p:grpSpPr>
        <p:sp>
          <p:nvSpPr>
            <p:cNvPr id="805" name="圆角矩形​​ 16"/>
            <p:cNvSpPr/>
            <p:nvPr/>
          </p:nvSpPr>
          <p:spPr>
            <a:xfrm rot="5400000">
              <a:off x="781128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55"/>
            <p:cNvSpPr/>
            <p:nvPr/>
          </p:nvSpPr>
          <p:spPr>
            <a:xfrm>
              <a:off x="851076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质监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79"/>
          <p:cNvGrpSpPr/>
          <p:nvPr/>
        </p:nvGrpSpPr>
        <p:grpSpPr>
          <a:xfrm>
            <a:off x="1976040" y="4786200"/>
            <a:ext cx="437040" cy="1357560"/>
            <a:chOff x="1976040" y="4786200"/>
            <a:chExt cx="437040" cy="1357560"/>
          </a:xfrm>
        </p:grpSpPr>
        <p:sp>
          <p:nvSpPr>
            <p:cNvPr id="808" name="圆角矩形​​ 5"/>
            <p:cNvSpPr/>
            <p:nvPr/>
          </p:nvSpPr>
          <p:spPr>
            <a:xfrm rot="5400000">
              <a:off x="150588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58"/>
            <p:cNvSpPr/>
            <p:nvPr/>
          </p:nvSpPr>
          <p:spPr>
            <a:xfrm>
              <a:off x="201168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郊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82"/>
          <p:cNvGrpSpPr/>
          <p:nvPr/>
        </p:nvGrpSpPr>
        <p:grpSpPr>
          <a:xfrm>
            <a:off x="2623680" y="4786200"/>
            <a:ext cx="437040" cy="1357560"/>
            <a:chOff x="2623680" y="4786200"/>
            <a:chExt cx="437040" cy="1357560"/>
          </a:xfrm>
        </p:grpSpPr>
        <p:sp>
          <p:nvSpPr>
            <p:cNvPr id="811" name="圆角矩形​​ 5"/>
            <p:cNvSpPr/>
            <p:nvPr/>
          </p:nvSpPr>
          <p:spPr>
            <a:xfrm rot="5400000">
              <a:off x="215352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61"/>
            <p:cNvSpPr/>
            <p:nvPr/>
          </p:nvSpPr>
          <p:spPr>
            <a:xfrm>
              <a:off x="265932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福明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85"/>
          <p:cNvGrpSpPr/>
          <p:nvPr/>
        </p:nvGrpSpPr>
        <p:grpSpPr>
          <a:xfrm>
            <a:off x="3271320" y="4786200"/>
            <a:ext cx="437040" cy="1357560"/>
            <a:chOff x="3271320" y="4786200"/>
            <a:chExt cx="437040" cy="1357560"/>
          </a:xfrm>
        </p:grpSpPr>
        <p:sp>
          <p:nvSpPr>
            <p:cNvPr id="814" name="圆角矩形​​ 5"/>
            <p:cNvSpPr/>
            <p:nvPr/>
          </p:nvSpPr>
          <p:spPr>
            <a:xfrm rot="5400000">
              <a:off x="280116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64"/>
            <p:cNvSpPr/>
            <p:nvPr/>
          </p:nvSpPr>
          <p:spPr>
            <a:xfrm>
              <a:off x="330696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白鹤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88"/>
          <p:cNvGrpSpPr/>
          <p:nvPr/>
        </p:nvGrpSpPr>
        <p:grpSpPr>
          <a:xfrm>
            <a:off x="3919680" y="4786200"/>
            <a:ext cx="436320" cy="1357560"/>
            <a:chOff x="3919680" y="4786200"/>
            <a:chExt cx="436320" cy="1357560"/>
          </a:xfrm>
        </p:grpSpPr>
        <p:sp>
          <p:nvSpPr>
            <p:cNvPr id="817" name="圆角矩形​​ 5"/>
            <p:cNvSpPr/>
            <p:nvPr/>
          </p:nvSpPr>
          <p:spPr>
            <a:xfrm rot="5400000">
              <a:off x="3449160" y="5256360"/>
              <a:ext cx="135756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67"/>
            <p:cNvSpPr/>
            <p:nvPr/>
          </p:nvSpPr>
          <p:spPr>
            <a:xfrm>
              <a:off x="3954960" y="4862520"/>
              <a:ext cx="40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百丈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91"/>
          <p:cNvGrpSpPr/>
          <p:nvPr/>
        </p:nvGrpSpPr>
        <p:grpSpPr>
          <a:xfrm>
            <a:off x="4567320" y="4786200"/>
            <a:ext cx="436320" cy="1357560"/>
            <a:chOff x="4567320" y="4786200"/>
            <a:chExt cx="436320" cy="1357560"/>
          </a:xfrm>
        </p:grpSpPr>
        <p:sp>
          <p:nvSpPr>
            <p:cNvPr id="820" name="圆角矩形​​ 5"/>
            <p:cNvSpPr/>
            <p:nvPr/>
          </p:nvSpPr>
          <p:spPr>
            <a:xfrm rot="5400000">
              <a:off x="4096800" y="5256360"/>
              <a:ext cx="135756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Box 70"/>
            <p:cNvSpPr/>
            <p:nvPr/>
          </p:nvSpPr>
          <p:spPr>
            <a:xfrm>
              <a:off x="4602600" y="4862520"/>
              <a:ext cx="40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胜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94"/>
          <p:cNvGrpSpPr/>
          <p:nvPr/>
        </p:nvGrpSpPr>
        <p:grpSpPr>
          <a:xfrm>
            <a:off x="5214600" y="4786200"/>
            <a:ext cx="437040" cy="1357560"/>
            <a:chOff x="5214600" y="4786200"/>
            <a:chExt cx="437040" cy="1357560"/>
          </a:xfrm>
        </p:grpSpPr>
        <p:sp>
          <p:nvSpPr>
            <p:cNvPr id="823" name="圆角矩形​​ 5"/>
            <p:cNvSpPr/>
            <p:nvPr/>
          </p:nvSpPr>
          <p:spPr>
            <a:xfrm rot="5400000">
              <a:off x="474444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73"/>
            <p:cNvSpPr/>
            <p:nvPr/>
          </p:nvSpPr>
          <p:spPr>
            <a:xfrm>
              <a:off x="525024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明楼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97"/>
          <p:cNvGrpSpPr/>
          <p:nvPr/>
        </p:nvGrpSpPr>
        <p:grpSpPr>
          <a:xfrm>
            <a:off x="5862240" y="4786200"/>
            <a:ext cx="437040" cy="1357560"/>
            <a:chOff x="5862240" y="4786200"/>
            <a:chExt cx="437040" cy="1357560"/>
          </a:xfrm>
        </p:grpSpPr>
        <p:sp>
          <p:nvSpPr>
            <p:cNvPr id="826" name="圆角矩形​​ 5"/>
            <p:cNvSpPr/>
            <p:nvPr/>
          </p:nvSpPr>
          <p:spPr>
            <a:xfrm rot="5400000">
              <a:off x="539208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Box 76"/>
            <p:cNvSpPr/>
            <p:nvPr/>
          </p:nvSpPr>
          <p:spPr>
            <a:xfrm>
              <a:off x="589788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柳街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直接连接符 78"/>
          <p:cNvSpPr/>
          <p:nvPr/>
        </p:nvSpPr>
        <p:spPr>
          <a:xfrm>
            <a:off x="522360" y="2851200"/>
            <a:ext cx="814392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101"/>
          <p:cNvGrpSpPr/>
          <p:nvPr/>
        </p:nvGrpSpPr>
        <p:grpSpPr>
          <a:xfrm>
            <a:off x="4341960" y="3000240"/>
            <a:ext cx="436320" cy="1717920"/>
            <a:chOff x="4341960" y="3000240"/>
            <a:chExt cx="436320" cy="1717920"/>
          </a:xfrm>
        </p:grpSpPr>
        <p:sp>
          <p:nvSpPr>
            <p:cNvPr id="830" name="圆角矩形​​ 5"/>
            <p:cNvSpPr/>
            <p:nvPr/>
          </p:nvSpPr>
          <p:spPr>
            <a:xfrm rot="5400000">
              <a:off x="3691440" y="3650760"/>
              <a:ext cx="171792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Box 98"/>
            <p:cNvSpPr/>
            <p:nvPr/>
          </p:nvSpPr>
          <p:spPr>
            <a:xfrm>
              <a:off x="4377240" y="3096720"/>
              <a:ext cx="401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江东环保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直接连接符 102"/>
          <p:cNvSpPr/>
          <p:nvPr/>
        </p:nvSpPr>
        <p:spPr>
          <a:xfrm>
            <a:off x="3786120" y="2286000"/>
            <a:ext cx="18576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5"/>
          <p:cNvGrpSpPr/>
          <p:nvPr/>
        </p:nvGrpSpPr>
        <p:grpSpPr>
          <a:xfrm>
            <a:off x="312840" y="3000240"/>
            <a:ext cx="434880" cy="1717920"/>
            <a:chOff x="312840" y="3000240"/>
            <a:chExt cx="434880" cy="1717920"/>
          </a:xfrm>
        </p:grpSpPr>
        <p:sp>
          <p:nvSpPr>
            <p:cNvPr id="834" name="圆角矩形​​ 5"/>
            <p:cNvSpPr/>
            <p:nvPr/>
          </p:nvSpPr>
          <p:spPr>
            <a:xfrm rot="5400000">
              <a:off x="-33840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Box 10"/>
            <p:cNvSpPr/>
            <p:nvPr/>
          </p:nvSpPr>
          <p:spPr>
            <a:xfrm>
              <a:off x="348120" y="309672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府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直接连接符 118"/>
          <p:cNvSpPr/>
          <p:nvPr/>
        </p:nvSpPr>
        <p:spPr>
          <a:xfrm>
            <a:off x="7143120" y="2571840"/>
            <a:ext cx="4680" cy="3016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19"/>
          <p:cNvSpPr/>
          <p:nvPr/>
        </p:nvSpPr>
        <p:spPr>
          <a:xfrm>
            <a:off x="6929280" y="307188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区食品药品监管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839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842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0"/>
          <p:cNvGrpSpPr/>
          <p:nvPr/>
        </p:nvGrpSpPr>
        <p:grpSpPr>
          <a:xfrm>
            <a:off x="928800" y="2643120"/>
            <a:ext cx="461880" cy="381240"/>
            <a:chOff x="928800" y="2643120"/>
            <a:chExt cx="461880" cy="381240"/>
          </a:xfrm>
        </p:grpSpPr>
        <p:sp>
          <p:nvSpPr>
            <p:cNvPr id="846" name="矩形 32"/>
            <p:cNvSpPr/>
            <p:nvPr/>
          </p:nvSpPr>
          <p:spPr>
            <a:xfrm>
              <a:off x="961920" y="2666880"/>
              <a:ext cx="428760" cy="3574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31"/>
            <p:cNvSpPr/>
            <p:nvPr/>
          </p:nvSpPr>
          <p:spPr>
            <a:xfrm>
              <a:off x="928800" y="2643120"/>
              <a:ext cx="428760" cy="35748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13"/>
          <p:cNvGrpSpPr/>
          <p:nvPr/>
        </p:nvGrpSpPr>
        <p:grpSpPr>
          <a:xfrm>
            <a:off x="928800" y="3452760"/>
            <a:ext cx="461880" cy="380880"/>
            <a:chOff x="928800" y="3452760"/>
            <a:chExt cx="461880" cy="380880"/>
          </a:xfrm>
        </p:grpSpPr>
        <p:sp>
          <p:nvSpPr>
            <p:cNvPr id="849" name="矩形 35"/>
            <p:cNvSpPr/>
            <p:nvPr/>
          </p:nvSpPr>
          <p:spPr>
            <a:xfrm>
              <a:off x="961920" y="347652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36"/>
            <p:cNvSpPr/>
            <p:nvPr/>
          </p:nvSpPr>
          <p:spPr>
            <a:xfrm>
              <a:off x="928800" y="345276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16"/>
          <p:cNvGrpSpPr/>
          <p:nvPr/>
        </p:nvGrpSpPr>
        <p:grpSpPr>
          <a:xfrm>
            <a:off x="928800" y="4262400"/>
            <a:ext cx="461880" cy="380880"/>
            <a:chOff x="928800" y="4262400"/>
            <a:chExt cx="461880" cy="380880"/>
          </a:xfrm>
        </p:grpSpPr>
        <p:sp>
          <p:nvSpPr>
            <p:cNvPr id="852" name="矩形 38"/>
            <p:cNvSpPr/>
            <p:nvPr/>
          </p:nvSpPr>
          <p:spPr>
            <a:xfrm>
              <a:off x="961920" y="428616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39"/>
            <p:cNvSpPr/>
            <p:nvPr/>
          </p:nvSpPr>
          <p:spPr>
            <a:xfrm>
              <a:off x="928800" y="426240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19"/>
          <p:cNvGrpSpPr/>
          <p:nvPr/>
        </p:nvGrpSpPr>
        <p:grpSpPr>
          <a:xfrm>
            <a:off x="928800" y="5072040"/>
            <a:ext cx="461880" cy="380880"/>
            <a:chOff x="928800" y="5072040"/>
            <a:chExt cx="461880" cy="380880"/>
          </a:xfrm>
        </p:grpSpPr>
        <p:sp>
          <p:nvSpPr>
            <p:cNvPr id="855" name="矩形 41"/>
            <p:cNvSpPr/>
            <p:nvPr/>
          </p:nvSpPr>
          <p:spPr>
            <a:xfrm>
              <a:off x="961920" y="509580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42"/>
            <p:cNvSpPr/>
            <p:nvPr/>
          </p:nvSpPr>
          <p:spPr>
            <a:xfrm>
              <a:off x="928800" y="507204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786200" y="2643120"/>
            <a:ext cx="462240" cy="381240"/>
            <a:chOff x="4786200" y="2643120"/>
            <a:chExt cx="462240" cy="381240"/>
          </a:xfrm>
        </p:grpSpPr>
        <p:sp>
          <p:nvSpPr>
            <p:cNvPr id="858" name="矩形 44"/>
            <p:cNvSpPr/>
            <p:nvPr/>
          </p:nvSpPr>
          <p:spPr>
            <a:xfrm>
              <a:off x="4819320" y="2666880"/>
              <a:ext cx="429120" cy="3574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45"/>
            <p:cNvSpPr/>
            <p:nvPr/>
          </p:nvSpPr>
          <p:spPr>
            <a:xfrm>
              <a:off x="4786200" y="2643120"/>
              <a:ext cx="429120" cy="35748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4786200" y="3452760"/>
            <a:ext cx="462240" cy="380880"/>
            <a:chOff x="4786200" y="3452760"/>
            <a:chExt cx="462240" cy="380880"/>
          </a:xfrm>
        </p:grpSpPr>
        <p:sp>
          <p:nvSpPr>
            <p:cNvPr id="861" name="矩形 47"/>
            <p:cNvSpPr/>
            <p:nvPr/>
          </p:nvSpPr>
          <p:spPr>
            <a:xfrm>
              <a:off x="4819320" y="347652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48"/>
            <p:cNvSpPr/>
            <p:nvPr/>
          </p:nvSpPr>
          <p:spPr>
            <a:xfrm>
              <a:off x="4786200" y="345276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786200" y="4262400"/>
            <a:ext cx="462240" cy="380880"/>
            <a:chOff x="4786200" y="4262400"/>
            <a:chExt cx="462240" cy="380880"/>
          </a:xfrm>
        </p:grpSpPr>
        <p:sp>
          <p:nvSpPr>
            <p:cNvPr id="864" name="矩形 50"/>
            <p:cNvSpPr/>
            <p:nvPr/>
          </p:nvSpPr>
          <p:spPr>
            <a:xfrm>
              <a:off x="4819320" y="428616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51"/>
            <p:cNvSpPr/>
            <p:nvPr/>
          </p:nvSpPr>
          <p:spPr>
            <a:xfrm>
              <a:off x="4786200" y="426240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1"/>
          <p:cNvGrpSpPr/>
          <p:nvPr/>
        </p:nvGrpSpPr>
        <p:grpSpPr>
          <a:xfrm>
            <a:off x="4786200" y="5072040"/>
            <a:ext cx="462240" cy="380880"/>
            <a:chOff x="4786200" y="5072040"/>
            <a:chExt cx="462240" cy="380880"/>
          </a:xfrm>
        </p:grpSpPr>
        <p:sp>
          <p:nvSpPr>
            <p:cNvPr id="867" name="矩形 53"/>
            <p:cNvSpPr/>
            <p:nvPr/>
          </p:nvSpPr>
          <p:spPr>
            <a:xfrm>
              <a:off x="4819320" y="509580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54"/>
            <p:cNvSpPr/>
            <p:nvPr/>
          </p:nvSpPr>
          <p:spPr>
            <a:xfrm>
              <a:off x="4786200" y="507204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Cambria Math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TextBox 55"/>
          <p:cNvSpPr/>
          <p:nvPr/>
        </p:nvSpPr>
        <p:spPr>
          <a:xfrm>
            <a:off x="428760" y="157176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安办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综合协调、督促检查和重大食品安全事件事故的查处等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56"/>
          <p:cNvSpPr/>
          <p:nvPr/>
        </p:nvSpPr>
        <p:spPr>
          <a:xfrm>
            <a:off x="1424160" y="26431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经信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初级农产品的质量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57"/>
          <p:cNvSpPr/>
          <p:nvPr/>
        </p:nvSpPr>
        <p:spPr>
          <a:xfrm>
            <a:off x="1424160" y="346860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监分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生产加工环节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58"/>
          <p:cNvSpPr/>
          <p:nvPr/>
        </p:nvSpPr>
        <p:spPr>
          <a:xfrm>
            <a:off x="1424160" y="42703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商分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流通环节的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59"/>
          <p:cNvSpPr/>
          <p:nvPr/>
        </p:nvSpPr>
        <p:spPr>
          <a:xfrm>
            <a:off x="1424160" y="507204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品药品监管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餐饮服务环节的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60"/>
          <p:cNvSpPr/>
          <p:nvPr/>
        </p:nvSpPr>
        <p:spPr>
          <a:xfrm>
            <a:off x="5286240" y="264312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商务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行业主管单位，农贸市场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1"/>
          <p:cNvSpPr/>
          <p:nvPr/>
        </p:nvSpPr>
        <p:spPr>
          <a:xfrm>
            <a:off x="5286240" y="342900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城管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摊贩的管理，餐厨垃圾和废弃油脂的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2"/>
          <p:cNvSpPr/>
          <p:nvPr/>
        </p:nvSpPr>
        <p:spPr>
          <a:xfrm>
            <a:off x="5286240" y="41911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卫生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健康检查、食品检测、医疗救治及食源性疾病监测、餐具集中消毒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3"/>
          <p:cNvSpPr/>
          <p:nvPr/>
        </p:nvSpPr>
        <p:spPr>
          <a:xfrm>
            <a:off x="5286240" y="51436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安分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食品领域犯罪案件查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64"/>
          <p:cNvSpPr/>
          <p:nvPr/>
        </p:nvSpPr>
        <p:spPr>
          <a:xfrm>
            <a:off x="428760" y="207180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安办成员单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5"/>
          <p:cNvSpPr/>
          <p:nvPr/>
        </p:nvSpPr>
        <p:spPr>
          <a:xfrm>
            <a:off x="357120" y="571500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街道办事处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患排查、信息报告、协助执法、宣传教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3"/>
          <p:cNvGrpSpPr/>
          <p:nvPr/>
        </p:nvGrpSpPr>
        <p:grpSpPr>
          <a:xfrm>
            <a:off x="1928880" y="2314440"/>
            <a:ext cx="5546520" cy="598680"/>
            <a:chOff x="1928880" y="2314440"/>
            <a:chExt cx="5546520" cy="598680"/>
          </a:xfrm>
        </p:grpSpPr>
        <p:grpSp>
          <p:nvGrpSpPr>
            <p:cNvPr id="881" name="Group 4"/>
            <p:cNvGrpSpPr/>
            <p:nvPr/>
          </p:nvGrpSpPr>
          <p:grpSpPr>
            <a:xfrm>
              <a:off x="1928880" y="2314440"/>
              <a:ext cx="5546520" cy="598680"/>
              <a:chOff x="1928880" y="2314440"/>
              <a:chExt cx="5546520" cy="598680"/>
            </a:xfrm>
          </p:grpSpPr>
          <p:sp>
            <p:nvSpPr>
              <p:cNvPr id="882" name="矩形 17"/>
              <p:cNvSpPr/>
              <p:nvPr/>
            </p:nvSpPr>
            <p:spPr>
              <a:xfrm>
                <a:off x="1928880" y="2341440"/>
                <a:ext cx="5500080" cy="5716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矩形 18"/>
              <p:cNvSpPr/>
              <p:nvPr/>
            </p:nvSpPr>
            <p:spPr>
              <a:xfrm>
                <a:off x="1975320" y="2314440"/>
                <a:ext cx="5500080" cy="57168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7"/>
            <p:cNvGrpSpPr/>
            <p:nvPr/>
          </p:nvGrpSpPr>
          <p:grpSpPr>
            <a:xfrm>
              <a:off x="1974240" y="2324880"/>
              <a:ext cx="951120" cy="565560"/>
              <a:chOff x="1974240" y="2324880"/>
              <a:chExt cx="951120" cy="565560"/>
            </a:xfrm>
          </p:grpSpPr>
          <p:grpSp>
            <p:nvGrpSpPr>
              <p:cNvPr id="885" name="Group 8"/>
              <p:cNvGrpSpPr/>
              <p:nvPr/>
            </p:nvGrpSpPr>
            <p:grpSpPr>
              <a:xfrm>
                <a:off x="1974240" y="2324880"/>
                <a:ext cx="951120" cy="565560"/>
                <a:chOff x="1974240" y="2324880"/>
                <a:chExt cx="951120" cy="565560"/>
              </a:xfrm>
            </p:grpSpPr>
            <p:sp>
              <p:nvSpPr>
                <p:cNvPr id="886" name="矩形 26"/>
                <p:cNvSpPr/>
                <p:nvPr/>
              </p:nvSpPr>
              <p:spPr>
                <a:xfrm>
                  <a:off x="1974240" y="232632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直角三角形 35"/>
                <p:cNvSpPr/>
                <p:nvPr/>
              </p:nvSpPr>
              <p:spPr>
                <a:xfrm rot="10800000">
                  <a:off x="2462040" y="23248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TextBox 37"/>
              <p:cNvSpPr/>
              <p:nvPr/>
            </p:nvSpPr>
            <p:spPr>
              <a:xfrm>
                <a:off x="2068560" y="244368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9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890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891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894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895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899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900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903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904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7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908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911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914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917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5"/>
          <p:cNvSpPr/>
          <p:nvPr/>
        </p:nvSpPr>
        <p:spPr>
          <a:xfrm flipH="1">
            <a:off x="3857760" y="2784600"/>
            <a:ext cx="1440" cy="930240"/>
          </a:xfrm>
          <a:prstGeom prst="line">
            <a:avLst/>
          </a:prstGeom>
          <a:ln w="76320">
            <a:solidFill>
              <a:srgbClr val="d6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6"/>
          <p:cNvSpPr/>
          <p:nvPr/>
        </p:nvSpPr>
        <p:spPr>
          <a:xfrm>
            <a:off x="3857760" y="2786040"/>
            <a:ext cx="3643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3300"/>
                </a:solidFill>
                <a:latin typeface="微软雅黑"/>
                <a:ea typeface="微软雅黑"/>
              </a:rPr>
              <a:t>总体平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33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d63300"/>
                </a:solidFill>
                <a:latin typeface="微软雅黑"/>
                <a:ea typeface="微软雅黑"/>
              </a:rPr>
              <a:t>但深层次问题不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924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927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4"/>
          <p:cNvSpPr/>
          <p:nvPr/>
        </p:nvSpPr>
        <p:spPr>
          <a:xfrm>
            <a:off x="214200" y="3451320"/>
            <a:ext cx="2857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区是食品流通和消费大区。近年来，区委区政府高度重视，不断加大投入，各方积极努力，目前形势总体平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4"/>
          <p:cNvSpPr/>
          <p:nvPr/>
        </p:nvSpPr>
        <p:spPr>
          <a:xfrm>
            <a:off x="214200" y="4929120"/>
            <a:ext cx="302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总体平稳，有这样一组数据来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13"/>
          <p:cNvGrpSpPr/>
          <p:nvPr/>
        </p:nvGrpSpPr>
        <p:grpSpPr>
          <a:xfrm>
            <a:off x="4584600" y="1785960"/>
            <a:ext cx="3559320" cy="541440"/>
            <a:chOff x="4584600" y="1785960"/>
            <a:chExt cx="3559320" cy="541440"/>
          </a:xfrm>
        </p:grpSpPr>
        <p:sp>
          <p:nvSpPr>
            <p:cNvPr id="934" name="AutoShape 8"/>
            <p:cNvSpPr/>
            <p:nvPr/>
          </p:nvSpPr>
          <p:spPr>
            <a:xfrm>
              <a:off x="5714640" y="1785960"/>
              <a:ext cx="242928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连续十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没有出现食品安全事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5" name="图片 6" descr="未标题-1.png"/>
            <p:cNvPicPr/>
            <p:nvPr/>
          </p:nvPicPr>
          <p:blipFill>
            <a:blip r:embed="rId3"/>
            <a:stretch/>
          </p:blipFill>
          <p:spPr>
            <a:xfrm>
              <a:off x="4584600" y="1884240"/>
              <a:ext cx="99756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6" name="Group 16"/>
          <p:cNvGrpSpPr/>
          <p:nvPr/>
        </p:nvGrpSpPr>
        <p:grpSpPr>
          <a:xfrm>
            <a:off x="4584600" y="2475000"/>
            <a:ext cx="3559320" cy="541080"/>
            <a:chOff x="4584600" y="2475000"/>
            <a:chExt cx="3559320" cy="541080"/>
          </a:xfrm>
        </p:grpSpPr>
        <p:sp>
          <p:nvSpPr>
            <p:cNvPr id="937" name="AutoShape 9"/>
            <p:cNvSpPr/>
            <p:nvPr/>
          </p:nvSpPr>
          <p:spPr>
            <a:xfrm>
              <a:off x="5714640" y="2475000"/>
              <a:ext cx="2429280" cy="54108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连续五年市政府对区政府考核被评定为“优秀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8" name="图片 6" descr="未标题-1.png"/>
            <p:cNvPicPr/>
            <p:nvPr/>
          </p:nvPicPr>
          <p:blipFill>
            <a:blip r:embed="rId4"/>
            <a:stretch/>
          </p:blipFill>
          <p:spPr>
            <a:xfrm>
              <a:off x="4584600" y="2573280"/>
              <a:ext cx="99756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9" name="Group 19"/>
          <p:cNvGrpSpPr/>
          <p:nvPr/>
        </p:nvGrpSpPr>
        <p:grpSpPr>
          <a:xfrm>
            <a:off x="4584600" y="3165480"/>
            <a:ext cx="3594240" cy="541440"/>
            <a:chOff x="4584600" y="3165480"/>
            <a:chExt cx="3594240" cy="541440"/>
          </a:xfrm>
        </p:grpSpPr>
        <p:sp>
          <p:nvSpPr>
            <p:cNvPr id="940" name="AutoShape 10"/>
            <p:cNvSpPr/>
            <p:nvPr/>
          </p:nvSpPr>
          <p:spPr>
            <a:xfrm>
              <a:off x="5748840" y="3165480"/>
              <a:ext cx="243000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食品检验合格率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92.81%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大市第四、老三区第一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1" name="图片 6" descr="未标题-1.png"/>
            <p:cNvPicPr/>
            <p:nvPr/>
          </p:nvPicPr>
          <p:blipFill>
            <a:blip r:embed="rId5"/>
            <a:stretch/>
          </p:blipFill>
          <p:spPr>
            <a:xfrm>
              <a:off x="4584600" y="3263760"/>
              <a:ext cx="99792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2" name="Group 22"/>
          <p:cNvGrpSpPr/>
          <p:nvPr/>
        </p:nvGrpSpPr>
        <p:grpSpPr>
          <a:xfrm>
            <a:off x="4584600" y="3854520"/>
            <a:ext cx="3594240" cy="541440"/>
            <a:chOff x="4584600" y="3854520"/>
            <a:chExt cx="3594240" cy="541440"/>
          </a:xfrm>
        </p:grpSpPr>
        <p:sp>
          <p:nvSpPr>
            <p:cNvPr id="943" name="AutoShape 11"/>
            <p:cNvSpPr/>
            <p:nvPr/>
          </p:nvSpPr>
          <p:spPr>
            <a:xfrm>
              <a:off x="5748840" y="3854520"/>
              <a:ext cx="243000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群众满意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位居老三区第一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4" name="图片 6" descr="未标题-1.png"/>
            <p:cNvPicPr/>
            <p:nvPr/>
          </p:nvPicPr>
          <p:blipFill>
            <a:blip r:embed="rId6"/>
            <a:stretch/>
          </p:blipFill>
          <p:spPr>
            <a:xfrm>
              <a:off x="4584600" y="3952800"/>
              <a:ext cx="99792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5" name="Group 25"/>
          <p:cNvGrpSpPr/>
          <p:nvPr/>
        </p:nvGrpSpPr>
        <p:grpSpPr>
          <a:xfrm>
            <a:off x="4584600" y="4543560"/>
            <a:ext cx="3594240" cy="541080"/>
            <a:chOff x="4584600" y="4543560"/>
            <a:chExt cx="3594240" cy="541080"/>
          </a:xfrm>
        </p:grpSpPr>
        <p:sp>
          <p:nvSpPr>
            <p:cNvPr id="946" name="AutoShape 12"/>
            <p:cNvSpPr/>
            <p:nvPr/>
          </p:nvSpPr>
          <p:spPr>
            <a:xfrm>
              <a:off x="5748840" y="4543560"/>
              <a:ext cx="2430000" cy="54108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省级食品安全示范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省级餐饮服务示范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7" name="图片 6" descr="未标题-1.png"/>
            <p:cNvPicPr/>
            <p:nvPr/>
          </p:nvPicPr>
          <p:blipFill>
            <a:blip r:embed="rId7"/>
            <a:stretch/>
          </p:blipFill>
          <p:spPr>
            <a:xfrm>
              <a:off x="4584600" y="4641840"/>
              <a:ext cx="99792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8" name="Group 28"/>
          <p:cNvGrpSpPr/>
          <p:nvPr/>
        </p:nvGrpSpPr>
        <p:grpSpPr>
          <a:xfrm>
            <a:off x="3357720" y="1785960"/>
            <a:ext cx="874440" cy="4017960"/>
            <a:chOff x="3357720" y="1785960"/>
            <a:chExt cx="874440" cy="4017960"/>
          </a:xfrm>
        </p:grpSpPr>
        <p:sp>
          <p:nvSpPr>
            <p:cNvPr id="949" name="AutoShape 3"/>
            <p:cNvSpPr/>
            <p:nvPr/>
          </p:nvSpPr>
          <p:spPr>
            <a:xfrm>
              <a:off x="3357720" y="178596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4"/>
            <p:cNvSpPr/>
            <p:nvPr/>
          </p:nvSpPr>
          <p:spPr>
            <a:xfrm>
              <a:off x="3357720" y="247500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5"/>
            <p:cNvSpPr/>
            <p:nvPr/>
          </p:nvSpPr>
          <p:spPr>
            <a:xfrm>
              <a:off x="3357720" y="316440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2.8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6"/>
            <p:cNvSpPr/>
            <p:nvPr/>
          </p:nvSpPr>
          <p:spPr>
            <a:xfrm>
              <a:off x="3357720" y="385380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AutoShape 7"/>
            <p:cNvSpPr/>
            <p:nvPr/>
          </p:nvSpPr>
          <p:spPr>
            <a:xfrm>
              <a:off x="3357720" y="454284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省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3"/>
            <p:cNvSpPr/>
            <p:nvPr/>
          </p:nvSpPr>
          <p:spPr>
            <a:xfrm>
              <a:off x="3357720" y="526248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18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35"/>
          <p:cNvGrpSpPr/>
          <p:nvPr/>
        </p:nvGrpSpPr>
        <p:grpSpPr>
          <a:xfrm>
            <a:off x="4584600" y="5262480"/>
            <a:ext cx="3559320" cy="541440"/>
            <a:chOff x="4584600" y="5262480"/>
            <a:chExt cx="3559320" cy="541440"/>
          </a:xfrm>
        </p:grpSpPr>
        <p:sp>
          <p:nvSpPr>
            <p:cNvPr id="956" name="AutoShape 8"/>
            <p:cNvSpPr/>
            <p:nvPr/>
          </p:nvSpPr>
          <p:spPr>
            <a:xfrm>
              <a:off x="5714640" y="5262480"/>
              <a:ext cx="242928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各部门行政处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8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，罚没款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18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元， 刑事案件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4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7" name="图片 6" descr="未标题-1.png"/>
            <p:cNvPicPr/>
            <p:nvPr/>
          </p:nvPicPr>
          <p:blipFill>
            <a:blip r:embed="rId8"/>
            <a:stretch/>
          </p:blipFill>
          <p:spPr>
            <a:xfrm>
              <a:off x="4584600" y="5360760"/>
              <a:ext cx="997560" cy="354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8:09:00Z</dcterms:created>
  <dc:creator>戚晓艳</dc:creator>
  <dc:description/>
  <cp:keywords/>
  <dc:language>en-US</dc:language>
  <cp:lastModifiedBy>admin</cp:lastModifiedBy>
  <dcterms:modified xsi:type="dcterms:W3CDTF">2015-01-14T06:29:37Z</dcterms:modified>
  <cp:revision>54</cp:revision>
  <dc:subject/>
  <dc:title>江东区食品安全监管情况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