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86E1-9A7F-4693-8C11-5806BA1391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2D4B-8652-4079-93B3-EC8C8447DF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5331-287A-44A9-9DD6-0A0D296F11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C3AA-16ED-4F2A-9ED2-5D68E13E51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5A13-6256-473C-998B-5309142262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5BBB-786E-4CD8-8F93-15168FA446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743D-2CBE-465D-B068-E8D8863CC8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E943-BB39-4633-8E02-FF72B7F3EA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4D6-2169-4EA2-B742-95734E09D5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54C8-292D-4F3D-9002-D031BB55C4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途主要用于以下几个方面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方正大黑简体"/>
                <a:ea typeface="方正大黑简体"/>
              </a:rPr>
              <a:t>自动演示：（</a:t>
            </a: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休闲娱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大黑简体"/>
                <a:ea typeface="方正大黑简体"/>
              </a:rPr>
              <a:t>电脑阅读：（主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书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贺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举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脑游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50"/>
                </a:solidFill>
                <a:latin typeface="方正大黑简体"/>
                <a:ea typeface="方正大黑简体"/>
              </a:rPr>
              <a:t>视觉辅助：（配角）是为了突出重点、浅化难点，把微观、抽象的内容直观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一个完美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在设计过程中从以下六方面来进行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693-7E26-48DB-82D4-60DCC181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D4C-4C9F-4983-8FFC-7D94E8F9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B88-02C1-449E-8915-DE06AF76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B50-1935-4B78-8BBE-78B166AA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069-8BCE-49A4-9431-9836B93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426-5715-4F6A-9194-D183655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768-E0B3-4B66-90AA-9B063C52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38D-F176-4076-A2A4-56FEAC8B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AA8-0F26-48B0-9D73-E839F06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87A-C11C-4F00-B414-BC741F23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C38-A1F4-4444-8A5B-F276810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67B-B200-4F2F-AC25-D171F2A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6C90-6AB7-49B3-B769-887CC3A4726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3213000"/>
            <a:ext cx="9144000" cy="3645000"/>
          </a:xfrm>
          <a:prstGeom prst="rect">
            <a:avLst/>
          </a:pr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Nir\Desktop\未vv标题-1.png"/>
          <p:cNvPicPr/>
          <p:nvPr/>
        </p:nvPicPr>
        <p:blipFill>
          <a:blip r:embed="rId1"/>
          <a:srcRect l="0" t="7576" r="0" b="0"/>
          <a:stretch/>
        </p:blipFill>
        <p:spPr>
          <a:xfrm>
            <a:off x="2135160" y="1258920"/>
            <a:ext cx="5389560" cy="497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矢量图目录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179280" y="1052640"/>
            <a:ext cx="1284480" cy="103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58720" y="2092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e643a"/>
                </a:solidFill>
                <a:latin typeface="微软雅黑"/>
                <a:ea typeface="微软雅黑"/>
              </a:rPr>
              <a:t>逻辑优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94040" y="237960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ical prior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255600" y="549360"/>
            <a:ext cx="2522520" cy="235728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6"/>
          <p:cNvSpPr/>
          <p:nvPr/>
        </p:nvSpPr>
        <p:spPr>
          <a:xfrm>
            <a:off x="2027160" y="2360520"/>
            <a:ext cx="7183440" cy="1197000"/>
          </a:xfrm>
          <a:prstGeom prst="line">
            <a:avLst/>
          </a:prstGeom>
          <a:ln w="9360">
            <a:solidFill>
              <a:srgbClr val="fa24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8"/>
          <p:cNvSpPr/>
          <p:nvPr/>
        </p:nvSpPr>
        <p:spPr>
          <a:xfrm>
            <a:off x="1517760" y="2717640"/>
            <a:ext cx="7488000" cy="3632400"/>
          </a:xfrm>
          <a:prstGeom prst="line">
            <a:avLst/>
          </a:prstGeom>
          <a:ln w="9360">
            <a:solidFill>
              <a:srgbClr val="fa24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矩形 5" descr=""/>
          <p:cNvPicPr/>
          <p:nvPr/>
        </p:nvPicPr>
        <p:blipFill>
          <a:blip r:embed="rId3"/>
          <a:stretch/>
        </p:blipFill>
        <p:spPr>
          <a:xfrm>
            <a:off x="3919680" y="3035160"/>
            <a:ext cx="3243240" cy="1043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6"/>
          <p:cNvSpPr/>
          <p:nvPr/>
        </p:nvSpPr>
        <p:spPr>
          <a:xfrm>
            <a:off x="0" y="4119480"/>
            <a:ext cx="9191520" cy="2782800"/>
          </a:xfrm>
          <a:prstGeom prst="rect">
            <a:avLst/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左大括号 11"/>
          <p:cNvSpPr/>
          <p:nvPr/>
        </p:nvSpPr>
        <p:spPr>
          <a:xfrm>
            <a:off x="2268360" y="4541760"/>
            <a:ext cx="266760" cy="83664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836640"/>
              <a:gd name="textAreaBottom" fmla="*/ 829800 h 83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9"/>
                  <a:pt x="10800" y="577"/>
                </a:cubicBezTo>
                <a:lnTo>
                  <a:pt x="10800" y="10223"/>
                </a:lnTo>
                <a:cubicBezTo>
                  <a:pt x="10800" y="10512"/>
                  <a:pt x="5400" y="10800"/>
                  <a:pt x="0" y="10800"/>
                </a:cubicBezTo>
                <a:cubicBezTo>
                  <a:pt x="5400" y="10800"/>
                  <a:pt x="10800" y="11089"/>
                  <a:pt x="10800" y="11377"/>
                </a:cubicBezTo>
                <a:lnTo>
                  <a:pt x="10800" y="21023"/>
                </a:lnTo>
                <a:cubicBezTo>
                  <a:pt x="10800" y="213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左大括号 12"/>
          <p:cNvSpPr/>
          <p:nvPr/>
        </p:nvSpPr>
        <p:spPr>
          <a:xfrm rot="10800000">
            <a:off x="3417840" y="4541760"/>
            <a:ext cx="270000" cy="836640"/>
          </a:xfrm>
          <a:custGeom>
            <a:avLst/>
            <a:gdLst>
              <a:gd name="textAreaLeft" fmla="*/ 172440 w 270000"/>
              <a:gd name="textAreaRight" fmla="*/ 270360 w 270000"/>
              <a:gd name="textAreaTop" fmla="*/ 6840 h 836640"/>
              <a:gd name="textAreaBottom" fmla="*/ 829800 h 83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矩形 5" descr=""/>
          <p:cNvPicPr/>
          <p:nvPr/>
        </p:nvPicPr>
        <p:blipFill>
          <a:blip r:embed="rId4"/>
          <a:stretch/>
        </p:blipFill>
        <p:spPr>
          <a:xfrm>
            <a:off x="2328840" y="4591080"/>
            <a:ext cx="1322280" cy="858960"/>
          </a:xfrm>
          <a:prstGeom prst="rect">
            <a:avLst/>
          </a:prstGeom>
          <a:ln w="0">
            <a:noFill/>
          </a:ln>
        </p:spPr>
      </p:pic>
      <p:sp>
        <p:nvSpPr>
          <p:cNvPr id="175" name="矩形 5"/>
          <p:cNvSpPr/>
          <p:nvPr/>
        </p:nvSpPr>
        <p:spPr>
          <a:xfrm>
            <a:off x="3706920" y="46497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微软雅黑"/>
                <a:ea typeface="微软雅黑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左大括号 16"/>
          <p:cNvSpPr/>
          <p:nvPr/>
        </p:nvSpPr>
        <p:spPr>
          <a:xfrm>
            <a:off x="4211640" y="4532400"/>
            <a:ext cx="270000" cy="834840"/>
          </a:xfrm>
          <a:custGeom>
            <a:avLst/>
            <a:gdLst>
              <a:gd name="textAreaLeft" fmla="*/ 172440 w 270000"/>
              <a:gd name="textAreaRight" fmla="*/ 270360 w 270000"/>
              <a:gd name="textAreaTop" fmla="*/ 6840 h 834840"/>
              <a:gd name="textAreaBottom" fmla="*/ 8280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1"/>
                  <a:pt x="10800" y="582"/>
                </a:cubicBezTo>
                <a:lnTo>
                  <a:pt x="10800" y="10218"/>
                </a:lnTo>
                <a:cubicBezTo>
                  <a:pt x="10800" y="10509"/>
                  <a:pt x="5400" y="10800"/>
                  <a:pt x="0" y="10800"/>
                </a:cubicBezTo>
                <a:cubicBezTo>
                  <a:pt x="5400" y="10800"/>
                  <a:pt x="10800" y="11091"/>
                  <a:pt x="10800" y="11382"/>
                </a:cubicBezTo>
                <a:lnTo>
                  <a:pt x="10800" y="21018"/>
                </a:lnTo>
                <a:cubicBezTo>
                  <a:pt x="10800" y="213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左大括号 17"/>
          <p:cNvSpPr/>
          <p:nvPr/>
        </p:nvSpPr>
        <p:spPr>
          <a:xfrm rot="10800000">
            <a:off x="7326000" y="4532040"/>
            <a:ext cx="268200" cy="834840"/>
          </a:xfrm>
          <a:custGeom>
            <a:avLst/>
            <a:gdLst>
              <a:gd name="textAreaLeft" fmla="*/ 171360 w 268200"/>
              <a:gd name="textAreaRight" fmla="*/ 268560 w 268200"/>
              <a:gd name="textAreaTop" fmla="*/ 6840 h 834840"/>
              <a:gd name="textAreaBottom" fmla="*/ 8280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9"/>
                  <a:pt x="10800" y="578"/>
                </a:cubicBezTo>
                <a:lnTo>
                  <a:pt x="10800" y="10222"/>
                </a:lnTo>
                <a:cubicBezTo>
                  <a:pt x="10800" y="10511"/>
                  <a:pt x="5400" y="10800"/>
                  <a:pt x="0" y="10800"/>
                </a:cubicBezTo>
                <a:cubicBezTo>
                  <a:pt x="5400" y="10800"/>
                  <a:pt x="10800" y="11089"/>
                  <a:pt x="10800" y="11378"/>
                </a:cubicBezTo>
                <a:lnTo>
                  <a:pt x="10800" y="21022"/>
                </a:lnTo>
                <a:cubicBezTo>
                  <a:pt x="10800" y="213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矩形 5" descr=""/>
          <p:cNvPicPr/>
          <p:nvPr/>
        </p:nvPicPr>
        <p:blipFill>
          <a:blip r:embed="rId5"/>
          <a:stretch/>
        </p:blipFill>
        <p:spPr>
          <a:xfrm>
            <a:off x="4187880" y="4572000"/>
            <a:ext cx="3432240" cy="858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4"/>
          <p:cNvSpPr/>
          <p:nvPr/>
        </p:nvSpPr>
        <p:spPr>
          <a:xfrm>
            <a:off x="6273720" y="4762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林虎哲 国际金融理财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593800" y="2933640"/>
            <a:ext cx="4065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冬青黑体简体中文 W3"/>
                <a:ea typeface="冬青黑体简体中文 W3"/>
              </a:rPr>
              <a:t>这概念不再新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冬青黑体简体中文 W3"/>
                <a:ea typeface="冬青黑体简体中文 W3"/>
              </a:rPr>
              <a:t>或许你真正体会到逻辑的重要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冬青黑体简体中文 W3"/>
                <a:ea typeface="冬青黑体简体中文 W3"/>
              </a:rPr>
              <a:t>或许你不懂装懂</a:t>
            </a:r>
            <a:r>
              <a:rPr b="1" lang="en-US" sz="2000" spc="-1" strike="noStrike">
                <a:solidFill>
                  <a:srgbClr val="5f5f5f"/>
                </a:solidFill>
                <a:latin typeface="冬青黑体简体中文 W3"/>
                <a:ea typeface="冬青黑体简体中文 W3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3046320" y="1916280"/>
            <a:ext cx="3432240" cy="1020600"/>
          </a:xfrm>
          <a:prstGeom prst="rect">
            <a:avLst/>
          </a:pr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241800" y="2228760"/>
            <a:ext cx="3112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逻辑 </a:t>
            </a:r>
            <a:r>
              <a:rPr b="1" lang="en-US" sz="4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&gt; </a:t>
            </a:r>
            <a:r>
              <a:rPr b="1" lang="zh-CN" sz="4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设计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4"/>
          <p:cNvSpPr/>
          <p:nvPr/>
        </p:nvSpPr>
        <p:spPr>
          <a:xfrm rot="3153000">
            <a:off x="664560" y="4190760"/>
            <a:ext cx="3146400" cy="126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"/>
          <p:cNvSpPr/>
          <p:nvPr/>
        </p:nvSpPr>
        <p:spPr>
          <a:xfrm rot="3153000">
            <a:off x="851400" y="4040640"/>
            <a:ext cx="2955960" cy="1922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6"/>
          <p:cNvSpPr/>
          <p:nvPr/>
        </p:nvSpPr>
        <p:spPr>
          <a:xfrm rot="3153000">
            <a:off x="1879200" y="3095640"/>
            <a:ext cx="1621080" cy="1274760"/>
          </a:xfrm>
          <a:custGeom>
            <a:avLst/>
            <a:gdLst>
              <a:gd name="textAreaLeft" fmla="*/ 0 w 1621080"/>
              <a:gd name="textAreaRight" fmla="*/ 1621440 w 16210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6"/>
          <p:cNvSpPr/>
          <p:nvPr/>
        </p:nvSpPr>
        <p:spPr>
          <a:xfrm rot="3153000">
            <a:off x="1899000" y="3153240"/>
            <a:ext cx="1528560" cy="1203480"/>
          </a:xfrm>
          <a:custGeom>
            <a:avLst/>
            <a:gdLst>
              <a:gd name="textAreaLeft" fmla="*/ 0 w 1528560"/>
              <a:gd name="textAreaRight" fmla="*/ 1528920 w 152856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2289240" y="3333600"/>
            <a:ext cx="17280" cy="743040"/>
            <a:chOff x="2289240" y="3333600"/>
            <a:chExt cx="17280" cy="743040"/>
          </a:xfrm>
        </p:grpSpPr>
        <p:pic>
          <p:nvPicPr>
            <p:cNvPr id="63" name="矩形 48" descr=""/>
            <p:cNvPicPr/>
            <p:nvPr/>
          </p:nvPicPr>
          <p:blipFill>
            <a:blip r:embed="rId2"/>
            <a:stretch/>
          </p:blipFill>
          <p:spPr>
            <a:xfrm>
              <a:off x="2289240" y="3333600"/>
              <a:ext cx="17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/>
            <p:cNvSpPr/>
            <p:nvPr/>
          </p:nvSpPr>
          <p:spPr>
            <a:xfrm rot="5400000">
              <a:off x="1926720" y="3698640"/>
              <a:ext cx="740160" cy="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49"/>
          <p:cNvSpPr/>
          <p:nvPr/>
        </p:nvSpPr>
        <p:spPr>
          <a:xfrm>
            <a:off x="2266920" y="335124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从目的出发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0"/>
          <p:cNvSpPr/>
          <p:nvPr/>
        </p:nvSpPr>
        <p:spPr>
          <a:xfrm>
            <a:off x="1484280" y="4040280"/>
            <a:ext cx="8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5"/>
          <p:cNvSpPr/>
          <p:nvPr/>
        </p:nvSpPr>
        <p:spPr>
          <a:xfrm>
            <a:off x="1967040" y="3446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目的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9"/>
          <p:cNvSpPr/>
          <p:nvPr/>
        </p:nvSpPr>
        <p:spPr>
          <a:xfrm rot="3153000">
            <a:off x="2896560" y="4190760"/>
            <a:ext cx="3146400" cy="126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"/>
          <p:cNvSpPr/>
          <p:nvPr/>
        </p:nvSpPr>
        <p:spPr>
          <a:xfrm rot="3153000">
            <a:off x="3071520" y="4039920"/>
            <a:ext cx="2955960" cy="19368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6"/>
          <p:cNvSpPr/>
          <p:nvPr/>
        </p:nvSpPr>
        <p:spPr>
          <a:xfrm rot="3153000">
            <a:off x="4111200" y="3095640"/>
            <a:ext cx="1621080" cy="1274760"/>
          </a:xfrm>
          <a:custGeom>
            <a:avLst/>
            <a:gdLst>
              <a:gd name="textAreaLeft" fmla="*/ 0 w 1621080"/>
              <a:gd name="textAreaRight" fmla="*/ 1621440 w 16210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6"/>
          <p:cNvSpPr/>
          <p:nvPr/>
        </p:nvSpPr>
        <p:spPr>
          <a:xfrm rot="3153000">
            <a:off x="4131000" y="3153240"/>
            <a:ext cx="1528560" cy="1203480"/>
          </a:xfrm>
          <a:custGeom>
            <a:avLst/>
            <a:gdLst>
              <a:gd name="textAreaLeft" fmla="*/ 0 w 1528560"/>
              <a:gd name="textAreaRight" fmla="*/ 1528920 w 152856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0"/>
          <p:cNvSpPr/>
          <p:nvPr/>
        </p:nvSpPr>
        <p:spPr>
          <a:xfrm>
            <a:off x="4491000" y="3340080"/>
            <a:ext cx="95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分角度去拆解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8"/>
          <p:cNvGrpSpPr/>
          <p:nvPr/>
        </p:nvGrpSpPr>
        <p:grpSpPr>
          <a:xfrm>
            <a:off x="4495680" y="3321000"/>
            <a:ext cx="17640" cy="743040"/>
            <a:chOff x="4495680" y="3321000"/>
            <a:chExt cx="17640" cy="743040"/>
          </a:xfrm>
        </p:grpSpPr>
        <p:pic>
          <p:nvPicPr>
            <p:cNvPr id="74" name="矩形 66" descr=""/>
            <p:cNvPicPr/>
            <p:nvPr/>
          </p:nvPicPr>
          <p:blipFill>
            <a:blip r:embed="rId3"/>
            <a:stretch/>
          </p:blipFill>
          <p:spPr>
            <a:xfrm>
              <a:off x="4495680" y="3321000"/>
              <a:ext cx="17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22"/>
            <p:cNvSpPr/>
            <p:nvPr/>
          </p:nvSpPr>
          <p:spPr>
            <a:xfrm rot="5400000">
              <a:off x="4134240" y="3685680"/>
              <a:ext cx="74016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67"/>
          <p:cNvSpPr/>
          <p:nvPr/>
        </p:nvSpPr>
        <p:spPr>
          <a:xfrm>
            <a:off x="4173480" y="3433680"/>
            <a:ext cx="4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分解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2"/>
          <p:cNvSpPr/>
          <p:nvPr/>
        </p:nvSpPr>
        <p:spPr>
          <a:xfrm>
            <a:off x="3681360" y="4040280"/>
            <a:ext cx="8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4"/>
          <p:cNvSpPr/>
          <p:nvPr/>
        </p:nvSpPr>
        <p:spPr>
          <a:xfrm rot="3153000">
            <a:off x="5040000" y="4190400"/>
            <a:ext cx="3146400" cy="1296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"/>
          <p:cNvSpPr/>
          <p:nvPr/>
        </p:nvSpPr>
        <p:spPr>
          <a:xfrm rot="3153000">
            <a:off x="5214600" y="4039920"/>
            <a:ext cx="2955960" cy="19368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6"/>
          <p:cNvSpPr/>
          <p:nvPr/>
        </p:nvSpPr>
        <p:spPr>
          <a:xfrm rot="3153000">
            <a:off x="6254280" y="3095640"/>
            <a:ext cx="1621080" cy="1274760"/>
          </a:xfrm>
          <a:custGeom>
            <a:avLst/>
            <a:gdLst>
              <a:gd name="textAreaLeft" fmla="*/ 0 w 1621080"/>
              <a:gd name="textAreaRight" fmla="*/ 1621440 w 16210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6"/>
          <p:cNvSpPr/>
          <p:nvPr/>
        </p:nvSpPr>
        <p:spPr>
          <a:xfrm rot="3153000">
            <a:off x="6274080" y="3153240"/>
            <a:ext cx="1528560" cy="1203480"/>
          </a:xfrm>
          <a:custGeom>
            <a:avLst/>
            <a:gdLst>
              <a:gd name="textAreaLeft" fmla="*/ 0 w 1528560"/>
              <a:gd name="textAreaRight" fmla="*/ 1528920 w 152856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1"/>
          <p:cNvSpPr/>
          <p:nvPr/>
        </p:nvSpPr>
        <p:spPr>
          <a:xfrm>
            <a:off x="6696000" y="3362400"/>
            <a:ext cx="95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从各角度思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6738840" y="3344760"/>
            <a:ext cx="10800" cy="738360"/>
            <a:chOff x="6738840" y="3344760"/>
            <a:chExt cx="10800" cy="738360"/>
          </a:xfrm>
        </p:grpSpPr>
        <p:pic>
          <p:nvPicPr>
            <p:cNvPr id="84" name="矩形 68" descr=""/>
            <p:cNvPicPr/>
            <p:nvPr/>
          </p:nvPicPr>
          <p:blipFill>
            <a:blip r:embed="rId4"/>
            <a:stretch/>
          </p:blipFill>
          <p:spPr>
            <a:xfrm>
              <a:off x="6738840" y="3347280"/>
              <a:ext cx="9720" cy="7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33"/>
            <p:cNvSpPr/>
            <p:nvPr/>
          </p:nvSpPr>
          <p:spPr>
            <a:xfrm rot="5400000">
              <a:off x="6375240" y="3708720"/>
              <a:ext cx="738360" cy="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69"/>
          <p:cNvSpPr/>
          <p:nvPr/>
        </p:nvSpPr>
        <p:spPr>
          <a:xfrm>
            <a:off x="6415200" y="34416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办法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3"/>
          <p:cNvSpPr/>
          <p:nvPr/>
        </p:nvSpPr>
        <p:spPr>
          <a:xfrm>
            <a:off x="5913360" y="4040280"/>
            <a:ext cx="8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4512"/>
          <p:cNvSpPr/>
          <p:nvPr/>
        </p:nvSpPr>
        <p:spPr>
          <a:xfrm>
            <a:off x="655560" y="2565360"/>
            <a:ext cx="8097840" cy="3146400"/>
          </a:xfrm>
          <a:prstGeom prst="rect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占位符 3"/>
          <p:cNvSpPr/>
          <p:nvPr/>
        </p:nvSpPr>
        <p:spPr>
          <a:xfrm>
            <a:off x="539640" y="2060640"/>
            <a:ext cx="3395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的核心是逻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8"/>
          <p:cNvSpPr/>
          <p:nvPr/>
        </p:nvSpPr>
        <p:spPr>
          <a:xfrm>
            <a:off x="46836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9"/>
          <p:cNvSpPr/>
          <p:nvPr/>
        </p:nvSpPr>
        <p:spPr>
          <a:xfrm>
            <a:off x="630360" y="878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演示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1414440" y="2849400"/>
            <a:ext cx="14130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a2400"/>
                </a:solidFill>
                <a:latin typeface="冬青黑体简体中文 W3"/>
                <a:ea typeface="冬青黑体简体中文 W3"/>
              </a:rPr>
              <a:t>垂直思考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左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1403280" y="3871800"/>
            <a:ext cx="1411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P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a2400"/>
                </a:solidFill>
                <a:latin typeface="冬青黑体简体中文 W3"/>
                <a:ea typeface="冬青黑体简体中文 W3"/>
              </a:rPr>
              <a:t>水平思考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右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占位符 3"/>
          <p:cNvSpPr/>
          <p:nvPr/>
        </p:nvSpPr>
        <p:spPr>
          <a:xfrm>
            <a:off x="324000" y="2060640"/>
            <a:ext cx="3848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中展示逻辑的不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43020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592200" y="878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演示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"/>
          <p:cNvPicPr/>
          <p:nvPr/>
        </p:nvPicPr>
        <p:blipFill>
          <a:blip r:embed="rId2"/>
          <a:stretch/>
        </p:blipFill>
        <p:spPr>
          <a:xfrm>
            <a:off x="5099040" y="1700280"/>
            <a:ext cx="2944800" cy="3871800"/>
          </a:xfrm>
          <a:prstGeom prst="rect">
            <a:avLst/>
          </a:prstGeom>
          <a:ln w="0">
            <a:noFill/>
          </a:ln>
        </p:spPr>
      </p:pic>
      <p:sp>
        <p:nvSpPr>
          <p:cNvPr id="99" name="矩形 28"/>
          <p:cNvSpPr/>
          <p:nvPr/>
        </p:nvSpPr>
        <p:spPr>
          <a:xfrm>
            <a:off x="6111720" y="2233440"/>
            <a:ext cx="14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什么是对的</a:t>
            </a:r>
            <a:r>
              <a:rPr b="1" lang="en-US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a2400"/>
                </a:solidFill>
                <a:latin typeface="冬青黑体简体中文 W3"/>
                <a:ea typeface="冬青黑体简体中文 W3"/>
              </a:rPr>
              <a:t>垂直思考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7"/>
          <p:cNvSpPr/>
          <p:nvPr/>
        </p:nvSpPr>
        <p:spPr>
          <a:xfrm>
            <a:off x="5556240" y="313200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啊</a:t>
            </a:r>
            <a:r>
              <a:rPr b="1" lang="en-US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,</a:t>
            </a:r>
            <a:r>
              <a:rPr b="1" lang="zh-CN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原来是这样的</a:t>
            </a:r>
            <a:r>
              <a:rPr b="1" lang="en-US" sz="18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a2400"/>
                </a:solidFill>
                <a:latin typeface="冬青黑体简体中文 W3"/>
                <a:ea typeface="冬青黑体简体中文 W3"/>
              </a:rPr>
              <a:t>水平思考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2173320" y="4444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制作时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38360" y="3470400"/>
            <a:ext cx="1803240" cy="1542960"/>
            <a:chOff x="1638360" y="3470400"/>
            <a:chExt cx="1803240" cy="1542960"/>
          </a:xfrm>
        </p:grpSpPr>
        <p:sp>
          <p:nvSpPr>
            <p:cNvPr id="104" name="左大括号 4"/>
            <p:cNvSpPr/>
            <p:nvPr/>
          </p:nvSpPr>
          <p:spPr>
            <a:xfrm>
              <a:off x="1638360" y="3470400"/>
              <a:ext cx="333360" cy="154296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8640 h 1542960"/>
                <a:gd name="textAreaBottom" fmla="*/ 1534320 h 15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95"/>
                    <a:pt x="10800" y="389"/>
                  </a:cubicBezTo>
                  <a:lnTo>
                    <a:pt x="10800" y="10411"/>
                  </a:lnTo>
                  <a:cubicBezTo>
                    <a:pt x="10800" y="10606"/>
                    <a:pt x="5400" y="10800"/>
                    <a:pt x="0" y="10800"/>
                  </a:cubicBezTo>
                  <a:cubicBezTo>
                    <a:pt x="5400" y="10800"/>
                    <a:pt x="10800" y="10995"/>
                    <a:pt x="10800" y="11189"/>
                  </a:cubicBezTo>
                  <a:lnTo>
                    <a:pt x="10800" y="21211"/>
                  </a:lnTo>
                  <a:cubicBezTo>
                    <a:pt x="10800" y="2140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左大括号 10"/>
            <p:cNvSpPr/>
            <p:nvPr/>
          </p:nvSpPr>
          <p:spPr>
            <a:xfrm rot="10800000">
              <a:off x="3108240" y="3470400"/>
              <a:ext cx="333360" cy="154296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8640 h 1542960"/>
                <a:gd name="textAreaBottom" fmla="*/ 1534320 h 15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95"/>
                    <a:pt x="10800" y="389"/>
                  </a:cubicBezTo>
                  <a:lnTo>
                    <a:pt x="10800" y="10411"/>
                  </a:lnTo>
                  <a:cubicBezTo>
                    <a:pt x="10800" y="10606"/>
                    <a:pt x="5400" y="10800"/>
                    <a:pt x="0" y="10800"/>
                  </a:cubicBezTo>
                  <a:cubicBezTo>
                    <a:pt x="5400" y="10800"/>
                    <a:pt x="10800" y="10995"/>
                    <a:pt x="10800" y="11189"/>
                  </a:cubicBezTo>
                  <a:lnTo>
                    <a:pt x="10800" y="21211"/>
                  </a:lnTo>
                  <a:cubicBezTo>
                    <a:pt x="10800" y="2140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矩形 17" descr=""/>
          <p:cNvPicPr/>
          <p:nvPr/>
        </p:nvPicPr>
        <p:blipFill>
          <a:blip r:embed="rId2"/>
          <a:stretch/>
        </p:blipFill>
        <p:spPr>
          <a:xfrm>
            <a:off x="1901880" y="3584520"/>
            <a:ext cx="834840" cy="53676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" descr=""/>
          <p:cNvPicPr/>
          <p:nvPr/>
        </p:nvPicPr>
        <p:blipFill>
          <a:blip r:embed="rId3"/>
          <a:stretch/>
        </p:blipFill>
        <p:spPr>
          <a:xfrm>
            <a:off x="1865160" y="3541680"/>
            <a:ext cx="1463760" cy="817560"/>
          </a:xfrm>
          <a:prstGeom prst="rect">
            <a:avLst/>
          </a:prstGeom>
          <a:ln w="0">
            <a:noFill/>
          </a:ln>
        </p:spPr>
      </p:pic>
      <p:sp>
        <p:nvSpPr>
          <p:cNvPr id="108" name="矩形 17"/>
          <p:cNvSpPr/>
          <p:nvPr/>
        </p:nvSpPr>
        <p:spPr>
          <a:xfrm>
            <a:off x="4226040" y="4444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文字密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左大括号 13"/>
          <p:cNvSpPr/>
          <p:nvPr/>
        </p:nvSpPr>
        <p:spPr>
          <a:xfrm>
            <a:off x="3701880" y="3470400"/>
            <a:ext cx="333720" cy="1542960"/>
          </a:xfrm>
          <a:custGeom>
            <a:avLst/>
            <a:gdLst>
              <a:gd name="textAreaLeft" fmla="*/ 213120 w 333720"/>
              <a:gd name="textAreaRight" fmla="*/ 333720 w 333720"/>
              <a:gd name="textAreaTop" fmla="*/ 8640 h 1542960"/>
              <a:gd name="textAreaBottom" fmla="*/ 1534320 h 15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89"/>
                </a:cubicBezTo>
                <a:lnTo>
                  <a:pt x="10800" y="10411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89"/>
                </a:cubicBezTo>
                <a:lnTo>
                  <a:pt x="10800" y="21211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左大括号 15"/>
          <p:cNvSpPr/>
          <p:nvPr/>
        </p:nvSpPr>
        <p:spPr>
          <a:xfrm rot="10800000">
            <a:off x="5173560" y="3470400"/>
            <a:ext cx="333360" cy="154296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1542960"/>
              <a:gd name="textAreaBottom" fmla="*/ 1534320 h 15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89"/>
                </a:cubicBezTo>
                <a:lnTo>
                  <a:pt x="10800" y="10411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89"/>
                </a:cubicBezTo>
                <a:lnTo>
                  <a:pt x="10800" y="21211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矩形 17" descr=""/>
          <p:cNvPicPr/>
          <p:nvPr/>
        </p:nvPicPr>
        <p:blipFill>
          <a:blip r:embed="rId4"/>
          <a:stretch/>
        </p:blipFill>
        <p:spPr>
          <a:xfrm>
            <a:off x="3932280" y="3571920"/>
            <a:ext cx="834840" cy="53640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17" descr=""/>
          <p:cNvPicPr/>
          <p:nvPr/>
        </p:nvPicPr>
        <p:blipFill>
          <a:blip r:embed="rId5"/>
          <a:stretch/>
        </p:blipFill>
        <p:spPr>
          <a:xfrm>
            <a:off x="3895560" y="3541680"/>
            <a:ext cx="1462320" cy="8175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7"/>
          <p:cNvSpPr/>
          <p:nvPr/>
        </p:nvSpPr>
        <p:spPr>
          <a:xfrm>
            <a:off x="6267600" y="4444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内容条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5"/>
          <p:cNvGrpSpPr/>
          <p:nvPr/>
        </p:nvGrpSpPr>
        <p:grpSpPr>
          <a:xfrm>
            <a:off x="5767560" y="3470400"/>
            <a:ext cx="1803240" cy="1542960"/>
            <a:chOff x="5767560" y="3470400"/>
            <a:chExt cx="1803240" cy="1542960"/>
          </a:xfrm>
        </p:grpSpPr>
        <p:sp>
          <p:nvSpPr>
            <p:cNvPr id="115" name="左大括号 19"/>
            <p:cNvSpPr/>
            <p:nvPr/>
          </p:nvSpPr>
          <p:spPr>
            <a:xfrm>
              <a:off x="5767560" y="3470400"/>
              <a:ext cx="333360" cy="154296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8640 h 1542960"/>
                <a:gd name="textAreaBottom" fmla="*/ 1534320 h 15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95"/>
                    <a:pt x="10800" y="389"/>
                  </a:cubicBezTo>
                  <a:lnTo>
                    <a:pt x="10800" y="10411"/>
                  </a:lnTo>
                  <a:cubicBezTo>
                    <a:pt x="10800" y="10606"/>
                    <a:pt x="5400" y="10800"/>
                    <a:pt x="0" y="10800"/>
                  </a:cubicBezTo>
                  <a:cubicBezTo>
                    <a:pt x="5400" y="10800"/>
                    <a:pt x="10800" y="10995"/>
                    <a:pt x="10800" y="11189"/>
                  </a:cubicBezTo>
                  <a:lnTo>
                    <a:pt x="10800" y="21211"/>
                  </a:lnTo>
                  <a:cubicBezTo>
                    <a:pt x="10800" y="2140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左大括号 22"/>
            <p:cNvSpPr/>
            <p:nvPr/>
          </p:nvSpPr>
          <p:spPr>
            <a:xfrm rot="10800000">
              <a:off x="7237440" y="3470400"/>
              <a:ext cx="333360" cy="154296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8640 h 1542960"/>
                <a:gd name="textAreaBottom" fmla="*/ 1534320 h 15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95"/>
                    <a:pt x="10800" y="389"/>
                  </a:cubicBezTo>
                  <a:lnTo>
                    <a:pt x="10800" y="10411"/>
                  </a:lnTo>
                  <a:cubicBezTo>
                    <a:pt x="10800" y="10606"/>
                    <a:pt x="5400" y="10800"/>
                    <a:pt x="0" y="10800"/>
                  </a:cubicBezTo>
                  <a:cubicBezTo>
                    <a:pt x="5400" y="10800"/>
                    <a:pt x="10800" y="10995"/>
                    <a:pt x="10800" y="11189"/>
                  </a:cubicBezTo>
                  <a:lnTo>
                    <a:pt x="10800" y="21211"/>
                  </a:lnTo>
                  <a:cubicBezTo>
                    <a:pt x="10800" y="21406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矩形 17" descr=""/>
          <p:cNvPicPr/>
          <p:nvPr/>
        </p:nvPicPr>
        <p:blipFill>
          <a:blip r:embed="rId6"/>
          <a:stretch/>
        </p:blipFill>
        <p:spPr>
          <a:xfrm>
            <a:off x="6035760" y="3597120"/>
            <a:ext cx="834840" cy="53676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4" descr=""/>
          <p:cNvPicPr/>
          <p:nvPr/>
        </p:nvPicPr>
        <p:blipFill>
          <a:blip r:embed="rId7"/>
          <a:stretch/>
        </p:blipFill>
        <p:spPr>
          <a:xfrm>
            <a:off x="5967360" y="3541680"/>
            <a:ext cx="1463760" cy="817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71400" y="1779480"/>
            <a:ext cx="5484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逻辑视觉化的工具</a:t>
            </a:r>
            <a:r>
              <a:rPr b="1" lang="en-US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金字塔原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1658880" y="2954160"/>
            <a:ext cx="29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应用金字塔原理后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43020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592200" y="878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演示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90520" y="1844640"/>
            <a:ext cx="464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两种金字塔结构方法</a:t>
            </a:r>
            <a:r>
              <a:rPr b="1" lang="en-US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921240" y="2384280"/>
            <a:ext cx="270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*</a:t>
            </a:r>
            <a:r>
              <a:rPr b="1" lang="zh-CN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如果你对业务很熟悉</a:t>
            </a:r>
            <a:r>
              <a:rPr b="1" lang="en-US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:</a:t>
            </a:r>
            <a:r>
              <a:rPr b="1" lang="zh-CN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自上而下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5" descr=""/>
          <p:cNvPicPr/>
          <p:nvPr/>
        </p:nvPicPr>
        <p:blipFill>
          <a:blip r:embed="rId2"/>
          <a:srcRect l="2955" t="38679" r="2554" b="23397"/>
          <a:stretch/>
        </p:blipFill>
        <p:spPr>
          <a:xfrm>
            <a:off x="179280" y="3043080"/>
            <a:ext cx="8713800" cy="2186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6"/>
          <p:cNvSpPr/>
          <p:nvPr/>
        </p:nvSpPr>
        <p:spPr>
          <a:xfrm>
            <a:off x="43020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7"/>
          <p:cNvSpPr/>
          <p:nvPr/>
        </p:nvSpPr>
        <p:spPr>
          <a:xfrm>
            <a:off x="592200" y="878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演示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285840" y="2003400"/>
            <a:ext cx="464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两种金字塔结构方法</a:t>
            </a:r>
            <a:r>
              <a:rPr b="1" lang="en-US" sz="28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929160" y="2514600"/>
            <a:ext cx="270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*</a:t>
            </a:r>
            <a:r>
              <a:rPr b="1" lang="zh-CN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如果你对业务不熟悉</a:t>
            </a:r>
            <a:r>
              <a:rPr b="1" lang="en-US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:</a:t>
            </a:r>
            <a:r>
              <a:rPr b="1" lang="zh-CN" sz="20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自下而上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4" descr=""/>
          <p:cNvPicPr/>
          <p:nvPr/>
        </p:nvPicPr>
        <p:blipFill>
          <a:blip r:embed="rId2"/>
          <a:srcRect l="4615" t="38141" r="2424" b="17899"/>
          <a:stretch/>
        </p:blipFill>
        <p:spPr>
          <a:xfrm>
            <a:off x="179280" y="2911320"/>
            <a:ext cx="8820360" cy="2605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65"/>
          <p:cNvSpPr/>
          <p:nvPr/>
        </p:nvSpPr>
        <p:spPr>
          <a:xfrm>
            <a:off x="43020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6"/>
          <p:cNvSpPr/>
          <p:nvPr/>
        </p:nvSpPr>
        <p:spPr>
          <a:xfrm>
            <a:off x="592200" y="878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造字工房悦黑体验版常规体"/>
                <a:ea typeface="造字工房悦黑体验版常规体"/>
              </a:rPr>
              <a:t>演示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4"/>
          <p:cNvSpPr/>
          <p:nvPr/>
        </p:nvSpPr>
        <p:spPr>
          <a:xfrm>
            <a:off x="795240" y="981000"/>
            <a:ext cx="1139760" cy="1139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979560" y="125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逻辑思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923400" y="1566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与片共舞</a:t>
            </a:r>
            <a:r>
              <a:rPr b="1" lang="en-US" sz="16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8"/>
          <p:cNvSpPr/>
          <p:nvPr/>
        </p:nvSpPr>
        <p:spPr>
          <a:xfrm>
            <a:off x="1728720" y="3284640"/>
            <a:ext cx="5688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4"/>
          <p:cNvSpPr/>
          <p:nvPr/>
        </p:nvSpPr>
        <p:spPr>
          <a:xfrm>
            <a:off x="3318120" y="22780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72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5"/>
          <p:cNvSpPr/>
          <p:nvPr/>
        </p:nvSpPr>
        <p:spPr>
          <a:xfrm>
            <a:off x="4438440" y="227808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3,50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6"/>
          <p:cNvSpPr/>
          <p:nvPr/>
        </p:nvSpPr>
        <p:spPr>
          <a:xfrm>
            <a:off x="3317760" y="33577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乌拉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7"/>
          <p:cNvSpPr/>
          <p:nvPr/>
        </p:nvSpPr>
        <p:spPr>
          <a:xfrm>
            <a:off x="4910040" y="3359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秋叶语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1"/>
          <p:cNvSpPr/>
          <p:nvPr/>
        </p:nvSpPr>
        <p:spPr>
          <a:xfrm>
            <a:off x="4342680" y="252720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rcRect l="10951" t="38346" r="49208" b="31004"/>
          <a:stretch/>
        </p:blipFill>
        <p:spPr>
          <a:xfrm>
            <a:off x="4807080" y="3894120"/>
            <a:ext cx="2428920" cy="1716120"/>
          </a:xfrm>
          <a:prstGeom prst="rect">
            <a:avLst/>
          </a:prstGeom>
          <a:ln w="0">
            <a:noFill/>
          </a:ln>
        </p:spPr>
      </p:pic>
      <p:sp>
        <p:nvSpPr>
          <p:cNvPr id="146" name="矩形 5"/>
          <p:cNvSpPr/>
          <p:nvPr/>
        </p:nvSpPr>
        <p:spPr>
          <a:xfrm>
            <a:off x="5073480" y="566100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写好年终总结的</a:t>
            </a:r>
            <a:r>
              <a:rPr b="0" lang="en-US" sz="16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个关键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8"/>
          <p:cNvSpPr/>
          <p:nvPr/>
        </p:nvSpPr>
        <p:spPr>
          <a:xfrm>
            <a:off x="2792880" y="5661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写好年终总结报告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2"/>
          <a:srcRect l="9456" t="45482" r="49190" b="23794"/>
          <a:stretch/>
        </p:blipFill>
        <p:spPr>
          <a:xfrm>
            <a:off x="1728720" y="3897360"/>
            <a:ext cx="2490840" cy="1763640"/>
          </a:xfrm>
          <a:prstGeom prst="rect">
            <a:avLst/>
          </a:prstGeom>
          <a:ln w="0">
            <a:noFill/>
          </a:ln>
        </p:spPr>
      </p:pic>
      <p:sp>
        <p:nvSpPr>
          <p:cNvPr id="149" name="矩形 5"/>
          <p:cNvSpPr/>
          <p:nvPr/>
        </p:nvSpPr>
        <p:spPr>
          <a:xfrm>
            <a:off x="2940480" y="1243080"/>
            <a:ext cx="461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这不是影响力的真实差异</a:t>
            </a:r>
            <a:r>
              <a:rPr b="1" lang="en-US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而是相同主题</a:t>
            </a:r>
            <a:r>
              <a:rPr b="1" lang="en-US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不同逻辑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带来的转发差异</a:t>
            </a:r>
            <a:r>
              <a:rPr b="1" lang="en-US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内容为王</a:t>
            </a:r>
            <a:r>
              <a:rPr b="1" lang="en-US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这是秋叶的特点</a:t>
            </a:r>
            <a:r>
              <a:rPr b="1" lang="en-US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也是</a:t>
            </a:r>
            <a:r>
              <a:rPr b="1" lang="en-US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Poi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4"/>
          <p:cNvSpPr/>
          <p:nvPr/>
        </p:nvSpPr>
        <p:spPr>
          <a:xfrm>
            <a:off x="795240" y="1022400"/>
            <a:ext cx="1141560" cy="1139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968400" y="129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逻辑思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912240" y="16081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与片共舞</a:t>
            </a:r>
            <a:r>
              <a:rPr b="1" lang="en-US" sz="1600" spc="-1" strike="noStrike">
                <a:solidFill>
                  <a:srgbClr val="595959"/>
                </a:solidFill>
                <a:latin typeface="冬青黑体简体中文 W3"/>
                <a:ea typeface="冬青黑体简体中文 W3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2949120" y="2114640"/>
            <a:ext cx="148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gency FB"/>
              </a:rPr>
              <a:t>253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5"/>
          <p:cNvSpPr/>
          <p:nvPr/>
        </p:nvSpPr>
        <p:spPr>
          <a:xfrm>
            <a:off x="4585320" y="211464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gency FB"/>
              </a:rPr>
              <a:t>2,68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6"/>
          <p:cNvSpPr/>
          <p:nvPr/>
        </p:nvSpPr>
        <p:spPr>
          <a:xfrm>
            <a:off x="3639960" y="31608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乌拉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7"/>
          <p:cNvSpPr/>
          <p:nvPr/>
        </p:nvSpPr>
        <p:spPr>
          <a:xfrm>
            <a:off x="4876560" y="314496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Lonely_Fi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4477680" y="2363760"/>
            <a:ext cx="2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冬青黑体简体中文 W3"/>
                <a:ea typeface="冬青黑体简体中文 W3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5033880" y="5829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中国好声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8"/>
          <p:cNvSpPr/>
          <p:nvPr/>
        </p:nvSpPr>
        <p:spPr>
          <a:xfrm>
            <a:off x="2951640" y="5829480"/>
            <a:ext cx="13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Click </a:t>
            </a:r>
            <a:r>
              <a:rPr b="0" lang="zh-CN" sz="16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中国好声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2917080" y="1284120"/>
            <a:ext cx="494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中国好声音是与</a:t>
            </a:r>
            <a:r>
              <a:rPr b="1" lang="en-US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Lonely_Fish</a:t>
            </a:r>
            <a:r>
              <a:rPr b="1" lang="zh-CN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第</a:t>
            </a:r>
            <a:r>
              <a:rPr b="1" lang="en-US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3</a:t>
            </a:r>
            <a:r>
              <a:rPr b="1" lang="zh-CN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次合作品</a:t>
            </a:r>
            <a:r>
              <a:rPr b="1" lang="en-US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.</a:t>
            </a:r>
            <a:r>
              <a:rPr b="1" lang="zh-CN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相同的主题</a:t>
            </a:r>
            <a:r>
              <a:rPr b="1" lang="en-US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相同的数据</a:t>
            </a:r>
            <a:r>
              <a:rPr b="1" lang="en-US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,</a:t>
            </a:r>
            <a:r>
              <a:rPr b="1" lang="zh-CN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不同的表达方式却带来的传播差异如此之大</a:t>
            </a:r>
            <a:r>
              <a:rPr b="1" lang="en-US" sz="2000" spc="-1" strike="noStrike">
                <a:solidFill>
                  <a:srgbClr val="ff6600"/>
                </a:solidFill>
                <a:latin typeface="冬青黑体简体中文 W3"/>
                <a:ea typeface="冬青黑体简体中文 W3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1825560" y="3925800"/>
            <a:ext cx="2652840" cy="1916280"/>
          </a:xfrm>
          <a:prstGeom prst="rect">
            <a:avLst/>
          </a:prstGeom>
          <a:ln w="0">
            <a:noFill/>
          </a:ln>
        </p:spPr>
      </p:pic>
      <p:sp>
        <p:nvSpPr>
          <p:cNvPr id="163" name="直接连接符 24"/>
          <p:cNvSpPr/>
          <p:nvPr/>
        </p:nvSpPr>
        <p:spPr>
          <a:xfrm>
            <a:off x="1879560" y="3157560"/>
            <a:ext cx="5688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3"/>
          <a:srcRect l="9456" t="45482" r="49190" b="23794"/>
          <a:stretch/>
        </p:blipFill>
        <p:spPr>
          <a:xfrm>
            <a:off x="4938840" y="3884760"/>
            <a:ext cx="2490840" cy="176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4"/>
          <a:srcRect l="9700" t="39847" r="49109" b="13484"/>
          <a:stretch/>
        </p:blipFill>
        <p:spPr>
          <a:xfrm>
            <a:off x="4938840" y="3908520"/>
            <a:ext cx="24908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istrator</cp:lastModifiedBy>
  <cp:lastPrinted>1899-12-30T00:00:00Z</cp:lastPrinted>
  <dcterms:modified xsi:type="dcterms:W3CDTF">2015-03-05T08:20:18Z</dcterms:modified>
  <cp:revision>38</cp:revision>
  <dc:subject/>
  <dc:title>请在此处填写作品信息（此页非设计模板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02</vt:lpwstr>
  </property>
</Properties>
</file>