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900840" y="65372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51640" y="260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3429000"/>
            <a:ext cx="665280" cy="647640"/>
            <a:chOff x="8172360" y="3429000"/>
            <a:chExt cx="665280" cy="647640"/>
          </a:xfrm>
        </p:grpSpPr>
        <p:sp>
          <p:nvSpPr>
            <p:cNvPr id="4" name=""/>
            <p:cNvSpPr txBox="1"/>
            <p:nvPr/>
          </p:nvSpPr>
          <p:spPr>
            <a:xfrm>
              <a:off x="8172360" y="342900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Arial Black"/>
                </a:rPr>
                <a:t>1</a:t>
              </a:r>
              <a:endParaRPr b="0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8604000" y="3762360"/>
              <a:ext cx="23364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黑体"/>
                </a:rPr>
                <a:t>月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610240" y="4076640"/>
            <a:ext cx="3533760" cy="22892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380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070840" y="4021200"/>
            <a:ext cx="665280" cy="647640"/>
            <a:chOff x="8070840" y="4021200"/>
            <a:chExt cx="665280" cy="647640"/>
          </a:xfrm>
        </p:grpSpPr>
        <p:sp>
          <p:nvSpPr>
            <p:cNvPr id="48" name=""/>
            <p:cNvSpPr txBox="1"/>
            <p:nvPr/>
          </p:nvSpPr>
          <p:spPr>
            <a:xfrm>
              <a:off x="8070840" y="402120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Arial Black"/>
                </a:rPr>
                <a:t>1</a:t>
              </a:r>
              <a:endParaRPr b="0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8502480" y="4354560"/>
              <a:ext cx="23364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黑体"/>
                </a:rPr>
                <a:t>月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508720" y="4452840"/>
            <a:ext cx="3533760" cy="2289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9528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97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9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0" y="2060640"/>
            <a:ext cx="45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Nordri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——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中国专业商务媒体（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）设计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7080" y="2060640"/>
            <a:ext cx="352764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幻灯模板使用说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900000" y="2781360"/>
            <a:ext cx="215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e7f3f4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1259280" y="285192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e8f5f6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3108240"/>
            <a:ext cx="266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260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NordriDesign</dc:creator>
  <dc:description/>
  <dc:language>en-US</dc:language>
  <cp:lastModifiedBy>小田</cp:lastModifiedBy>
  <dcterms:modified xsi:type="dcterms:W3CDTF">2008-08-11T08:39:21Z</dcterms:modified>
  <cp:revision>12</cp:revision>
  <dc:subject/>
  <dc:title>上海诺睿网络信息科技有限公司</dc:title>
</cp:coreProperties>
</file>